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8C9A-18BC-4030-A667-DDB601C05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4D08-D5C8-4E4C-ACD7-9ECBF3C87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9872-2A96-46A2-AE0E-4FFAB4D41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C931-A3D4-4B7B-BAC7-B85064A55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050D-3EE5-4E5F-AE2B-C3CD80810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4090-7E98-426F-AD5F-C0C5773CA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6CFE-7EF6-49B0-85DF-68E2BC74D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A5D5-9AFE-40D6-8994-C78891B9B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8D0E-D13F-482B-90B5-1695CB6BE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2924-B723-4C46-A31A-2DD8B948D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0772-8058-4475-BB4C-DA33A194B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1DB5-3672-434C-A973-6A75483CE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ED4CE-698A-430E-8728-C56E06493B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1615713_html_760463c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6"/>
          <p:cNvSpPr/>
          <p:nvPr/>
        </p:nvSpPr>
        <p:spPr>
          <a:xfrm>
            <a:off x="4479840" y="11858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_1_4_wmv_50863.wmv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86104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1615713_html_760463c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1077840" y="1136520"/>
            <a:ext cx="6988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ма урока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«Война и дети»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по рассказу А.П. Платон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«Маленький солдат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1615713_html_760463c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914400" y="1185840"/>
            <a:ext cx="7467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1447920" y="576360"/>
            <a:ext cx="654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СЛОВАРНАЯ РАБОТ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914400" y="15606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ff"/>
                </a:solidFill>
                <a:uFillTx/>
                <a:latin typeface="Arial"/>
              </a:rPr>
              <a:t>Война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– вооруженная борьба между государствами или народами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898560" y="2855880"/>
            <a:ext cx="8397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ff"/>
                </a:solidFill>
                <a:uFillTx/>
                <a:latin typeface="Arial"/>
              </a:rPr>
              <a:t>Линия фронта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– расположение войск, линия, по которой развернуты передовые подразде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1615713_html_760463c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914400" y="1185840"/>
            <a:ext cx="7467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1447920" y="576360"/>
            <a:ext cx="654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СЛОВАРНАЯ РАБОТ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685800" y="1882800"/>
            <a:ext cx="845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00ff"/>
                </a:solidFill>
                <a:uFillTx/>
                <a:latin typeface="Arial"/>
              </a:rPr>
              <a:t>Подвиг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– героический, самоотверженный поступок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1615713_html_760463c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914400" y="1185840"/>
            <a:ext cx="7467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1447920" y="576360"/>
            <a:ext cx="654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1279440" y="1447920"/>
            <a:ext cx="7255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аписать отзыв о рассказе  А.П.Платонова   «Маленький солда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едложить свой вариант ответа на вопрос: «Как сложилась дальнейшая судьба главного героя рассказа А.П.Платон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«Маленький солдат»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Подготовить иллюстрации на тем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«Война и дет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1615713_html_760463c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5"/>
          <p:cNvSpPr/>
          <p:nvPr/>
        </p:nvSpPr>
        <p:spPr>
          <a:xfrm>
            <a:off x="914400" y="1185840"/>
            <a:ext cx="7467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9" descr="Папка Дети-Герои Войны к 9 мая &quot; ДЕТсад"/>
          <p:cNvPicPr/>
          <p:nvPr/>
        </p:nvPicPr>
        <p:blipFill>
          <a:blip r:embed="rId2"/>
          <a:stretch/>
        </p:blipFill>
        <p:spPr>
          <a:xfrm>
            <a:off x="171360" y="228600"/>
            <a:ext cx="8744040" cy="6400800"/>
          </a:xfrm>
          <a:prstGeom prst="rect">
            <a:avLst/>
          </a:prstGeom>
          <a:ln w="0">
            <a:noFill/>
          </a:ln>
        </p:spPr>
      </p:pic>
      <p:pic>
        <p:nvPicPr>
          <p:cNvPr id="74" name="Voennye_pesni_-_ZHuravli_minusovka_(iPlayer.fm) (1)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243675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1615713_html_760463c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914400" y="1185840"/>
            <a:ext cx="7467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2T20:04:46Z</dcterms:created>
  <dc:creator>Lenovo</dc:creator>
  <dc:description/>
  <dc:language>en-US</dc:language>
  <cp:lastModifiedBy>Пользователь</cp:lastModifiedBy>
  <dcterms:modified xsi:type="dcterms:W3CDTF">2022-05-03T08:42:57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