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0E2-0FBB-4CFA-BF99-FE498A07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4D3-88D1-48BD-A26B-ECDB6B5C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F93-6F27-4CD5-A8CE-9B330FAD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7B7-6258-4C21-AC1A-E09C6C5A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697-BC2A-4B98-9444-63B2287B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711-9D14-4E82-ADFF-9E3AAAC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929-A0D3-4D15-AFF6-EEAB88B9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345-A1C7-45F6-AA0C-8882E706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7A4-1FC3-449E-858F-DB0B3260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868-A0A8-4DBE-A16F-CE565D85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C9B-8148-44C3-A53E-CEB5083C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385-BF75-466F-AD78-AD05B532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24C3-8760-4D8D-8A78-1420DDBD9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4479840" y="1185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_1_4_wmv_50863.wmv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077840" y="1136520"/>
            <a:ext cx="698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Война и дет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о рассказу А.П. Платон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Маленький солда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914400" y="15606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Войн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– вооруженная борьба между государствами или народа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98560" y="2855880"/>
            <a:ext cx="83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Линия фронта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– расположение войск, линия, по которой развернуты передовые подразд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ЛОВАРНАЯ РАБО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685800" y="18828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одвиг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– героический, самоотверженный поступ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47920" y="576360"/>
            <a:ext cx="65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279440" y="1447920"/>
            <a:ext cx="7255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исать отзыв о рассказе  А.П.Платонова   «Маленький солд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ложить свой вариант ответа на вопрос: «Как сложилась дальнейшая судьба главного героя рассказа А.П.Плато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Маленький солдат»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дготовить иллюстрации на 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Война и де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Папка Дети-Герои Войны к 9 мая &quot; ДЕТсад"/>
          <p:cNvPicPr/>
          <p:nvPr/>
        </p:nvPicPr>
        <p:blipFill>
          <a:blip r:embed="rId2"/>
          <a:stretch/>
        </p:blipFill>
        <p:spPr>
          <a:xfrm>
            <a:off x="171360" y="228600"/>
            <a:ext cx="8744040" cy="6400800"/>
          </a:xfrm>
          <a:prstGeom prst="rect">
            <a:avLst/>
          </a:prstGeom>
          <a:ln w="0">
            <a:noFill/>
          </a:ln>
        </p:spPr>
      </p:pic>
      <p:pic>
        <p:nvPicPr>
          <p:cNvPr id="74" name="Voennye_pesni_-_ZHuravli_minusovka_(iPlayer.fm) (1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4367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615713_html_760463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14400" y="1185840"/>
            <a:ext cx="746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20:04:46Z</dcterms:created>
  <dc:creator>Lenovo</dc:creator>
  <dc:description/>
  <dc:language>en-US</dc:language>
  <cp:lastModifiedBy>Пользователь</cp:lastModifiedBy>
  <dcterms:modified xsi:type="dcterms:W3CDTF">2022-05-03T08:42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