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01F-0477-4CC4-A13B-2840A867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D6D-FF0E-42D2-9998-3D5A70F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8B-9CD4-4758-9367-68669FCA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5B4-1237-4E19-AFF9-A48CBFF1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8C5-8ACC-4DEF-AA2A-65DA12D7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595-7FB5-4471-862C-CCE5782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BF4-2513-4F1A-86B0-1683B75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351-D9AE-4060-A8F0-DCDFD7BA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E73-B832-4E5E-A3E1-F2C1BCBF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AF5-797E-4045-B678-A572519F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A6D-1E18-47C9-87F8-2D1DE19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7A52-312F-444D-820B-2F141404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BCCC-670E-4710-9439-453989E1D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Шаблон для презентации &quot;Детвора&quot;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547640" y="3246480"/>
            <a:ext cx="6553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здоровьесберегающих технологий на занятиях по развитию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атегории: Матухненко С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ДОУ д/сад №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04819669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553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0" y="189000"/>
            <a:ext cx="70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24000" y="1773360"/>
            <a:ext cx="6529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ыхательная гимна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тикуляционная 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зотерап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зыкотерап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льчиковая 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гимнасти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очечный массаж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массаж 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2123011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250920" y="2060640"/>
            <a:ext cx="85690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ыхательные упражнения в игров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речевого дыхания играет большую роль в воспитании правильной речи. Дыхательные упражнения развивают продолжительный, равномерный выдох у детей, формируют сильную воздушную струю, тренируют ситуативную фразовую речь. Мотивирую интерес детей к дыхательным упражнениям сочетанием наглядности и веселых стихотворных форм. Вызывая тем самым положительные эмоции, которые к тому же способствуют развитию творческого воображения и фантазии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2123011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50920" y="1989000"/>
            <a:ext cx="87138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возможностей мелкой мото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известно о взаимосвязи развития речи и тонких движений руки, или иначе говоря, ручной и речевой моторики. Рука, пальцы, ладони – едва ли не главные органы, приводящие в движение механизм мыслительной деятельности ребенка. Владея своими руками, ребенок может сделать много полезных и нужных вещей, и самое главное – развитая моторика рук способствует развитию речи.                   При планировании работы над развитием руки я придерживаюсь целого комплекса упражнений, в который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ообразные пальчиковые игры и упражн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ьчиковый теа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с прищеп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 – джок терап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4819669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56440" y="20952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чиков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Изображение группы 287"/>
          <p:cNvPicPr/>
          <p:nvPr/>
        </p:nvPicPr>
        <p:blipFill>
          <a:blip r:embed="rId2"/>
          <a:stretch/>
        </p:blipFill>
        <p:spPr>
          <a:xfrm>
            <a:off x="250920" y="692280"/>
            <a:ext cx="3600360" cy="286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Изображение группы 288"/>
          <p:cNvPicPr/>
          <p:nvPr/>
        </p:nvPicPr>
        <p:blipFill>
          <a:blip r:embed="rId3"/>
          <a:stretch/>
        </p:blipFill>
        <p:spPr>
          <a:xfrm>
            <a:off x="4859280" y="3573360"/>
            <a:ext cx="4032360" cy="297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Изображение группы 285"/>
          <p:cNvPicPr/>
          <p:nvPr/>
        </p:nvPicPr>
        <p:blipFill>
          <a:blip r:embed="rId4"/>
          <a:stretch/>
        </p:blipFill>
        <p:spPr>
          <a:xfrm>
            <a:off x="826920" y="3573360"/>
            <a:ext cx="2889360" cy="300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Изображение группы 284"/>
          <p:cNvPicPr/>
          <p:nvPr/>
        </p:nvPicPr>
        <p:blipFill>
          <a:blip r:embed="rId5"/>
          <a:stretch/>
        </p:blipFill>
        <p:spPr>
          <a:xfrm>
            <a:off x="4356000" y="692280"/>
            <a:ext cx="46818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04819669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127960" y="281160"/>
            <a:ext cx="37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рищеп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Изображение группы 279"/>
          <p:cNvPicPr/>
          <p:nvPr/>
        </p:nvPicPr>
        <p:blipFill>
          <a:blip r:embed="rId2"/>
          <a:stretch/>
        </p:blipFill>
        <p:spPr>
          <a:xfrm>
            <a:off x="2340000" y="3686040"/>
            <a:ext cx="4392720" cy="302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Изображение группы 281"/>
          <p:cNvPicPr/>
          <p:nvPr/>
        </p:nvPicPr>
        <p:blipFill>
          <a:blip r:embed="rId3"/>
          <a:stretch/>
        </p:blipFill>
        <p:spPr>
          <a:xfrm>
            <a:off x="250920" y="836640"/>
            <a:ext cx="4033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4819669"/>
          <p:cNvPicPr/>
          <p:nvPr/>
        </p:nvPicPr>
        <p:blipFill>
          <a:blip r:embed="rId1"/>
          <a:stretch/>
        </p:blipFill>
        <p:spPr>
          <a:xfrm>
            <a:off x="108000" y="114480"/>
            <a:ext cx="8928000" cy="65545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2055600" y="281160"/>
            <a:ext cx="31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-джок тера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Изображение группы 278"/>
          <p:cNvPicPr/>
          <p:nvPr/>
        </p:nvPicPr>
        <p:blipFill>
          <a:blip r:embed="rId2"/>
          <a:stretch/>
        </p:blipFill>
        <p:spPr>
          <a:xfrm>
            <a:off x="2340000" y="3860640"/>
            <a:ext cx="4356000" cy="2729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Изображение группы 277"/>
          <p:cNvPicPr/>
          <p:nvPr/>
        </p:nvPicPr>
        <p:blipFill>
          <a:blip r:embed="rId3"/>
          <a:stretch/>
        </p:blipFill>
        <p:spPr>
          <a:xfrm>
            <a:off x="539640" y="836640"/>
            <a:ext cx="4054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1:21:05Z</dcterms:created>
  <dc:creator>Антон</dc:creator>
  <dc:description/>
  <dc:language>en-US</dc:language>
  <cp:lastModifiedBy>Admin</cp:lastModifiedBy>
  <dcterms:modified xsi:type="dcterms:W3CDTF">2022-05-03T10:58:18Z</dcterms:modified>
  <cp:revision>7</cp:revision>
  <dc:subject/>
  <dc:title>Применение здоровьесберегающих технологий на занятиях по развитию речи.</dc:title>
</cp:coreProperties>
</file>