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0C6A-20ED-4789-9106-BAA67BA3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A8D-CD23-46FD-BBCF-912FA3B7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E48B-63C8-47F4-9751-6D8B8AC5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D9A4-3F74-4233-ACFE-E9A85B7A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4B39-6C38-408B-8C15-F152A6DD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2AB8-489C-4CD2-AEB2-04218F22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40E4-42DD-40EB-B0E4-3AD658AC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0128-652E-4272-8FC5-A59B49DC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8358-A2CF-4DD6-9BA2-C43454ED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8D08-1B9A-4C7C-BC5F-2917A9EC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A652-8082-434D-8907-8002E209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DB00-40D2-40D4-B5C6-E90ECB32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76C9-0A15-4409-B80D-75F5F2A501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Шаблон для презентации &quot;Детвора&quot;"/>
          <p:cNvPicPr/>
          <p:nvPr/>
        </p:nvPicPr>
        <p:blipFill>
          <a:blip r:embed="rId1"/>
          <a:stretch/>
        </p:blipFill>
        <p:spPr>
          <a:xfrm>
            <a:off x="179280" y="0"/>
            <a:ext cx="8856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547640" y="3246480"/>
            <a:ext cx="65534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ение здоровьесберегающих технологий на занятиях по развитию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спитатель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атегории: Матухненко С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БДОУ д/сад №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04819669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65530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0" y="189000"/>
            <a:ext cx="70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24000" y="1773360"/>
            <a:ext cx="6529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ыхательная гимнасти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ртикуляционная гимнасти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лазотерап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узыкотерап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льчиковая гимнасти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сихогимнасти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очечный массаж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амомассаж и т.д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2123011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250920" y="2060640"/>
            <a:ext cx="85690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ыхательные упражнения в игровой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речевого дыхания играет большую роль в воспитании правильной речи. Дыхательные упражнения развивают продолжительный, равномерный выдох у детей, формируют сильную воздушную струю, тренируют ситуативную фразовую речь. Мотивирую интерес детей к дыхательным упражнениям сочетанием наглядности и веселых стихотворных форм. Вызывая тем самым положительные эмоции, которые к тому же способствуют развитию творческого воображения и фантазии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02123011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742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250920" y="1989000"/>
            <a:ext cx="87138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возможностей мелкой мото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 известно о взаимосвязи развития речи и тонких движений руки, или иначе говоря, ручной и речевой моторики. Рука, пальцы, ладони – едва ли не главные органы, приводящие в движение механизм мыслительной деятельности ребенка. Владея своими руками, ребенок может сделать много полезных и нужных вещей, и самое главное – развитая моторика рук способствует развитию речи.                   При планировании работы над развитием руки я придерживаюсь целого комплекса упражнений, в который входя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нообразные пальчиковые игры и упражн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льчиковый теат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ы с прищепк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 – джок терап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04819669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553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756440" y="209520"/>
            <a:ext cx="35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льчиковы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Изображение группы 287"/>
          <p:cNvPicPr/>
          <p:nvPr/>
        </p:nvPicPr>
        <p:blipFill>
          <a:blip r:embed="rId2"/>
          <a:stretch/>
        </p:blipFill>
        <p:spPr>
          <a:xfrm>
            <a:off x="250920" y="692280"/>
            <a:ext cx="3600360" cy="28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Изображение группы 288"/>
          <p:cNvPicPr/>
          <p:nvPr/>
        </p:nvPicPr>
        <p:blipFill>
          <a:blip r:embed="rId3"/>
          <a:stretch/>
        </p:blipFill>
        <p:spPr>
          <a:xfrm>
            <a:off x="4859280" y="3573360"/>
            <a:ext cx="4032360" cy="297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Изображение группы 285"/>
          <p:cNvPicPr/>
          <p:nvPr/>
        </p:nvPicPr>
        <p:blipFill>
          <a:blip r:embed="rId4"/>
          <a:stretch/>
        </p:blipFill>
        <p:spPr>
          <a:xfrm>
            <a:off x="826920" y="3573360"/>
            <a:ext cx="2889360" cy="3008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Изображение группы 284"/>
          <p:cNvPicPr/>
          <p:nvPr/>
        </p:nvPicPr>
        <p:blipFill>
          <a:blip r:embed="rId5"/>
          <a:stretch/>
        </p:blipFill>
        <p:spPr>
          <a:xfrm>
            <a:off x="4356000" y="692280"/>
            <a:ext cx="46818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04819669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26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2127960" y="281160"/>
            <a:ext cx="37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ы с прищеп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Изображение группы 279"/>
          <p:cNvPicPr/>
          <p:nvPr/>
        </p:nvPicPr>
        <p:blipFill>
          <a:blip r:embed="rId2"/>
          <a:stretch/>
        </p:blipFill>
        <p:spPr>
          <a:xfrm>
            <a:off x="2340000" y="3686040"/>
            <a:ext cx="4392720" cy="3022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Изображение группы 281"/>
          <p:cNvPicPr/>
          <p:nvPr/>
        </p:nvPicPr>
        <p:blipFill>
          <a:blip r:embed="rId3"/>
          <a:stretch/>
        </p:blipFill>
        <p:spPr>
          <a:xfrm>
            <a:off x="250920" y="836640"/>
            <a:ext cx="40338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04819669"/>
          <p:cNvPicPr/>
          <p:nvPr/>
        </p:nvPicPr>
        <p:blipFill>
          <a:blip r:embed="rId1"/>
          <a:stretch/>
        </p:blipFill>
        <p:spPr>
          <a:xfrm>
            <a:off x="108000" y="114480"/>
            <a:ext cx="8928000" cy="65545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2055600" y="281160"/>
            <a:ext cx="31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-джок тера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Изображение группы 278"/>
          <p:cNvPicPr/>
          <p:nvPr/>
        </p:nvPicPr>
        <p:blipFill>
          <a:blip r:embed="rId2"/>
          <a:stretch/>
        </p:blipFill>
        <p:spPr>
          <a:xfrm>
            <a:off x="2340000" y="3860640"/>
            <a:ext cx="4356000" cy="2729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Изображение группы 277"/>
          <p:cNvPicPr/>
          <p:nvPr/>
        </p:nvPicPr>
        <p:blipFill>
          <a:blip r:embed="rId3"/>
          <a:stretch/>
        </p:blipFill>
        <p:spPr>
          <a:xfrm>
            <a:off x="539640" y="836640"/>
            <a:ext cx="40546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1:21:05Z</dcterms:created>
  <dc:creator>Антон</dc:creator>
  <dc:description/>
  <dc:language>en-US</dc:language>
  <cp:lastModifiedBy>Admin</cp:lastModifiedBy>
  <dcterms:modified xsi:type="dcterms:W3CDTF">2022-05-03T10:58:18Z</dcterms:modified>
  <cp:revision>7</cp:revision>
  <dc:subject/>
  <dc:title>Применение здоровьесберегающих технологий на занятиях по развитию речи.</dc:title>
</cp:coreProperties>
</file>