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106-E62C-4C15-B0F4-606CA10E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7D3-2CBF-49DD-9BB5-99F5C674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E53-29CB-4756-B8CD-26C6E4CE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90C7-4767-4E2D-8A17-8565875F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1A1A-1916-4081-9CDA-280F0638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E927-4CFB-46E2-AEFD-D0D01AB3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2C7F-B29F-4E97-BD56-1D9AC774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C0E9-4802-471D-9970-D78634DD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E8D5-4ACD-448F-BE5B-EAC78852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B4A6-F62E-4E27-8F7F-16B4CC4C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EDCB-4689-4CF4-9173-2B19D007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646-8519-48B5-B4A4-B0DCB26F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C4DA-3456-405B-B4EE-F94F4A09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45AF-70C5-4A86-9B13-7F174B6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3785-317E-4143-870D-2E28D09F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2C99-1968-482D-B500-EE7AE876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1386-FC44-4D98-9144-1AA67C99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97EF9-236D-472E-B4ED-C809E7CE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0D60C-107F-4DA0-B5AE-4166610F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04F7E-9E03-4756-8753-6C3EE478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D358-F8FA-4E12-A70C-6DCCF007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760A-B8A4-406C-9C6D-43F8D533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1A6-5C34-481C-8E5F-4E03A66A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56CC-CA0F-4E97-94E6-E6D64142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E472-D2A5-49CC-83CE-A3E85AD3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75A85-362B-4B4F-8027-B3413500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201B-4FC2-49AA-BA6A-F7A5099A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0965C-7F70-40E5-956F-A802F636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87B0-9F9D-432B-81DE-04368D27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69BF-A4F4-4955-9692-5408259C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DFDF2-1DAC-4D23-A4BD-35A3CD78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DA98B-1680-4E08-8BB7-ADB55EDD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2DDC-6EA0-468F-AC8E-1534B1AD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979-A579-4096-8E5D-98E30E0D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E4876-C1F1-4A76-8A84-74323270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46D7E-6918-49C5-B6AA-A72BA468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97A9-FB81-49B5-8E77-0F65D666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D71C8-23E1-4630-A9EC-FBD9E085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F43DA-2E45-4265-BDE8-31593B68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1200-D7D7-493A-A351-A7BBB48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2A352-9AAC-4738-9BA9-9073A7F6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76EF8-BE08-4A5E-AB2A-38A0B425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F287-2060-4464-B24E-00DF4CB6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23990-B353-4A54-9385-4B92EA35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081-84F9-46F8-B147-34B5CB0C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6598B-2A5B-4B1E-8500-9C5D7A81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3E3F9-2464-4FDB-9C10-E354F89A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18793-6B3D-44A3-9164-EE6C3171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E33D6-B5CF-4658-8830-020AF9D9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55EB9-014A-46D7-9CE9-0A7D3C5C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A95F7-755B-48FC-BDC9-52355697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B62B8-70A7-4038-8F9E-05FB4D6E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FCDD-3DAA-40DC-8F99-62109CE1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D6C73-56B0-43A7-AC11-082BEA63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E771F-DFD3-4E42-9A1F-40D97663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4EC-C93B-477B-95B0-BBBCFCBC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25FD3-DAA7-44B5-A44D-3E649C59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1F827-E8AC-41B6-ABB6-3A6BA26F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42B86-1F29-46BE-9C97-EBC6C14C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AE078-5122-4C88-BEAB-CAEB5634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F6CD4-7FF4-4F60-91AE-0E45C538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F523D-3683-4758-BFB2-21A0D8F8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3E03-9226-4833-B74A-DD098C8A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2ED89-F6DB-400E-AE12-8F2B8A22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2C069-3270-4E74-9D2F-B93584D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C2397-BA01-4B02-A58C-2855F338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C8C-CF39-4EC4-A8B8-3E9CF645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A69D7-1C18-4B4B-86F9-362A27D6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6DF33-4563-428F-9C8B-AB25979B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D5DD5-7D17-4053-B6B2-EC738BDD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5C41-DB63-41FA-AFA9-47E96858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6CE-AB55-4BEC-B87B-42B6B732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3E89-3ED9-4379-AF38-FB3F793E0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E5CA-5AF3-4D51-8C56-EDC4C0513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2EDC-03E5-4CEA-974D-165C3261AF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3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0AC8-2652-4F1D-B91A-5DC8BA727C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9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A13A-2AA6-4C86-A20F-3A78BF9DF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B3BE-19BF-4EF3-B038-1E9CCCC5FEA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Как называется человек, управляющий самолет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капи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ашин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звоз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лёт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99"/>
                </a:solidFill>
                <a:uFillTx/>
                <a:latin typeface="Arial"/>
              </a:rPr>
              <a:t>Сколько золотых монет было у Бурати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р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четы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ш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К какому жанру изобразительного искусства относится эта картина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971640" y="1600200"/>
            <a:ext cx="3008160" cy="45306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48320" y="2349360"/>
            <a:ext cx="4038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ейзаж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атюрмор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Портре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Кто является основателем города Петербург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. Не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.В.Сув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т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Что является лучшим лакомством для лосей, оленей, косул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Тра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Гри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Какова длина туннеля, который за одну ночь способен прорыть кро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1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40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колько вылетов в день за насекомыми могут совершить птицы во время выкармливания птенц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4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000099"/>
                </a:solidFill>
                <a:uFillTx/>
                <a:latin typeface="Arial"/>
              </a:rPr>
              <a:t>Как называется жилище бобр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о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о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Ха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то такое матери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измен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звышен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уша, окруженная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Какой материк самый маленький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арктид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страл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фр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Чей это портрет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716360" y="1197000"/>
            <a:ext cx="39276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А.С. Пушк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Л.Н. Толст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Э.Н. Успен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7" descr="D:\Мои документы\чтение\писатели\Успенский\255222209_tonnel.jpg"/>
          <p:cNvPicPr/>
          <p:nvPr/>
        </p:nvPicPr>
        <p:blipFill>
          <a:blip r:embed="rId1"/>
          <a:stretch/>
        </p:blipFill>
        <p:spPr>
          <a:xfrm>
            <a:off x="1214280" y="1643040"/>
            <a:ext cx="285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ffcc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Какой формы и цвета, запрещающие зна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расный 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красный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ний кру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иний прям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6300720" y="1628640"/>
            <a:ext cx="647640" cy="62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7093080" y="2781360"/>
            <a:ext cx="718920" cy="555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6300720" y="4005360"/>
            <a:ext cx="647640" cy="627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236000" y="5084640"/>
            <a:ext cx="504720" cy="865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Кому принадлежат эти слова:</a:t>
            </a:r>
            <a:br>
              <a:rPr sz="4000"/>
            </a:b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«Что за прелесть эти сказки… Каждая есть поэма»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Л.Н.Толстом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К.И. Чуковском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А.С. Пушкин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9900cc"/>
                </a:solidFill>
                <a:uFillTx/>
                <a:latin typeface="Arial"/>
              </a:rPr>
              <a:t>Какое дерево лишнее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ерё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о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их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66ff"/>
                </a:solidFill>
                <a:uFillTx/>
                <a:latin typeface="Arial"/>
              </a:rPr>
              <a:t>Какое из этих выражений называется уравнени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+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7 + 3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+ 2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 -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Один литр молока</a:t>
            </a:r>
            <a:br>
              <a:rPr sz="4000"/>
            </a:b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удобно налить в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бан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оч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99ff"/>
                </a:solidFill>
                <a:latin typeface="Arial"/>
              </a:rPr>
              <a:t>вед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бид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Двое играли в шашки четыре часа. Сколько часов играл каждый из н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ше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четы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осем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6600"/>
                </a:solidFill>
                <a:uFillTx/>
                <a:latin typeface="Arial"/>
              </a:rPr>
              <a:t>Сколько горбов у одногорбого верблюд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но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ди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В какое время встречают Новый го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венадцать ча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ин ча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есть ча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вадцать четыре час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a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Сколько оловянных солдатиков подарили мальч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еся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ятнадц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вадц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вадцать п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21:57:27Z</dcterms:created>
  <dc:creator>Рамис</dc:creator>
  <dc:description/>
  <dc:language>en-US</dc:language>
  <cp:lastModifiedBy>User</cp:lastModifiedBy>
  <dcterms:modified xsi:type="dcterms:W3CDTF">2004-01-01T03:45:09Z</dcterms:modified>
  <cp:revision>9</cp:revision>
  <dc:subject/>
  <dc:title>Какое из этих слов выложил Кай?</dc:title>
</cp:coreProperties>
</file>