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8DE-2D5F-4E2E-BDF8-EBDD8510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B9B-EAB4-4029-8E71-A24ACF4E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AB1-78B1-44B4-8EDA-F8D6AD31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25E-D5B7-45FD-A038-F88EC80A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E45A-36B0-4793-B396-7041402C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06E5-A020-4CAF-912A-5507CCCE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53D5-5DBA-466E-AA3A-BDF1C524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AF34-88B7-49BC-B8F7-BACC0E7F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267B-C934-43E5-A663-7954ED6C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E199-6E4F-41D1-8CA3-2C6E3B41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7892-99BD-402E-B0E5-DCA07C58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C87-0645-463D-AC9E-38B9AC75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9B03-6653-4472-845F-1CA16837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BF48-58B6-4F1E-B764-1E9E86CA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C5DA-4DC9-4086-B683-0B5FE88D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A2F0-500F-4521-8DCF-7CA136F2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CD84-A2FF-49AF-A9FF-205EBB7E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DD899-7465-4F7A-B13F-C9838B15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8E17-73E9-47AE-9566-A4580D91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0795-994D-40AF-850E-B5E74AF5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1BDE-50DE-4D79-B25B-68547071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8EC2-1287-472C-A243-162697EB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132-9954-4EE1-965E-DE829C39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39CC-C149-4136-A829-54CFFA16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32B8-91DB-4335-AF6D-23D3190E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0C168-0FD8-4DCC-AAAF-E900091F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AE55-8032-4200-A3A4-3A83AECB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6DB27-9346-467F-B48E-61672851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054BE-03A4-4C3E-ABB6-22E11986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41EC9-097B-44A0-B4D7-7B87AA15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84CD6-E8CC-425D-87C8-C095D92C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0F99-D0B3-407F-92B5-8DBCBFC0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A749-7645-4865-8012-D2221E05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02F-6E9D-4058-9B4F-7FEE207D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9F3A-8355-42AF-852A-DB4933CC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45F8-BCA2-4051-8EC8-D3837312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4AD6E-4A8E-400F-AE88-9E4996AF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7316E-861A-4321-800E-08BCA0B9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2AFA-C85D-4903-9190-E3FD100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AD502-E82E-4889-88BC-E5F95FB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9007-1E93-461D-B577-A2B127EF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11EE-39B3-4393-ADAF-C080861B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CC448-D959-4A69-9FC3-CF206B2B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9DD36-399B-4E2C-A55B-1D2B54DE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C34-CB69-43AE-89EF-29805374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3B459-6440-4F27-B790-5C2F1AFD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190CF-7E6B-410B-9FE4-C7D49453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A4E29-FC01-425A-8DA5-DF883B69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954E9-790A-4724-8E37-1B374E1C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EA74-E5AF-4F92-AF7C-EE8CD814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02DEE-7DC5-492D-8BA4-715B3AD1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83E33-8DCC-4562-B713-5D1F4B7F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572E0-BCD9-4A16-8148-1A05A031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F224B-1F90-4BAA-B18E-8B366BDA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9BED9-B92E-4CA7-A978-BED5D034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4C4-9E68-436C-AA0E-4A8D230E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60B8E-1CFC-4C48-A16F-6EB3DC80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38D9E-2182-4F80-89C9-0808C0D8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FB84B-F4E1-4371-8FFB-2F2D571C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131D5-A481-4EA6-A8C3-9946675F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7F55B-D4ED-45D3-90FA-1E182BB3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ABA0A-0450-4D5F-BEC2-2220B7CE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94388-D9E4-4F8D-9E06-145EAD47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E004B-B137-4C73-B560-B04D048D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E6C0D-B863-402E-8EBC-B1AA8BC8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ACFE9-FE42-4E10-AE75-2708D803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9CE-4361-4696-8737-5D66B6EB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E47BF-A607-4143-8945-C8FB51A5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FCD16-4F92-4D0B-98D0-755E2165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00168-933B-45E2-9D7C-7D33F997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12F-99F6-4AE2-BB8E-7D8476B2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0D5-7261-47A5-97D1-B25FD77E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BD1F-2D80-410A-B340-B3CB0EB0A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813B-78E8-4C3C-9110-0DEBCC3B7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D8CB-5DC4-43E4-AF4B-0AB5B2BA6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79AF-B8C3-4937-B471-FCA7F44BB7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42ED-A407-4B6C-8E73-7F2267899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0AA2-691E-4383-95D1-33257A0F93A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Как называется человек, управляющий самолет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апи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ашин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звоз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ёт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99"/>
                </a:solidFill>
                <a:uFillTx/>
                <a:latin typeface="Arial"/>
              </a:rPr>
              <a:t>Сколько золотых монет было у Бурати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четы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ш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К какому жанру изобразительного искусства относится эта картина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971640" y="1600200"/>
            <a:ext cx="3008160" cy="45306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48320" y="2349360"/>
            <a:ext cx="4038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ейзаж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атюрмор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ортр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Кто является основателем города Петербург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. Н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.В.Сув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т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Что является лучшим лакомством для лосей, оленей, косу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Т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Гри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акова длина туннеля, который за одну ночь способен прорыть кр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1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4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колько вылетов в день за насекомыми могут совершить птицы во время выкармливания птенц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4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000099"/>
                </a:solidFill>
                <a:uFillTx/>
                <a:latin typeface="Arial"/>
              </a:rPr>
              <a:t>Как называется жилище боб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о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а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то такое матери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измен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звышен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уша, окруженная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Какой материк самый маленький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аркти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страл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фр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Чей это портрет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716360" y="1197000"/>
            <a:ext cx="39276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А.С. Пушк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Л.Н. Толст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Э.Н. Успен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7" descr="D:\Мои документы\чтение\писатели\Успенский\255222209_tonnel.jpg"/>
          <p:cNvPicPr/>
          <p:nvPr/>
        </p:nvPicPr>
        <p:blipFill>
          <a:blip r:embed="rId1"/>
          <a:stretch/>
        </p:blipFill>
        <p:spPr>
          <a:xfrm>
            <a:off x="1214280" y="1643040"/>
            <a:ext cx="285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cc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Какой формы и цвета, запрещающие зна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расны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расный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ний кру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ний прям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6300720" y="1628640"/>
            <a:ext cx="647640" cy="62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7093080" y="2781360"/>
            <a:ext cx="718920" cy="555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6300720" y="4005360"/>
            <a:ext cx="647640" cy="627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236000" y="5084640"/>
            <a:ext cx="504720" cy="865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Кому принадлежат эти слова: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«Что за прелесть эти сказки… Каждая есть поэма»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Л.Н.Толстом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К.И. Чуковском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А.С. Пушкин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9900cc"/>
                </a:solidFill>
                <a:uFillTx/>
                <a:latin typeface="Arial"/>
              </a:rPr>
              <a:t>Какое дерево лишне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ерё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о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их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ff"/>
                </a:solidFill>
                <a:uFillTx/>
                <a:latin typeface="Arial"/>
              </a:rPr>
              <a:t>Какое из этих выражений называется уравн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+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 + 3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+ 2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-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Один литр молока</a:t>
            </a:r>
            <a:br>
              <a:rPr sz="4000"/>
            </a:b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удобно налить в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ан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ч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99ff"/>
                </a:solidFill>
                <a:latin typeface="Arial"/>
              </a:rPr>
              <a:t>вед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бид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Двое играли в шашки четыре часа. Сколько часов играл каждый из н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ш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четы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осем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6600"/>
                </a:solidFill>
                <a:uFillTx/>
                <a:latin typeface="Arial"/>
              </a:rPr>
              <a:t>Сколько горбов у одногорбого верблю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о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д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В какое время встречают Новый го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венадцать ча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ин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есть ча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вадцать четыре час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a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Сколько оловянных солдатиков подарили мальч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ес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ятнадц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вадц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вадцать 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21:57:27Z</dcterms:created>
  <dc:creator>Рамис</dc:creator>
  <dc:description/>
  <dc:language>en-US</dc:language>
  <cp:lastModifiedBy>User</cp:lastModifiedBy>
  <dcterms:modified xsi:type="dcterms:W3CDTF">2004-01-01T03:45:09Z</dcterms:modified>
  <cp:revision>9</cp:revision>
  <dc:subject/>
  <dc:title>Какое из этих слов выложил Кай?</dc:title>
</cp:coreProperties>
</file>