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527-1DD9-4441-AAA1-D3FC5106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665-4C86-4F1E-B7EC-74348D9F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6E4-CC1F-4BBE-897D-9BD61608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1E0-0B1A-4600-950C-D962BA98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9C7-C7DC-4E5A-BE75-A1808845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AA0-3D9F-4F23-A820-1568A54D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5B0-58CD-4FA6-8B5D-1E33AC4B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5D0-F423-4603-A9DD-C9923828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FB1-A999-4F6B-9B51-E56F1733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477-CF18-459C-A547-11C0865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48F-DF31-4A17-9A63-571453D5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702-D2CC-4036-BDA5-AD9C6AB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3199-6E34-489C-8F35-560F51F54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2081160"/>
            <a:ext cx="8204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"/>
              </a:rPr>
              <a:t>Новые формы работы с родителями в ДО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24360" y="5944320"/>
            <a:ext cx="3706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44" name="Picture 2" descr="&amp;Dcy;&amp;lcy;&amp;yacy; &amp;lcy;&amp;yucy;&amp;bcy;&amp;ocy;&amp;zcy;&amp;ncy;&amp;acy;&amp;tcy;&amp;iecy;&amp;lcy;&amp;softcy;&amp;ncy;&amp;ycy;&amp;khcy; &amp;dcy;&amp;iecy;&amp;tcy;&amp;iecy;&amp;jcy; &amp;Gcy;&amp;ocy;&amp;scy;&amp;ucy;&amp;dcy;&amp;acy;&amp;rcy;&amp;scy;&amp;tcy;&amp;vcy;&amp;iecy;&amp;ncy;&amp;ncy;&amp;ocy;&amp;iecy; &amp;bcy;&amp;yucy;&amp;dcy;&amp;zhcy;&amp;iecy;&amp;tcy;&amp;ncy;&amp;ocy;&amp;iecy; &amp;dcy;&amp;ocy;&amp;shcy;&amp;kcy;&amp;ocy;&amp;lcy;&amp;softcy;&amp;ncy;&amp;ocy;…"/>
          <p:cNvPicPr/>
          <p:nvPr/>
        </p:nvPicPr>
        <p:blipFill>
          <a:blip r:embed="rId2"/>
          <a:stretch/>
        </p:blipFill>
        <p:spPr>
          <a:xfrm>
            <a:off x="1170000" y="3952800"/>
            <a:ext cx="5975280" cy="1955880"/>
          </a:xfrm>
          <a:prstGeom prst="rect">
            <a:avLst/>
          </a:prstGeom>
          <a:ln w="0">
            <a:noFill/>
          </a:ln>
        </p:spPr>
      </p:pic>
      <p:sp>
        <p:nvSpPr>
          <p:cNvPr id="45" name="Подзаголовок 2"/>
          <p:cNvSpPr/>
          <p:nvPr/>
        </p:nvSpPr>
        <p:spPr>
          <a:xfrm>
            <a:off x="341280" y="10152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503280" y="907920"/>
            <a:ext cx="81374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«Виртуальное гостевание как новый способ познакомить детей с профессия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Виртуальное гостевание – это новая прогрессивная форма организации детской деятельности, которая позволяет расширить способы общения, что способствует значительному повышению общей эффективности образовательного процес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Сначала педагогам нужно сформулировать требования к видеороликам. Затем подобрать гостей – провести опрос среди семей, кто из них хотел бы стать виртуальным гостем груп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Содержимое 2"/>
          <p:cNvSpPr/>
          <p:nvPr/>
        </p:nvSpPr>
        <p:spPr>
          <a:xfrm>
            <a:off x="971640" y="2565360"/>
            <a:ext cx="7993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125280" y="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Как подготовиться и провести с детьми беседу «Виртуальный гость групп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287280" y="981000"/>
            <a:ext cx="8569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1. Расскажите родителям об идее провести с детьми дистанционные беседы, чтобы познакомить их с разными професс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2. Проведите анкетирование родителей или опрос в чате группы об их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3. Составьте список профессии родителей, с которыми будете знакомить воспитан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4. Соберите согласия родителей стать виртуальным гостем групп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5. Составьте перспективный план по ознакомлению детей с профессиями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6. Проведите мастер–класс для родителей, как создать видеоролик о своей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7. Проведите с родителями индивидуальную консультацию и обсудите требования к содержанию видеоролика с учетом возрастных особенностей детей групп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8. Проведите с детьми предварительную беседу о профессии из видеорол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9. Организуйте просмотр видеоролика во время совместной деятельности воспитателя с деть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10.  Закрепите с детьми новые знания о профессии после просмотра виде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65360" y="1600200"/>
          <a:ext cx="5813280" cy="4525920"/>
        </p:xfrm>
        <a:graphic>
          <a:graphicData uri="http://schemas.openxmlformats.org/drawingml/2006/table">
            <a:tbl>
              <a:tblPr/>
              <a:tblGrid>
                <a:gridCol w="1484280"/>
                <a:gridCol w="4329000"/>
              </a:tblGrid>
              <a:tr h="2102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еб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00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т видеоро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 записывают видеоролики о своей профессии в электронном виде в формате МР 4. Минимальное разрешение видеоролика – 36р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1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олж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ая продолжительность видеоролика – 3-5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00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частие в кадре рассказчика о профе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ь, который рассказывает о своей профессии, обязательно должен быть в кадре и, если профессия предусматривает, – в спецодеж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24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запи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ь родители делают на своем рабочем мес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1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з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адре не должно быть лишних предметов, которые не относятся к деятельности конкретного специали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00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рганизации/места служ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идеоролике необходимо показать логотип, название организации, о которой рассказывает и где работает родите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3988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формационная безопас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видеоролика не должно противоречить законодательству и содержать информацию, которая может причинить вред здоровью и развитию дошкольников, вызвать у них страх, ужас или па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00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еоролик должен содержать рассказ родителя о профессии с демонстрацией рабочего места и результатов его профессион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2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25280" y="189000"/>
            <a:ext cx="889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Требования к видеоролику о професс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который записывают родит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341360"/>
          <a:ext cx="7344000" cy="4959360"/>
        </p:xfrm>
        <a:graphic>
          <a:graphicData uri="http://schemas.openxmlformats.org/drawingml/2006/table">
            <a:tbl>
              <a:tblPr/>
              <a:tblGrid>
                <a:gridCol w="1874880"/>
                <a:gridCol w="5469120"/>
              </a:tblGrid>
              <a:tr h="23508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Треб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Опис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956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Формат видеорол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Родители записывают видеоролики о своей профессии в электронном виде в формате МР 4. Минимальное разрешение видеоролика – 36р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65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Продолж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Максимальная продолжительность видеоролика – 3-5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81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Участие в кадре рассказчика о профе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Родитель, который рассказывает о своей профессии, обязательно должен быть в кадре и, если профессия предусматривает, – в спецодеж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65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Место запи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Запись родители делают на своем рабочем мест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160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Обз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 кадре не должно быть лишних предметов, которые не относятся к деятельности конкретного специали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956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Название организации/места служ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 видеоролике необходимо показать логотип, название организации, о которой рассказывает и где работает родител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Информационная безопас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Содержание видеоролика не должно противоречить законодательству и содержать информацию, которая может причинить вред здоровью и развитию дошкольников, вызвать у них страх, ужас или па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8120"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entury"/>
                        </a:rPr>
                        <a:t>Содерж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идеоролик должен содержать рассказ родителя о профессии с демонстрацией рабочего места и результатов его профессиональной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79320" y="1197000"/>
            <a:ext cx="8069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ще одна форма работ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-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дительский университ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абота была продуктивной, мы предлагаем на базе ДОУ создать кафедры по потребностям родителей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грамотного материнства (быть мамой-моя новая професс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эффективного родительства (мама и папа -1е учител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семейных традиций (все возраста-хранители семейных ценност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физического воспитания, художественно-эстетического на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«вопросов и ответов» (кафедра психологи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ни добрых дел», Музыкальные и литературные вечера, мини-муз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15840" y="65160"/>
            <a:ext cx="9128160" cy="6742080"/>
          </a:xfrm>
          <a:prstGeom prst="rect">
            <a:avLst/>
          </a:prstGeom>
          <a:ln w="0">
            <a:noFill/>
          </a:ln>
        </p:spPr>
      </p:pic>
      <p:sp>
        <p:nvSpPr>
          <p:cNvPr id="89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24000" y="620640"/>
            <a:ext cx="864072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сихологический практик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родители разные, это взрослые люди и к каждому нужно найти определенный подх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 чтобы понимать другого человека, необходимо хорошо знать самого себя. Я предлагаю сейчас проверить вам свои установки на общение с родителями: из каждой пары приведенных утверждений выделите одно, которое применимо в вашем понимании этого сл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аздаточный матери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        А) Я должна как можно чаще предоставлять родителям самим принимать реш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Мне нужно настоять на своей позиции или мнен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        А) Меня должны уваж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Я должен завоевать уваж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        А) Я должен быть в центре вним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Необходимо держаться в тени, но знать, что работа ид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        А) Я считаю, что кредит доверия должен накаплив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Я всегда авансирую доверие родителя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ценка результатов: правильные ответы: 1Б, 2Б, ЗБ, 4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правильны не все ваши ответы, есть опасность превратиться в авторитарного, всезнающего эксперта. Не от того ли, что зачастую родители и воспитатели просто не умеют прислушаться друг к другу и встают по разные стороны баррикад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31640" y="336600"/>
            <a:ext cx="8280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ам предлагается прослушать и обсудить притч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дин восточный властелин увидел страшный сон, будто у него выпали все зубы. В сильном волнении он позвал к себе толкователя снов. Тот выслушал его и озабоченно сказал: «Повелитель. Я должен сообщить тебе печальную новость. Ты потеряешь одного за другим всех своих близких». Эти слова вызвали гнев у властелина. Он велел бросить в тюрьму несчастного и позвать другого толкователя, который, выслушав сон, сказал: «Повелитель, я счастлив сообщить тебе радостную весть - ты переживешь всех своих родных». Властелин был обрадован и щедро наградил толкователя за предсказание. Придворные очень удивились. «Ведь ты же сказал ему то же самое, что и твой бедный предшественник, так почему же он был наказан, а ты вознагражден?» - спрашивали они. На что последовал ответ: «Мы оба одинаково истолковали сон. Но все зависит не только от того, что сказать, но и от того, как сказать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просы для обсужд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ое отношение, на ваш взгляд, эта притча имеет к теме нашего семинара-практикум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чем, на ваш взгляд, разница в толковании первого и второго мудрец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ходя из собственного опыта, скажите, как чаще всего вы представляете родителя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цию о ребенке (либо любую другую информацию)  - как первый или как второй толковател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611280" y="1311120"/>
            <a:ext cx="828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ражнение «Сердеч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 семинара предлагают выбрать цвет сердечка в зависимости от настроения и от того, насколько новым был материал и полез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е- если все знако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овые- материал новый, интерес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мероприятия педагоги пожелали всем коллегам взаимопонимания с родителями и плодотворного сотруднич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395280" y="1989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СПЕШНОЙ РАБОТЫ С РОДИТЕЛЯМИ 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900000" y="6353280"/>
            <a:ext cx="651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2081160"/>
            <a:ext cx="8204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«От того, как прошло детство, кто вёл ребёнка за руку в детские годы,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что вошло в его разум и сердце из окружающего мира-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от этого в решающей степени зависит, каким человеком станет сегодняшний малыш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В.А. 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324360" y="5944320"/>
            <a:ext cx="3706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604a7b"/>
              </a:solidFill>
              <a:latin typeface="Calibri"/>
            </a:endParaRPr>
          </a:p>
        </p:txBody>
      </p:sp>
      <p:pic>
        <p:nvPicPr>
          <p:cNvPr id="49" name="Picture 2" descr="&amp;Dcy;&amp;lcy;&amp;yacy; &amp;lcy;&amp;yucy;&amp;bcy;&amp;ocy;&amp;zcy;&amp;ncy;&amp;acy;&amp;tcy;&amp;iecy;&amp;lcy;&amp;softcy;&amp;ncy;&amp;ycy;&amp;khcy; &amp;dcy;&amp;iecy;&amp;tcy;&amp;iecy;&amp;jcy; &amp;Gcy;&amp;ocy;&amp;scy;&amp;ucy;&amp;dcy;&amp;acy;&amp;rcy;&amp;scy;&amp;tcy;&amp;vcy;&amp;iecy;&amp;ncy;&amp;ncy;&amp;ocy;&amp;iecy; &amp;bcy;&amp;yucy;&amp;dcy;&amp;zhcy;&amp;iecy;&amp;tcy;&amp;ncy;&amp;ocy;&amp;iecy; &amp;dcy;&amp;ocy;&amp;shcy;&amp;kcy;&amp;ocy;&amp;lcy;&amp;softcy;&amp;ncy;&amp;ocy;…"/>
          <p:cNvPicPr/>
          <p:nvPr/>
        </p:nvPicPr>
        <p:blipFill>
          <a:blip r:embed="rId2"/>
          <a:stretch/>
        </p:blipFill>
        <p:spPr>
          <a:xfrm>
            <a:off x="1170000" y="3952800"/>
            <a:ext cx="5975280" cy="195588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341280" y="10152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Содержимое 2"/>
          <p:cNvSpPr/>
          <p:nvPr/>
        </p:nvSpPr>
        <p:spPr>
          <a:xfrm>
            <a:off x="250920" y="404640"/>
            <a:ext cx="8569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entury"/>
              </a:rPr>
              <a:t>ФГОС представляет собой совокупность обязательных требований к дошкольному образован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-ФГОС утвержден 17.10.2013 г., вступает в силу с 01.01.2014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-ФГОС разработан на основе Конституции Российской  Федерации и  законодательства РФ и с учетом Конвенции ООН о правах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-Задача детского сада по ФГОС «повернуться» лицом к семье, оказать ей педагогическую помощь, привлечь семью на свою сторону в плане единых подходов в воспитании ребё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Содержимое 2"/>
          <p:cNvSpPr/>
          <p:nvPr/>
        </p:nvSpPr>
        <p:spPr>
          <a:xfrm>
            <a:off x="468360" y="83664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-В ФГОС говорится, что работа с родителями должна иметь дифференцированный подход, учитывать социальный статус, микроклимат семьи, родительские запросы и степень заинтересованности родителей деятельностью ДОУ, повышение культуры педагогической грамотности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Содержимое 2"/>
          <p:cNvSpPr/>
          <p:nvPr/>
        </p:nvSpPr>
        <p:spPr>
          <a:xfrm>
            <a:off x="395280" y="333360"/>
            <a:ext cx="842472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Century"/>
              </a:rPr>
              <a:t>В соответствии с ФГОС детский сад обязан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информировать родителей (законных представителей) и общественность относительно целей  дошкольного  образования,  общих для всего образовательного пространства Российской Федерации, а также о Программе, и не только семье, но и всем заинтересованным лицам, вовлечённым в  образовательную деятельность;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обеспечить открытость дошкольного образова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создавать условия для участия родителей (законных представителей) в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поддерживать родителей (законных представителей) в воспитании детей, охране и укреплении их  здоровь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обеспечить вовлечение  семей    непосредственно в образовательную деятельность, в том числе  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entury"/>
              </a:rPr>
              <a:t>-создавать условия для взрослых по поиску, использованию материалов, обеспечивающих реализацию Программы, в том числе в информационной среде, а также для обсуждения с родителями (законными  представителями) детей вопросов, связанных с реализац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Содержимое 2"/>
          <p:cNvSpPr/>
          <p:nvPr/>
        </p:nvSpPr>
        <p:spPr>
          <a:xfrm>
            <a:off x="971640" y="476280"/>
            <a:ext cx="7993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755640" y="7650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При организации совместной работы  дошкольного образовательного учреждения с семьями необходимо соблюдать основные принцип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6"/>
          <p:cNvSpPr/>
          <p:nvPr/>
        </p:nvSpPr>
        <p:spPr>
          <a:xfrm>
            <a:off x="684360" y="1844640"/>
            <a:ext cx="7775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1. Открытость детского сада для семьи (каждому родителю обеспечивается возможность знать и видеть, как живёт и развивается его  ребёно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2. Сотрудничество педагогов и родителей в воспитании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3. Создание активной развивающей среды, обеспечивающей единые подходы к развитию личности в семье и детском коллекти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4. Диагностика общих и частных проблем в развитии и воспитании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Содержимое 2"/>
          <p:cNvSpPr/>
          <p:nvPr/>
        </p:nvSpPr>
        <p:spPr>
          <a:xfrm>
            <a:off x="971640" y="2565360"/>
            <a:ext cx="7993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324000" y="620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Главная цель педагогов дошкольного учреждения – профессионально помочь семье в воспитании детей, при этом, не подменяя её, а дополняя и обеспечивая более полную реализацию её воспитательных функц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39640" y="234936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1. Развитие интересов и потребностей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2. Распределение обязанностей и ответственности между родителями в постоянно меняющихся ситуациях воспитания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3. Поддержка открытости во взаимоотношениях разными поколениями в семь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4. Выработка образа жизни семьи, формирование семейных традиц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"/>
              </a:rPr>
              <a:t>5. Понимание и принятие индивидуальности ребёнка, доверие и уважение к нему как к уникальной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Содержимое 2"/>
          <p:cNvSpPr/>
          <p:nvPr/>
        </p:nvSpPr>
        <p:spPr>
          <a:xfrm>
            <a:off x="971640" y="2565360"/>
            <a:ext cx="7993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0" y="692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Данная цель реализуется через следующие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539640" y="2060640"/>
            <a:ext cx="80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1. Воспитание уважения к детству и родительств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2. Взаимодействие с родителями для изучения их семейной микроср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3. Повышение и содействие общей культуры семьи и психолого-педагогической компетентност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4. Оказание практической и теоретической помощи родителям воспитанников через трансляцию основ теоретических знаний и формирование умений и навыков практической работы с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5. Использование с родителями различных форм сотрудничества и совместного творчества, исходя из индивидуально-дифференцированного подхода к семь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&amp;Scy;&amp;kcy;&amp;acy;&amp;chcy;&amp;acy;&amp;tcy;&amp;softcy; &amp;fcy;&amp;ocy;&amp;ncy;&amp;ycy; &amp;dcy;&amp;lcy;&amp;yacy; &amp;dcy;&amp;iecy;&amp;tcy;&amp;scy;&amp;kcy;&amp;ocy;&amp;jcy; &amp;pcy;&amp;rcy;&amp;iecy;&amp;zcy;&amp;iecy;&amp;ncy;&amp;tcy;&amp;acy;&amp;tscy;&amp;icy;&amp;yacy; - &amp;ncy;&amp;ocy;&amp;vcy;&amp;acy;&amp;yacy; &amp;pcy;&amp;rcy;&amp;iecy;&amp;zcy;&amp;iecy;&amp;ncy;&amp;tcy;&amp;acy;&amp;tscy;&amp;icy;&amp;ya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Содержимое 2"/>
          <p:cNvSpPr/>
          <p:nvPr/>
        </p:nvSpPr>
        <p:spPr>
          <a:xfrm>
            <a:off x="971640" y="2565360"/>
            <a:ext cx="7993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125280" y="189000"/>
            <a:ext cx="88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"/>
              </a:rPr>
              <a:t>Составление синквей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24000" y="8380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В переводе с французского «синквейн» — «пять строк» — стихотворение, которое требует синтеза информации и материала в кратких выражениях, что позволяет описывать или рефлектировать по какому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-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либо пов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entury"/>
              </a:rPr>
              <a:t>Пример синквейна на тему любви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Любовь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Сказочная, фантастическая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Приходит, окрыляет, убегает. 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Удержать ее умеют единицы.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Меч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entury"/>
              </a:rPr>
              <a:t>                                                      </a:t>
            </a: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Century"/>
              </a:rPr>
              <a:t>Пример синквейна на тему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Активная, бур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Воспитывает, развивает, учи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Дает возможность реализовать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           </a:t>
            </a:r>
            <a:r>
              <a:rPr b="1" lang="ru-RU" sz="2000" spc="-1" strike="noStrike">
                <a:solidFill>
                  <a:srgbClr val="002060"/>
                </a:solidFill>
                <a:latin typeface="Century"/>
              </a:rPr>
              <a:t>Искус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8:39:10Z</dcterms:created>
  <dc:creator>Dentsply</dc:creator>
  <dc:description/>
  <dc:language>en-US</dc:language>
  <cp:lastModifiedBy>Админ</cp:lastModifiedBy>
  <dcterms:modified xsi:type="dcterms:W3CDTF">2022-05-03T11:48:19Z</dcterms:modified>
  <cp:revision>69</cp:revision>
  <dc:subject/>
  <dc:title>Нетрадиционные  методы работы с родителями в ДОУ</dc:title>
</cp:coreProperties>
</file>