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8477-E15F-4634-A490-CA37F92D5D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DBB0-7B9F-4C3C-9544-2AA1CAF097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DC9A-AC84-4074-97C6-41DA6900F7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095-ED17-4A80-A839-1780F3D3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5DF-F06F-45F6-B007-D6323A79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4F5-C9E0-4F49-84FB-2DAD4E27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EA9-1517-456D-A127-7EE8274D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AF40-2E2A-42F2-8BE8-E70B219B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D608-C597-4065-8E03-1774794C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71B6-71DD-423C-99EE-05271C84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4C89-8A99-4091-BBC3-0AB45763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C77A-0D88-4F5E-B948-D51D3F1C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BA0D-35CB-4203-BD84-E168C4D0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3888-200D-42FA-A605-1E6105DF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31D-49AE-4DD3-820C-45C11B44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135B-3909-4330-B7D5-D635CB92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63D5-13B1-448A-BF8C-80ED564D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EAC4-F9CB-4F81-8E8B-82FA5A3D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5533-584A-4017-810E-39AF7D47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BE96-9C72-4254-90E6-EBC4ACFC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46E7D-43F8-4127-BBA9-BB552A64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577F2-31B4-4A53-A506-ACE15D09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6AD32-6419-4468-88B9-A89D4957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13E1-0575-4F41-A9D1-C76FB713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CECD1-DB07-42CF-A0D0-77239E73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FED-7654-4AA7-B6BA-8D7B20C4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3C1AB-C55E-44BA-BD3D-06C2959A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7ED8-70CF-4E7D-B34E-3465569B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9DFDC-69CE-4D4C-B1EE-CDF73398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603A-8CA0-4651-B2EB-D918E8DA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C5EF7-23A6-4CFD-86FB-E0B2E7C4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CE47-8AA8-473F-A723-77FF6133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F57E-B58D-4CD4-AE4D-B5CBC87A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84E-F54C-48AB-B955-6C820C95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FDA-DE19-4C82-9448-BA40F1B9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187-A535-44E6-B5AF-79138943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E95-94C7-4B64-BC06-835E0120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AE5-EFEE-4570-8DAD-5007F6A5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E49-775E-40FB-A5FD-424EC37D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5A72-DCD1-4E80-8099-9C08963753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5AA5-2FAD-42C9-A98C-47852AE2671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4670-7B25-4E6E-9FA5-43BE576F6B0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хема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925120" cy="204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skill.ru/images/2006/09/17/160564.jpg"/>
          <p:cNvPicPr/>
          <p:nvPr/>
        </p:nvPicPr>
        <p:blipFill>
          <a:blip r:embed="rId2"/>
          <a:stretch/>
        </p:blipFill>
        <p:spPr>
          <a:xfrm>
            <a:off x="571680" y="2214720"/>
            <a:ext cx="8072280" cy="45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ежисс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еще репетиция"/>
          <p:cNvPicPr/>
          <p:nvPr/>
        </p:nvPicPr>
        <p:blipFill>
          <a:blip r:embed="rId1"/>
          <a:stretch/>
        </p:blipFill>
        <p:spPr>
          <a:xfrm>
            <a:off x="304920" y="3048120"/>
            <a:ext cx="5181480" cy="344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репетиция 1"/>
          <p:cNvPicPr/>
          <p:nvPr/>
        </p:nvPicPr>
        <p:blipFill>
          <a:blip r:embed="rId2"/>
          <a:stretch/>
        </p:blipFill>
        <p:spPr>
          <a:xfrm>
            <a:off x="5219640" y="1123920"/>
            <a:ext cx="3314880" cy="2206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7"/>
          <p:cNvSpPr/>
          <p:nvPr/>
        </p:nvSpPr>
        <p:spPr>
          <a:xfrm>
            <a:off x="0" y="1197000"/>
            <a:ext cx="518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 распределяет роли, проводит репетиции с актерами, объясняет им, как двигаться, когда сделать паузу... 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5508720" y="3860640"/>
            <a:ext cx="36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жиссёр также выбирает, какую пьесу ставить, организует все, что происходит на сц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63640" y="-360"/>
            <a:ext cx="396108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ер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спектакля могут понадобить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ые разные костюмы - и старинные, 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ременные, и даж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зочны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2"/>
          <p:cNvPicPr/>
          <p:nvPr/>
        </p:nvPicPr>
        <p:blipFill>
          <a:blip r:embed="rId1"/>
          <a:stretch/>
        </p:blipFill>
        <p:spPr>
          <a:xfrm>
            <a:off x="539640" y="476280"/>
            <a:ext cx="4800600" cy="3602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15"/>
          <p:cNvPicPr/>
          <p:nvPr/>
        </p:nvPicPr>
        <p:blipFill>
          <a:blip r:embed="rId2"/>
          <a:stretch/>
        </p:blipFill>
        <p:spPr>
          <a:xfrm>
            <a:off x="4284720" y="3211560"/>
            <a:ext cx="4503600" cy="33861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4"/>
          <p:cNvSpPr/>
          <p:nvPr/>
        </p:nvSpPr>
        <p:spPr>
          <a:xfrm>
            <a:off x="250920" y="4005360"/>
            <a:ext cx="38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сь костюм должен сначала придумать и нарисовать художник. Затем портные воплотят  его идеи в жиз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тем портные воплотят  его идеи в жизнь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стера могут так расписать кусок мешковины, что из зала он будет казаться богатой парчой, бархатом или шелком. 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9" descr="костюмерная.jpg"/>
          <p:cNvPicPr/>
          <p:nvPr/>
        </p:nvPicPr>
        <p:blipFill>
          <a:blip r:embed="rId1"/>
          <a:stretch/>
        </p:blipFill>
        <p:spPr>
          <a:xfrm>
            <a:off x="468360" y="2565360"/>
            <a:ext cx="3743280" cy="40384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0" descr="костюмер4.jpg"/>
          <p:cNvPicPr/>
          <p:nvPr/>
        </p:nvPicPr>
        <p:blipFill>
          <a:blip r:embed="rId2"/>
          <a:stretch/>
        </p:blipFill>
        <p:spPr>
          <a:xfrm>
            <a:off x="4643280" y="2571840"/>
            <a:ext cx="4211640" cy="401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5616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 спектаклем гример накладывает актерам грим. Опытный мастер может изменить лицо актера до неузнаваем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miller_0101"/>
          <p:cNvPicPr/>
          <p:nvPr/>
        </p:nvPicPr>
        <p:blipFill>
          <a:blip r:embed="rId1"/>
          <a:stretch/>
        </p:blipFill>
        <p:spPr>
          <a:xfrm>
            <a:off x="3995640" y="3191040"/>
            <a:ext cx="3168720" cy="3333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iller_m"/>
          <p:cNvPicPr/>
          <p:nvPr/>
        </p:nvPicPr>
        <p:blipFill>
          <a:blip r:embed="rId2"/>
          <a:stretch/>
        </p:blipFill>
        <p:spPr>
          <a:xfrm>
            <a:off x="6084720" y="260280"/>
            <a:ext cx="2833920" cy="36702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грим.jpg"/>
          <p:cNvPicPr/>
          <p:nvPr/>
        </p:nvPicPr>
        <p:blipFill>
          <a:blip r:embed="rId3"/>
          <a:stretch/>
        </p:blipFill>
        <p:spPr>
          <a:xfrm>
            <a:off x="395280" y="2349360"/>
            <a:ext cx="3384720" cy="4060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конец, спектакль готов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театр приглашает зрител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вый спектакль называется премьер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6" descr=""/>
          <p:cNvPicPr/>
          <p:nvPr/>
        </p:nvPicPr>
        <p:blipFill>
          <a:blip r:embed="rId1"/>
          <a:srcRect l="0" t="21508" r="0" b="0"/>
          <a:stretch/>
        </p:blipFill>
        <p:spPr>
          <a:xfrm>
            <a:off x="1000080" y="1857240"/>
            <a:ext cx="7143840" cy="414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каждого знаменитого театра   есть своё «лицо» или здание, которое создавали талантливейшие архитекторы своего времен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" descr="http://www.chudni.ru/files/interest_pics/tieatr_kukol_03.jpg"/>
          <p:cNvPicPr/>
          <p:nvPr/>
        </p:nvPicPr>
        <p:blipFill>
          <a:blip r:embed="rId1"/>
          <a:stretch/>
        </p:blipFill>
        <p:spPr>
          <a:xfrm>
            <a:off x="4857840" y="4143240"/>
            <a:ext cx="3929040" cy="235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http://www.by-time.ru/upload/iblock/084/36105_pict2392c.jpg"/>
          <p:cNvPicPr/>
          <p:nvPr/>
        </p:nvPicPr>
        <p:blipFill>
          <a:blip r:embed="rId2"/>
          <a:stretch/>
        </p:blipFill>
        <p:spPr>
          <a:xfrm>
            <a:off x="4835520" y="1447920"/>
            <a:ext cx="3929040" cy="2500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2" descr="http://poezdkakira.ru/wp-content/gallery/theatre_rt/red_04.jpg"/>
          <p:cNvPicPr/>
          <p:nvPr/>
        </p:nvPicPr>
        <p:blipFill>
          <a:blip r:embed="rId4"/>
          <a:stretch/>
        </p:blipFill>
        <p:spPr>
          <a:xfrm>
            <a:off x="285840" y="1500120"/>
            <a:ext cx="4146480" cy="2571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http://mir-teatra.ru/uploads/posts/2012-09/1347041197_novosibirskiy-teatr-muzkomedii-3.jpg"/>
          <p:cNvPicPr/>
          <p:nvPr/>
        </p:nvPicPr>
        <p:blipFill>
          <a:blip r:embed="rId5"/>
          <a:stretch/>
        </p:blipFill>
        <p:spPr>
          <a:xfrm>
            <a:off x="357120" y="4214880"/>
            <a:ext cx="4071960" cy="235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6:32:12Z</dcterms:created>
  <dc:creator>Марина</dc:creator>
  <dc:description/>
  <dc:language>en-US</dc:language>
  <cp:lastModifiedBy>Admin</cp:lastModifiedBy>
  <dcterms:modified xsi:type="dcterms:W3CDTF">2013-12-11T03:10:39Z</dcterms:modified>
  <cp:revision>77</cp:revision>
  <dc:subject/>
  <dc:title>Драматический театр. Главное выразительное средство – слово. Смысл происходящих на сцене событий, характеры действующих лиц раскрываются с помощью слов, которые складываются в текст.</dc:title>
</cp:coreProperties>
</file>