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46B-ADB4-4497-893A-33FF97A7B6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832-FB74-4901-B500-368999478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F7E-8EF7-4615-A105-F9A4ABE5EE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95F-1586-455D-BBCB-C1794E44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188-3D71-46F4-993A-06DD1B3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EBB-437F-4946-996E-1E77F22E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7BE-EBF5-4FBB-94A4-59DEE0FC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7CA1-1922-49E5-A7D2-D51E155D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1DCC-5008-444C-A93C-0CCE4AB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0589-6901-4CA7-AFEA-839B924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281-7A12-45A5-ACD7-8346DF27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1764-0E14-4ADC-8542-49C88B78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99C5-E2B1-441B-88DF-C6DB890D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D044-467E-4B92-863A-1C2EC6FB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B28-9746-499A-9B16-6ED1D5AA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BB7B-5694-4243-9C37-4DE6E89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491-327E-4A8F-B71D-59315BA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0196-29F6-4863-AAB2-3443686A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B741-57E5-4291-A831-299C838F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C161-F235-4D3E-9953-4C98656E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BD40-0D77-4A42-B692-53FF9674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1739-3B24-42B9-8261-F4789EF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562F-201A-42CF-AF1C-01A4FBA4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EDF64-2581-4239-85DE-2EF8002F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F5999-818E-4674-B6DF-328CA61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DFF6-90FA-4235-BD66-580C9F11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904FA-5849-4BB6-9B67-37BCE24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2E595-B88E-4800-9EB0-57A64F24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307A4-1AC4-4C67-982E-93AEF7E1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9BCB-AC42-4579-BD5F-D9C9CAFA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CA72-7CCC-4489-98C1-2C6C4336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EE5B-11AD-4220-B135-1CD01792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D3101-E1B3-4B53-85A0-8CCF861F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CC9-5D8D-40A5-99E1-ABEDF2CD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8FE0-EF2E-4892-99E3-673370C3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BD1-889E-4C67-AD3E-786EA257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76B-7BE6-497E-A4C1-5CC5E63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251-A17B-441A-97EB-8EB043A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997-99A9-44D8-AA48-7A72241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15E-12D4-4540-9C04-F5109CD5A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9ED6-AC7F-436D-9ADA-084E21147EF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E7CA-9046-4B1A-82E6-2D647FEC4E6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хема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925120" cy="204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skill.ru/images/2006/09/17/160564.jpg"/>
          <p:cNvPicPr/>
          <p:nvPr/>
        </p:nvPicPr>
        <p:blipFill>
          <a:blip r:embed="rId2"/>
          <a:stretch/>
        </p:blipFill>
        <p:spPr>
          <a:xfrm>
            <a:off x="571680" y="2214720"/>
            <a:ext cx="8072280" cy="45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жис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еще репетиция"/>
          <p:cNvPicPr/>
          <p:nvPr/>
        </p:nvPicPr>
        <p:blipFill>
          <a:blip r:embed="rId1"/>
          <a:stretch/>
        </p:blipFill>
        <p:spPr>
          <a:xfrm>
            <a:off x="304920" y="3048120"/>
            <a:ext cx="5181480" cy="344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репетиция 1"/>
          <p:cNvPicPr/>
          <p:nvPr/>
        </p:nvPicPr>
        <p:blipFill>
          <a:blip r:embed="rId2"/>
          <a:stretch/>
        </p:blipFill>
        <p:spPr>
          <a:xfrm>
            <a:off x="5219640" y="1123920"/>
            <a:ext cx="3314880" cy="2206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0" y="1197000"/>
            <a:ext cx="518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 распределяет роли, проводит репетиции с актерами, объясняет им, как двигаться, когда сделать паузу... 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508720" y="3860640"/>
            <a:ext cx="36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жиссёр также выбирает, какую пьесу ставить, организует все, что происходит на сц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63640" y="-360"/>
            <a:ext cx="396108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е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спектакля могут понадобитьс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мые разные костюмы - и старинные, 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ременные, и да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оч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2"/>
          <p:cNvPicPr/>
          <p:nvPr/>
        </p:nvPicPr>
        <p:blipFill>
          <a:blip r:embed="rId1"/>
          <a:stretch/>
        </p:blipFill>
        <p:spPr>
          <a:xfrm>
            <a:off x="539640" y="476280"/>
            <a:ext cx="4800600" cy="360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5"/>
          <p:cNvPicPr/>
          <p:nvPr/>
        </p:nvPicPr>
        <p:blipFill>
          <a:blip r:embed="rId2"/>
          <a:stretch/>
        </p:blipFill>
        <p:spPr>
          <a:xfrm>
            <a:off x="4284720" y="3211560"/>
            <a:ext cx="4503600" cy="3386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4"/>
          <p:cNvSpPr/>
          <p:nvPr/>
        </p:nvSpPr>
        <p:spPr>
          <a:xfrm>
            <a:off x="250920" y="400536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сь костюм должен сначала придумать и нарисовать художник. Затем портные воплотят  его идеи в жизн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портные воплотят  его идеи в жизн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тера могут так расписать кусок мешковины, что из зала он будет казаться богатой парчой, бархатом или шелком.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9" descr="костюмерная.jpg"/>
          <p:cNvPicPr/>
          <p:nvPr/>
        </p:nvPicPr>
        <p:blipFill>
          <a:blip r:embed="rId1"/>
          <a:stretch/>
        </p:blipFill>
        <p:spPr>
          <a:xfrm>
            <a:off x="468360" y="2565360"/>
            <a:ext cx="3743280" cy="40384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0" descr="костюмер4.jpg"/>
          <p:cNvPicPr/>
          <p:nvPr/>
        </p:nvPicPr>
        <p:blipFill>
          <a:blip r:embed="rId2"/>
          <a:stretch/>
        </p:blipFill>
        <p:spPr>
          <a:xfrm>
            <a:off x="4643280" y="2571840"/>
            <a:ext cx="4211640" cy="4016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561636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спектаклем гример накладывает актерам грим. Опытный мастер может изменить лицо актера до неузнаваем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5" descr="miller_0101"/>
          <p:cNvPicPr/>
          <p:nvPr/>
        </p:nvPicPr>
        <p:blipFill>
          <a:blip r:embed="rId1"/>
          <a:stretch/>
        </p:blipFill>
        <p:spPr>
          <a:xfrm>
            <a:off x="3995640" y="3191040"/>
            <a:ext cx="3168720" cy="3333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miller_m"/>
          <p:cNvPicPr/>
          <p:nvPr/>
        </p:nvPicPr>
        <p:blipFill>
          <a:blip r:embed="rId2"/>
          <a:stretch/>
        </p:blipFill>
        <p:spPr>
          <a:xfrm>
            <a:off x="6084720" y="260280"/>
            <a:ext cx="2833920" cy="36702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5" descr="грим.jpg"/>
          <p:cNvPicPr/>
          <p:nvPr/>
        </p:nvPicPr>
        <p:blipFill>
          <a:blip r:embed="rId3"/>
          <a:stretch/>
        </p:blipFill>
        <p:spPr>
          <a:xfrm>
            <a:off x="395280" y="2349360"/>
            <a:ext cx="3384720" cy="406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конец, спектакль готов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театр приглашает зрител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вый спектакль называется премьер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6" descr=""/>
          <p:cNvPicPr/>
          <p:nvPr/>
        </p:nvPicPr>
        <p:blipFill>
          <a:blip r:embed="rId1"/>
          <a:srcRect l="0" t="21508" r="0" b="0"/>
          <a:stretch/>
        </p:blipFill>
        <p:spPr>
          <a:xfrm>
            <a:off x="1000080" y="1857240"/>
            <a:ext cx="7143840" cy="41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 каждого знаменитого театра   есть своё «лицо» или здание, которое создавали талантливейшие архитекторы своего времен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8" descr="http://www.chudni.ru/files/interest_pics/tieatr_kukol_03.jpg"/>
          <p:cNvPicPr/>
          <p:nvPr/>
        </p:nvPicPr>
        <p:blipFill>
          <a:blip r:embed="rId1"/>
          <a:stretch/>
        </p:blipFill>
        <p:spPr>
          <a:xfrm>
            <a:off x="4857840" y="4143240"/>
            <a:ext cx="3929040" cy="235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www.by-time.ru/upload/iblock/084/36105_pict2392c.jpg"/>
          <p:cNvPicPr/>
          <p:nvPr/>
        </p:nvPicPr>
        <p:blipFill>
          <a:blip r:embed="rId2"/>
          <a:stretch/>
        </p:blipFill>
        <p:spPr>
          <a:xfrm>
            <a:off x="4835520" y="1447920"/>
            <a:ext cx="3929040" cy="2500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2" descr="http://poezdkakira.ru/wp-content/gallery/theatre_rt/red_04.jpg"/>
          <p:cNvPicPr/>
          <p:nvPr/>
        </p:nvPicPr>
        <p:blipFill>
          <a:blip r:embed="rId4"/>
          <a:stretch/>
        </p:blipFill>
        <p:spPr>
          <a:xfrm>
            <a:off x="285840" y="1500120"/>
            <a:ext cx="414648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http://mir-teatra.ru/uploads/posts/2012-09/1347041197_novosibirskiy-teatr-muzkomedii-3.jpg"/>
          <p:cNvPicPr/>
          <p:nvPr/>
        </p:nvPicPr>
        <p:blipFill>
          <a:blip r:embed="rId5"/>
          <a:stretch/>
        </p:blipFill>
        <p:spPr>
          <a:xfrm>
            <a:off x="357120" y="4214880"/>
            <a:ext cx="4071960" cy="235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6:32:12Z</dcterms:created>
  <dc:creator>Марина</dc:creator>
  <dc:description/>
  <dc:language>en-US</dc:language>
  <cp:lastModifiedBy>Admin</cp:lastModifiedBy>
  <dcterms:modified xsi:type="dcterms:W3CDTF">2013-12-11T03:10:39Z</dcterms:modified>
  <cp:revision>77</cp:revision>
  <dc:subject/>
  <dc:title>Драматический театр. Главное выразительное средство – слово. Смысл происходящих на сцене событий, характеры действующих лиц раскрываются с помощью слов, которые складываются в текст.</dc:title>
</cp:coreProperties>
</file>