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0.gif" ContentType="image/gif"/>
  <Override PartName="/ppt/media/image2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323-BD24-4E94-9209-8F2AFB5E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16A-8865-4850-8609-E4FD3DF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1D4-6057-4BA9-9CDF-B52CAA7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6A11-9F6D-404C-ABFF-1FA9E59C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D392-7B12-4EC7-AD40-A62E7493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328-FC94-4634-B3B6-1D10B76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780-F338-49DD-BF8B-958EB441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78D5-9A07-4928-8759-59FBA4B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4C4F-CBD7-4DC0-B2AA-AAB75C86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102-764A-475D-958C-3B110F5D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6343-DD10-4209-BB91-DC7A42C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C8C-FDAB-4113-986C-354CBCC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49E4-9302-4152-BC60-8E15DAC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D231-CD97-491D-8370-CBD14919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CF85-A143-47DC-A01D-D61C733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D074-35CB-47EF-AC14-6FF375E3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0F96-9A28-4C2A-B33E-F2CDD9F4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75A-158C-4A14-B675-2D9FD4BC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78D-F726-40A9-A954-BE4873CA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8BF2-79B5-478B-A930-94D7FFAD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47F-C55A-41CD-BE98-A30642F2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BD0-4281-48C6-99FC-3E11722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6A3-A59E-476C-8013-1AA005D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0BA-607E-4D97-81B0-C118CB7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8709-EC2D-4A76-8920-E3AA94AB199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7" descr="Рисунок3"/>
          <p:cNvPicPr/>
          <p:nvPr/>
        </p:nvPicPr>
        <p:blipFill>
          <a:blip r:embed="rId2"/>
          <a:stretch/>
        </p:blipFill>
        <p:spPr>
          <a:xfrm>
            <a:off x="-27000" y="-22320"/>
            <a:ext cx="9198000" cy="6902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A7A-F718-4847-9744-90399ED5BB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32000" y="1916280"/>
            <a:ext cx="64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1244160"/>
            <a:ext cx="6408720" cy="175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3399"/>
                </a:solidFill>
                <a:latin typeface="Garamond"/>
              </a:rPr>
              <a:t>Сказка- ложь, да в ней намёк добрым молодцам урок</a:t>
            </a:r>
            <a:endParaRPr b="1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7280" y="396252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73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002673"/>
                </a:solidFill>
                <a:latin typeface="Garamond"/>
              </a:rPr>
              <a:t>Выполнила </a:t>
            </a:r>
            <a:r>
              <a:rPr b="1" lang="en-US" sz="2800" spc="-1" strike="noStrike">
                <a:solidFill>
                  <a:srgbClr val="00267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2673"/>
                </a:solidFill>
                <a:latin typeface="Garamond"/>
              </a:rPr>
              <a:t>: Масленникова Т.П.     воспитатель МКДОУ  д/с№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547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aramond"/>
              </a:rPr>
              <a:t>г.Новосибирск, 202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66"/>
                </a:solidFill>
                <a:latin typeface="Garamond"/>
              </a:rPr>
              <a:t>Волшебные сказки</a:t>
            </a:r>
            <a:endParaRPr b="1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357720" y="2786040"/>
            <a:ext cx="5638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Царевна - ляг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Кощей Бессмерт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Иван-царевич и Серый Вол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43000" y="1273320"/>
            <a:ext cx="6629400" cy="153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люди, фантастические существа.  Животные обычно являются помощниками сказочных геро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http://im8-tub.yandex.net/i?id=224939002&amp;tov=8"/>
          <p:cNvPicPr/>
          <p:nvPr/>
        </p:nvPicPr>
        <p:blipFill>
          <a:blip r:embed="rId1"/>
          <a:stretch/>
        </p:blipFill>
        <p:spPr>
          <a:xfrm>
            <a:off x="1071720" y="2714760"/>
            <a:ext cx="19285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Авторские сказки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00000" y="1197000"/>
            <a:ext cx="667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Нет четкого деления. Могут быть сказки, написанные стихами (К.И.Чуковский «Муха Цокотуха»), пьесы-сказки (С.Я. Маршак «Двенадцать месяцев»). В литературной сказке переплетаются элементы сказки о животных, бытовой и волшебной сказки. У авторских сказок нет четкого деления. Зависят от авторской фант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9" descr="мишка.gif"/>
          <p:cNvPicPr/>
          <p:nvPr/>
        </p:nvPicPr>
        <p:blipFill>
          <a:blip r:embed="rId1"/>
          <a:stretch/>
        </p:blipFill>
        <p:spPr>
          <a:xfrm>
            <a:off x="6791400" y="4357800"/>
            <a:ext cx="2352600" cy="2324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D:\Мои документы\Мои рисунки\картинки\J8qwiWBjP9.jpg"/>
          <p:cNvPicPr/>
          <p:nvPr/>
        </p:nvPicPr>
        <p:blipFill>
          <a:blip r:embed="rId2"/>
          <a:stretch/>
        </p:blipFill>
        <p:spPr>
          <a:xfrm>
            <a:off x="571680" y="3929040"/>
            <a:ext cx="18856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99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37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у русский народ всегда любил, передавал её из уст в уста, из поколения в поколение. Люди, рассказывая сказку часто изменяли или дополняли её и сказка становилась всё интерес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а учит нас быть добрыми, помогать ближним в беде, находить выход из разных ситу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казка описывает отношения между людьми, а сказочная форма помогает  понять эти отношения и сделать правильны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6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5" descr=""/>
          <p:cNvPicPr/>
          <p:nvPr/>
        </p:nvPicPr>
        <p:blipFill>
          <a:blip r:embed="rId1"/>
          <a:stretch/>
        </p:blipFill>
        <p:spPr>
          <a:xfrm>
            <a:off x="1268280" y="4876920"/>
            <a:ext cx="726624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D:\Мои документы\Мои рисунки\картинки\multik131.png"/>
          <p:cNvPicPr/>
          <p:nvPr/>
        </p:nvPicPr>
        <p:blipFill>
          <a:blip r:embed="rId2"/>
          <a:stretch/>
        </p:blipFill>
        <p:spPr>
          <a:xfrm>
            <a:off x="1768320" y="214200"/>
            <a:ext cx="12891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Цель: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0920" y="475920"/>
            <a:ext cx="784836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выяснить, зачем нам сегодня нужны сказ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multik59.png"/>
          <p:cNvPicPr/>
          <p:nvPr/>
        </p:nvPicPr>
        <p:blipFill>
          <a:blip r:embed="rId1"/>
          <a:stretch/>
        </p:blipFill>
        <p:spPr>
          <a:xfrm>
            <a:off x="1071720" y="2214720"/>
            <a:ext cx="2135160" cy="3547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48fadb03badd254a6d9ab18da2a98770.png"/>
          <p:cNvPicPr/>
          <p:nvPr/>
        </p:nvPicPr>
        <p:blipFill>
          <a:blip r:embed="rId2"/>
          <a:stretch/>
        </p:blipFill>
        <p:spPr>
          <a:xfrm>
            <a:off x="5786280" y="2635200"/>
            <a:ext cx="2589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ЗАДАЧИ</a:t>
            </a:r>
            <a:br>
              <a:rPr sz="4200"/>
            </a:b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зна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что такое сказка и откуда она взялас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какие бывают сказки и чему они нас учат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multik143.png"/>
          <p:cNvPicPr/>
          <p:nvPr/>
        </p:nvPicPr>
        <p:blipFill>
          <a:blip r:embed="rId1"/>
          <a:stretch/>
        </p:blipFill>
        <p:spPr>
          <a:xfrm>
            <a:off x="1285920" y="214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full-ae720075ca7b74921b4602239e2ff763.png"/>
          <p:cNvPicPr/>
          <p:nvPr/>
        </p:nvPicPr>
        <p:blipFill>
          <a:blip r:embed="rId2"/>
          <a:stretch/>
        </p:blipFill>
        <p:spPr>
          <a:xfrm>
            <a:off x="6357960" y="3500280"/>
            <a:ext cx="1785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План работы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росить до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ходить в библиотек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спользоваться энциклопед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рошо подум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60344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2" descr=""/>
          <p:cNvPicPr/>
          <p:nvPr/>
        </p:nvPicPr>
        <p:blipFill>
          <a:blip r:embed="rId2"/>
          <a:stretch/>
        </p:blipFill>
        <p:spPr>
          <a:xfrm>
            <a:off x="208080" y="1298520"/>
            <a:ext cx="4674960" cy="5059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000760" y="1428840"/>
            <a:ext cx="3333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СКАЗКИ БЫВАЮТ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5714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итерату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9"/>
          <p:cNvCxnSpPr/>
          <p:nvPr/>
        </p:nvCxnSpPr>
        <p:spPr>
          <a:xfrm>
            <a:off x="5214600" y="857160"/>
            <a:ext cx="1143720" cy="929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105" name="Прямая со стрелкой 11"/>
          <p:cNvCxnSpPr/>
          <p:nvPr/>
        </p:nvCxnSpPr>
        <p:spPr>
          <a:xfrm flipH="1">
            <a:off x="2571120" y="857160"/>
            <a:ext cx="929160" cy="9295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1785960" cy="142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2500200" y="3500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рыбка.jpg"/>
          <p:cNvPicPr/>
          <p:nvPr/>
        </p:nvPicPr>
        <p:blipFill>
          <a:blip r:embed="rId3"/>
          <a:stretch/>
        </p:blipFill>
        <p:spPr>
          <a:xfrm>
            <a:off x="4643280" y="2286000"/>
            <a:ext cx="1765440" cy="2295360"/>
          </a:xfrm>
          <a:prstGeom prst="rect">
            <a:avLst/>
          </a:prstGeom>
          <a:ln w="0">
            <a:noFill/>
          </a:ln>
        </p:spPr>
      </p:pic>
      <p:pic>
        <p:nvPicPr>
          <p:cNvPr id="109" name="Содержимое 3" descr="айболит.jpg"/>
          <p:cNvPicPr/>
          <p:nvPr/>
        </p:nvPicPr>
        <p:blipFill>
          <a:blip r:embed="rId4"/>
          <a:stretch/>
        </p:blipFill>
        <p:spPr>
          <a:xfrm>
            <a:off x="6500880" y="421488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1400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99"/>
                </a:solidFill>
                <a:latin typeface="Garamond"/>
              </a:rPr>
              <a:t>Виды народных сказок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11430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4360" y="121932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Традиционно подразделяют на три ви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5105520" y="2286000"/>
            <a:ext cx="3733200" cy="3733560"/>
            <a:chOff x="5105520" y="2286000"/>
            <a:chExt cx="3733200" cy="3733560"/>
          </a:xfrm>
        </p:grpSpPr>
        <p:grpSp>
          <p:nvGrpSpPr>
            <p:cNvPr id="114" name="Group 6"/>
            <p:cNvGrpSpPr/>
            <p:nvPr/>
          </p:nvGrpSpPr>
          <p:grpSpPr>
            <a:xfrm>
              <a:off x="5105520" y="4114800"/>
              <a:ext cx="3733200" cy="1904760"/>
              <a:chOff x="5105520" y="4114800"/>
              <a:chExt cx="3733200" cy="1904760"/>
            </a:xfrm>
          </p:grpSpPr>
          <p:grpSp>
            <p:nvGrpSpPr>
              <p:cNvPr id="115" name="Oval 7"/>
              <p:cNvGrpSpPr/>
              <p:nvPr/>
            </p:nvGrpSpPr>
            <p:grpSpPr>
              <a:xfrm>
                <a:off x="5105520" y="4114800"/>
                <a:ext cx="3733200" cy="1904760"/>
                <a:chOff x="5105520" y="4114800"/>
                <a:chExt cx="3733200" cy="1904760"/>
              </a:xfrm>
            </p:grpSpPr>
            <p:pic>
              <p:nvPicPr>
                <p:cNvPr id="116" name="Oval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05520" y="4114800"/>
                  <a:ext cx="3733200" cy="190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>
                  <a:off x="5653800" y="4397400"/>
                  <a:ext cx="2633400" cy="13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8"/>
              <p:cNvSpPr/>
              <p:nvPr/>
            </p:nvSpPr>
            <p:spPr>
              <a:xfrm>
                <a:off x="5457240" y="4592520"/>
                <a:ext cx="3141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оциально - бытов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9"/>
            <p:cNvSpPr/>
            <p:nvPr/>
          </p:nvSpPr>
          <p:spPr>
            <a:xfrm>
              <a:off x="5105520" y="2286000"/>
              <a:ext cx="251460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"/>
          <p:cNvGrpSpPr/>
          <p:nvPr/>
        </p:nvGrpSpPr>
        <p:grpSpPr>
          <a:xfrm>
            <a:off x="2590920" y="2362320"/>
            <a:ext cx="3809520" cy="2666520"/>
            <a:chOff x="2590920" y="2362320"/>
            <a:chExt cx="3809520" cy="2666520"/>
          </a:xfrm>
        </p:grpSpPr>
        <p:grpSp>
          <p:nvGrpSpPr>
            <p:cNvPr id="121" name="Group 11"/>
            <p:cNvGrpSpPr/>
            <p:nvPr/>
          </p:nvGrpSpPr>
          <p:grpSpPr>
            <a:xfrm>
              <a:off x="2590920" y="3200400"/>
              <a:ext cx="3809520" cy="1828440"/>
              <a:chOff x="2590920" y="3200400"/>
              <a:chExt cx="3809520" cy="1828440"/>
            </a:xfrm>
          </p:grpSpPr>
          <p:grpSp>
            <p:nvGrpSpPr>
              <p:cNvPr id="122" name="Oval 12"/>
              <p:cNvGrpSpPr/>
              <p:nvPr/>
            </p:nvGrpSpPr>
            <p:grpSpPr>
              <a:xfrm>
                <a:off x="2590920" y="3200400"/>
                <a:ext cx="3809520" cy="1828440"/>
                <a:chOff x="2590920" y="3200400"/>
                <a:chExt cx="3809520" cy="1828440"/>
              </a:xfrm>
            </p:grpSpPr>
            <p:pic>
              <p:nvPicPr>
                <p:cNvPr id="123" name="Oval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90920" y="3200400"/>
                  <a:ext cx="3809520" cy="1828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" name=""/>
                <p:cNvSpPr/>
                <p:nvPr/>
              </p:nvSpPr>
              <p:spPr>
                <a:xfrm>
                  <a:off x="3182400" y="3483360"/>
                  <a:ext cx="26265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Text Box 13"/>
              <p:cNvSpPr/>
              <p:nvPr/>
            </p:nvSpPr>
            <p:spPr>
              <a:xfrm>
                <a:off x="2988000" y="3663360"/>
                <a:ext cx="301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 животных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Line 14"/>
            <p:cNvSpPr/>
            <p:nvPr/>
          </p:nvSpPr>
          <p:spPr>
            <a:xfrm>
              <a:off x="4419720" y="23623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5"/>
          <p:cNvGrpSpPr/>
          <p:nvPr/>
        </p:nvGrpSpPr>
        <p:grpSpPr>
          <a:xfrm>
            <a:off x="228600" y="2286000"/>
            <a:ext cx="3733560" cy="3580920"/>
            <a:chOff x="228600" y="2286000"/>
            <a:chExt cx="3733560" cy="3580920"/>
          </a:xfrm>
        </p:grpSpPr>
        <p:grpSp>
          <p:nvGrpSpPr>
            <p:cNvPr id="128" name="Group 16"/>
            <p:cNvGrpSpPr/>
            <p:nvPr/>
          </p:nvGrpSpPr>
          <p:grpSpPr>
            <a:xfrm>
              <a:off x="228600" y="4038480"/>
              <a:ext cx="3733560" cy="1828440"/>
              <a:chOff x="228600" y="4038480"/>
              <a:chExt cx="3733560" cy="1828440"/>
            </a:xfrm>
          </p:grpSpPr>
          <p:sp>
            <p:nvSpPr>
              <p:cNvPr id="129" name="Oval 17"/>
              <p:cNvSpPr/>
              <p:nvPr/>
            </p:nvSpPr>
            <p:spPr>
              <a:xfrm>
                <a:off x="228600" y="4038480"/>
                <a:ext cx="3733560" cy="1828440"/>
              </a:xfrm>
              <a:prstGeom prst="ellipse">
                <a:avLst/>
              </a:prstGeom>
              <a:gradFill rotWithShape="0">
                <a:gsLst>
                  <a:gs pos="0">
                    <a:srgbClr val="a3eded"/>
                  </a:gs>
                  <a:gs pos="100000">
                    <a:srgbClr val="e6fafa"/>
                  </a:gs>
                </a:gsLst>
                <a:lin ang="16200000"/>
              </a:gradFill>
              <a:ln w="9360">
                <a:solidFill>
                  <a:srgbClr val="009999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8"/>
              <p:cNvSpPr/>
              <p:nvPr/>
            </p:nvSpPr>
            <p:spPr>
              <a:xfrm>
                <a:off x="812160" y="4678200"/>
                <a:ext cx="2916000" cy="4597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олшебны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19"/>
            <p:cNvSpPr/>
            <p:nvPr/>
          </p:nvSpPr>
          <p:spPr>
            <a:xfrm flipH="1">
              <a:off x="1294920" y="2286000"/>
              <a:ext cx="251460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724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66"/>
                </a:solidFill>
                <a:latin typeface="Garamond"/>
              </a:rPr>
              <a:t>Сказки о животных</a:t>
            </a:r>
            <a:endParaRPr b="1" lang="en-US" sz="4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3048120"/>
            <a:ext cx="563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Медведь и ли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Лиса и тетер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Лиса и журавль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71720" y="1357200"/>
            <a:ext cx="662940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Животные. Если участвует человек, то он противопоставлен живот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5049ser.jpg"/>
          <p:cNvPicPr/>
          <p:nvPr/>
        </p:nvPicPr>
        <p:blipFill>
          <a:blip r:embed="rId1"/>
          <a:stretch/>
        </p:blipFill>
        <p:spPr>
          <a:xfrm>
            <a:off x="6572160" y="2643120"/>
            <a:ext cx="1376280" cy="171144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iCAAGAD5Y.jpg"/>
          <p:cNvPicPr/>
          <p:nvPr/>
        </p:nvPicPr>
        <p:blipFill>
          <a:blip r:embed="rId2"/>
          <a:stretch/>
        </p:blipFill>
        <p:spPr>
          <a:xfrm>
            <a:off x="5214960" y="4286160"/>
            <a:ext cx="12384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196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66"/>
                </a:solidFill>
                <a:latin typeface="Garamond"/>
              </a:rPr>
              <a:t>Социально-бытовые сказки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3048120"/>
            <a:ext cx="563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Garamond"/>
              </a:rPr>
              <a:t>«</a:t>
            </a: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Каша из топ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Про деда и бабу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Garamond"/>
              </a:rPr>
              <a:t>«Умная вну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43000" y="1523880"/>
            <a:ext cx="6629400" cy="12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aramond"/>
              </a:rPr>
              <a:t>Главные геро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люди, побеждающие благодаря смекалке, мужеству и хитр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://im0-tub.yandex.net/i?id=139021406&amp;tov=0"/>
          <p:cNvPicPr/>
          <p:nvPr/>
        </p:nvPicPr>
        <p:blipFill>
          <a:blip r:embed="rId1"/>
          <a:stretch/>
        </p:blipFill>
        <p:spPr>
          <a:xfrm>
            <a:off x="5143680" y="3357720"/>
            <a:ext cx="3043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6:29:18Z</dcterms:created>
  <dc:creator>Пользователь</dc:creator>
  <dc:description/>
  <dc:language>en-US</dc:language>
  <cp:lastModifiedBy>Юлия</cp:lastModifiedBy>
  <dcterms:modified xsi:type="dcterms:W3CDTF">2022-05-03T05:59:28Z</dcterms:modified>
  <cp:revision>78</cp:revision>
  <dc:subject/>
  <dc:title>Слайд 1</dc:title>
</cp:coreProperties>
</file>