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0.gif" ContentType="image/gif"/>
  <Override PartName="/ppt/media/image23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5.png" ContentType="image/pn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787C-92CB-46CE-921C-9314FFA74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7C3C-31AC-479B-B566-EE0CB2F9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9D1A-C4DC-4DF8-90DC-7F1A141EE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6873-B9BD-4AE3-989A-F86022CF6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38AD-954B-487A-9852-222D85B1A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BFAB8-A582-4A0F-AC19-1448D03B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3995-A52C-484D-8817-7A536B9E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53EA-D52F-4058-94BA-1795B1C4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6A19-63EE-4239-B4A7-380968F3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B18C-ACC5-433D-B34C-A67A9F96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3328-CB44-472E-8E38-9E18D65C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87D7-C067-4AA4-A593-D9862AEA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8076-3AD8-4040-855B-BFF662BA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CE7A-79F2-4A3D-BFD6-003F3F4B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E65B-04A6-4750-9895-7BF9FFFE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482C-452E-46F0-AE45-70E002537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9824-F9D7-48B2-BCC9-17208D9F5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6C1A-76B4-42C3-8263-9335F312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1CF2-5FB6-4A45-B7AB-91A2F02E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97B7-332E-4986-8C7D-CBA8932A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3B2B-E57C-4FA6-A75D-717393C7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1FA2-541F-45AB-A80D-25441BE8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7470-A935-4C73-A14D-E1951F16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82C2-CFDC-4515-918E-27239DB1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Рисунок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8DF9-A696-488C-BF01-6AE0887BC13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7" descr="Рисунок3"/>
          <p:cNvPicPr/>
          <p:nvPr/>
        </p:nvPicPr>
        <p:blipFill>
          <a:blip r:embed="rId2"/>
          <a:stretch/>
        </p:blipFill>
        <p:spPr>
          <a:xfrm>
            <a:off x="-27000" y="-22320"/>
            <a:ext cx="9198000" cy="6902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F36A-1903-474A-8ADB-A0130B67E5C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332000" y="1916280"/>
            <a:ext cx="648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32000" y="1244160"/>
            <a:ext cx="6408720" cy="1752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3399"/>
                </a:solidFill>
                <a:latin typeface="Garamond"/>
              </a:rPr>
              <a:t>Сказка- ложь, да в ней намёк добрым молодцам урок</a:t>
            </a:r>
            <a:endParaRPr b="1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87280" y="3962520"/>
            <a:ext cx="662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73"/>
                </a:solidFill>
                <a:latin typeface="Garamond"/>
              </a:rPr>
              <a:t>  </a:t>
            </a:r>
            <a:r>
              <a:rPr b="1" lang="ru-RU" sz="2800" spc="-1" strike="noStrike">
                <a:solidFill>
                  <a:srgbClr val="002673"/>
                </a:solidFill>
                <a:latin typeface="Garamond"/>
              </a:rPr>
              <a:t>Выполнила </a:t>
            </a:r>
            <a:r>
              <a:rPr b="1" lang="en-US" sz="2800" spc="-1" strike="noStrike">
                <a:solidFill>
                  <a:srgbClr val="002673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2673"/>
                </a:solidFill>
                <a:latin typeface="Garamond"/>
              </a:rPr>
              <a:t>: Масленникова Т.П.     воспитатель МКДОУ  д/с№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547640" y="573408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Garamond"/>
              </a:rPr>
              <a:t>г.Новосибирск, 2021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66"/>
                </a:solidFill>
                <a:latin typeface="Garamond"/>
              </a:rPr>
              <a:t>Волшебные сказки</a:t>
            </a:r>
            <a:endParaRPr b="1" lang="en-US" sz="4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357720" y="2786040"/>
            <a:ext cx="56386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Garamond"/>
              </a:rPr>
              <a:t>«Царевна - лягуш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Garamond"/>
              </a:rPr>
              <a:t>«Кощей Бессмертны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Garamond"/>
              </a:rPr>
              <a:t>«Иван-царевич и Серый Вол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143000" y="1273320"/>
            <a:ext cx="6629400" cy="15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Garamond"/>
              </a:rPr>
              <a:t>Главные геро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люди, фантастические существа.  Животные обычно являются помощниками сказочных геро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9" descr="http://im8-tub.yandex.net/i?id=224939002&amp;tov=8"/>
          <p:cNvPicPr/>
          <p:nvPr/>
        </p:nvPicPr>
        <p:blipFill>
          <a:blip r:embed="rId1"/>
          <a:stretch/>
        </p:blipFill>
        <p:spPr>
          <a:xfrm>
            <a:off x="1071720" y="2714760"/>
            <a:ext cx="192852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99"/>
                </a:solidFill>
                <a:latin typeface="Garamond"/>
              </a:rPr>
              <a:t>Авторские сказки</a:t>
            </a: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900000" y="1197000"/>
            <a:ext cx="667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Нет четкого деления. Могут быть сказки, написанные стихами (К.И.Чуковский «Муха Цокотуха»), пьесы-сказки (С.Я. Маршак «Двенадцать месяцев»). В литературной сказке переплетаются элементы сказки о животных, бытовой и волшебной сказки. У авторских сказок нет четкого деления. Зависят от авторской фанта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Рисунок 19" descr="мишка.gif"/>
          <p:cNvPicPr/>
          <p:nvPr/>
        </p:nvPicPr>
        <p:blipFill>
          <a:blip r:embed="rId1"/>
          <a:stretch/>
        </p:blipFill>
        <p:spPr>
          <a:xfrm>
            <a:off x="6791400" y="4357800"/>
            <a:ext cx="2352600" cy="2324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D:\Мои документы\Мои рисунки\картинки\J8qwiWBjP9.jpg"/>
          <p:cNvPicPr/>
          <p:nvPr/>
        </p:nvPicPr>
        <p:blipFill>
          <a:blip r:embed="rId2"/>
          <a:stretch/>
        </p:blipFill>
        <p:spPr>
          <a:xfrm>
            <a:off x="571680" y="3929040"/>
            <a:ext cx="18856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99"/>
                </a:solidFill>
                <a:latin typeface="Garamond"/>
              </a:rPr>
              <a:t>Вывод</a:t>
            </a:r>
            <a:endParaRPr b="1" lang="en-US" sz="5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45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Сказку русский народ всегда любил, передавал её из уст в уста, из поколения в поколение. Люди, рассказывая сказку часто изменяли или дополняли её и сказка становилась всё интересн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5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Сказка учит нас быть добрыми, помогать ближним в беде, находить выход из разных ситу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5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Сказка описывает отношения между людьми, а сказочная форма помогает  понять эти отношения и сделать правильные вы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56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Прямоугольник 5" descr=""/>
          <p:cNvPicPr/>
          <p:nvPr/>
        </p:nvPicPr>
        <p:blipFill>
          <a:blip r:embed="rId1"/>
          <a:stretch/>
        </p:blipFill>
        <p:spPr>
          <a:xfrm>
            <a:off x="1268280" y="4876920"/>
            <a:ext cx="7266240" cy="1523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D:\Мои документы\Мои рисунки\картинки\multik131.png"/>
          <p:cNvPicPr/>
          <p:nvPr/>
        </p:nvPicPr>
        <p:blipFill>
          <a:blip r:embed="rId2"/>
          <a:stretch/>
        </p:blipFill>
        <p:spPr>
          <a:xfrm>
            <a:off x="1768320" y="214200"/>
            <a:ext cx="128916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99"/>
                </a:solidFill>
                <a:latin typeface="Garamond"/>
              </a:rPr>
              <a:t>Цель:</a:t>
            </a: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0920" y="475920"/>
            <a:ext cx="784836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выяснить, зачем нам сегодня нужны сказк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4" descr="multik59.png"/>
          <p:cNvPicPr/>
          <p:nvPr/>
        </p:nvPicPr>
        <p:blipFill>
          <a:blip r:embed="rId1"/>
          <a:stretch/>
        </p:blipFill>
        <p:spPr>
          <a:xfrm>
            <a:off x="1071720" y="2214720"/>
            <a:ext cx="2135160" cy="35478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5" descr="48fadb03badd254a6d9ab18da2a98770.png"/>
          <p:cNvPicPr/>
          <p:nvPr/>
        </p:nvPicPr>
        <p:blipFill>
          <a:blip r:embed="rId2"/>
          <a:stretch/>
        </p:blipFill>
        <p:spPr>
          <a:xfrm>
            <a:off x="5786280" y="2635200"/>
            <a:ext cx="258948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99"/>
                </a:solidFill>
                <a:latin typeface="Garamond"/>
              </a:rPr>
              <a:t>ЗАДАЧИ</a:t>
            </a:r>
            <a:br>
              <a:rPr sz="4200"/>
            </a:b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знат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что такое сказка и откуда она взялась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какие бывают сказки и чему они нас учат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4" descr="multik143.png"/>
          <p:cNvPicPr/>
          <p:nvPr/>
        </p:nvPicPr>
        <p:blipFill>
          <a:blip r:embed="rId1"/>
          <a:stretch/>
        </p:blipFill>
        <p:spPr>
          <a:xfrm>
            <a:off x="1285920" y="21420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5" descr="full-ae720075ca7b74921b4602239e2ff763.png"/>
          <p:cNvPicPr/>
          <p:nvPr/>
        </p:nvPicPr>
        <p:blipFill>
          <a:blip r:embed="rId2"/>
          <a:stretch/>
        </p:blipFill>
        <p:spPr>
          <a:xfrm>
            <a:off x="6357960" y="3500280"/>
            <a:ext cx="178596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99"/>
                </a:solidFill>
                <a:latin typeface="Garamond"/>
              </a:rPr>
              <a:t>План работы</a:t>
            </a: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просить до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ходить в библиотек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оспользоваться энциклопеди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Хорошо подума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603440"/>
          </a:xfrm>
          <a:prstGeom prst="rect">
            <a:avLst/>
          </a:prstGeom>
          <a:ln w="0">
            <a:noFill/>
          </a:ln>
        </p:spPr>
      </p:pic>
      <p:pic>
        <p:nvPicPr>
          <p:cNvPr id="99" name="Содержимое 2" descr=""/>
          <p:cNvPicPr/>
          <p:nvPr/>
        </p:nvPicPr>
        <p:blipFill>
          <a:blip r:embed="rId2"/>
          <a:stretch/>
        </p:blipFill>
        <p:spPr>
          <a:xfrm>
            <a:off x="208080" y="1298520"/>
            <a:ext cx="4674960" cy="5059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3"/>
          <a:stretch/>
        </p:blipFill>
        <p:spPr>
          <a:xfrm>
            <a:off x="5000760" y="1428840"/>
            <a:ext cx="33336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99"/>
                </a:solidFill>
                <a:latin typeface="Garamond"/>
              </a:rPr>
              <a:t>СКАЗКИ БЫВАЮТ</a:t>
            </a: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760" y="15714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Народ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Литератур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Прямая со стрелкой 9"/>
          <p:cNvCxnSpPr/>
          <p:nvPr/>
        </p:nvCxnSpPr>
        <p:spPr>
          <a:xfrm>
            <a:off x="5214600" y="857160"/>
            <a:ext cx="1143720" cy="929520"/>
          </a:xfrm>
          <a:prstGeom prst="straightConnector1">
            <a:avLst/>
          </a:prstGeom>
          <a:ln w="5724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05" name="Прямая со стрелкой 11"/>
          <p:cNvCxnSpPr/>
          <p:nvPr/>
        </p:nvCxnSpPr>
        <p:spPr>
          <a:xfrm flipH="1">
            <a:off x="2571120" y="857160"/>
            <a:ext cx="929160" cy="929520"/>
          </a:xfrm>
          <a:prstGeom prst="straightConnector1">
            <a:avLst/>
          </a:prstGeom>
          <a:ln w="57240">
            <a:solidFill>
              <a:srgbClr val="002060"/>
            </a:solidFill>
            <a:miter/>
            <a:tailEnd len="med" type="arrow" w="med"/>
          </a:ln>
        </p:spPr>
      </p:cxnSp>
      <p:pic>
        <p:nvPicPr>
          <p:cNvPr id="106" name="Содержимое 3" descr=""/>
          <p:cNvPicPr/>
          <p:nvPr/>
        </p:nvPicPr>
        <p:blipFill>
          <a:blip r:embed="rId1"/>
          <a:stretch/>
        </p:blipFill>
        <p:spPr>
          <a:xfrm>
            <a:off x="785880" y="2428920"/>
            <a:ext cx="1785960" cy="1428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2500200" y="3500280"/>
            <a:ext cx="1571760" cy="1928880"/>
          </a:xfrm>
          <a:prstGeom prst="rect">
            <a:avLst/>
          </a:prstGeom>
          <a:ln w="0">
            <a:noFill/>
          </a:ln>
        </p:spPr>
      </p:pic>
      <p:pic>
        <p:nvPicPr>
          <p:cNvPr id="108" name="Содержимое 3" descr="рыбка.jpg"/>
          <p:cNvPicPr/>
          <p:nvPr/>
        </p:nvPicPr>
        <p:blipFill>
          <a:blip r:embed="rId3"/>
          <a:stretch/>
        </p:blipFill>
        <p:spPr>
          <a:xfrm>
            <a:off x="4643280" y="2286000"/>
            <a:ext cx="1765440" cy="2295360"/>
          </a:xfrm>
          <a:prstGeom prst="rect">
            <a:avLst/>
          </a:prstGeom>
          <a:ln w="0">
            <a:noFill/>
          </a:ln>
        </p:spPr>
      </p:pic>
      <p:pic>
        <p:nvPicPr>
          <p:cNvPr id="109" name="Содержимое 3" descr="айболит.jpg"/>
          <p:cNvPicPr/>
          <p:nvPr/>
        </p:nvPicPr>
        <p:blipFill>
          <a:blip r:embed="rId4"/>
          <a:stretch/>
        </p:blipFill>
        <p:spPr>
          <a:xfrm>
            <a:off x="6500880" y="421488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31640" y="41400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99"/>
                </a:solidFill>
                <a:latin typeface="Garamond"/>
              </a:rPr>
              <a:t>Виды народных сказок</a:t>
            </a: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457200" y="11430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684360" y="121932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Традиционно подразделяют на три ви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5"/>
          <p:cNvGrpSpPr/>
          <p:nvPr/>
        </p:nvGrpSpPr>
        <p:grpSpPr>
          <a:xfrm>
            <a:off x="5105520" y="2286000"/>
            <a:ext cx="3733200" cy="3733560"/>
            <a:chOff x="5105520" y="2286000"/>
            <a:chExt cx="3733200" cy="3733560"/>
          </a:xfrm>
        </p:grpSpPr>
        <p:grpSp>
          <p:nvGrpSpPr>
            <p:cNvPr id="114" name="Group 6"/>
            <p:cNvGrpSpPr/>
            <p:nvPr/>
          </p:nvGrpSpPr>
          <p:grpSpPr>
            <a:xfrm>
              <a:off x="5105520" y="4114800"/>
              <a:ext cx="3733200" cy="1904760"/>
              <a:chOff x="5105520" y="4114800"/>
              <a:chExt cx="3733200" cy="1904760"/>
            </a:xfrm>
          </p:grpSpPr>
          <p:grpSp>
            <p:nvGrpSpPr>
              <p:cNvPr id="115" name="Oval 7"/>
              <p:cNvGrpSpPr/>
              <p:nvPr/>
            </p:nvGrpSpPr>
            <p:grpSpPr>
              <a:xfrm>
                <a:off x="5105520" y="4114800"/>
                <a:ext cx="3733200" cy="1904760"/>
                <a:chOff x="5105520" y="4114800"/>
                <a:chExt cx="3733200" cy="1904760"/>
              </a:xfrm>
            </p:grpSpPr>
            <p:pic>
              <p:nvPicPr>
                <p:cNvPr id="116" name="Oval 7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105520" y="4114800"/>
                  <a:ext cx="3733200" cy="1904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" name=""/>
                <p:cNvSpPr/>
                <p:nvPr/>
              </p:nvSpPr>
              <p:spPr>
                <a:xfrm>
                  <a:off x="5653800" y="4397400"/>
                  <a:ext cx="2633400" cy="13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Text Box 8"/>
              <p:cNvSpPr/>
              <p:nvPr/>
            </p:nvSpPr>
            <p:spPr>
              <a:xfrm>
                <a:off x="5457240" y="4592520"/>
                <a:ext cx="3141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Социально - бытовы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Line 9"/>
            <p:cNvSpPr/>
            <p:nvPr/>
          </p:nvSpPr>
          <p:spPr>
            <a:xfrm>
              <a:off x="5105520" y="2286000"/>
              <a:ext cx="251460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10"/>
          <p:cNvGrpSpPr/>
          <p:nvPr/>
        </p:nvGrpSpPr>
        <p:grpSpPr>
          <a:xfrm>
            <a:off x="2590920" y="2362320"/>
            <a:ext cx="3809520" cy="2666520"/>
            <a:chOff x="2590920" y="2362320"/>
            <a:chExt cx="3809520" cy="2666520"/>
          </a:xfrm>
        </p:grpSpPr>
        <p:grpSp>
          <p:nvGrpSpPr>
            <p:cNvPr id="121" name="Group 11"/>
            <p:cNvGrpSpPr/>
            <p:nvPr/>
          </p:nvGrpSpPr>
          <p:grpSpPr>
            <a:xfrm>
              <a:off x="2590920" y="3200400"/>
              <a:ext cx="3809520" cy="1828440"/>
              <a:chOff x="2590920" y="3200400"/>
              <a:chExt cx="3809520" cy="1828440"/>
            </a:xfrm>
          </p:grpSpPr>
          <p:grpSp>
            <p:nvGrpSpPr>
              <p:cNvPr id="122" name="Oval 12"/>
              <p:cNvGrpSpPr/>
              <p:nvPr/>
            </p:nvGrpSpPr>
            <p:grpSpPr>
              <a:xfrm>
                <a:off x="2590920" y="3200400"/>
                <a:ext cx="3809520" cy="1828440"/>
                <a:chOff x="2590920" y="3200400"/>
                <a:chExt cx="3809520" cy="1828440"/>
              </a:xfrm>
            </p:grpSpPr>
            <p:pic>
              <p:nvPicPr>
                <p:cNvPr id="123" name="Oval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590920" y="3200400"/>
                  <a:ext cx="3809520" cy="1828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" name=""/>
                <p:cNvSpPr/>
                <p:nvPr/>
              </p:nvSpPr>
              <p:spPr>
                <a:xfrm>
                  <a:off x="3182400" y="3483360"/>
                  <a:ext cx="2626560" cy="122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" name="Text Box 13"/>
              <p:cNvSpPr/>
              <p:nvPr/>
            </p:nvSpPr>
            <p:spPr>
              <a:xfrm>
                <a:off x="2988000" y="3663360"/>
                <a:ext cx="301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О животны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Line 14"/>
            <p:cNvSpPr/>
            <p:nvPr/>
          </p:nvSpPr>
          <p:spPr>
            <a:xfrm>
              <a:off x="4419720" y="23623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5"/>
          <p:cNvGrpSpPr/>
          <p:nvPr/>
        </p:nvGrpSpPr>
        <p:grpSpPr>
          <a:xfrm>
            <a:off x="228600" y="2286000"/>
            <a:ext cx="3733560" cy="3580920"/>
            <a:chOff x="228600" y="2286000"/>
            <a:chExt cx="3733560" cy="3580920"/>
          </a:xfrm>
        </p:grpSpPr>
        <p:grpSp>
          <p:nvGrpSpPr>
            <p:cNvPr id="128" name="Group 16"/>
            <p:cNvGrpSpPr/>
            <p:nvPr/>
          </p:nvGrpSpPr>
          <p:grpSpPr>
            <a:xfrm>
              <a:off x="228600" y="4038480"/>
              <a:ext cx="3733560" cy="1828440"/>
              <a:chOff x="228600" y="4038480"/>
              <a:chExt cx="3733560" cy="1828440"/>
            </a:xfrm>
          </p:grpSpPr>
          <p:sp>
            <p:nvSpPr>
              <p:cNvPr id="129" name="Oval 17"/>
              <p:cNvSpPr/>
              <p:nvPr/>
            </p:nvSpPr>
            <p:spPr>
              <a:xfrm>
                <a:off x="228600" y="4038480"/>
                <a:ext cx="3733560" cy="1828440"/>
              </a:xfrm>
              <a:prstGeom prst="ellipse">
                <a:avLst/>
              </a:prstGeom>
              <a:gradFill rotWithShape="0">
                <a:gsLst>
                  <a:gs pos="0">
                    <a:srgbClr val="a3eded"/>
                  </a:gs>
                  <a:gs pos="100000">
                    <a:srgbClr val="e6fafa"/>
                  </a:gs>
                </a:gsLst>
                <a:lin ang="16200000"/>
              </a:gradFill>
              <a:ln w="9360">
                <a:solidFill>
                  <a:srgbClr val="009999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8"/>
              <p:cNvSpPr/>
              <p:nvPr/>
            </p:nvSpPr>
            <p:spPr>
              <a:xfrm>
                <a:off x="812160" y="4678200"/>
                <a:ext cx="2916000" cy="459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Волшебны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Line 19"/>
            <p:cNvSpPr/>
            <p:nvPr/>
          </p:nvSpPr>
          <p:spPr>
            <a:xfrm flipH="1">
              <a:off x="1294920" y="2286000"/>
              <a:ext cx="251460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724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66"/>
                </a:solidFill>
                <a:latin typeface="Garamond"/>
              </a:rPr>
              <a:t>Сказки о животных</a:t>
            </a:r>
            <a:endParaRPr b="1" lang="en-US" sz="4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0" y="3048120"/>
            <a:ext cx="56386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Garamond"/>
              </a:rPr>
              <a:t>«Медведь и лис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Garamond"/>
              </a:rPr>
              <a:t>«Лиса и тетере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Garamond"/>
              </a:rPr>
              <a:t>«Лиса и журавль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071720" y="1357200"/>
            <a:ext cx="6629400" cy="138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Garamond"/>
              </a:rPr>
              <a:t>Главные геро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Животные. Если участвует человек, то он противопоставлен живот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8" descr="5049ser.jpg"/>
          <p:cNvPicPr/>
          <p:nvPr/>
        </p:nvPicPr>
        <p:blipFill>
          <a:blip r:embed="rId1"/>
          <a:stretch/>
        </p:blipFill>
        <p:spPr>
          <a:xfrm>
            <a:off x="6572160" y="2643120"/>
            <a:ext cx="1376280" cy="171144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9" descr="iCAAGAD5Y.jpg"/>
          <p:cNvPicPr/>
          <p:nvPr/>
        </p:nvPicPr>
        <p:blipFill>
          <a:blip r:embed="rId2"/>
          <a:stretch/>
        </p:blipFill>
        <p:spPr>
          <a:xfrm>
            <a:off x="5214960" y="4286160"/>
            <a:ext cx="123840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196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66"/>
                </a:solidFill>
                <a:latin typeface="Garamond"/>
              </a:rPr>
              <a:t>Социально-бытовые сказки</a:t>
            </a: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0" y="3048120"/>
            <a:ext cx="56386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Garamond"/>
              </a:rPr>
              <a:t>«</a:t>
            </a:r>
            <a:r>
              <a:rPr b="1" i="1" lang="ru-RU" sz="3200" spc="-1" strike="noStrike">
                <a:solidFill>
                  <a:srgbClr val="000066"/>
                </a:solidFill>
                <a:latin typeface="Garamond"/>
              </a:rPr>
              <a:t>Каша из топор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Garamond"/>
              </a:rPr>
              <a:t>«Про деда и бабу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Garamond"/>
              </a:rPr>
              <a:t>«Умная внуч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143000" y="1523880"/>
            <a:ext cx="6629400" cy="12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Garamond"/>
              </a:rPr>
              <a:t>Главные геро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люди, побеждающие благодаря смекалке, мужеству и хитр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http://im0-tub.yandex.net/i?id=139021406&amp;tov=0"/>
          <p:cNvPicPr/>
          <p:nvPr/>
        </p:nvPicPr>
        <p:blipFill>
          <a:blip r:embed="rId1"/>
          <a:stretch/>
        </p:blipFill>
        <p:spPr>
          <a:xfrm>
            <a:off x="5143680" y="3357720"/>
            <a:ext cx="304308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06:29:18Z</dcterms:created>
  <dc:creator>Пользователь</dc:creator>
  <dc:description/>
  <dc:language>en-US</dc:language>
  <cp:lastModifiedBy>Юлия</cp:lastModifiedBy>
  <dcterms:modified xsi:type="dcterms:W3CDTF">2022-05-03T05:59:28Z</dcterms:modified>
  <cp:revision>78</cp:revision>
  <dc:subject/>
  <dc:title>Слайд 1</dc:title>
</cp:coreProperties>
</file>