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4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1.jpeg" ContentType="image/jpeg"/>
  <Override PartName="/ppt/media/image9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3354200-6BF7-4226-AA2D-58F59C780E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560" cy="377172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7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>
              <a:buNone/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dt" idx="4"/>
          </p:nvPr>
        </p:nvSpPr>
        <p:spPr>
          <a:xfrm>
            <a:off x="4398840" y="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ftr" idx="5"/>
          </p:nvPr>
        </p:nvSpPr>
        <p:spPr>
          <a:xfrm>
            <a:off x="0" y="955512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 type="sldNum" idx="6"/>
          </p:nvPr>
        </p:nvSpPr>
        <p:spPr>
          <a:xfrm>
            <a:off x="4398840" y="955512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</a:tabLst>
            </a:pPr>
            <a:fld id="{222A02C4-229F-4757-804F-9C8CDF6C82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560" cy="37717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7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>
              <a:buNone/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dt" idx="31"/>
          </p:nvPr>
        </p:nvSpPr>
        <p:spPr>
          <a:xfrm>
            <a:off x="4398840" y="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ftr" idx="32"/>
          </p:nvPr>
        </p:nvSpPr>
        <p:spPr>
          <a:xfrm>
            <a:off x="0" y="955512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 type="sldNum" idx="33"/>
          </p:nvPr>
        </p:nvSpPr>
        <p:spPr>
          <a:xfrm>
            <a:off x="4398840" y="955512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</a:tabLst>
            </a:pPr>
            <a:fld id="{6722E05D-CA30-4FB5-A233-0AB1DAFF80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560" cy="37717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7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>
              <a:buNone/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dt" idx="34"/>
          </p:nvPr>
        </p:nvSpPr>
        <p:spPr>
          <a:xfrm>
            <a:off x="4398840" y="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ftr" idx="35"/>
          </p:nvPr>
        </p:nvSpPr>
        <p:spPr>
          <a:xfrm>
            <a:off x="0" y="955512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 type="sldNum" idx="36"/>
          </p:nvPr>
        </p:nvSpPr>
        <p:spPr>
          <a:xfrm>
            <a:off x="4398840" y="955512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</a:tabLst>
            </a:pPr>
            <a:fld id="{9FD98C51-4BF6-41B7-AB4B-BA626EB83C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560" cy="37717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7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>
              <a:buNone/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dt" idx="37"/>
          </p:nvPr>
        </p:nvSpPr>
        <p:spPr>
          <a:xfrm>
            <a:off x="4398840" y="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ftr" idx="38"/>
          </p:nvPr>
        </p:nvSpPr>
        <p:spPr>
          <a:xfrm>
            <a:off x="0" y="955512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 type="sldNum" idx="39"/>
          </p:nvPr>
        </p:nvSpPr>
        <p:spPr>
          <a:xfrm>
            <a:off x="4398840" y="955512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</a:tabLst>
            </a:pPr>
            <a:fld id="{B4156FA3-77AF-4B7D-BFC4-57CB285167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560" cy="37717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7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>
              <a:buNone/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dt" idx="40"/>
          </p:nvPr>
        </p:nvSpPr>
        <p:spPr>
          <a:xfrm>
            <a:off x="4398840" y="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ftr" idx="41"/>
          </p:nvPr>
        </p:nvSpPr>
        <p:spPr>
          <a:xfrm>
            <a:off x="0" y="955512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 type="sldNum" idx="42"/>
          </p:nvPr>
        </p:nvSpPr>
        <p:spPr>
          <a:xfrm>
            <a:off x="4398840" y="955512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</a:tabLst>
            </a:pPr>
            <a:fld id="{B447E1E0-C177-4EF5-9502-4CE44315E9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560" cy="37717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7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>
              <a:buNone/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dt" idx="43"/>
          </p:nvPr>
        </p:nvSpPr>
        <p:spPr>
          <a:xfrm>
            <a:off x="4398840" y="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ftr" idx="44"/>
          </p:nvPr>
        </p:nvSpPr>
        <p:spPr>
          <a:xfrm>
            <a:off x="0" y="955512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 type="sldNum" idx="45"/>
          </p:nvPr>
        </p:nvSpPr>
        <p:spPr>
          <a:xfrm>
            <a:off x="4398840" y="955512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</a:tabLst>
            </a:pPr>
            <a:fld id="{FFB50DBD-6CF5-4761-8D44-CBCB541FB7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560" cy="37717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7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>
              <a:buNone/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dt" idx="46"/>
          </p:nvPr>
        </p:nvSpPr>
        <p:spPr>
          <a:xfrm>
            <a:off x="4398840" y="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47"/>
          </p:nvPr>
        </p:nvSpPr>
        <p:spPr>
          <a:xfrm>
            <a:off x="0" y="955512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48"/>
          </p:nvPr>
        </p:nvSpPr>
        <p:spPr>
          <a:xfrm>
            <a:off x="4398840" y="955512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</a:tabLst>
            </a:pPr>
            <a:fld id="{BDBCEB41-2964-4899-A98A-B5F1C79333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560" cy="37717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7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>
              <a:buNone/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dt" idx="49"/>
          </p:nvPr>
        </p:nvSpPr>
        <p:spPr>
          <a:xfrm>
            <a:off x="4398840" y="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ftr" idx="50"/>
          </p:nvPr>
        </p:nvSpPr>
        <p:spPr>
          <a:xfrm>
            <a:off x="0" y="955512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 type="sldNum" idx="51"/>
          </p:nvPr>
        </p:nvSpPr>
        <p:spPr>
          <a:xfrm>
            <a:off x="4398840" y="955512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</a:tabLst>
            </a:pPr>
            <a:fld id="{C8D638C5-A1C6-4413-A5A6-AD137BA91D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560" cy="37717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7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>
              <a:buNone/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dt" idx="52"/>
          </p:nvPr>
        </p:nvSpPr>
        <p:spPr>
          <a:xfrm>
            <a:off x="4398840" y="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ftr" idx="53"/>
          </p:nvPr>
        </p:nvSpPr>
        <p:spPr>
          <a:xfrm>
            <a:off x="0" y="955512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 type="sldNum" idx="54"/>
          </p:nvPr>
        </p:nvSpPr>
        <p:spPr>
          <a:xfrm>
            <a:off x="4398840" y="955512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</a:tabLst>
            </a:pPr>
            <a:fld id="{FA7B12FE-2B4F-4D10-9877-A7B13C420D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560" cy="37717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7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>
              <a:buNone/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dt" idx="55"/>
          </p:nvPr>
        </p:nvSpPr>
        <p:spPr>
          <a:xfrm>
            <a:off x="4398840" y="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56"/>
          </p:nvPr>
        </p:nvSpPr>
        <p:spPr>
          <a:xfrm>
            <a:off x="0" y="955512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 type="sldNum" idx="57"/>
          </p:nvPr>
        </p:nvSpPr>
        <p:spPr>
          <a:xfrm>
            <a:off x="4398840" y="955512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</a:tabLst>
            </a:pPr>
            <a:fld id="{80BD1570-1078-496D-8155-B9FF831635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560" cy="37717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7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>
              <a:buNone/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dt" idx="58"/>
          </p:nvPr>
        </p:nvSpPr>
        <p:spPr>
          <a:xfrm>
            <a:off x="4398840" y="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ftr" idx="59"/>
          </p:nvPr>
        </p:nvSpPr>
        <p:spPr>
          <a:xfrm>
            <a:off x="0" y="955512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 type="sldNum" idx="60"/>
          </p:nvPr>
        </p:nvSpPr>
        <p:spPr>
          <a:xfrm>
            <a:off x="4398840" y="955512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</a:tabLst>
            </a:pPr>
            <a:fld id="{3C190594-B2AC-4A72-9DFE-2E951A1D75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560" cy="377172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7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>
              <a:buNone/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dt" idx="7"/>
          </p:nvPr>
        </p:nvSpPr>
        <p:spPr>
          <a:xfrm>
            <a:off x="4398840" y="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8"/>
          </p:nvPr>
        </p:nvSpPr>
        <p:spPr>
          <a:xfrm>
            <a:off x="0" y="955512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sldNum" idx="9"/>
          </p:nvPr>
        </p:nvSpPr>
        <p:spPr>
          <a:xfrm>
            <a:off x="4398840" y="955512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</a:tabLst>
            </a:pPr>
            <a:fld id="{5BBF957E-34F2-444B-A429-00CABFF033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560" cy="37717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7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>
              <a:buNone/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dt" idx="61"/>
          </p:nvPr>
        </p:nvSpPr>
        <p:spPr>
          <a:xfrm>
            <a:off x="4398840" y="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ftr" idx="62"/>
          </p:nvPr>
        </p:nvSpPr>
        <p:spPr>
          <a:xfrm>
            <a:off x="0" y="955512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 type="sldNum" idx="63"/>
          </p:nvPr>
        </p:nvSpPr>
        <p:spPr>
          <a:xfrm>
            <a:off x="4398840" y="955512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</a:tabLst>
            </a:pPr>
            <a:fld id="{EF5B35CD-6F8A-4B11-BA12-4641292716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560" cy="37717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7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>
              <a:buNone/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dt" idx="64"/>
          </p:nvPr>
        </p:nvSpPr>
        <p:spPr>
          <a:xfrm>
            <a:off x="4398840" y="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ftr" idx="65"/>
          </p:nvPr>
        </p:nvSpPr>
        <p:spPr>
          <a:xfrm>
            <a:off x="0" y="955512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 type="sldNum" idx="66"/>
          </p:nvPr>
        </p:nvSpPr>
        <p:spPr>
          <a:xfrm>
            <a:off x="4398840" y="955512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</a:tabLst>
            </a:pPr>
            <a:fld id="{A94ACB0A-537E-4107-862B-23EBD4FF3C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560" cy="377172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7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>
              <a:buNone/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dt" idx="67"/>
          </p:nvPr>
        </p:nvSpPr>
        <p:spPr>
          <a:xfrm>
            <a:off x="4398840" y="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ftr" idx="68"/>
          </p:nvPr>
        </p:nvSpPr>
        <p:spPr>
          <a:xfrm>
            <a:off x="0" y="955512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 type="sldNum" idx="69"/>
          </p:nvPr>
        </p:nvSpPr>
        <p:spPr>
          <a:xfrm>
            <a:off x="4398840" y="955512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</a:tabLst>
            </a:pPr>
            <a:fld id="{7748485B-756F-4D3D-9D8E-CFA489B99B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560" cy="377172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7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>
              <a:buNone/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10"/>
          </p:nvPr>
        </p:nvSpPr>
        <p:spPr>
          <a:xfrm>
            <a:off x="4398840" y="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0" y="955512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4398840" y="955512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</a:tabLst>
            </a:pPr>
            <a:fld id="{F6FD099C-72F4-4821-988D-D07A7EC39A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560" cy="377172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7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>
              <a:buNone/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dt" idx="13"/>
          </p:nvPr>
        </p:nvSpPr>
        <p:spPr>
          <a:xfrm>
            <a:off x="4398840" y="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4"/>
          </p:nvPr>
        </p:nvSpPr>
        <p:spPr>
          <a:xfrm>
            <a:off x="0" y="955512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5"/>
          </p:nvPr>
        </p:nvSpPr>
        <p:spPr>
          <a:xfrm>
            <a:off x="4398840" y="955512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</a:tabLst>
            </a:pPr>
            <a:fld id="{DCC709DB-4D1F-41E3-AB74-D531C4ACE7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560" cy="377172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7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>
              <a:buNone/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dt" idx="16"/>
          </p:nvPr>
        </p:nvSpPr>
        <p:spPr>
          <a:xfrm>
            <a:off x="4398840" y="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17"/>
          </p:nvPr>
        </p:nvSpPr>
        <p:spPr>
          <a:xfrm>
            <a:off x="0" y="955512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18"/>
          </p:nvPr>
        </p:nvSpPr>
        <p:spPr>
          <a:xfrm>
            <a:off x="4398840" y="955512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</a:tabLst>
            </a:pPr>
            <a:fld id="{06334364-F7F4-4701-9D78-43FBA42F0D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560" cy="377172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7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>
              <a:buNone/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dt" idx="19"/>
          </p:nvPr>
        </p:nvSpPr>
        <p:spPr>
          <a:xfrm>
            <a:off x="4398840" y="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20"/>
          </p:nvPr>
        </p:nvSpPr>
        <p:spPr>
          <a:xfrm>
            <a:off x="0" y="955512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21"/>
          </p:nvPr>
        </p:nvSpPr>
        <p:spPr>
          <a:xfrm>
            <a:off x="4398840" y="955512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</a:tabLst>
            </a:pPr>
            <a:fld id="{BD914482-D4F0-4344-887F-A33AA020CD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560" cy="37717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7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>
              <a:buNone/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dt" idx="22"/>
          </p:nvPr>
        </p:nvSpPr>
        <p:spPr>
          <a:xfrm>
            <a:off x="4398840" y="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ftr" idx="23"/>
          </p:nvPr>
        </p:nvSpPr>
        <p:spPr>
          <a:xfrm>
            <a:off x="0" y="955512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 type="sldNum" idx="24"/>
          </p:nvPr>
        </p:nvSpPr>
        <p:spPr>
          <a:xfrm>
            <a:off x="4398840" y="955512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</a:tabLst>
            </a:pPr>
            <a:fld id="{46204AD7-45ED-4BC3-AF12-999C58F42A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560" cy="377172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7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>
              <a:buNone/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dt" idx="25"/>
          </p:nvPr>
        </p:nvSpPr>
        <p:spPr>
          <a:xfrm>
            <a:off x="4398840" y="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ftr" idx="26"/>
          </p:nvPr>
        </p:nvSpPr>
        <p:spPr>
          <a:xfrm>
            <a:off x="0" y="955512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 type="sldNum" idx="27"/>
          </p:nvPr>
        </p:nvSpPr>
        <p:spPr>
          <a:xfrm>
            <a:off x="4398840" y="955512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</a:tabLst>
            </a:pPr>
            <a:fld id="{BB045539-56D0-4D0F-8B4A-CF2743A775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560" cy="37717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7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>
              <a:buNone/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dt" idx="28"/>
          </p:nvPr>
        </p:nvSpPr>
        <p:spPr>
          <a:xfrm>
            <a:off x="4398840" y="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ftr" idx="29"/>
          </p:nvPr>
        </p:nvSpPr>
        <p:spPr>
          <a:xfrm>
            <a:off x="0" y="955512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 type="sldNum" idx="30"/>
          </p:nvPr>
        </p:nvSpPr>
        <p:spPr>
          <a:xfrm>
            <a:off x="4398840" y="955512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</a:tabLst>
            </a:pPr>
            <a:fld id="{EF9CCA0C-359E-405B-A5D3-25FAB6A703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3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93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GB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93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93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93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93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93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95280" y="260280"/>
            <a:ext cx="8497440" cy="30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Дошкольное Образовательное Учреждение</a:t>
            </a:r>
            <a:br>
              <a:rPr sz="18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етский сад № 33 «Радуга»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ект</a:t>
            </a:r>
            <a:br>
              <a:rPr sz="18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город на окне» </a:t>
            </a:r>
            <a:br>
              <a:rPr sz="18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ладшей группе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:</a:t>
            </a:r>
            <a:br>
              <a:rPr sz="18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воспитатель </a:t>
            </a:r>
            <a:br>
              <a:rPr sz="18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высшей квалификационной категории</a:t>
            </a:r>
            <a:br>
              <a:rPr sz="18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Клевакина Л.Л.</a:t>
            </a:r>
            <a:br>
              <a:rPr sz="18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938240" y="450720"/>
            <a:ext cx="3492000" cy="2682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321160" y="1170000"/>
            <a:ext cx="3431880" cy="26334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865160" y="3548160"/>
            <a:ext cx="3504960" cy="26874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5394240" y="3981600"/>
            <a:ext cx="3504960" cy="26874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878120" y="133200"/>
            <a:ext cx="2895120" cy="23968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49560" y="1047600"/>
            <a:ext cx="3420720" cy="28112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5748480" y="2627280"/>
            <a:ext cx="3498480" cy="28825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1805040" y="3597120"/>
            <a:ext cx="2858760" cy="23587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3925800" y="3828960"/>
            <a:ext cx="2646000" cy="31316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857840" y="2273400"/>
            <a:ext cx="4255560" cy="4517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762200" y="255600"/>
            <a:ext cx="3425400" cy="44683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633680" y="3151080"/>
            <a:ext cx="4760640" cy="37494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735520" y="3584520"/>
            <a:ext cx="3620880" cy="289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4657680" y="-92160"/>
            <a:ext cx="4644720" cy="3663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1706400" y="414360"/>
            <a:ext cx="3835080" cy="30049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706400" y="4091040"/>
            <a:ext cx="2474640" cy="29062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242040" y="3870360"/>
            <a:ext cx="3096720" cy="31032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3718080" y="1352520"/>
            <a:ext cx="3749400" cy="42796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124000" y="404640"/>
            <a:ext cx="604800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чита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378240" y="3244680"/>
            <a:ext cx="18396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1706400" y="274680"/>
            <a:ext cx="2590560" cy="29984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6742080" y="414360"/>
            <a:ext cx="2650680" cy="36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0"/>
    </mc:Choice>
    <mc:Fallback>
      <p:transition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657680" y="3444840"/>
            <a:ext cx="4339800" cy="34318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847880" y="407880"/>
            <a:ext cx="4881240" cy="38462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124000" y="274680"/>
            <a:ext cx="656244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 овощи наши подрастают,  </a:t>
            </a:r>
            <a:br>
              <a:rPr sz="18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немного поигра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932360" y="3571920"/>
            <a:ext cx="4223880" cy="32428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974960" y="1341360"/>
            <a:ext cx="4230360" cy="34128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535720" y="878040"/>
            <a:ext cx="3558960" cy="33760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785960" y="658800"/>
            <a:ext cx="3846240" cy="32904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140360" y="274680"/>
            <a:ext cx="46796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рисуем овощ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889280" y="4505400"/>
            <a:ext cx="3347640" cy="23824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3468600" y="2852640"/>
            <a:ext cx="3114360" cy="2199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6066000" y="4432320"/>
            <a:ext cx="2918880" cy="24188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1"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050920" y="274680"/>
            <a:ext cx="6841800" cy="14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йдём с тобою в огород, </a:t>
            </a:r>
            <a:br>
              <a:rPr sz="1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мало там у нас забот! </a:t>
            </a:r>
            <a:br>
              <a:rPr sz="1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ьём лучок из лейки,</a:t>
            </a:r>
            <a:br>
              <a:rPr sz="1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ядем на скамей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633680" y="1712880"/>
            <a:ext cx="4895640" cy="38286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797360" y="3444840"/>
            <a:ext cx="4541400" cy="34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0"/>
    </mc:Choice>
    <mc:Fallback>
      <p:transition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7" presetSubtype="4"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762200" y="115920"/>
            <a:ext cx="3547800" cy="46684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138640" y="285840"/>
            <a:ext cx="3700080" cy="16221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132520" y="2060640"/>
            <a:ext cx="3553920" cy="49064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050920" y="260280"/>
            <a:ext cx="691308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 проекта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вательный</a:t>
            </a:r>
            <a:br>
              <a:rPr sz="1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ид проекта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овой, исследователь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08000" y="1700280"/>
            <a:ext cx="7056000" cy="45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DejaVu San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ки реализации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ткосроч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и проекта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, дети второй младшей группы, родители воспитан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проекта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экологической культуры у детей и родителей, создание условий для познавательного развития детей через проектно – исследовательскую деятельность и организацию художественно-продуктивной творческой деятельности.</a:t>
            </a:r>
            <a:br>
              <a:rPr sz="1800"/>
            </a:br>
            <a:br>
              <a:rPr sz="1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рудование и материалы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ейнеры с землей, луковицы, семена, совочки, грабельки, лейки с вод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0"/>
    </mc:Choice>
    <mc:Fallback>
      <p:transition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6" presetSubtype="16"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6" presetSubtype="16"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6" presetSubtype="16"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6" presetSubtype="16"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979640" y="274680"/>
            <a:ext cx="6984720" cy="13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тамины круглый год, так необходимы,</a:t>
            </a:r>
            <a:br>
              <a:rPr sz="18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нам не болеть гриппом и ангино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13153" t="4883" r="5267" b="13527"/>
          <a:stretch/>
        </p:blipFill>
        <p:spPr>
          <a:xfrm>
            <a:off x="2411280" y="2276640"/>
            <a:ext cx="2808000" cy="4103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580000" y="2276640"/>
            <a:ext cx="2857320" cy="41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0"/>
    </mc:Choice>
    <mc:Fallback>
      <p:transition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7" presetSubtype="4"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" presetSubtype="10"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" presetSubtype="10"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124000" y="260280"/>
            <a:ext cx="684000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ЭТАП - заключительны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95640" y="1341360"/>
            <a:ext cx="6768720" cy="44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DejaVu San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анализировала и обобщила результаты, полученных в процессе исследовательской деятельности детей. И в конце нашего эксперимента вместе с детьми выявили условия для роста растений: свет, тепло, воздух, вод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улице ещё холодно, а у нас на окне лук колосится, да укроп подраста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0"/>
    </mc:Choice>
    <mc:Fallback>
      <p:transition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6" presetSubtype="16"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1" presetSubtype="4"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4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1" presetSubtype="4"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9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908000" y="3286080"/>
            <a:ext cx="4468320" cy="3419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638600" y="1407960"/>
            <a:ext cx="4292280" cy="32922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2048040" y="274680"/>
            <a:ext cx="6992640" cy="90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0"/>
    </mc:Choice>
    <mc:Fallback>
      <p:transition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050920" y="260280"/>
            <a:ext cx="663552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050920" y="1268280"/>
            <a:ext cx="6635520" cy="47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младшего дошкольного возраста в недостаточной степени имеют представления о растениях, о том, где они растут, о необходимых условиях для роста. Их интерес к познавательно-исследовательской деятельности недостаточно развит. Исследовательская, поисковая активность – естественное состояние ребенка, он настроен на познание мира. Исследовать, открывать, изучать – значит сделать шаг в неизведанное и непознанно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0"/>
    </mc:Choice>
    <mc:Fallback>
      <p:transition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6" presetSubtype="16"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1" presetSubtype="4"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124000" y="476280"/>
            <a:ext cx="6768720" cy="10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проекта: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79640" y="1628640"/>
            <a:ext cx="684000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DejaVu San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экологической культуры у детей и родителей, создание условий для познавательного развития детей через проектно – исследовательскую деятельность и организацию художественно-продуктивной творческо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0"/>
    </mc:Choice>
    <mc:Fallback>
      <p:transition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6" presetSubtype="16"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6" presetSubtype="16"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260280"/>
            <a:ext cx="6768720" cy="86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проект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50920" y="1197000"/>
            <a:ext cx="6768720" cy="50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ть у детей знания о росте и потребности раст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ть умения наблюдать, ухаживать за огородными культур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любознательность, интерес к исследовательской деятельности, экспериментирова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ть бережное и заботливое отношение к растен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ть партнерские взаимоотношения между педагогом, детьми и родител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0"/>
    </mc:Choice>
    <mc:Fallback>
      <p:transition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6" presetSubtype="16"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050920" y="333360"/>
            <a:ext cx="691308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жидаемый результа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24000" y="1700280"/>
            <a:ext cx="6840000" cy="32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DejaVu San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детей сформируются знания и представления о росте растений в комнатных условиях, расширятся представления об условиях, необходимых для их роста и развит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0"/>
    </mc:Choice>
    <mc:Fallback>
      <p:transition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6" presetSubtype="16"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124000" y="333360"/>
            <a:ext cx="663552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ЭТАП – подготовительны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124000" y="1268280"/>
            <a:ext cx="664668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еды с детьми (выявление уровня знаний о растениях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ие плана работы над проек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бор материала необходимого для реализации прое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ение художественной литературы (потешек, пословиц, поговорок, песен, связанных с огородом и овощам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предметно – развивающей среды по теме прое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отовление дидактических игр и пособ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атривание иллюстративного материала, муляжей овощей по теме прое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действие с семь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бор необходимого материала для создания ого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ое обсуждение мероприятий по выполнению прое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0"/>
    </mc:Choice>
    <mc:Fallback>
      <p:transition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6" presetSubtype="16"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8" presetSubtype="12"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8" presetSubtype="12"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8" presetSubtype="12"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8" presetSubtype="12"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8" presetSubtype="12"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4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8" presetSubtype="12"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9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8" presetSubtype="12"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12"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9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12"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4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8" presetSubtype="12"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195640" y="189000"/>
            <a:ext cx="66974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ЭТАП – практическая работа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780000" y="1052640"/>
            <a:ext cx="3239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884240" y="731880"/>
            <a:ext cx="2674440" cy="3607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133880" y="1816200"/>
            <a:ext cx="2601720" cy="3212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6431040" y="3170160"/>
            <a:ext cx="2773080" cy="34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0"/>
    </mc:Choice>
    <mc:Fallback>
      <p:transition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6" presetSubtype="16"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7" presetSubtype="4"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81080" y="285840"/>
            <a:ext cx="4260600" cy="3493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762280" y="3078000"/>
            <a:ext cx="4582800" cy="37494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3998880" y="-36360"/>
            <a:ext cx="5333760" cy="4968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 overriden">
  <a:themeElements>
    <a:clrScheme name="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7</TotalTime>
  <Application>LibreOffice/7.4.7.2$Linux_X86_64 LibreOffice_project/40$Build-2</Application>
  <AppVersion>15.0000</AppVersion>
  <Paragraphs>3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ЛЮДМИЛА</cp:lastModifiedBy>
  <cp:lastPrinted>1601-01-01T00:00:00Z</cp:lastPrinted>
  <dcterms:modified xsi:type="dcterms:W3CDTF">2022-05-04T20:01:32Z</dcterms:modified>
  <cp:revision>801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2</vt:r8>
  </property>
  <property fmtid="{D5CDD505-2E9C-101B-9397-08002B2CF9AE}" pid="3" name="PresentationFormat">
    <vt:lpwstr>On-screen Show (4:3)</vt:lpwstr>
  </property>
  <property fmtid="{D5CDD505-2E9C-101B-9397-08002B2CF9AE}" pid="4" name="Slides">
    <vt:r8>22</vt:r8>
  </property>
</Properties>
</file>