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4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43.jpeg" ContentType="image/jpeg"/>
  <Override PartName="/ppt/media/image11.jpeg" ContentType="image/jpeg"/>
  <Override PartName="/ppt/media/image9.jpeg" ContentType="image/jpeg"/>
  <Override PartName="/ppt/media/image45.jpeg" ContentType="image/jpeg"/>
  <Override PartName="/ppt/media/image46.jpeg" ContentType="image/jpeg"/>
  <Override PartName="/ppt/media/image30.jpeg" ContentType="image/jpeg"/>
  <Override PartName="/ppt/media/image47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GB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51320AF-88EE-493C-B6C6-98919E91C7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560" cy="377172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7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>
              <a:buNone/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371400" cy="5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GB" sz="1800" spc="-1" strike="noStrike">
              <a:solidFill>
                <a:srgbClr val="000000"/>
              </a:solidFill>
              <a:latin typeface="Arial"/>
              <a:ea typeface="DejaVu Sans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dt" idx="4"/>
          </p:nvPr>
        </p:nvSpPr>
        <p:spPr>
          <a:xfrm>
            <a:off x="4398840" y="0"/>
            <a:ext cx="3371400" cy="5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GB" sz="1800" spc="-1" strike="noStrike">
              <a:solidFill>
                <a:srgbClr val="000000"/>
              </a:solidFill>
              <a:latin typeface="Arial"/>
              <a:ea typeface="DejaVu Sans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ftr" idx="5"/>
          </p:nvPr>
        </p:nvSpPr>
        <p:spPr>
          <a:xfrm>
            <a:off x="0" y="9555120"/>
            <a:ext cx="3371400" cy="5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GB" sz="1800" spc="-1" strike="noStrike">
              <a:solidFill>
                <a:srgbClr val="000000"/>
              </a:solidFill>
              <a:latin typeface="Arial"/>
              <a:ea typeface="DejaVu Sans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 type="sldNum" idx="6"/>
          </p:nvPr>
        </p:nvSpPr>
        <p:spPr>
          <a:xfrm>
            <a:off x="4398840" y="9555120"/>
            <a:ext cx="3371400" cy="5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</a:tabLst>
            </a:pPr>
            <a:fld id="{2A8E43C3-3B4E-451B-B8EB-067AE7F5A1D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560" cy="377172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7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>
              <a:buNone/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371400" cy="5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GB" sz="1800" spc="-1" strike="noStrike">
              <a:solidFill>
                <a:srgbClr val="000000"/>
              </a:solidFill>
              <a:latin typeface="Arial"/>
              <a:ea typeface="DejaVu Sans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dt" idx="31"/>
          </p:nvPr>
        </p:nvSpPr>
        <p:spPr>
          <a:xfrm>
            <a:off x="4398840" y="0"/>
            <a:ext cx="3371400" cy="5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GB" sz="1800" spc="-1" strike="noStrike">
              <a:solidFill>
                <a:srgbClr val="000000"/>
              </a:solidFill>
              <a:latin typeface="Arial"/>
              <a:ea typeface="DejaVu Sans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ftr" idx="32"/>
          </p:nvPr>
        </p:nvSpPr>
        <p:spPr>
          <a:xfrm>
            <a:off x="0" y="9555120"/>
            <a:ext cx="3371400" cy="5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GB" sz="1800" spc="-1" strike="noStrike">
              <a:solidFill>
                <a:srgbClr val="000000"/>
              </a:solidFill>
              <a:latin typeface="Arial"/>
              <a:ea typeface="DejaVu Sans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 type="sldNum" idx="33"/>
          </p:nvPr>
        </p:nvSpPr>
        <p:spPr>
          <a:xfrm>
            <a:off x="4398840" y="9555120"/>
            <a:ext cx="3371400" cy="5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</a:tabLst>
            </a:pPr>
            <a:fld id="{6D873A9B-7583-4959-8DB1-0329A548842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560" cy="377172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7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>
              <a:buNone/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371400" cy="5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GB" sz="1800" spc="-1" strike="noStrike">
              <a:solidFill>
                <a:srgbClr val="000000"/>
              </a:solidFill>
              <a:latin typeface="Arial"/>
              <a:ea typeface="DejaVu Sans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dt" idx="34"/>
          </p:nvPr>
        </p:nvSpPr>
        <p:spPr>
          <a:xfrm>
            <a:off x="4398840" y="0"/>
            <a:ext cx="3371400" cy="5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GB" sz="1800" spc="-1" strike="noStrike">
              <a:solidFill>
                <a:srgbClr val="000000"/>
              </a:solidFill>
              <a:latin typeface="Arial"/>
              <a:ea typeface="DejaVu Sans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ftr" idx="35"/>
          </p:nvPr>
        </p:nvSpPr>
        <p:spPr>
          <a:xfrm>
            <a:off x="0" y="9555120"/>
            <a:ext cx="3371400" cy="5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GB" sz="1800" spc="-1" strike="noStrike">
              <a:solidFill>
                <a:srgbClr val="000000"/>
              </a:solidFill>
              <a:latin typeface="Arial"/>
              <a:ea typeface="DejaVu Sans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 type="sldNum" idx="36"/>
          </p:nvPr>
        </p:nvSpPr>
        <p:spPr>
          <a:xfrm>
            <a:off x="4398840" y="9555120"/>
            <a:ext cx="3371400" cy="5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</a:tabLst>
            </a:pPr>
            <a:fld id="{13DD586C-35DB-4404-BD16-9A5C47E1C32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560" cy="377172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7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>
              <a:buNone/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371400" cy="5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GB" sz="1800" spc="-1" strike="noStrike">
              <a:solidFill>
                <a:srgbClr val="000000"/>
              </a:solidFill>
              <a:latin typeface="Arial"/>
              <a:ea typeface="DejaVu Sans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dt" idx="37"/>
          </p:nvPr>
        </p:nvSpPr>
        <p:spPr>
          <a:xfrm>
            <a:off x="4398840" y="0"/>
            <a:ext cx="3371400" cy="5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GB" sz="1800" spc="-1" strike="noStrike">
              <a:solidFill>
                <a:srgbClr val="000000"/>
              </a:solidFill>
              <a:latin typeface="Arial"/>
              <a:ea typeface="DejaVu Sans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ftr" idx="38"/>
          </p:nvPr>
        </p:nvSpPr>
        <p:spPr>
          <a:xfrm>
            <a:off x="0" y="9555120"/>
            <a:ext cx="3371400" cy="5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GB" sz="1800" spc="-1" strike="noStrike">
              <a:solidFill>
                <a:srgbClr val="000000"/>
              </a:solidFill>
              <a:latin typeface="Arial"/>
              <a:ea typeface="DejaVu Sans"/>
            </a:endParaRPr>
          </a:p>
        </p:txBody>
      </p:sp>
      <p:sp>
        <p:nvSpPr>
          <p:cNvPr id="183" name="PlaceHolder 6"/>
          <p:cNvSpPr>
            <a:spLocks noGrp="1"/>
          </p:cNvSpPr>
          <p:nvPr>
            <p:ph type="sldNum" idx="39"/>
          </p:nvPr>
        </p:nvSpPr>
        <p:spPr>
          <a:xfrm>
            <a:off x="4398840" y="9555120"/>
            <a:ext cx="3371400" cy="5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</a:tabLst>
            </a:pPr>
            <a:fld id="{F3530E67-CFD7-4DC1-8625-CB68304B273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560" cy="377172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7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>
              <a:buNone/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371400" cy="5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GB" sz="1800" spc="-1" strike="noStrike">
              <a:solidFill>
                <a:srgbClr val="000000"/>
              </a:solidFill>
              <a:latin typeface="Arial"/>
              <a:ea typeface="DejaVu Sans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dt" idx="40"/>
          </p:nvPr>
        </p:nvSpPr>
        <p:spPr>
          <a:xfrm>
            <a:off x="4398840" y="0"/>
            <a:ext cx="3371400" cy="5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GB" sz="1800" spc="-1" strike="noStrike">
              <a:solidFill>
                <a:srgbClr val="000000"/>
              </a:solidFill>
              <a:latin typeface="Arial"/>
              <a:ea typeface="DejaVu Sans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ftr" idx="41"/>
          </p:nvPr>
        </p:nvSpPr>
        <p:spPr>
          <a:xfrm>
            <a:off x="0" y="9555120"/>
            <a:ext cx="3371400" cy="5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GB" sz="1800" spc="-1" strike="noStrike">
              <a:solidFill>
                <a:srgbClr val="000000"/>
              </a:solidFill>
              <a:latin typeface="Arial"/>
              <a:ea typeface="DejaVu Sans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 type="sldNum" idx="42"/>
          </p:nvPr>
        </p:nvSpPr>
        <p:spPr>
          <a:xfrm>
            <a:off x="4398840" y="9555120"/>
            <a:ext cx="3371400" cy="5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</a:tabLst>
            </a:pPr>
            <a:fld id="{25D3863B-7EFC-49DD-9211-D824B746B8B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560" cy="377172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7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>
              <a:buNone/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371400" cy="5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GB" sz="1800" spc="-1" strike="noStrike">
              <a:solidFill>
                <a:srgbClr val="000000"/>
              </a:solidFill>
              <a:latin typeface="Arial"/>
              <a:ea typeface="DejaVu Sans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dt" idx="43"/>
          </p:nvPr>
        </p:nvSpPr>
        <p:spPr>
          <a:xfrm>
            <a:off x="4398840" y="0"/>
            <a:ext cx="3371400" cy="5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GB" sz="1800" spc="-1" strike="noStrike">
              <a:solidFill>
                <a:srgbClr val="000000"/>
              </a:solidFill>
              <a:latin typeface="Arial"/>
              <a:ea typeface="DejaVu Sans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ftr" idx="44"/>
          </p:nvPr>
        </p:nvSpPr>
        <p:spPr>
          <a:xfrm>
            <a:off x="0" y="9555120"/>
            <a:ext cx="3371400" cy="5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GB" sz="1800" spc="-1" strike="noStrike">
              <a:solidFill>
                <a:srgbClr val="000000"/>
              </a:solidFill>
              <a:latin typeface="Arial"/>
              <a:ea typeface="DejaVu Sans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 type="sldNum" idx="45"/>
          </p:nvPr>
        </p:nvSpPr>
        <p:spPr>
          <a:xfrm>
            <a:off x="4398840" y="9555120"/>
            <a:ext cx="3371400" cy="5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</a:tabLst>
            </a:pPr>
            <a:fld id="{ECE4B4E9-C15C-45F4-A048-E36539770DB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560" cy="377172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7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>
              <a:buNone/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371400" cy="5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GB" sz="1800" spc="-1" strike="noStrike">
              <a:solidFill>
                <a:srgbClr val="000000"/>
              </a:solidFill>
              <a:latin typeface="Arial"/>
              <a:ea typeface="DejaVu Sans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dt" idx="46"/>
          </p:nvPr>
        </p:nvSpPr>
        <p:spPr>
          <a:xfrm>
            <a:off x="4398840" y="0"/>
            <a:ext cx="3371400" cy="5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GB" sz="1800" spc="-1" strike="noStrike">
              <a:solidFill>
                <a:srgbClr val="000000"/>
              </a:solidFill>
              <a:latin typeface="Arial"/>
              <a:ea typeface="DejaVu Sans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47"/>
          </p:nvPr>
        </p:nvSpPr>
        <p:spPr>
          <a:xfrm>
            <a:off x="0" y="9555120"/>
            <a:ext cx="3371400" cy="5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GB" sz="1800" spc="-1" strike="noStrike">
              <a:solidFill>
                <a:srgbClr val="000000"/>
              </a:solidFill>
              <a:latin typeface="Arial"/>
              <a:ea typeface="DejaVu Sans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48"/>
          </p:nvPr>
        </p:nvSpPr>
        <p:spPr>
          <a:xfrm>
            <a:off x="4398840" y="9555120"/>
            <a:ext cx="3371400" cy="5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</a:tabLst>
            </a:pPr>
            <a:fld id="{5694822D-A7B3-4822-AFAF-68314E8D247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560" cy="377172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7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>
              <a:buNone/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371400" cy="5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GB" sz="1800" spc="-1" strike="noStrike">
              <a:solidFill>
                <a:srgbClr val="000000"/>
              </a:solidFill>
              <a:latin typeface="Arial"/>
              <a:ea typeface="DejaVu 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 type="dt" idx="49"/>
          </p:nvPr>
        </p:nvSpPr>
        <p:spPr>
          <a:xfrm>
            <a:off x="4398840" y="0"/>
            <a:ext cx="3371400" cy="5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GB" sz="1800" spc="-1" strike="noStrike">
              <a:solidFill>
                <a:srgbClr val="000000"/>
              </a:solidFill>
              <a:latin typeface="Arial"/>
              <a:ea typeface="DejaVu 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 type="ftr" idx="50"/>
          </p:nvPr>
        </p:nvSpPr>
        <p:spPr>
          <a:xfrm>
            <a:off x="0" y="9555120"/>
            <a:ext cx="3371400" cy="5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GB" sz="1800" spc="-1" strike="noStrike">
              <a:solidFill>
                <a:srgbClr val="000000"/>
              </a:solidFill>
              <a:latin typeface="Arial"/>
              <a:ea typeface="DejaVu Sans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 type="sldNum" idx="51"/>
          </p:nvPr>
        </p:nvSpPr>
        <p:spPr>
          <a:xfrm>
            <a:off x="4398840" y="9555120"/>
            <a:ext cx="3371400" cy="5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</a:tabLst>
            </a:pPr>
            <a:fld id="{D1D74989-A7B9-4071-9356-4CF9497056F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560" cy="377172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7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>
              <a:buNone/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371400" cy="5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GB" sz="1800" spc="-1" strike="noStrike">
              <a:solidFill>
                <a:srgbClr val="000000"/>
              </a:solidFill>
              <a:latin typeface="Arial"/>
              <a:ea typeface="DejaVu San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dt" idx="52"/>
          </p:nvPr>
        </p:nvSpPr>
        <p:spPr>
          <a:xfrm>
            <a:off x="4398840" y="0"/>
            <a:ext cx="3371400" cy="5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GB" sz="1800" spc="-1" strike="noStrike">
              <a:solidFill>
                <a:srgbClr val="000000"/>
              </a:solidFill>
              <a:latin typeface="Arial"/>
              <a:ea typeface="DejaVu San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ftr" idx="53"/>
          </p:nvPr>
        </p:nvSpPr>
        <p:spPr>
          <a:xfrm>
            <a:off x="0" y="9555120"/>
            <a:ext cx="3371400" cy="5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GB" sz="1800" spc="-1" strike="noStrike">
              <a:solidFill>
                <a:srgbClr val="000000"/>
              </a:solidFill>
              <a:latin typeface="Arial"/>
              <a:ea typeface="DejaVu Sans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 type="sldNum" idx="54"/>
          </p:nvPr>
        </p:nvSpPr>
        <p:spPr>
          <a:xfrm>
            <a:off x="4398840" y="9555120"/>
            <a:ext cx="3371400" cy="5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</a:tabLst>
            </a:pPr>
            <a:fld id="{67195E03-3279-4CB6-A6A9-282A76061DC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560" cy="377172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7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>
              <a:buNone/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371400" cy="5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GB" sz="1800" spc="-1" strike="noStrike">
              <a:solidFill>
                <a:srgbClr val="000000"/>
              </a:solidFill>
              <a:latin typeface="Arial"/>
              <a:ea typeface="DejaVu Sans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dt" idx="55"/>
          </p:nvPr>
        </p:nvSpPr>
        <p:spPr>
          <a:xfrm>
            <a:off x="4398840" y="0"/>
            <a:ext cx="3371400" cy="5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GB" sz="1800" spc="-1" strike="noStrike">
              <a:solidFill>
                <a:srgbClr val="000000"/>
              </a:solidFill>
              <a:latin typeface="Arial"/>
              <a:ea typeface="DejaVu Sans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56"/>
          </p:nvPr>
        </p:nvSpPr>
        <p:spPr>
          <a:xfrm>
            <a:off x="0" y="9555120"/>
            <a:ext cx="3371400" cy="5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GB" sz="1800" spc="-1" strike="noStrike">
              <a:solidFill>
                <a:srgbClr val="000000"/>
              </a:solidFill>
              <a:latin typeface="Arial"/>
              <a:ea typeface="DejaVu Sans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 type="sldNum" idx="57"/>
          </p:nvPr>
        </p:nvSpPr>
        <p:spPr>
          <a:xfrm>
            <a:off x="4398840" y="9555120"/>
            <a:ext cx="3371400" cy="5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</a:tabLst>
            </a:pPr>
            <a:fld id="{F69CCDF1-4DD3-4192-A9F7-BC3A9421719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560" cy="377172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7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>
              <a:buNone/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371400" cy="5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GB" sz="1800" spc="-1" strike="noStrike">
              <a:solidFill>
                <a:srgbClr val="000000"/>
              </a:solidFill>
              <a:latin typeface="Arial"/>
              <a:ea typeface="DejaVu Sans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dt" idx="58"/>
          </p:nvPr>
        </p:nvSpPr>
        <p:spPr>
          <a:xfrm>
            <a:off x="4398840" y="0"/>
            <a:ext cx="3371400" cy="5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GB" sz="1800" spc="-1" strike="noStrike">
              <a:solidFill>
                <a:srgbClr val="000000"/>
              </a:solidFill>
              <a:latin typeface="Arial"/>
              <a:ea typeface="DejaVu Sans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ftr" idx="59"/>
          </p:nvPr>
        </p:nvSpPr>
        <p:spPr>
          <a:xfrm>
            <a:off x="0" y="9555120"/>
            <a:ext cx="3371400" cy="5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GB" sz="1800" spc="-1" strike="noStrike">
              <a:solidFill>
                <a:srgbClr val="000000"/>
              </a:solidFill>
              <a:latin typeface="Arial"/>
              <a:ea typeface="DejaVu Sans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 type="sldNum" idx="60"/>
          </p:nvPr>
        </p:nvSpPr>
        <p:spPr>
          <a:xfrm>
            <a:off x="4398840" y="9555120"/>
            <a:ext cx="3371400" cy="5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</a:tabLst>
            </a:pPr>
            <a:fld id="{DC2A9884-7015-4AC9-B280-F8352AE6092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560" cy="377172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7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>
              <a:buNone/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371400" cy="5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GB" sz="1800" spc="-1" strike="noStrike">
              <a:solidFill>
                <a:srgbClr val="000000"/>
              </a:solidFill>
              <a:latin typeface="Arial"/>
              <a:ea typeface="DejaVu Sans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 type="dt" idx="7"/>
          </p:nvPr>
        </p:nvSpPr>
        <p:spPr>
          <a:xfrm>
            <a:off x="4398840" y="0"/>
            <a:ext cx="3371400" cy="5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GB" sz="1800" spc="-1" strike="noStrike">
              <a:solidFill>
                <a:srgbClr val="000000"/>
              </a:solidFill>
              <a:latin typeface="Arial"/>
              <a:ea typeface="DejaVu Sans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 type="ftr" idx="8"/>
          </p:nvPr>
        </p:nvSpPr>
        <p:spPr>
          <a:xfrm>
            <a:off x="0" y="9555120"/>
            <a:ext cx="3371400" cy="5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GB" sz="1800" spc="-1" strike="noStrike">
              <a:solidFill>
                <a:srgbClr val="000000"/>
              </a:solidFill>
              <a:latin typeface="Arial"/>
              <a:ea typeface="DejaVu Sans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 type="sldNum" idx="9"/>
          </p:nvPr>
        </p:nvSpPr>
        <p:spPr>
          <a:xfrm>
            <a:off x="4398840" y="9555120"/>
            <a:ext cx="3371400" cy="5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</a:tabLst>
            </a:pPr>
            <a:fld id="{EA988DAD-11C9-45F0-B007-8D5395A307A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560" cy="377172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7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>
              <a:buNone/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371400" cy="5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GB" sz="1800" spc="-1" strike="noStrike">
              <a:solidFill>
                <a:srgbClr val="000000"/>
              </a:solidFill>
              <a:latin typeface="Arial"/>
              <a:ea typeface="DejaVu Sans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 type="dt" idx="61"/>
          </p:nvPr>
        </p:nvSpPr>
        <p:spPr>
          <a:xfrm>
            <a:off x="4398840" y="0"/>
            <a:ext cx="3371400" cy="5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GB" sz="1800" spc="-1" strike="noStrike">
              <a:solidFill>
                <a:srgbClr val="000000"/>
              </a:solidFill>
              <a:latin typeface="Arial"/>
              <a:ea typeface="DejaVu Sans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 type="ftr" idx="62"/>
          </p:nvPr>
        </p:nvSpPr>
        <p:spPr>
          <a:xfrm>
            <a:off x="0" y="9555120"/>
            <a:ext cx="3371400" cy="5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GB" sz="1800" spc="-1" strike="noStrike">
              <a:solidFill>
                <a:srgbClr val="000000"/>
              </a:solidFill>
              <a:latin typeface="Arial"/>
              <a:ea typeface="DejaVu Sans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 type="sldNum" idx="63"/>
          </p:nvPr>
        </p:nvSpPr>
        <p:spPr>
          <a:xfrm>
            <a:off x="4398840" y="9555120"/>
            <a:ext cx="3371400" cy="5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</a:tabLst>
            </a:pPr>
            <a:fld id="{85530FFC-8EB3-412A-AE17-3601FCE4B27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560" cy="377172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7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>
              <a:buNone/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371400" cy="5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GB" sz="1800" spc="-1" strike="noStrike">
              <a:solidFill>
                <a:srgbClr val="000000"/>
              </a:solidFill>
              <a:latin typeface="Arial"/>
              <a:ea typeface="DejaVu Sans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dt" idx="64"/>
          </p:nvPr>
        </p:nvSpPr>
        <p:spPr>
          <a:xfrm>
            <a:off x="4398840" y="0"/>
            <a:ext cx="3371400" cy="5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GB" sz="1800" spc="-1" strike="noStrike">
              <a:solidFill>
                <a:srgbClr val="000000"/>
              </a:solidFill>
              <a:latin typeface="Arial"/>
              <a:ea typeface="DejaVu Sans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ftr" idx="65"/>
          </p:nvPr>
        </p:nvSpPr>
        <p:spPr>
          <a:xfrm>
            <a:off x="0" y="9555120"/>
            <a:ext cx="3371400" cy="5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GB" sz="1800" spc="-1" strike="noStrike">
              <a:solidFill>
                <a:srgbClr val="000000"/>
              </a:solidFill>
              <a:latin typeface="Arial"/>
              <a:ea typeface="DejaVu Sans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 type="sldNum" idx="66"/>
          </p:nvPr>
        </p:nvSpPr>
        <p:spPr>
          <a:xfrm>
            <a:off x="4398840" y="9555120"/>
            <a:ext cx="3371400" cy="5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</a:tabLst>
            </a:pPr>
            <a:fld id="{6C4D29E6-B178-4EC1-994A-FDA8B766660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560" cy="377172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7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>
              <a:buNone/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371400" cy="5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GB" sz="1800" spc="-1" strike="noStrike">
              <a:solidFill>
                <a:srgbClr val="000000"/>
              </a:solidFill>
              <a:latin typeface="Arial"/>
              <a:ea typeface="DejaVu Sans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dt" idx="67"/>
          </p:nvPr>
        </p:nvSpPr>
        <p:spPr>
          <a:xfrm>
            <a:off x="4398840" y="0"/>
            <a:ext cx="3371400" cy="5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GB" sz="1800" spc="-1" strike="noStrike">
              <a:solidFill>
                <a:srgbClr val="000000"/>
              </a:solidFill>
              <a:latin typeface="Arial"/>
              <a:ea typeface="DejaVu Sans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ftr" idx="68"/>
          </p:nvPr>
        </p:nvSpPr>
        <p:spPr>
          <a:xfrm>
            <a:off x="0" y="9555120"/>
            <a:ext cx="3371400" cy="5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GB" sz="1800" spc="-1" strike="noStrike">
              <a:solidFill>
                <a:srgbClr val="000000"/>
              </a:solidFill>
              <a:latin typeface="Arial"/>
              <a:ea typeface="DejaVu Sans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 type="sldNum" idx="69"/>
          </p:nvPr>
        </p:nvSpPr>
        <p:spPr>
          <a:xfrm>
            <a:off x="4398840" y="9555120"/>
            <a:ext cx="3371400" cy="5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</a:tabLst>
            </a:pPr>
            <a:fld id="{B802AA37-AAFB-4E66-A352-064650DE09B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560" cy="377172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7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>
              <a:buNone/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371400" cy="5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GB" sz="1800" spc="-1" strike="noStrike">
              <a:solidFill>
                <a:srgbClr val="000000"/>
              </a:solidFill>
              <a:latin typeface="Arial"/>
              <a:ea typeface="DejaVu San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dt" idx="10"/>
          </p:nvPr>
        </p:nvSpPr>
        <p:spPr>
          <a:xfrm>
            <a:off x="4398840" y="0"/>
            <a:ext cx="3371400" cy="5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GB" sz="1800" spc="-1" strike="noStrike">
              <a:solidFill>
                <a:srgbClr val="000000"/>
              </a:solidFill>
              <a:latin typeface="Arial"/>
              <a:ea typeface="DejaVu Sans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0" y="9555120"/>
            <a:ext cx="3371400" cy="5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GB" sz="1800" spc="-1" strike="noStrike">
              <a:solidFill>
                <a:srgbClr val="000000"/>
              </a:solidFill>
              <a:latin typeface="Arial"/>
              <a:ea typeface="DejaVu Sans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4398840" y="9555120"/>
            <a:ext cx="3371400" cy="5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</a:tabLst>
            </a:pPr>
            <a:fld id="{9BBDAB7B-3185-45C2-8373-3775C00D929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560" cy="377172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7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>
              <a:buNone/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371400" cy="5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GB" sz="1800" spc="-1" strike="noStrike">
              <a:solidFill>
                <a:srgbClr val="000000"/>
              </a:solidFill>
              <a:latin typeface="Arial"/>
              <a:ea typeface="DejaVu Sans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dt" idx="13"/>
          </p:nvPr>
        </p:nvSpPr>
        <p:spPr>
          <a:xfrm>
            <a:off x="4398840" y="0"/>
            <a:ext cx="3371400" cy="5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GB" sz="1800" spc="-1" strike="noStrike">
              <a:solidFill>
                <a:srgbClr val="000000"/>
              </a:solidFill>
              <a:latin typeface="Arial"/>
              <a:ea typeface="DejaVu Sans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ftr" idx="14"/>
          </p:nvPr>
        </p:nvSpPr>
        <p:spPr>
          <a:xfrm>
            <a:off x="0" y="9555120"/>
            <a:ext cx="3371400" cy="5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GB" sz="1800" spc="-1" strike="noStrike">
              <a:solidFill>
                <a:srgbClr val="000000"/>
              </a:solidFill>
              <a:latin typeface="Arial"/>
              <a:ea typeface="DejaVu Sans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 type="sldNum" idx="15"/>
          </p:nvPr>
        </p:nvSpPr>
        <p:spPr>
          <a:xfrm>
            <a:off x="4398840" y="9555120"/>
            <a:ext cx="3371400" cy="5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</a:tabLst>
            </a:pPr>
            <a:fld id="{AEE258BE-B2B2-4A97-BC03-C65BA931CB7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560" cy="377172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7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>
              <a:buNone/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371400" cy="5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GB" sz="1800" spc="-1" strike="noStrike">
              <a:solidFill>
                <a:srgbClr val="000000"/>
              </a:solidFill>
              <a:latin typeface="Arial"/>
              <a:ea typeface="DejaVu 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dt" idx="16"/>
          </p:nvPr>
        </p:nvSpPr>
        <p:spPr>
          <a:xfrm>
            <a:off x="4398840" y="0"/>
            <a:ext cx="3371400" cy="5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GB" sz="1800" spc="-1" strike="noStrike">
              <a:solidFill>
                <a:srgbClr val="000000"/>
              </a:solidFill>
              <a:latin typeface="Arial"/>
              <a:ea typeface="DejaVu Sans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ftr" idx="17"/>
          </p:nvPr>
        </p:nvSpPr>
        <p:spPr>
          <a:xfrm>
            <a:off x="0" y="9555120"/>
            <a:ext cx="3371400" cy="5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GB" sz="1800" spc="-1" strike="noStrike">
              <a:solidFill>
                <a:srgbClr val="000000"/>
              </a:solidFill>
              <a:latin typeface="Arial"/>
              <a:ea typeface="DejaVu Sans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 type="sldNum" idx="18"/>
          </p:nvPr>
        </p:nvSpPr>
        <p:spPr>
          <a:xfrm>
            <a:off x="4398840" y="9555120"/>
            <a:ext cx="3371400" cy="5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</a:tabLst>
            </a:pPr>
            <a:fld id="{998F9CD6-06F4-4E02-97BF-9204A1CDA46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560" cy="377172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7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>
              <a:buNone/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371400" cy="5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GB" sz="1800" spc="-1" strike="noStrike">
              <a:solidFill>
                <a:srgbClr val="000000"/>
              </a:solidFill>
              <a:latin typeface="Arial"/>
              <a:ea typeface="DejaVu Sans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dt" idx="19"/>
          </p:nvPr>
        </p:nvSpPr>
        <p:spPr>
          <a:xfrm>
            <a:off x="4398840" y="0"/>
            <a:ext cx="3371400" cy="5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GB" sz="1800" spc="-1" strike="noStrike">
              <a:solidFill>
                <a:srgbClr val="000000"/>
              </a:solidFill>
              <a:latin typeface="Arial"/>
              <a:ea typeface="DejaVu Sans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20"/>
          </p:nvPr>
        </p:nvSpPr>
        <p:spPr>
          <a:xfrm>
            <a:off x="0" y="9555120"/>
            <a:ext cx="3371400" cy="5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GB" sz="1800" spc="-1" strike="noStrike">
              <a:solidFill>
                <a:srgbClr val="000000"/>
              </a:solidFill>
              <a:latin typeface="Arial"/>
              <a:ea typeface="DejaVu Sans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21"/>
          </p:nvPr>
        </p:nvSpPr>
        <p:spPr>
          <a:xfrm>
            <a:off x="4398840" y="9555120"/>
            <a:ext cx="3371400" cy="5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</a:tabLst>
            </a:pPr>
            <a:fld id="{8A36301C-F961-4948-B13B-C7D7EB66D0B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560" cy="377172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7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>
              <a:buNone/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371400" cy="5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GB" sz="1800" spc="-1" strike="noStrike">
              <a:solidFill>
                <a:srgbClr val="000000"/>
              </a:solidFill>
              <a:latin typeface="Arial"/>
              <a:ea typeface="DejaVu 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 type="dt" idx="22"/>
          </p:nvPr>
        </p:nvSpPr>
        <p:spPr>
          <a:xfrm>
            <a:off x="4398840" y="0"/>
            <a:ext cx="3371400" cy="5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GB" sz="1800" spc="-1" strike="noStrike">
              <a:solidFill>
                <a:srgbClr val="000000"/>
              </a:solidFill>
              <a:latin typeface="Arial"/>
              <a:ea typeface="DejaVu 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 type="ftr" idx="23"/>
          </p:nvPr>
        </p:nvSpPr>
        <p:spPr>
          <a:xfrm>
            <a:off x="0" y="9555120"/>
            <a:ext cx="3371400" cy="5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GB" sz="1800" spc="-1" strike="noStrike">
              <a:solidFill>
                <a:srgbClr val="000000"/>
              </a:solidFill>
              <a:latin typeface="Arial"/>
              <a:ea typeface="DejaVu 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 type="sldNum" idx="24"/>
          </p:nvPr>
        </p:nvSpPr>
        <p:spPr>
          <a:xfrm>
            <a:off x="4398840" y="9555120"/>
            <a:ext cx="3371400" cy="5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</a:tabLst>
            </a:pPr>
            <a:fld id="{9B45C29F-AFF0-488B-97FB-4132484533D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560" cy="377172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7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>
              <a:buNone/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371400" cy="5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GB" sz="1800" spc="-1" strike="noStrike">
              <a:solidFill>
                <a:srgbClr val="000000"/>
              </a:solidFill>
              <a:latin typeface="Arial"/>
              <a:ea typeface="DejaVu Sans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dt" idx="25"/>
          </p:nvPr>
        </p:nvSpPr>
        <p:spPr>
          <a:xfrm>
            <a:off x="4398840" y="0"/>
            <a:ext cx="3371400" cy="5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GB" sz="1800" spc="-1" strike="noStrike">
              <a:solidFill>
                <a:srgbClr val="000000"/>
              </a:solidFill>
              <a:latin typeface="Arial"/>
              <a:ea typeface="DejaVu Sans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ftr" idx="26"/>
          </p:nvPr>
        </p:nvSpPr>
        <p:spPr>
          <a:xfrm>
            <a:off x="0" y="9555120"/>
            <a:ext cx="3371400" cy="5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GB" sz="1800" spc="-1" strike="noStrike">
              <a:solidFill>
                <a:srgbClr val="000000"/>
              </a:solidFill>
              <a:latin typeface="Arial"/>
              <a:ea typeface="DejaVu Sans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 type="sldNum" idx="27"/>
          </p:nvPr>
        </p:nvSpPr>
        <p:spPr>
          <a:xfrm>
            <a:off x="4398840" y="9555120"/>
            <a:ext cx="3371400" cy="5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</a:tabLst>
            </a:pPr>
            <a:fld id="{325D9635-0D3D-4A70-A9CB-F51558A8071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560" cy="377172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7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>
              <a:buNone/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371400" cy="5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GB" sz="1800" spc="-1" strike="noStrike">
              <a:solidFill>
                <a:srgbClr val="000000"/>
              </a:solidFill>
              <a:latin typeface="Arial"/>
              <a:ea typeface="DejaVu Sans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 type="dt" idx="28"/>
          </p:nvPr>
        </p:nvSpPr>
        <p:spPr>
          <a:xfrm>
            <a:off x="4398840" y="0"/>
            <a:ext cx="3371400" cy="5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GB" sz="1800" spc="-1" strike="noStrike">
              <a:solidFill>
                <a:srgbClr val="000000"/>
              </a:solidFill>
              <a:latin typeface="Arial"/>
              <a:ea typeface="DejaVu Sans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 type="ftr" idx="29"/>
          </p:nvPr>
        </p:nvSpPr>
        <p:spPr>
          <a:xfrm>
            <a:off x="0" y="9555120"/>
            <a:ext cx="3371400" cy="5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GB" sz="1800" spc="-1" strike="noStrike">
              <a:solidFill>
                <a:srgbClr val="000000"/>
              </a:solidFill>
              <a:latin typeface="Arial"/>
              <a:ea typeface="DejaVu Sans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 type="sldNum" idx="30"/>
          </p:nvPr>
        </p:nvSpPr>
        <p:spPr>
          <a:xfrm>
            <a:off x="4398840" y="9555120"/>
            <a:ext cx="3371400" cy="5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</a:tabLst>
            </a:pPr>
            <a:fld id="{8677167F-D722-4C77-B651-B444257178D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</a:pPr>
            <a:endParaRPr b="0" lang="en-GB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</a:pPr>
            <a:endParaRPr b="0" lang="en-GB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</a:pPr>
            <a:endParaRPr b="0" lang="en-GB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</a:pPr>
            <a:endParaRPr b="0" lang="en-GB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</a:pPr>
            <a:endParaRPr b="0" lang="en-GB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</a:pPr>
            <a:endParaRPr b="0" lang="en-GB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</a:pPr>
            <a:endParaRPr b="0" lang="en-GB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</a:pPr>
            <a:endParaRPr b="0" lang="en-GB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</a:pPr>
            <a:endParaRPr b="0" lang="en-GB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</a:pPr>
            <a:endParaRPr b="0" lang="en-GB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GB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3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lnSpc>
                <a:spcPct val="93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GB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lnSpc>
                <a:spcPct val="93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GB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lnSpc>
                <a:spcPct val="93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GB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lnSpc>
                <a:spcPct val="93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GB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lnSpc>
                <a:spcPct val="93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GB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lnSpc>
                <a:spcPct val="93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GB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image" Target="../media/image37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image" Target="../media/image4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95280" y="260280"/>
            <a:ext cx="8497440" cy="30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ниципальное Бюджетное Дошкольное Образовательное Учреждение</a:t>
            </a:r>
            <a:br>
              <a:rPr sz="18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Детский сад № 33 «Радуга»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оект</a:t>
            </a:r>
            <a:br>
              <a:rPr sz="18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Огород на окне» </a:t>
            </a:r>
            <a:br>
              <a:rPr sz="18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I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ладшей группе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1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ила:</a:t>
            </a:r>
            <a:br>
              <a:rPr sz="18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 воспитатель </a:t>
            </a:r>
            <a:br>
              <a:rPr sz="18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                                             высшей квалификационной категории</a:t>
            </a:r>
            <a:br>
              <a:rPr sz="18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       Клевакина Л.Л.</a:t>
            </a:r>
            <a:br>
              <a:rPr sz="18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9000"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938240" y="450720"/>
            <a:ext cx="3492000" cy="26823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5321160" y="1170000"/>
            <a:ext cx="3431880" cy="26334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1865160" y="3548160"/>
            <a:ext cx="3504960" cy="26874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4"/>
          <a:stretch/>
        </p:blipFill>
        <p:spPr>
          <a:xfrm>
            <a:off x="5394240" y="3981600"/>
            <a:ext cx="3504960" cy="268740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878120" y="133200"/>
            <a:ext cx="2895120" cy="23968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49560" y="1047600"/>
            <a:ext cx="3420720" cy="28112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5748480" y="2627280"/>
            <a:ext cx="3498480" cy="28825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4"/>
          <a:stretch/>
        </p:blipFill>
        <p:spPr>
          <a:xfrm>
            <a:off x="1805040" y="3597120"/>
            <a:ext cx="2858760" cy="23587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5"/>
          <a:stretch/>
        </p:blipFill>
        <p:spPr>
          <a:xfrm>
            <a:off x="3925800" y="3828960"/>
            <a:ext cx="2646000" cy="313164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857840" y="2273400"/>
            <a:ext cx="4255560" cy="45176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1762200" y="255600"/>
            <a:ext cx="3425400" cy="446832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633680" y="3151080"/>
            <a:ext cx="4760640" cy="37494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5735520" y="3584520"/>
            <a:ext cx="3620880" cy="2895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4657680" y="-92160"/>
            <a:ext cx="4644720" cy="36637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4"/>
          <a:stretch/>
        </p:blipFill>
        <p:spPr>
          <a:xfrm>
            <a:off x="1706400" y="414360"/>
            <a:ext cx="3835080" cy="300492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706400" y="4091040"/>
            <a:ext cx="2474640" cy="290628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6242040" y="3870360"/>
            <a:ext cx="3096720" cy="31032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3718080" y="1352520"/>
            <a:ext cx="3749400" cy="427968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2124000" y="404640"/>
            <a:ext cx="604800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ы читае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378240" y="3244680"/>
            <a:ext cx="183960" cy="36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4"/>
          <a:stretch/>
        </p:blipFill>
        <p:spPr>
          <a:xfrm>
            <a:off x="1706400" y="274680"/>
            <a:ext cx="2590560" cy="29984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5"/>
          <a:stretch/>
        </p:blipFill>
        <p:spPr>
          <a:xfrm>
            <a:off x="6742080" y="414360"/>
            <a:ext cx="2650680" cy="362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p14:dur="100"/>
    </mc:Choice>
    <mc:Fallback>
      <p:transition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4657680" y="3444840"/>
            <a:ext cx="4339800" cy="34318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1847880" y="407880"/>
            <a:ext cx="4881240" cy="384624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2124000" y="274680"/>
            <a:ext cx="6562440" cy="11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а овощи наши подрастают,  </a:t>
            </a:r>
            <a:br>
              <a:rPr sz="18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ы немного поиграе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932360" y="3571920"/>
            <a:ext cx="4223880" cy="32428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1974960" y="1341360"/>
            <a:ext cx="4230360" cy="341280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1"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5535720" y="878040"/>
            <a:ext cx="3558960" cy="33760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1785960" y="658800"/>
            <a:ext cx="3846240" cy="32904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4140360" y="274680"/>
            <a:ext cx="467964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ы рисуем овощ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1889280" y="4505400"/>
            <a:ext cx="3347640" cy="23824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4"/>
          <a:stretch/>
        </p:blipFill>
        <p:spPr>
          <a:xfrm>
            <a:off x="3468600" y="2852640"/>
            <a:ext cx="3114360" cy="2199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5"/>
          <a:stretch/>
        </p:blipFill>
        <p:spPr>
          <a:xfrm>
            <a:off x="6066000" y="4432320"/>
            <a:ext cx="2918880" cy="241884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entr" presetID="1"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050920" y="274680"/>
            <a:ext cx="6841800" cy="149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йдём с тобою в огород, </a:t>
            </a:r>
            <a:br>
              <a:rPr sz="1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мало там у нас забот! </a:t>
            </a:r>
            <a:br>
              <a:rPr sz="1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ьём лучок из лейки,</a:t>
            </a:r>
            <a:br>
              <a:rPr sz="1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сядем на скамей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633680" y="1712880"/>
            <a:ext cx="4895640" cy="38286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4797360" y="3444840"/>
            <a:ext cx="4541400" cy="34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p14:dur="100"/>
    </mc:Choice>
    <mc:Fallback>
      <p:transition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7" presetSubtype="4"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762200" y="115920"/>
            <a:ext cx="3547800" cy="466848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5138640" y="285840"/>
            <a:ext cx="3700080" cy="162216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5132520" y="2060640"/>
            <a:ext cx="3553920" cy="490644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050920" y="260280"/>
            <a:ext cx="6913080" cy="11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п проекта: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навательный</a:t>
            </a:r>
            <a:br>
              <a:rPr sz="1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Вид проекта: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повой, исследовательск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908000" y="1700280"/>
            <a:ext cx="7056000" cy="45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DejaVu Sans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оки реализации: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аткосрочны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стники проекта: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тель, дети второй младшей группы, родители воспитанник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 проекта: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е экологической культуры у детей и родителей, создание условий для познавательного развития детей через проектно – исследовательскую деятельность и организацию художественно-продуктивной творческой деятельности.</a:t>
            </a:r>
            <a:br>
              <a:rPr sz="1800"/>
            </a:br>
            <a:br>
              <a:rPr sz="1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орудование и материалы: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ейнеры с землей, луковицы, семена, совочки, грабельки, лейки с вод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p14:dur="100"/>
    </mc:Choice>
    <mc:Fallback>
      <p:transition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6" presetSubtype="16"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6" presetSubtype="16"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" dur="2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6" presetSubtype="16"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" dur="2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6" presetSubtype="16"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" dur="2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979640" y="274680"/>
            <a:ext cx="6984720" cy="13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тамины круглый год, так необходимы,</a:t>
            </a:r>
            <a:br>
              <a:rPr sz="1800"/>
            </a:b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бы нам не болеть гриппом и ангиной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13153" t="4883" r="5267" b="13527"/>
          <a:stretch/>
        </p:blipFill>
        <p:spPr>
          <a:xfrm>
            <a:off x="2411280" y="2276640"/>
            <a:ext cx="2808000" cy="41032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5580000" y="2276640"/>
            <a:ext cx="2857320" cy="41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p14:dur="100"/>
    </mc:Choice>
    <mc:Fallback>
      <p:transition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7" presetSubtype="4"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5" presetSubtype="10"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5" presetSubtype="10"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124000" y="260280"/>
            <a:ext cx="6840000" cy="11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ЭТАП - заключительны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95640" y="1341360"/>
            <a:ext cx="6768720" cy="44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DejaVu Sans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анализировала и обобщила результаты, полученных в процессе исследовательской деятельности детей. И в конце нашего эксперимента вместе с детьми выявили условия для роста растений: свет, тепло, воздух, вод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улице ещё холодно, а у нас на окне лук колосится, да укроп подраста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p14:dur="100"/>
    </mc:Choice>
    <mc:Fallback>
      <p:transition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6" presetSubtype="16"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9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1" presetSubtype="4"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4" dur="2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1" presetSubtype="4"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9" dur="2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908000" y="3286080"/>
            <a:ext cx="4468320" cy="34192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4638600" y="1407960"/>
            <a:ext cx="4292280" cy="32922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2048040" y="274680"/>
            <a:ext cx="6992640" cy="90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p14:dur="100"/>
    </mc:Choice>
    <mc:Fallback>
      <p:transition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050920" y="260280"/>
            <a:ext cx="6635520" cy="11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уальность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050920" y="1268280"/>
            <a:ext cx="6635520" cy="47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младшего дошкольного возраста в недостаточной степени имеют представления о растениях, о том, где они растут, о необходимых условиях для роста. Их интерес к познавательно-исследовательской деятельности недостаточно развит. Исследовательская, поисковая активность – естественное состояние ребенка, он настроен на познание мира. Исследовать, открывать, изучать – значит сделать шаг в неизведанное и непознанно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p14:dur="100"/>
    </mc:Choice>
    <mc:Fallback>
      <p:transition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6" presetSubtype="16"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1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1" presetSubtype="4"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6" dur="2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124000" y="476280"/>
            <a:ext cx="6768720" cy="10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 проекта: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979640" y="1628640"/>
            <a:ext cx="6840000" cy="43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DejaVu Sans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е экологической культуры у детей и родителей, создание условий для познавательного развития детей через проектно – исследовательскую деятельность и организацию художественно-продуктивной творческой деятель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p14:dur="100"/>
    </mc:Choice>
    <mc:Fallback>
      <p:transition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6" presetSubtype="16"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3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6" presetSubtype="16"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8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260280"/>
            <a:ext cx="6768720" cy="86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 проект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50920" y="1197000"/>
            <a:ext cx="6768720" cy="50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ть у детей знания о росте и потребности раст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ть умения наблюдать, ухаживать за огородными культур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вать любознательность, интерес к исследовательской деятельности, экспериментирован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ывать бережное и заботливое отношение к растения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ть партнерские взаимоотношения между педагогом, детьми и родителя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p14:dur="100"/>
    </mc:Choice>
    <mc:Fallback>
      <p:transition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6" presetSubtype="16"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5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" presetSubtype="10"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" presetSubtype="10"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" presetSubtype="10"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" presetSubtype="10"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" presetSubtype="10"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050920" y="333360"/>
            <a:ext cx="6913080" cy="11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жидаемый результат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124000" y="1700280"/>
            <a:ext cx="6840000" cy="32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DejaVu Sans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детей сформируются знания и представления о росте растений в комнатных условиях, расширятся представления об условиях, необходимых для их роста и развит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p14:dur="100"/>
    </mc:Choice>
    <mc:Fallback>
      <p:transition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6" presetSubtype="16"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7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8" presetSubtype="16"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2" dur="2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124000" y="333360"/>
            <a:ext cx="6635520" cy="86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ЭТАП – подготовительный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124000" y="1268280"/>
            <a:ext cx="6646680" cy="50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1280" indent="-341280">
              <a:lnSpc>
                <a:spcPct val="100000"/>
              </a:lnSpc>
              <a:spcBef>
                <a:spcPts val="451"/>
              </a:spcBef>
              <a:tabLst>
                <a:tab algn="l" pos="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седы с детьми (выявление уровня знаний о растениях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51"/>
              </a:spcBef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ление плана работы над проект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51"/>
              </a:spcBef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бор материала необходимого для реализации проек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51"/>
              </a:spcBef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ение художественной литературы (потешек, пословиц, поговорок, песен, связанных с огородом и овощами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51"/>
              </a:spcBef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я предметно – развивающей среды по теме проек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51"/>
              </a:spcBef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готовление дидактических игр и пособ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51"/>
              </a:spcBef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сматривание иллюстративного материала, муляжей овощей по теме проек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аимодействие с семь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51"/>
              </a:spcBef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бор необходимого материала для создания огоро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51"/>
              </a:spcBef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местное обсуждение мероприятий по выполнению проек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51"/>
              </a:spcBef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p14:dur="100"/>
    </mc:Choice>
    <mc:Fallback>
      <p:transition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6" presetSubtype="16"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9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8" presetSubtype="12"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4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8" presetSubtype="12"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9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8" presetSubtype="12"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4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8" presetSubtype="12"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9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8" presetSubtype="12"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4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8" presetSubtype="12"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9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8" presetSubtype="12"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4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8" presetSubtype="12"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9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8" presetSubtype="12"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4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8" presetSubtype="12"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9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2195640" y="189000"/>
            <a:ext cx="669744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ЭТАП – практическая работа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780000" y="1052640"/>
            <a:ext cx="32396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884240" y="731880"/>
            <a:ext cx="2674440" cy="36079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4133880" y="1816200"/>
            <a:ext cx="2601720" cy="32126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6431040" y="3170160"/>
            <a:ext cx="2773080" cy="34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p14:dur="100"/>
    </mc:Choice>
    <mc:Fallback>
      <p:transition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6" presetSubtype="16"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6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7" presetSubtype="4"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981080" y="285840"/>
            <a:ext cx="4260600" cy="3493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2762280" y="3078000"/>
            <a:ext cx="4582800" cy="37494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3998880" y="-36360"/>
            <a:ext cx="5333760" cy="496836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8"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 overriden">
  <a:themeElements>
    <a:clrScheme name="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00cc99"/>
      </a:accent1>
      <a:accent2>
        <a:srgbClr val="3333cc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ccccff"/>
      </a:hlink>
      <a:folHlink>
        <a:srgbClr val="b2b2b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000000"/>
      </a:dk2>
      <a:lt2>
        <a:srgbClr val="808080"/>
      </a:lt2>
      <a:accent1>
        <a:srgbClr val="00cc99"/>
      </a:accent1>
      <a:accent2>
        <a:srgbClr val="3333cc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ccccff"/>
      </a:hlink>
      <a:folHlink>
        <a:srgbClr val="b2b2b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57</TotalTime>
  <Application>LibreOffice/7.4.7.2$Linux_X86_64 LibreOffice_project/40$Build-2</Application>
  <AppVersion>15.0000</AppVersion>
  <Paragraphs>38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ЛЮДМИЛА</cp:lastModifiedBy>
  <cp:lastPrinted>1601-01-01T00:00:00Z</cp:lastPrinted>
  <dcterms:modified xsi:type="dcterms:W3CDTF">2022-05-04T20:01:32Z</dcterms:modified>
  <cp:revision>801</cp:revision>
  <dc:subject/>
  <dc:title>Diapositiv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22</vt:r8>
  </property>
  <property fmtid="{D5CDD505-2E9C-101B-9397-08002B2CF9AE}" pid="3" name="PresentationFormat">
    <vt:lpwstr>On-screen Show (4:3)</vt:lpwstr>
  </property>
  <property fmtid="{D5CDD505-2E9C-101B-9397-08002B2CF9AE}" pid="4" name="Slides">
    <vt:r8>22</vt:r8>
  </property>
</Properties>
</file>