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6.jpeg" ContentType="image/jpeg"/>
  <Override PartName="/ppt/media/image25.jpeg" ContentType="image/jpeg"/>
  <Override PartName="/ppt/media/image2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AD33-9837-4425-83A0-568A30CF87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0E9B-527D-4259-97D6-61B68AB02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01A-0BB4-47A3-BC26-7C00DE05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66D-F825-4F2E-8306-DD779D5C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3C5-4797-4637-9B1B-424BB285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093-D35B-4F8A-B74E-2A7BD8D8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003-3518-43AA-A36A-3D724867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F32-5470-4685-B381-92D33F32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D32-0470-4DB3-B4F1-ADABAF93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FC2-AA0B-4F35-8A02-1DE89A7D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ED6-CA2E-446F-B86E-66F521E6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8E0-B8EE-40D6-8051-4837EF9C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4C0-C4FD-444F-9199-DA4EA87D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F1F-0447-4621-82F6-E404049F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A1A4-9376-4CCF-BD67-6DFFD34E0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e1610"/>
                </a:solidFill>
                <a:latin typeface="Monotype Corsiva"/>
              </a:rPr>
              <a:t>Александр Невский –имя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2098800"/>
            <a:ext cx="40384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уши святой своей порывы Руси и Богу посвяти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C:\Documents and Settings\Алексей.1MOJ\Рабочий стол\280px-AlexanderNevskyTitul.jpg"/>
          <p:cNvPicPr/>
          <p:nvPr/>
        </p:nvPicPr>
        <p:blipFill>
          <a:blip r:embed="rId2"/>
          <a:stretch/>
        </p:blipFill>
        <p:spPr>
          <a:xfrm>
            <a:off x="857160" y="1428840"/>
            <a:ext cx="35528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650"/>
                            </p:stCondLst>
                            <p:childTnLst>
                              <p:par>
                                <p:cTn id="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5589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161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4e1610"/>
                </a:solidFill>
                <a:latin typeface="Arial"/>
              </a:rPr>
              <a:t>«Александр Невский». 1942</a:t>
            </a:r>
            <a:br>
              <a:rPr sz="2000"/>
            </a:br>
            <a:r>
              <a:rPr b="1" lang="en-US" sz="2000" spc="-1" strike="noStrike">
                <a:solidFill>
                  <a:srgbClr val="4e1610"/>
                </a:solidFill>
                <a:latin typeface="Arial"/>
              </a:rPr>
              <a:t>           Николай Константинович Рерих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3" descr="C:\Documents and Settings\Алексей.1MOJ\Рабочий стол\Рисунок.jpg"/>
          <p:cNvPicPr/>
          <p:nvPr/>
        </p:nvPicPr>
        <p:blipFill>
          <a:blip r:embed="rId2"/>
          <a:stretch/>
        </p:blipFill>
        <p:spPr>
          <a:xfrm>
            <a:off x="214200" y="1125360"/>
            <a:ext cx="5429520" cy="39294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5796000" y="544680"/>
            <a:ext cx="3133800" cy="9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Под ними лошади тону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Под ними дыбом лед встав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Их стремена на дно тяну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Им панцирь выплыть не да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Брело под взглядами кос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Немало пойманных госп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Впервые пятками бос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Прилежно шлепая об л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И князь, едва остыв от свал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Из-под руки уже след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Как беглецов остаток жал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К ливонским землям уход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                               </a:t>
            </a: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К.Симо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Monotype Corsiva"/>
              </a:rPr>
              <a:t>                    </a:t>
            </a:r>
            <a:r>
              <a:rPr b="1" lang="en-US" sz="1800" spc="-1" strike="noStrike">
                <a:solidFill>
                  <a:srgbClr val="663300"/>
                </a:solidFill>
                <a:latin typeface="Monotype Corsiva"/>
              </a:rPr>
              <a:t>«Ледовое побоищ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5832360" cy="4464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33440" y="5159520"/>
            <a:ext cx="65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сские люди должны были платить дань татарскому хану, а князья получать от него ярлык (разрешение) на княж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2871720" cy="532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95640" y="260280"/>
            <a:ext cx="464364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Ледового побоища Александр Невский стремился уберечь русскую землю от нового нашествия монголо-татар. Князь неоднократно ездил на переговоры в Золотую Орду. В 1262 году ему удалось отговорить хана от набора на Руси войск для участия в войне на Кавказе. На обратном пути после этих переговоров князь скончался. В 1547 году церковь провозгласила его святым. Еще в 13 веке митрополит Кирилл составил «Житие Александра Невс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66100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. Н. Нестеров. «Святой благоверный князь Александр Невский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C:\Documents and Settings\Алексей.1MOJ\Рабочий стол\Рис5.jpg"/>
          <p:cNvPicPr/>
          <p:nvPr/>
        </p:nvPicPr>
        <p:blipFill>
          <a:blip r:embed="rId2"/>
          <a:stretch/>
        </p:blipFill>
        <p:spPr>
          <a:xfrm>
            <a:off x="1476360" y="2133720"/>
            <a:ext cx="6429240" cy="3857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26920" y="620640"/>
            <a:ext cx="7705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buClr>
                <a:srgbClr val="4e16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1610"/>
                </a:solidFill>
                <a:latin typeface="Arial"/>
              </a:rPr>
              <a:t>Именем Александра Невского названы улицы, переулки, площади. Ему посвящены православные храмы, он является небесным покровителем Петербу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623736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1610"/>
                </a:solidFill>
                <a:latin typeface="Arial"/>
              </a:rPr>
              <a:t>Свя́то-Тро́ицкая Алекса́ндро-Не́вская ла́вр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6760" y="4285800"/>
            <a:ext cx="235764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1610"/>
                </a:solidFill>
                <a:latin typeface="Arial"/>
              </a:rPr>
              <a:t>Часовня Александра Невского в Коломягах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одержимое 3" descr="C:\Documents and Settings\Алексей.1MOJ\Рабочий стол\Рис9.JPG"/>
          <p:cNvPicPr/>
          <p:nvPr/>
        </p:nvPicPr>
        <p:blipFill>
          <a:blip r:embed="rId2"/>
          <a:stretch/>
        </p:blipFill>
        <p:spPr>
          <a:xfrm>
            <a:off x="357120" y="500040"/>
            <a:ext cx="2381400" cy="35528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C:\Documents and Settings\Алексей.1MOJ\Рабочий стол\Рис10.JPG"/>
          <p:cNvPicPr/>
          <p:nvPr/>
        </p:nvPicPr>
        <p:blipFill>
          <a:blip r:embed="rId3"/>
          <a:stretch/>
        </p:blipFill>
        <p:spPr>
          <a:xfrm>
            <a:off x="3000240" y="1285920"/>
            <a:ext cx="3171960" cy="42289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2500200" y="3429000"/>
            <a:ext cx="45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1610"/>
                </a:solidFill>
                <a:latin typeface="Calibri"/>
              </a:rPr>
              <a:t>Часовня Александра Невского (Барнау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6" descr="C:\Documents and Settings\Алексей.1MOJ\Рабочий стол\Рис11.jpg"/>
          <p:cNvPicPr/>
          <p:nvPr/>
        </p:nvPicPr>
        <p:blipFill>
          <a:blip r:embed="rId4"/>
          <a:stretch/>
        </p:blipFill>
        <p:spPr>
          <a:xfrm>
            <a:off x="6286680" y="500040"/>
            <a:ext cx="2714400" cy="24289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5796000" y="3105000"/>
            <a:ext cx="26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1610"/>
                </a:solidFill>
                <a:latin typeface="Calibri"/>
              </a:rPr>
              <a:t>Собор во имя Александра Невского (Новосибирск</a:t>
            </a:r>
            <a:r>
              <a:rPr b="0" lang="en-US" sz="1800" spc="-1" strike="noStrike">
                <a:solidFill>
                  <a:srgbClr val="6633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C:\Documents and Settings\Алексей.1MOJ\Рабочий стол\Рис14.jpg"/>
          <p:cNvPicPr/>
          <p:nvPr/>
        </p:nvPicPr>
        <p:blipFill>
          <a:blip r:embed="rId2"/>
          <a:stretch/>
        </p:blipFill>
        <p:spPr>
          <a:xfrm>
            <a:off x="857160" y="1428840"/>
            <a:ext cx="3714840" cy="35002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5000760" y="214200"/>
            <a:ext cx="3786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e1610"/>
                </a:solidFill>
                <a:latin typeface="Calibri"/>
              </a:rPr>
              <a:t>Частичка мощей святого благоверного князя Александра Невского находится в Храме Александра Невского в городе София, Болгария. Также часть мощей (мизинец) Александра Невского находится в Успенском соборе города Владимир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e1610"/>
                </a:solidFill>
                <a:latin typeface="Calibri"/>
              </a:rPr>
              <a:t>Мощи были переданы указом Святейшего Патриарха Московского и всея Руси Алексия II в октябре 1998 года в в канун празднования 50-летия открытия подворья Болгарской Православной Церкви в Москв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3" descr="C:\Documents and Settings\Алексей.1MOJ\Рабочий стол\Рис4.jpg"/>
          <p:cNvPicPr/>
          <p:nvPr/>
        </p:nvPicPr>
        <p:blipFill>
          <a:blip r:embed="rId2"/>
          <a:stretch/>
        </p:blipFill>
        <p:spPr>
          <a:xfrm>
            <a:off x="714240" y="785880"/>
            <a:ext cx="3286440" cy="2857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C:\Documents and Settings\Алексей.1MOJ\Рабочий стол\Рис16.jpg"/>
          <p:cNvPicPr/>
          <p:nvPr/>
        </p:nvPicPr>
        <p:blipFill>
          <a:blip r:embed="rId3"/>
          <a:stretch/>
        </p:blipFill>
        <p:spPr>
          <a:xfrm>
            <a:off x="5357880" y="1285920"/>
            <a:ext cx="2543040" cy="48387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4286160" y="2852640"/>
            <a:ext cx="4532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1610"/>
                </a:solidFill>
                <a:latin typeface="Calibri"/>
              </a:rPr>
              <a:t>Памятник в Санкт-Петербурге (Усть-Ижора</a:t>
            </a:r>
            <a:r>
              <a:rPr b="0" lang="ru-RU" sz="1800" spc="-1" strike="noStrike">
                <a:solidFill>
                  <a:srgbClr val="4e161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285840" y="2967120"/>
            <a:ext cx="4143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1610"/>
                </a:solidFill>
                <a:latin typeface="Calibri"/>
              </a:rPr>
              <a:t>Памятник Александру Невскому в Санкт-Петербурге на площади Александра Невского перед Александро-Невской лав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70160" y="4500360"/>
            <a:ext cx="37782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3300"/>
                </a:solidFill>
                <a:latin typeface="Monotype Corsiva"/>
                <a:ea typeface="Estrangelo Edessa"/>
              </a:rPr>
              <a:t>ОРДЕН БЫЛ УЧРЕЖДЁН УКАЗОМ ПРЕЗИДИУМА ВЕРХОВНОГО СОВЕТА СССР ОТ 29 ИЮЛЯ 1942, ОДНОВРЕМЕННО С ОРДЕНАМИ СУВОРОВА И КУТУЗОВА, ДЛЯ НАГРАЖДЕНИЯ КОМАНДНОГО СОСТАВА КРАСНОЙ АРМИИ ЗА ВЫДАЮЩИЕСЯ ЗАСЛУГИ В ОРГАНИЗАЦИИ И РУКОВОДСТВЕ БОЕВЫМИ ОПЕРАЦИЯМИ И ЗА ДОСТИГНУТЫЕ В РЕЗУЛЬТАТЕ ЭТИХ ОПЕРАЦИЙ УСПЕХИ В БОЯХ ЗА РОДИНУ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-316080"/>
            <a:ext cx="8280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Орден Святого Александра Невского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                      Орден Александра Нев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3" descr="AlexNevskyOrder.gif"/>
          <p:cNvPicPr/>
          <p:nvPr/>
        </p:nvPicPr>
        <p:blipFill>
          <a:blip r:embed="rId2"/>
          <a:stretch/>
        </p:blipFill>
        <p:spPr>
          <a:xfrm>
            <a:off x="4938840" y="476280"/>
            <a:ext cx="3809880" cy="40194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"/>
          <p:cNvPicPr/>
          <p:nvPr/>
        </p:nvPicPr>
        <p:blipFill>
          <a:blip r:embed="rId3"/>
          <a:stretch/>
        </p:blipFill>
        <p:spPr>
          <a:xfrm>
            <a:off x="684360" y="2643120"/>
            <a:ext cx="2857320" cy="39290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6"/>
          <p:cNvSpPr/>
          <p:nvPr/>
        </p:nvSpPr>
        <p:spPr>
          <a:xfrm>
            <a:off x="360360" y="692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Monotype Corsiva"/>
              </a:rPr>
              <a:t>Орден Святого Александра Невского — государственная награда Российской империи с 1725 до 1917 года. Учреждён Екатериной I и стал третьим российским орденом после ордена Св. Андрея Первозванного и женского ордена Св. Великомученицы Екатер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Вертикальный свиток 3"/>
          <p:cNvSpPr/>
          <p:nvPr/>
        </p:nvSpPr>
        <p:spPr>
          <a:xfrm>
            <a:off x="1619280" y="144360"/>
            <a:ext cx="5904000" cy="6524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3eeee"/>
              </a:gs>
              <a:gs pos="100000">
                <a:srgbClr val="d9caca"/>
              </a:gs>
            </a:gsLst>
            <a:lin ang="5400000"/>
          </a:gradFill>
          <a:ln w="11520">
            <a:solidFill>
              <a:srgbClr val="855d5d"/>
            </a:solidFill>
            <a:miter/>
          </a:ln>
          <a:effectLst>
            <a:outerShdw dist="24840" dir="5400000" blurRad="0" rotWithShape="0">
              <a:srgbClr val="512d2d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23640" y="803160"/>
            <a:ext cx="47530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1610"/>
                </a:solidFill>
                <a:latin typeface="Monotype Corsiva"/>
              </a:rPr>
              <a:t>Память об Александре Невском живет в наших сердцах. Древняя легенда гласит, что пока наши сердца обращены к Святому, наши города будут процветать, а враг не посмеет перейти рубежи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C:\Documents and Settings\Алексей.1MOJ\Рабочий стол\Рис3.jpg"/>
          <p:cNvPicPr/>
          <p:nvPr/>
        </p:nvPicPr>
        <p:blipFill>
          <a:blip r:embed="rId2"/>
          <a:stretch/>
        </p:blipFill>
        <p:spPr>
          <a:xfrm>
            <a:off x="179280" y="260280"/>
            <a:ext cx="2071800" cy="3714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Алексей.1MOJ\Рабочий стол\ib30.jpg"/>
          <p:cNvPicPr/>
          <p:nvPr/>
        </p:nvPicPr>
        <p:blipFill>
          <a:blip r:embed="rId3"/>
          <a:stretch/>
        </p:blipFill>
        <p:spPr>
          <a:xfrm>
            <a:off x="6804000" y="2565360"/>
            <a:ext cx="214308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52)"/>
                                      </p:to>
                                    </p:set>
                                    <p:set>
                                      <p:cBhvr>
                                        <p:cTn id="69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52)"/>
                                      </p:to>
                                    </p:set>
                                    <p:set>
                                      <p:cBhvr>
                                        <p:cTn id="7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46_5"/>
          <p:cNvPicPr/>
          <p:nvPr/>
        </p:nvPicPr>
        <p:blipFill>
          <a:blip r:embed="rId2"/>
          <a:stretch/>
        </p:blipFill>
        <p:spPr>
          <a:xfrm>
            <a:off x="1071720" y="571680"/>
            <a:ext cx="2857320" cy="576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642920" y="114912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ЕКСАНДР - по-гречески означает защитник людей. Этим красивым, мужественным именем назвал своего второго сына новгородский князь Ярослав Всеволод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570200" cy="6381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80000" y="765000"/>
            <a:ext cx="309564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ЕКСАНДР родился в 1219 году в Переяславле (по другим сведениям, в 1220 году в Новгороде) незадолго до страшного бедствия - нашествия монголо-татар на Русь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же с трёх лет Александра отлучили от матери, княгини Феодосии, и отдали на воспитание княжеским воинам. Малыша посадили на коня и дали в руки оруж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9292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267080" cy="5334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59280" y="1341360"/>
            <a:ext cx="40323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же с1228года юный Александр начал княжить в Новгороде со своим старшим братом Федором под присмотром боя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 1236году Александр княжил в Новгороде уже самостоя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292720" cy="264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651640" y="260280"/>
            <a:ext cx="3276360" cy="259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835280" y="3068640"/>
            <a:ext cx="48956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77120" cy="4741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9640" y="530064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240 году Новгороду объявили войну шведы. Их войско возглавил Биргер. Он написал князю Александру послание с такими словами: “Если можешь, сопротивляйся, знай, что я уже здесь и пленю землю твою”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27280" y="333360"/>
            <a:ext cx="3881520" cy="4968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5373720"/>
            <a:ext cx="81356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этой картине изображен ключевой эпизод Ледового побоища. Дружина Александра Невского неожиданно ударила в тыл клина немецких рыцарей, тем самым решив исход сражения в пользу рус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426960"/>
            <a:ext cx="88218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3334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5600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05080" y="587700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М.Назарук «Ледовое побоище»1982г. На картине изображены немецкие рыцари, провалившиеся под лёд Чудского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4:36:59Z</dcterms:created>
  <dc:creator>Учитель</dc:creator>
  <dc:description/>
  <dc:language>en-US</dc:language>
  <cp:lastModifiedBy>Учитель</cp:lastModifiedBy>
  <dcterms:modified xsi:type="dcterms:W3CDTF">2009-08-31T05:58:04Z</dcterms:modified>
  <cp:revision>11</cp:revision>
  <dc:subject/>
  <dc:title>Слайд 1</dc:title>
</cp:coreProperties>
</file>