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6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9B2-9BD0-4868-855B-20C902A199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798-9F99-4339-A554-1CC6424C1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F28-A8DF-4092-85D4-3A60FD09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C13-8383-4F02-BF5A-9EC12E71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51-82B1-4C4A-8B04-D5486A52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CC8-2627-4BB8-9619-637AA875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C5B-19B0-478D-B2F5-DE565B3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C15-4435-45FD-BE4E-C98DC8A1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A3C5-E7BD-46C6-98A2-E77503E8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ECE-E9F0-4375-8E95-EF4ECB6B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E81-BE79-469D-8B13-C05F5C7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106-0916-47D5-9508-7739C7F4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26F-2E36-48E1-98DD-00B5C544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A0C-F17B-40D0-B795-8EDD08A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5ACC-692C-4FBC-96AE-5EC421FFB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1610"/>
                </a:solidFill>
                <a:latin typeface="Monotype Corsiva"/>
              </a:rPr>
              <a:t>Александр Невский –имя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2098800"/>
            <a:ext cx="40384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уши святой своей порывы Руси и Богу посвяти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C:\Documents and Settings\Алексей.1MOJ\Рабочий стол\280px-AlexanderNevskyTitul.jpg"/>
          <p:cNvPicPr/>
          <p:nvPr/>
        </p:nvPicPr>
        <p:blipFill>
          <a:blip r:embed="rId2"/>
          <a:stretch/>
        </p:blipFill>
        <p:spPr>
          <a:xfrm>
            <a:off x="857160" y="1428840"/>
            <a:ext cx="35528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650"/>
                            </p:stCondLst>
                            <p:childTnLst>
                              <p:par>
                                <p:cTn id="8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«Александр Невский». 1942</a:t>
            </a:r>
            <a:br>
              <a:rPr sz="2000"/>
            </a:br>
            <a:r>
              <a:rPr b="1" lang="en-US" sz="2000" spc="-1" strike="noStrike">
                <a:solidFill>
                  <a:srgbClr val="4e1610"/>
                </a:solidFill>
                <a:latin typeface="Arial"/>
              </a:rPr>
              <a:t>           Николай Константинович Рерих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3" descr="C:\Documents and Settings\Алексей.1MOJ\Рабочий стол\Рисунок.jpg"/>
          <p:cNvPicPr/>
          <p:nvPr/>
        </p:nvPicPr>
        <p:blipFill>
          <a:blip r:embed="rId2"/>
          <a:stretch/>
        </p:blipFill>
        <p:spPr>
          <a:xfrm>
            <a:off x="214200" y="1125360"/>
            <a:ext cx="5429520" cy="39294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4"/>
          <p:cNvSpPr/>
          <p:nvPr/>
        </p:nvSpPr>
        <p:spPr>
          <a:xfrm>
            <a:off x="5796000" y="544680"/>
            <a:ext cx="3133800" cy="9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од ними лошади тону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од ними дыбом лед вста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х стремена на дно тяну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м панцирь выплыть не да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Брело под взглядами кос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Немало пойманных госпо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Впервые пятками бос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Прилежно шлепая об л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 князь, едва остыв от свал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Из-под руки уже след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ак беглецов остаток жал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 ливонским землям уход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                               </a:t>
            </a:r>
            <a:r>
              <a:rPr b="1" lang="en-US" sz="2000" spc="-1" strike="noStrike">
                <a:solidFill>
                  <a:srgbClr val="663300"/>
                </a:solidFill>
                <a:latin typeface="Monotype Corsiva"/>
              </a:rPr>
              <a:t>К.Сим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                    </a:t>
            </a: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«Ледовое побоищ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832360" cy="4464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33440" y="5159520"/>
            <a:ext cx="65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усские люди должны были платить дань татарскому хану, а князья получать от него ярлык (разрешение) на княж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2871720" cy="532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95640" y="260280"/>
            <a:ext cx="464364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Ледового побоища Александр Невский стремился уберечь русскую землю от нового нашествия монголо-татар. Князь неоднократно ездил на переговоры в Золотую Орду. В 1262 году ему удалось отговорить хана от набора на Руси войск для участия в войне на Кавказе. На обратном пути после этих переговоров князь скончался. В 1547 году церковь провозгласила его святым. Еще в 13 веке митрополит Кирилл составил «Житие Александра Нев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5661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. Н. Нестеров. «Святой благоверный князь Александр Невский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C:\Documents and Settings\Алексей.1MOJ\Рабочий стол\Рис5.jpg"/>
          <p:cNvPicPr/>
          <p:nvPr/>
        </p:nvPicPr>
        <p:blipFill>
          <a:blip r:embed="rId2"/>
          <a:stretch/>
        </p:blipFill>
        <p:spPr>
          <a:xfrm>
            <a:off x="1476360" y="2133720"/>
            <a:ext cx="6429240" cy="3857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6920" y="620640"/>
            <a:ext cx="7705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4e16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Arial"/>
              </a:rPr>
              <a:t>Именем Александра Невского названы улицы, переулки, площади. Ему посвящены православные храмы, он является небесным покровителем Петербур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6237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Arial"/>
              </a:rPr>
              <a:t>Свя́то-Тро́ицкая Алекса́ндро-Не́вская ла́в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4285800"/>
            <a:ext cx="235764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Arial"/>
              </a:rPr>
              <a:t>Часовня Александра Невского в Коломягах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C:\Documents and Settings\Алексей.1MOJ\Рабочий стол\Рис9.JPG"/>
          <p:cNvPicPr/>
          <p:nvPr/>
        </p:nvPicPr>
        <p:blipFill>
          <a:blip r:embed="rId2"/>
          <a:stretch/>
        </p:blipFill>
        <p:spPr>
          <a:xfrm>
            <a:off x="357120" y="500040"/>
            <a:ext cx="2381400" cy="35528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C:\Documents and Settings\Алексей.1MOJ\Рабочий стол\Рис10.JPG"/>
          <p:cNvPicPr/>
          <p:nvPr/>
        </p:nvPicPr>
        <p:blipFill>
          <a:blip r:embed="rId3"/>
          <a:stretch/>
        </p:blipFill>
        <p:spPr>
          <a:xfrm>
            <a:off x="3000240" y="1285920"/>
            <a:ext cx="3171960" cy="4228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5"/>
          <p:cNvSpPr/>
          <p:nvPr/>
        </p:nvSpPr>
        <p:spPr>
          <a:xfrm>
            <a:off x="2500200" y="342900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Calibri"/>
              </a:rPr>
              <a:t>Часовня Александра Невского (Барнау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6" descr="C:\Documents and Settings\Алексей.1MOJ\Рабочий стол\Рис11.jpg"/>
          <p:cNvPicPr/>
          <p:nvPr/>
        </p:nvPicPr>
        <p:blipFill>
          <a:blip r:embed="rId4"/>
          <a:stretch/>
        </p:blipFill>
        <p:spPr>
          <a:xfrm>
            <a:off x="6286680" y="500040"/>
            <a:ext cx="271440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5796000" y="3105000"/>
            <a:ext cx="26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1610"/>
                </a:solidFill>
                <a:latin typeface="Calibri"/>
              </a:rPr>
              <a:t>Собор во имя Александра Невского (Новосибирск</a:t>
            </a:r>
            <a:r>
              <a:rPr b="0" lang="en-US" sz="1800" spc="-1" strike="noStrike">
                <a:solidFill>
                  <a:srgbClr val="6633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C:\Documents and Settings\Алексей.1MOJ\Рабочий стол\Рис14.jpg"/>
          <p:cNvPicPr/>
          <p:nvPr/>
        </p:nvPicPr>
        <p:blipFill>
          <a:blip r:embed="rId2"/>
          <a:stretch/>
        </p:blipFill>
        <p:spPr>
          <a:xfrm>
            <a:off x="857160" y="1428840"/>
            <a:ext cx="371484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5000760" y="214200"/>
            <a:ext cx="3786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e1610"/>
                </a:solidFill>
                <a:latin typeface="Calibri"/>
              </a:rPr>
              <a:t>Частичка мощей святого благоверного князя Александра Невского находится в Храме Александра Невского в городе София, Болгария. Также часть мощей (мизинец) Александра Невского находится в Успенском соборе города Владими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e1610"/>
                </a:solidFill>
                <a:latin typeface="Calibri"/>
              </a:rPr>
              <a:t>Мощи были переданы указом Святейшего Патриарха Московского и всея Руси Алексия II в октябре 1998 года в в канун празднования 50-летия открытия подворья Болгарской Православной Церкви в Москв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C:\Documents and Settings\Алексей.1MOJ\Рабочий стол\Рис4.jpg"/>
          <p:cNvPicPr/>
          <p:nvPr/>
        </p:nvPicPr>
        <p:blipFill>
          <a:blip r:embed="rId2"/>
          <a:stretch/>
        </p:blipFill>
        <p:spPr>
          <a:xfrm>
            <a:off x="714240" y="785880"/>
            <a:ext cx="3286440" cy="2857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C:\Documents and Settings\Алексей.1MOJ\Рабочий стол\Рис16.jpg"/>
          <p:cNvPicPr/>
          <p:nvPr/>
        </p:nvPicPr>
        <p:blipFill>
          <a:blip r:embed="rId3"/>
          <a:stretch/>
        </p:blipFill>
        <p:spPr>
          <a:xfrm>
            <a:off x="5357880" y="1285920"/>
            <a:ext cx="2543040" cy="48387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5"/>
          <p:cNvSpPr/>
          <p:nvPr/>
        </p:nvSpPr>
        <p:spPr>
          <a:xfrm>
            <a:off x="4286160" y="2852640"/>
            <a:ext cx="4532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Calibri"/>
              </a:rPr>
              <a:t>Памятник в Санкт-Петербурге (Усть-Ижора</a:t>
            </a:r>
            <a:r>
              <a:rPr b="0" lang="ru-RU" sz="1800" spc="-1" strike="noStrike">
                <a:solidFill>
                  <a:srgbClr val="4e161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285840" y="2967120"/>
            <a:ext cx="414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1610"/>
                </a:solidFill>
                <a:latin typeface="Calibri"/>
              </a:rPr>
              <a:t>Памятник Александру Невскому в Санкт-Петербурге на площади Александра Невского перед Александро-Невской лав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70160" y="4500360"/>
            <a:ext cx="37782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3300"/>
                </a:solidFill>
                <a:latin typeface="Monotype Corsiva"/>
                <a:ea typeface="Estrangelo Edessa"/>
              </a:rPr>
              <a:t>ОРДЕН БЫЛ УЧРЕЖДЁН УКАЗОМ ПРЕЗИДИУМА ВЕРХОВНОГО СОВЕТА СССР ОТ 29 ИЮЛЯ 1942, ОДНОВРЕМЕННО С ОРДЕНАМИ СУВОРОВА И КУТУЗОВА, ДЛЯ НАГРАЖДЕНИЯ КОМАНДНОГО СОСТАВА КРАСНОЙ АРМИИ ЗА ВЫДАЮЩИЕСЯ ЗАСЛУГИ В ОРГАНИЗАЦИИ И РУКОВОДСТВЕ БОЕВЫМИ ОПЕРАЦИЯМИ И ЗА ДОСТИГНУТЫЕ В РЕЗУЛЬТАТЕ ЭТИХ ОПЕРАЦИЙ УСПЕХИ В БОЯХ ЗА РОДИНУ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-316080"/>
            <a:ext cx="8280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Орден Святого Александра Невского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                      Орден Александра Нев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Содержимое 3" descr="AlexNevskyOrder.gif"/>
          <p:cNvPicPr/>
          <p:nvPr/>
        </p:nvPicPr>
        <p:blipFill>
          <a:blip r:embed="rId2"/>
          <a:stretch/>
        </p:blipFill>
        <p:spPr>
          <a:xfrm>
            <a:off x="4938840" y="476280"/>
            <a:ext cx="3809880" cy="40194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"/>
          <p:cNvPicPr/>
          <p:nvPr/>
        </p:nvPicPr>
        <p:blipFill>
          <a:blip r:embed="rId3"/>
          <a:stretch/>
        </p:blipFill>
        <p:spPr>
          <a:xfrm>
            <a:off x="684360" y="2643120"/>
            <a:ext cx="2857320" cy="3929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360360" y="692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Monotype Corsiva"/>
              </a:rPr>
              <a:t>Орден Святого Александра Невского — государственная награда Российской империи с 1725 до 1917 года. Учреждён Екатериной I и стал третьим российским орденом после ордена Св. Андрея Первозванного и женского ордена Св. Великомученицы Екатер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Вертикальный свиток 3"/>
          <p:cNvSpPr/>
          <p:nvPr/>
        </p:nvSpPr>
        <p:spPr>
          <a:xfrm>
            <a:off x="1619280" y="144360"/>
            <a:ext cx="5904000" cy="6524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3eeee"/>
              </a:gs>
              <a:gs pos="100000">
                <a:srgbClr val="d9caca"/>
              </a:gs>
            </a:gsLst>
            <a:lin ang="5400000"/>
          </a:gradFill>
          <a:ln w="11520">
            <a:solidFill>
              <a:srgbClr val="855d5d"/>
            </a:solidFill>
            <a:miter/>
          </a:ln>
          <a:effectLst>
            <a:outerShdw dist="24840" dir="5400000" blurRad="0" rotWithShape="0">
              <a:srgbClr val="512d2d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3640" y="803160"/>
            <a:ext cx="4753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1610"/>
                </a:solidFill>
                <a:latin typeface="Monotype Corsiva"/>
              </a:rPr>
              <a:t>Память об Александре Невском живет в наших сердцах. Древняя легенда гласит, что пока наши сердца обращены к Святому, наши города будут процветать, а враг не посмеет перейти рубежи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C:\Documents and Settings\Алексей.1MOJ\Рабочий стол\Рис3.jpg"/>
          <p:cNvPicPr/>
          <p:nvPr/>
        </p:nvPicPr>
        <p:blipFill>
          <a:blip r:embed="rId2"/>
          <a:stretch/>
        </p:blipFill>
        <p:spPr>
          <a:xfrm>
            <a:off x="179280" y="260280"/>
            <a:ext cx="207180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Алексей.1MOJ\Рабочий стол\ib30.jpg"/>
          <p:cNvPicPr/>
          <p:nvPr/>
        </p:nvPicPr>
        <p:blipFill>
          <a:blip r:embed="rId3"/>
          <a:stretch/>
        </p:blipFill>
        <p:spPr>
          <a:xfrm>
            <a:off x="6804000" y="2565360"/>
            <a:ext cx="214308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52)"/>
                                      </p:to>
                                    </p:set>
                                    <p:set>
                                      <p:cBhvr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52)"/>
                                      </p:to>
                                    </p:set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6_5"/>
          <p:cNvPicPr/>
          <p:nvPr/>
        </p:nvPicPr>
        <p:blipFill>
          <a:blip r:embed="rId2"/>
          <a:stretch/>
        </p:blipFill>
        <p:spPr>
          <a:xfrm>
            <a:off x="1071720" y="571680"/>
            <a:ext cx="2857320" cy="576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42920" y="11491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ЛЕКСАНДР - по-гречески означает защитник людей. Этим красивым, мужественным именем назвал своего второго сына новгородский князь Ярослав Всеволод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570200" cy="6381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80000" y="765000"/>
            <a:ext cx="309564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ЕКСАНДР родился в 1219 году в Переяславле (по другим сведениям, в 1220 году в Новгороде) незадолго до страшного бедствия - нашествия монголо-татар на Русь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 с трёх лет Александра отлучили от матери, княгини Феодосии, и отдали на воспитание княжеским воинам. Малыша посадили на коня и дали в руки оруж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929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1341360"/>
            <a:ext cx="4032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с1228года юный Александр начал княжить в Новгороде со своим старшим братом Федором под присмотром боя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 1236году Александр княжил в Новгороде уже самостоя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292720" cy="264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651640" y="260280"/>
            <a:ext cx="3276360" cy="259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835280" y="3068640"/>
            <a:ext cx="48956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77120" cy="4741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530064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240 году Новгороду объявили войну шведы. Их войско возглавил Биргер. Он написал князю Александру послание с такими словами: “Если можешь, сопротивляйся, знай, что я уже здесь и пленю землю твою”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3881520" cy="496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5373720"/>
            <a:ext cx="813564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этой картине изображен ключевой эпизод Ледового побоища. Дружина Александра Невского неожиданно ударила в тыл клина немецких рыцарей, тем самым решив исход сражения в пользу рус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426960"/>
            <a:ext cx="8821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3334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5600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05080" y="587700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М.Назарук «Ледовое побоище»1982г. На картине изображены немецкие рыцари, провалившиеся под лёд Чудского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04:36:59Z</dcterms:created>
  <dc:creator>Учитель</dc:creator>
  <dc:description/>
  <dc:language>en-US</dc:language>
  <cp:lastModifiedBy>Учитель</cp:lastModifiedBy>
  <dcterms:modified xsi:type="dcterms:W3CDTF">2009-08-31T05:58:04Z</dcterms:modified>
  <cp:revision>11</cp:revision>
  <dc:subject/>
  <dc:title>Слайд 1</dc:title>
</cp:coreProperties>
</file>