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90E-3017-4D06-B545-638EA12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DE0-0EBA-4749-8029-0C1585F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F04-7B50-44B4-B368-759A6DE7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F00-BC77-4750-BD0D-6874814E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328-A409-4A3B-BE87-7B499F88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BC5-9CB7-4EE6-B4D2-64BD9AED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F97-F0F7-4E02-83B8-6410E65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5A6-6F38-4DE8-AD36-E894344F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D52-7C2F-480A-94FA-5222B045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299-442B-4B2D-8BA9-E78E58A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C70-44B3-46F1-B70B-27841D50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A2A-BAAA-4F2A-8DE7-B6565C2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E2E6-5988-42C4-803B-FC5B7EAC1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ДИНАМ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214200" y="642960"/>
            <a:ext cx="8715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иды взаимодейств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лектромагнит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ядер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лабые (</a:t>
            </a:r>
            <a:r>
              <a:rPr b="0" i="1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распад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механике рассматриваются силы, имеющие гравитационную и электромагнитн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14200" y="1000080"/>
            <a:ext cx="87156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кон всемирного тяготения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взаимного притяжения двух тел пропорциональна произведению их масс и обратно пропорциональна квадрату расстояния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357200" y="405756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4508640" y="3987720"/>
                <a:ext cx="36417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214200" y="35712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ая постоянн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128680" y="1143000"/>
                <a:ext cx="48722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f>
                      <m:num>
                        <m:r>
                          <m:t xml:space="preserve">Н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Заголовок 1"/>
          <p:cNvSpPr/>
          <p:nvPr/>
        </p:nvSpPr>
        <p:spPr>
          <a:xfrm>
            <a:off x="285840" y="2143080"/>
            <a:ext cx="87152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ля взаимодействия тела с Землей вблизи земной поверхност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тяже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812880" y="3843360"/>
                <a:ext cx="756900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285840" y="285840"/>
            <a:ext cx="43574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тела – сила, с которой тело давит на опору. Вес тела не всегда равен силе тяж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веса зависит от ускорения, с которым движется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вес.PNG"/>
          <p:cNvPicPr/>
          <p:nvPr/>
        </p:nvPicPr>
        <p:blipFill>
          <a:blip r:embed="rId1"/>
          <a:stretch/>
        </p:blipFill>
        <p:spPr>
          <a:xfrm>
            <a:off x="4830840" y="1327320"/>
            <a:ext cx="40273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214200" y="714240"/>
            <a:ext cx="87156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 возникают при деформации тел. Величина сил упругости при незначительных деформациях пропорциональна величине деформации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кон Гу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879480" y="3714840"/>
                <a:ext cx="3049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Рисунок 5" descr="закон_гука.PNG"/>
          <p:cNvPicPr/>
          <p:nvPr/>
        </p:nvPicPr>
        <p:blipFill>
          <a:blip r:embed="rId1"/>
          <a:stretch/>
        </p:blipFill>
        <p:spPr>
          <a:xfrm>
            <a:off x="5072040" y="3286080"/>
            <a:ext cx="396576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571760" y="5143680"/>
            <a:ext cx="45003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жест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42920" y="5184720"/>
                <a:ext cx="20415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4200" y="1000080"/>
            <a:ext cx="8715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действующие вдоль поверхности соприкасающихся тел и препятствующие их относительному движению, называются силами т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ние покоя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ксимальное значение модуля силы трения покоя пропорционально модулю силы нормальной реакции 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1214280" y="5286240"/>
                <a:ext cx="2683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786200" y="538956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Заголовок 1"/>
          <p:cNvSpPr/>
          <p:nvPr/>
        </p:nvSpPr>
        <p:spPr>
          <a:xfrm>
            <a:off x="4714920" y="5214960"/>
            <a:ext cx="450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928800"/>
            <a:ext cx="8715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инам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раздел механики, рассматривающий причины изменения движения тел. Причиной изменения движения тел (ускорения) является их взаимо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лассическая динамика основана на законах Ньют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1071720"/>
            <a:ext cx="8715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уществуют системы отсчета, называемые инерциальными, относительно которых тело движется равномерно и прямолинейно, если на него не действуют другие тела (либо действие этих тел скомпенсирова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о всех инерциальных системах отсчета все механические процессы протекают одинаково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 относи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вы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я тел определяются их действием друг на друга. Мерой взаимодействия тел является физическая величина, называема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Сила – величина векто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рение сил основано на их сравнении. Две силы считаются равными и противоположно направленными, если их суммарное действие на тело не меняет его уск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214200" y="35712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ловное обозначение силы и единица измерения (в С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1785960" y="1571760"/>
                <a:ext cx="5541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Н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" name="Рисунок 3" descr="force_measure.PNG"/>
          <p:cNvPicPr/>
          <p:nvPr/>
        </p:nvPicPr>
        <p:blipFill>
          <a:blip r:embed="rId1"/>
          <a:stretch/>
        </p:blipFill>
        <p:spPr>
          <a:xfrm>
            <a:off x="1928880" y="3000240"/>
            <a:ext cx="5214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14200" y="128592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на тело действуют несколько сил, то ускорение тела будет пропорционально их геометрической сум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1714680" y="3230640"/>
                <a:ext cx="5572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 суперпозиции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3649680" y="4344840"/>
                <a:ext cx="17002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214200" y="114300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 тела прямо пропорционально силе, действующей на тело,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торо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652920" y="3009960"/>
                <a:ext cx="1633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Заголовок 1"/>
          <p:cNvSpPr/>
          <p:nvPr/>
        </p:nvSpPr>
        <p:spPr>
          <a:xfrm>
            <a:off x="214200" y="457200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случае действия на тело нескольких сил под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нимается их равнодейств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214200" y="357120"/>
            <a:ext cx="87156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является мерой инертности – способности тела сопротивляться изменению своего состояния под воздействием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 является аддитивной велич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1571760" y="3540240"/>
                <a:ext cx="60004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Заголовок 1"/>
          <p:cNvSpPr/>
          <p:nvPr/>
        </p:nvSpPr>
        <p:spPr>
          <a:xfrm>
            <a:off x="331920" y="526248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бозначение и единица измерения (в С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6332400" y="5334120"/>
                <a:ext cx="1668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1"/>
          <p:cNvSpPr/>
          <p:nvPr/>
        </p:nvSpPr>
        <p:spPr>
          <a:xfrm>
            <a:off x="214200" y="11430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с которыми тела действуют друг на друга, равны по модулям и направлены вдоль одной прямой в противоположны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ти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00040" y="4071960"/>
                <a:ext cx="2676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7" name="Рисунок 6" descr="третий_закон.PNG"/>
          <p:cNvPicPr/>
          <p:nvPr/>
        </p:nvPicPr>
        <p:blipFill>
          <a:blip r:embed="rId1"/>
          <a:stretch/>
        </p:blipFill>
        <p:spPr>
          <a:xfrm>
            <a:off x="3714840" y="3643200"/>
            <a:ext cx="5295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9:01Z</dcterms:modified>
  <cp:revision>121</cp:revision>
  <dc:subject/>
  <dc:title>ЭЛЕКТРОДИНАМИКА</dc:title>
</cp:coreProperties>
</file>