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E07-AFAA-4AE3-A927-D58155BE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86E6-A944-4229-B416-B8182ACE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3C4A-6474-449F-B221-B168A48E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6933-0FC2-47E0-AEB3-AB5E66BE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E173-E534-40DA-ACD0-33F89FD2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310-A085-46E6-8973-E410DDBA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9909-FE84-46FD-BC91-A23E2F04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BED2-D9D2-4412-875D-43829A90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F8B8-C1FA-41DA-A1D9-5CC5E08D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A9BD-E018-45B8-93D6-1675A8C6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362-0ACE-41AA-BABB-CDC9B299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1CD-697B-44AA-9156-E2521106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F6B5-E8B5-4763-A2BC-25F08D1453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15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  <a:ea typeface="Tahoma"/>
              </a:rPr>
              <a:t>ДИНАМИ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357120" y="0"/>
            <a:ext cx="84297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Пб ГБПОУ «Фельдшерский колледж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5929200" y="4857840"/>
            <a:ext cx="2857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еподава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Лобанов Б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2357280" y="6000840"/>
            <a:ext cx="4572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20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Заголовок 1"/>
          <p:cNvSpPr/>
          <p:nvPr/>
        </p:nvSpPr>
        <p:spPr>
          <a:xfrm>
            <a:off x="214200" y="642960"/>
            <a:ext cx="87156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иды взаимодейств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Гравитацион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Электромагнит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ьные (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ядерны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лабые (</a:t>
            </a:r>
            <a:r>
              <a:rPr b="0" i="1" lang="el-GR" sz="3200" spc="-1" strike="noStrike">
                <a:solidFill>
                  <a:srgbClr val="000000"/>
                </a:solidFill>
                <a:latin typeface="Tahoma"/>
                <a:ea typeface="Tahoma"/>
              </a:rPr>
              <a:t>β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-распадны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 механике рассматриваются силы, имеющие гравитационную и электромагнитную прир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Заголовок 1"/>
          <p:cNvSpPr/>
          <p:nvPr/>
        </p:nvSpPr>
        <p:spPr>
          <a:xfrm>
            <a:off x="214200" y="214200"/>
            <a:ext cx="8715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Гравитационны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214200" y="1000080"/>
            <a:ext cx="87156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Закон всемирного тяготения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а взаимного притяжения двух тел пропорциональна произведению их масс и обратно пропорциональна квадрату расстояния между н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2"/>
              <p:cNvSpPr txBox="1"/>
              <p:nvPr/>
            </p:nvSpPr>
            <p:spPr>
              <a:xfrm>
                <a:off x="1357200" y="4057560"/>
                <a:ext cx="2743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4508640" y="3987720"/>
                <a:ext cx="364176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G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Заголовок 1"/>
          <p:cNvSpPr/>
          <p:nvPr/>
        </p:nvSpPr>
        <p:spPr>
          <a:xfrm>
            <a:off x="214200" y="357120"/>
            <a:ext cx="871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гравитационная постоянна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"/>
              <p:cNvSpPr txBox="1"/>
              <p:nvPr/>
            </p:nvSpPr>
            <p:spPr>
              <a:xfrm>
                <a:off x="2128680" y="1143000"/>
                <a:ext cx="4872240" cy="15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 </m:t>
                    </m:r>
                    <m:f>
                      <m:num>
                        <m:r>
                          <m:t xml:space="preserve">Н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Заголовок 1"/>
          <p:cNvSpPr/>
          <p:nvPr/>
        </p:nvSpPr>
        <p:spPr>
          <a:xfrm>
            <a:off x="285840" y="2143080"/>
            <a:ext cx="87152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Для взаимодействия тела с Землей вблизи земной поверхности –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а тяже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812880" y="3843360"/>
                <a:ext cx="7569000" cy="15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Земли</m:t>
                            </m:r>
                          </m:sub>
                        </m:sSub>
                        <m:r>
                          <m:t xml:space="preserve">m</m:t>
                        </m:r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Земли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Земли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Земли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Заголовок 1"/>
          <p:cNvSpPr/>
          <p:nvPr/>
        </p:nvSpPr>
        <p:spPr>
          <a:xfrm>
            <a:off x="285840" y="285840"/>
            <a:ext cx="435744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ес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тела – сила, с которой тело давит на опору. Вес тела не всегда равен силе тяж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Значение веса зависит от ускорения, с которым движется оп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6" descr="вес.PNG"/>
          <p:cNvPicPr/>
          <p:nvPr/>
        </p:nvPicPr>
        <p:blipFill>
          <a:blip r:embed="rId1"/>
          <a:stretch/>
        </p:blipFill>
        <p:spPr>
          <a:xfrm>
            <a:off x="4830840" y="1327320"/>
            <a:ext cx="4027320" cy="46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1"/>
          <p:cNvSpPr/>
          <p:nvPr/>
        </p:nvSpPr>
        <p:spPr>
          <a:xfrm>
            <a:off x="214200" y="214200"/>
            <a:ext cx="8715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ы упруг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Заголовок 1"/>
          <p:cNvSpPr/>
          <p:nvPr/>
        </p:nvSpPr>
        <p:spPr>
          <a:xfrm>
            <a:off x="214200" y="714240"/>
            <a:ext cx="871560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ы упругости возникают при деформации тел. Величина сил упругости при незначительных деформациях пропорциональна величине деформации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закон Гу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2"/>
              <p:cNvSpPr txBox="1"/>
              <p:nvPr/>
            </p:nvSpPr>
            <p:spPr>
              <a:xfrm>
                <a:off x="879480" y="3714840"/>
                <a:ext cx="304956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Δ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82" name="Рисунок 5" descr="закон_гука.PNG"/>
          <p:cNvPicPr/>
          <p:nvPr/>
        </p:nvPicPr>
        <p:blipFill>
          <a:blip r:embed="rId1"/>
          <a:stretch/>
        </p:blipFill>
        <p:spPr>
          <a:xfrm>
            <a:off x="5072040" y="3286080"/>
            <a:ext cx="3965760" cy="32148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1571760" y="5143680"/>
            <a:ext cx="45003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коэффициен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жест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142920" y="5184720"/>
                <a:ext cx="20415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Н</m:t>
                            </m:r>
                          </m:num>
                          <m:den>
                            <m:r>
                              <m:t xml:space="preserve">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Заголовок 1"/>
          <p:cNvSpPr/>
          <p:nvPr/>
        </p:nvSpPr>
        <p:spPr>
          <a:xfrm>
            <a:off x="214200" y="214200"/>
            <a:ext cx="8715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ы т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214200" y="1000080"/>
            <a:ext cx="871560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ы, действующие вдоль поверхности соприкасающихся тел и препятствующие их относительному движению, называются силами т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рение покоя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аксимальное значение модуля силы трения покоя пропорционально модулю силы нормальной реакции оп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2"/>
              <p:cNvSpPr txBox="1"/>
              <p:nvPr/>
            </p:nvSpPr>
            <p:spPr>
              <a:xfrm>
                <a:off x="1214280" y="5286240"/>
                <a:ext cx="26830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3"/>
              <p:cNvSpPr txBox="1"/>
              <p:nvPr/>
            </p:nvSpPr>
            <p:spPr>
              <a:xfrm>
                <a:off x="4786200" y="5389560"/>
                <a:ext cx="571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Заголовок 1"/>
          <p:cNvSpPr/>
          <p:nvPr/>
        </p:nvSpPr>
        <p:spPr>
          <a:xfrm>
            <a:off x="4714920" y="5214960"/>
            <a:ext cx="4500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коэффициен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1"/>
          <p:cNvSpPr/>
          <p:nvPr/>
        </p:nvSpPr>
        <p:spPr>
          <a:xfrm>
            <a:off x="357120" y="71280"/>
            <a:ext cx="84297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Дома (!)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: заполнить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динамика_табл.PNG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214200" y="928800"/>
            <a:ext cx="8715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Динами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– раздел механики, рассматривающий причины изменения движения тел. Причиной изменения движения тел (ускорения) является их взаимодейств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Классическая динамика основана на законах Ньют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Заголовок 1"/>
          <p:cNvSpPr/>
          <p:nvPr/>
        </p:nvSpPr>
        <p:spPr>
          <a:xfrm>
            <a:off x="214200" y="1071720"/>
            <a:ext cx="8715600" cy="55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уществуют системы отсчета, называемые инерциальными, относительно которых тело движется равномерно и прямолинейно, если на него не действуют другие тела (либо действие этих тел скомпенсирован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о всех инерциальных системах отсчета все механические процессы протекают одинаково (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инцип относи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214200" y="0"/>
            <a:ext cx="871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ервый закон Ньюто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214200" y="357120"/>
            <a:ext cx="8715600" cy="61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скорения тел определяются их действием друг на друга. Мерой взаимодействия тел является физическая величина, называема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о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. Сила – величина вектор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змерение сил основано на их сравнении. Две силы считаются равными и противоположно направленными, если их суммарное действие на тело не меняет его уско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Заголовок 1"/>
          <p:cNvSpPr/>
          <p:nvPr/>
        </p:nvSpPr>
        <p:spPr>
          <a:xfrm>
            <a:off x="214200" y="357120"/>
            <a:ext cx="8715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словное обозначение силы и единица измерения (в СИ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2"/>
              <p:cNvSpPr txBox="1"/>
              <p:nvPr/>
            </p:nvSpPr>
            <p:spPr>
              <a:xfrm>
                <a:off x="1785960" y="1571760"/>
                <a:ext cx="554184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Н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1" name="Рисунок 3" descr="force_measure.PNG"/>
          <p:cNvPicPr/>
          <p:nvPr/>
        </p:nvPicPr>
        <p:blipFill>
          <a:blip r:embed="rId1"/>
          <a:stretch/>
        </p:blipFill>
        <p:spPr>
          <a:xfrm>
            <a:off x="1928880" y="3000240"/>
            <a:ext cx="521496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Заголовок 1"/>
          <p:cNvSpPr/>
          <p:nvPr/>
        </p:nvSpPr>
        <p:spPr>
          <a:xfrm>
            <a:off x="214200" y="1285920"/>
            <a:ext cx="87156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Если на тело действуют несколько сил, то ускорение тела будет пропорционально их геометрической сум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2"/>
              <p:cNvSpPr txBox="1"/>
              <p:nvPr/>
            </p:nvSpPr>
            <p:spPr>
              <a:xfrm>
                <a:off x="1714680" y="3230640"/>
                <a:ext cx="557208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" name="Заголовок 1"/>
          <p:cNvSpPr/>
          <p:nvPr/>
        </p:nvSpPr>
        <p:spPr>
          <a:xfrm>
            <a:off x="214200" y="0"/>
            <a:ext cx="871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инцип суперпозиции с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3649680" y="4344840"/>
                <a:ext cx="170028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Заголовок 1"/>
          <p:cNvSpPr/>
          <p:nvPr/>
        </p:nvSpPr>
        <p:spPr>
          <a:xfrm>
            <a:off x="214200" y="1143000"/>
            <a:ext cx="87156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скорение тела прямо пропорционально силе, действующей на тело, и обратно пропорционально его ма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214200" y="0"/>
            <a:ext cx="871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торой закон Ньюто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3652920" y="3009960"/>
                <a:ext cx="163332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Заголовок 1"/>
          <p:cNvSpPr/>
          <p:nvPr/>
        </p:nvSpPr>
        <p:spPr>
          <a:xfrm>
            <a:off x="214200" y="4572000"/>
            <a:ext cx="87156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 случае действия на тело нескольких сил под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F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онимается их равнодействующ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Заголовок 1"/>
          <p:cNvSpPr/>
          <p:nvPr/>
        </p:nvSpPr>
        <p:spPr>
          <a:xfrm>
            <a:off x="214200" y="357120"/>
            <a:ext cx="871560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асс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является мерой инертности – способности тела сопротивляться изменению своего состояния под воздействием си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асса является аддитивной величин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1571760" y="3540240"/>
                <a:ext cx="600048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" name="Заголовок 1"/>
          <p:cNvSpPr/>
          <p:nvPr/>
        </p:nvSpPr>
        <p:spPr>
          <a:xfrm>
            <a:off x="331920" y="5262480"/>
            <a:ext cx="5715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Обозначение и единица измерения (в СИ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3"/>
              <p:cNvSpPr txBox="1"/>
              <p:nvPr/>
            </p:nvSpPr>
            <p:spPr>
              <a:xfrm>
                <a:off x="6332400" y="5334120"/>
                <a:ext cx="1668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Заголовок 1"/>
          <p:cNvSpPr/>
          <p:nvPr/>
        </p:nvSpPr>
        <p:spPr>
          <a:xfrm>
            <a:off x="214200" y="1143000"/>
            <a:ext cx="8715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ы, с которыми тела действуют друг на друга, равны по модулям и направлены вдоль одной прямой в противоположные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214200" y="0"/>
            <a:ext cx="871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ретий закон Ньюто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500040" y="4071960"/>
                <a:ext cx="26766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7" name="Рисунок 6" descr="третий_закон.PNG"/>
          <p:cNvPicPr/>
          <p:nvPr/>
        </p:nvPicPr>
        <p:blipFill>
          <a:blip r:embed="rId1"/>
          <a:stretch/>
        </p:blipFill>
        <p:spPr>
          <a:xfrm>
            <a:off x="3714840" y="3643200"/>
            <a:ext cx="52959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13T19:15:02Z</dcterms:created>
  <dc:creator>Boris</dc:creator>
  <dc:description/>
  <dc:language>en-US</dc:language>
  <cp:lastModifiedBy>Boris</cp:lastModifiedBy>
  <dcterms:modified xsi:type="dcterms:W3CDTF">2020-10-29T17:09:01Z</dcterms:modified>
  <cp:revision>121</cp:revision>
  <dc:subject/>
  <dc:title>ЭЛЕКТРОДИНАМИКА</dc:title>
</cp:coreProperties>
</file>