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8DF-94C6-49BC-A4FD-B87A8DC2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1CB-2BE0-4DCB-ACD6-19AC461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804-EE46-4C2F-AD0F-C673F43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EC4-AEE6-4EB9-858F-B4FDB8B4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A4E-91D4-442A-84FC-402A95A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086-8A4A-45EB-971C-88068F20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F43-FD4E-467C-9262-CD897AC9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66B-A800-4356-B811-A0E05A3B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5E6-7DEF-4C37-AD31-D60B57B0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EFE-D91C-45AD-96C8-5CD4127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B15-30A7-4B0B-BD1D-CFBC590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B1E-3BE9-4484-9335-ECD3BCF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0115-03E4-40C5-A04B-C8E69EAA1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ИДЕАЛЬНЫЙ Г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428760"/>
            <a:ext cx="871560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деальный газ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– физическая модель газа, в которой пренебрегают взаимодействием между его част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модели идеального газа его частицы рассматриваются как невзаимодействующие материальные точки, движущиеся по законам меха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4200" y="28584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авление газа на стенки сосуда обусловлено ударами о них движущихся частиц г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авление газа связано с движением частиц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сновным уравнением МК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mkt1.PNG"/>
          <p:cNvPicPr/>
          <p:nvPr/>
        </p:nvPicPr>
        <p:blipFill>
          <a:blip r:embed="rId1"/>
          <a:stretch/>
        </p:blipFill>
        <p:spPr>
          <a:xfrm>
            <a:off x="1211400" y="3429000"/>
            <a:ext cx="678960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mkt2.PNG"/>
          <p:cNvPicPr/>
          <p:nvPr/>
        </p:nvPicPr>
        <p:blipFill>
          <a:blip r:embed="rId2"/>
          <a:stretch/>
        </p:blipFill>
        <p:spPr>
          <a:xfrm>
            <a:off x="797040" y="5000760"/>
            <a:ext cx="7489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214200" y="285840"/>
            <a:ext cx="8715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ерой средней кинетической энергии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емператур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mkt1.PNG"/>
          <p:cNvPicPr/>
          <p:nvPr/>
        </p:nvPicPr>
        <p:blipFill>
          <a:blip r:embed="rId1"/>
          <a:stretch/>
        </p:blipFill>
        <p:spPr>
          <a:xfrm>
            <a:off x="3067200" y="1738440"/>
            <a:ext cx="2933640" cy="161424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214200" y="3311640"/>
            <a:ext cx="87156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 учетом этого основное уравнение МКТ может быть также записано в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mkt1.PNG"/>
          <p:cNvPicPr/>
          <p:nvPr/>
        </p:nvPicPr>
        <p:blipFill>
          <a:blip r:embed="rId2"/>
          <a:stretch/>
        </p:blipFill>
        <p:spPr>
          <a:xfrm>
            <a:off x="2857680" y="4811760"/>
            <a:ext cx="32749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214200" y="14292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эффициент пропорциональности, связывающий температуру и энергию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стоянной Больцма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mkt1.PNG"/>
          <p:cNvPicPr/>
          <p:nvPr/>
        </p:nvPicPr>
        <p:blipFill>
          <a:blip r:embed="rId1"/>
          <a:stretch/>
        </p:blipFill>
        <p:spPr>
          <a:xfrm>
            <a:off x="2071800" y="2174760"/>
            <a:ext cx="5159160" cy="9684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4200" y="328608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ая термодинамическая температур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T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ряется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ельвин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Температура по абсолютной шкале и шкале Цельсия связаны линей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mkt1.PNG"/>
          <p:cNvPicPr/>
          <p:nvPr/>
        </p:nvPicPr>
        <p:blipFill>
          <a:blip r:embed="rId2"/>
          <a:stretch/>
        </p:blipFill>
        <p:spPr>
          <a:xfrm>
            <a:off x="1627200" y="5500800"/>
            <a:ext cx="59450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214200" y="142920"/>
            <a:ext cx="8715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кроскопические параметры идеального газа (давление, объем, температура) связан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равнением состояния идеального газа (уравнением Менделеева-Клапейрона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mkt1.PNG"/>
          <p:cNvPicPr/>
          <p:nvPr/>
        </p:nvPicPr>
        <p:blipFill>
          <a:blip r:embed="rId1"/>
          <a:stretch/>
        </p:blipFill>
        <p:spPr>
          <a:xfrm>
            <a:off x="2712960" y="3083040"/>
            <a:ext cx="3645000" cy="156024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142920" y="4429080"/>
            <a:ext cx="3786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другой форме (для двух состояний газ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mkt1.PNG"/>
          <p:cNvPicPr/>
          <p:nvPr/>
        </p:nvPicPr>
        <p:blipFill>
          <a:blip r:embed="rId2"/>
          <a:stretch/>
        </p:blipFill>
        <p:spPr>
          <a:xfrm>
            <a:off x="4071960" y="5046840"/>
            <a:ext cx="50086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214200" y="142920"/>
            <a:ext cx="8715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оцессы, протекающие при неизменном значении одного из макроскопических параметров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опроцессами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14200" y="1928880"/>
            <a:ext cx="8715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отермическ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 = cons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Для газа данной массы при постоянной температуре произведение давления и объема постоянно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акон Бойля-Мариот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охорны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 = cons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 Для данной массы газа при постоянном объеме отношение давления к температуре постоянно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акон Шар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обар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 = cons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 Для данной массы газа при постоянном давлении отношение объема к температуре постоянно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акон Гей-Люсса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214200" y="142920"/>
            <a:ext cx="87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ое представление изопроце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kT6.PNG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665280" y="857160"/>
            <a:ext cx="77436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10:42Z</dcterms:modified>
  <cp:revision>173</cp:revision>
  <dc:subject/>
  <dc:title>ЭЛЕКТРОДИНАМИКА</dc:title>
</cp:coreProperties>
</file>