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B26-41E8-4F83-9873-8A2317FD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5FB-5771-4CD7-8283-37941D1F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88F-A320-411A-903F-2289F75F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78A-99EB-489C-B630-C5C10747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3F4-6C81-407C-BCCC-579BB80F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24A-D423-48BD-82FA-A7B4CD99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89A-C3EC-4CCC-83C9-79A842C8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DB8-9EC1-4C14-A6F6-8A853675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3E3-123A-40E7-8F81-BCEAFBB8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A06-6348-4967-BC88-40F5E73B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6B6-2028-4216-AD0B-390B9592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192-403D-4B77-A665-B7F24CCA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938A-7B72-4978-A533-C800575DF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ahoma"/>
                <a:ea typeface="Tahoma"/>
              </a:rPr>
              <a:t>ИДЕАЛЬНЫЙ ГА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7120" y="0"/>
            <a:ext cx="8429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Пб ГБПОУ «Фельдшер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5929200" y="4857840"/>
            <a:ext cx="2857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реподава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Лобанов Б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2357280" y="6000840"/>
            <a:ext cx="4572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214200" y="428760"/>
            <a:ext cx="871560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деальный газ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– физическая модель газа, в которой пренебрегают взаимодействием между его части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В модели идеального газа его частицы рассматриваются как невзаимодействующие материальные точки, движущиеся по законам меха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214200" y="285840"/>
            <a:ext cx="8715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авление газа на стенки сосуда обусловлено ударами о них движущихся частиц г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Давление газа связано с движением частиц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основным уравнением МКТ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mkt1.PNG"/>
          <p:cNvPicPr/>
          <p:nvPr/>
        </p:nvPicPr>
        <p:blipFill>
          <a:blip r:embed="rId1"/>
          <a:stretch/>
        </p:blipFill>
        <p:spPr>
          <a:xfrm>
            <a:off x="1211400" y="3429000"/>
            <a:ext cx="678960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mkt2.PNG"/>
          <p:cNvPicPr/>
          <p:nvPr/>
        </p:nvPicPr>
        <p:blipFill>
          <a:blip r:embed="rId2"/>
          <a:stretch/>
        </p:blipFill>
        <p:spPr>
          <a:xfrm>
            <a:off x="797040" y="5000760"/>
            <a:ext cx="74898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Заголовок 1"/>
          <p:cNvSpPr/>
          <p:nvPr/>
        </p:nvSpPr>
        <p:spPr>
          <a:xfrm>
            <a:off x="214200" y="285840"/>
            <a:ext cx="87156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ерой средней кинетической энергии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температур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mkt1.PNG"/>
          <p:cNvPicPr/>
          <p:nvPr/>
        </p:nvPicPr>
        <p:blipFill>
          <a:blip r:embed="rId1"/>
          <a:stretch/>
        </p:blipFill>
        <p:spPr>
          <a:xfrm>
            <a:off x="3067200" y="1738440"/>
            <a:ext cx="2933640" cy="161424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214200" y="3311640"/>
            <a:ext cx="871560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 учетом этого основное уравнение МКТ может быть также записано в ви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mkt1.PNG"/>
          <p:cNvPicPr/>
          <p:nvPr/>
        </p:nvPicPr>
        <p:blipFill>
          <a:blip r:embed="rId2"/>
          <a:stretch/>
        </p:blipFill>
        <p:spPr>
          <a:xfrm>
            <a:off x="2857680" y="4811760"/>
            <a:ext cx="327492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1"/>
          <p:cNvSpPr/>
          <p:nvPr/>
        </p:nvSpPr>
        <p:spPr>
          <a:xfrm>
            <a:off x="214200" y="142920"/>
            <a:ext cx="8715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оэффициент пропорциональности, связывающий температуру и энергию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остоянной Больцман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mkt1.PNG"/>
          <p:cNvPicPr/>
          <p:nvPr/>
        </p:nvPicPr>
        <p:blipFill>
          <a:blip r:embed="rId1"/>
          <a:stretch/>
        </p:blipFill>
        <p:spPr>
          <a:xfrm>
            <a:off x="2071800" y="2174760"/>
            <a:ext cx="5159160" cy="9684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214200" y="3286080"/>
            <a:ext cx="8715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Абсолютная термодинамическая температур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(T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меряется в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кельвинах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. Температура по абсолютной шкале и шкале Цельсия связаны линей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mkt1.PNG"/>
          <p:cNvPicPr/>
          <p:nvPr/>
        </p:nvPicPr>
        <p:blipFill>
          <a:blip r:embed="rId2"/>
          <a:stretch/>
        </p:blipFill>
        <p:spPr>
          <a:xfrm>
            <a:off x="1627200" y="5500800"/>
            <a:ext cx="594504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Заголовок 1"/>
          <p:cNvSpPr/>
          <p:nvPr/>
        </p:nvSpPr>
        <p:spPr>
          <a:xfrm>
            <a:off x="214200" y="142920"/>
            <a:ext cx="8715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Макроскопические параметры идеального газа (давление, объем, температура) связан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уравнением состояния идеального газа (уравнением Менделеева-Клапейрона)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mkt1.PNG"/>
          <p:cNvPicPr/>
          <p:nvPr/>
        </p:nvPicPr>
        <p:blipFill>
          <a:blip r:embed="rId1"/>
          <a:stretch/>
        </p:blipFill>
        <p:spPr>
          <a:xfrm>
            <a:off x="2712960" y="3083040"/>
            <a:ext cx="3645000" cy="156024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142920" y="4429080"/>
            <a:ext cx="37861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В другой форме (для двух состояний газа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mkt1.PNG"/>
          <p:cNvPicPr/>
          <p:nvPr/>
        </p:nvPicPr>
        <p:blipFill>
          <a:blip r:embed="rId2"/>
          <a:stretch/>
        </p:blipFill>
        <p:spPr>
          <a:xfrm>
            <a:off x="4071960" y="5046840"/>
            <a:ext cx="50086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1"/>
          <p:cNvSpPr/>
          <p:nvPr/>
        </p:nvSpPr>
        <p:spPr>
          <a:xfrm>
            <a:off x="214200" y="142920"/>
            <a:ext cx="8715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оцессы, протекающие при неизменном значении одного из макроскопических параметров,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зопроцессами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14200" y="1928880"/>
            <a:ext cx="8715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отермически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 = cons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Для газа данной массы при постоянной температуре произведение давления и объема постоянно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акон Бойля-Мариот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охорны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 = cons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. Для данной массы газа при постоянном объеме отношение давления к температуре постоянно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акон Шарл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Изобарны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 = cons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. Для данной массы газа при постоянном давлении отношение объема к температуре постоянно (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акон Гей-Люсса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Заголовок 1"/>
          <p:cNvSpPr/>
          <p:nvPr/>
        </p:nvSpPr>
        <p:spPr>
          <a:xfrm>
            <a:off x="214200" y="142920"/>
            <a:ext cx="8715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рафическое представление изопроцес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kT6.PNG"/>
          <p:cNvPicPr/>
          <p:nvPr/>
        </p:nvPicPr>
        <p:blipFill>
          <a:blip r:embed="rId1"/>
          <a:stretch/>
        </p:blipFill>
        <p:spPr>
          <a:xfrm>
            <a:off x="0" y="1716120"/>
            <a:ext cx="914400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Заголовок 1"/>
          <p:cNvSpPr/>
          <p:nvPr/>
        </p:nvSpPr>
        <p:spPr>
          <a:xfrm>
            <a:off x="357120" y="71280"/>
            <a:ext cx="84297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Дома (!)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: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" descr="динамика_табл.PNG"/>
          <p:cNvPicPr/>
          <p:nvPr/>
        </p:nvPicPr>
        <p:blipFill>
          <a:blip r:embed="rId1"/>
          <a:stretch/>
        </p:blipFill>
        <p:spPr>
          <a:xfrm>
            <a:off x="665280" y="857160"/>
            <a:ext cx="77436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13T19:15:02Z</dcterms:created>
  <dc:creator>Boris</dc:creator>
  <dc:description/>
  <dc:language>en-US</dc:language>
  <cp:lastModifiedBy>Boris</cp:lastModifiedBy>
  <dcterms:modified xsi:type="dcterms:W3CDTF">2020-10-29T17:10:42Z</dcterms:modified>
  <cp:revision>173</cp:revision>
  <dc:subject/>
  <dc:title>ЭЛЕКТРОДИНАМИКА</dc:title>
</cp:coreProperties>
</file>