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865-EA92-4F26-B5E1-6DEEA833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073-9023-489D-BB47-DB8E1EB0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7D8-00B2-4684-A8F1-07A6A81F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05B-4AE2-4436-9A47-E7F4A85B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770-D0AC-4962-82EB-93F3B653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898A-E91B-4F35-9B3F-C6F15ECC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E41-7570-4409-B38F-A58B6C36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43D-5FF9-4440-B826-50A6F614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4B6-AA45-45BF-984B-345EAC7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717-2233-465C-A57F-D5E5B16E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33B-EF4F-4AB1-8FE9-9E9C608C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DDA-2755-4283-BFC1-80B6FE89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9FB3-E8A7-4790-85B0-181E10DBC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858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КИНЕМАТ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7120" y="0"/>
            <a:ext cx="8429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Пб ГБПОУ «Фельдшер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929200" y="485784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обанов Б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57280" y="6000840"/>
            <a:ext cx="4572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 неравномерном движении тело проходит неодинаковые расстояния за один и тот же промежуток времен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корость тела в определенный момент времени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гновенной скорость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Boris.doc\Documents\КОЛЛЕДЖ\мгновенная_скорость.PNG"/>
          <p:cNvPicPr/>
          <p:nvPr/>
        </p:nvPicPr>
        <p:blipFill>
          <a:blip r:embed="rId1"/>
          <a:stretch/>
        </p:blipFill>
        <p:spPr>
          <a:xfrm>
            <a:off x="4595760" y="3500280"/>
            <a:ext cx="3905280" cy="3152880"/>
          </a:xfrm>
          <a:prstGeom prst="rect">
            <a:avLst/>
          </a:prstGeom>
          <a:ln w="0">
            <a:noFill/>
          </a:ln>
        </p:spPr>
      </p:pic>
      <p:sp>
        <p:nvSpPr>
          <p:cNvPr id="64" name="Заголовок 1"/>
          <p:cNvSpPr/>
          <p:nvPr/>
        </p:nvSpPr>
        <p:spPr>
          <a:xfrm>
            <a:off x="214200" y="3714840"/>
            <a:ext cx="435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гновенная скорость направлена по касательной к траектори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гновенная скорос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сть величина, равная пределу отношению перемещения к отрезку времени при устремлении отрезка времени к нулю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2192400" y="2219400"/>
                <a:ext cx="45226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мгн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t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" name="Picture 3" descr="D:\Boris.doc\Documents\КОЛЛЕДЖ\мгн_скорость.PNG"/>
          <p:cNvPicPr/>
          <p:nvPr/>
        </p:nvPicPr>
        <p:blipFill>
          <a:blip r:embed="rId1"/>
          <a:stretch/>
        </p:blipFill>
        <p:spPr>
          <a:xfrm>
            <a:off x="1357200" y="3429000"/>
            <a:ext cx="592956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 изучении неравномерного движения также используется понятие средней скорости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редняя скорост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еремещ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редняя путева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кор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1335240" y="3071880"/>
                <a:ext cx="19508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1357200" y="5286240"/>
                <a:ext cx="19065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" name="Рисунок 5" descr="путь-перемещение.PNG"/>
          <p:cNvPicPr/>
          <p:nvPr/>
        </p:nvPicPr>
        <p:blipFill>
          <a:blip r:embed="rId1"/>
          <a:stretch/>
        </p:blipFill>
        <p:spPr>
          <a:xfrm>
            <a:off x="4714920" y="1500120"/>
            <a:ext cx="433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Быстроту изменения скорости определяет ускорени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скорение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называется предел отношения изменения скорости тела к промежутку времени при устремлении промежутка времени к нулю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642960" y="4000680"/>
                <a:ext cx="3902040" cy="12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t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" name="Рисунок 3" descr="ускорение.PNG"/>
          <p:cNvPicPr/>
          <p:nvPr/>
        </p:nvPicPr>
        <p:blipFill>
          <a:blip r:embed="rId1"/>
          <a:stretch/>
        </p:blipFill>
        <p:spPr>
          <a:xfrm>
            <a:off x="5214960" y="3679920"/>
            <a:ext cx="39290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вижение с неизменным ускорением (как по величине, так и по направлению),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вноускоренным (равнозамедленным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ускоренное_движение.PNG"/>
          <p:cNvPicPr/>
          <p:nvPr/>
        </p:nvPicPr>
        <p:blipFill>
          <a:blip r:embed="rId1"/>
          <a:stretch/>
        </p:blipFill>
        <p:spPr>
          <a:xfrm>
            <a:off x="2286000" y="2428920"/>
            <a:ext cx="45007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1357200"/>
            <a:ext cx="8715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а тяжести сообщает всем телам одинаковое постоянное по величине и направлению ускор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685800" y="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3071880" y="4559400"/>
                <a:ext cx="28810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≈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Заголовок 1"/>
          <p:cNvSpPr/>
          <p:nvPr/>
        </p:nvSpPr>
        <p:spPr>
          <a:xfrm>
            <a:off x="285840" y="3416400"/>
            <a:ext cx="86439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скорение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(вблизи поверхности Земли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Заголовок 1"/>
          <p:cNvSpPr/>
          <p:nvPr/>
        </p:nvSpPr>
        <p:spPr>
          <a:xfrm>
            <a:off x="685800" y="0"/>
            <a:ext cx="7772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вободное падение тел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вижение тела, брошенного вертикально вниз/вве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6" descr="свободн_падение1.PNG"/>
          <p:cNvPicPr/>
          <p:nvPr/>
        </p:nvPicPr>
        <p:blipFill>
          <a:blip r:embed="rId1"/>
          <a:stretch/>
        </p:blipFill>
        <p:spPr>
          <a:xfrm>
            <a:off x="0" y="1496880"/>
            <a:ext cx="4357800" cy="507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5286240" y="2714760"/>
                <a:ext cx="28386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4576680" y="3281400"/>
                <a:ext cx="425772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5" descr="свободн_падение2.PNG"/>
          <p:cNvPicPr/>
          <p:nvPr/>
        </p:nvPicPr>
        <p:blipFill>
          <a:blip r:embed="rId1"/>
          <a:stretch/>
        </p:blipFill>
        <p:spPr>
          <a:xfrm>
            <a:off x="0" y="1285920"/>
            <a:ext cx="5641920" cy="507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5062680" y="3125880"/>
                <a:ext cx="408132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5572080" y="2416320"/>
                <a:ext cx="28386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Заголовок 1"/>
          <p:cNvSpPr/>
          <p:nvPr/>
        </p:nvSpPr>
        <p:spPr>
          <a:xfrm>
            <a:off x="685800" y="0"/>
            <a:ext cx="7772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вободное падение тел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вижение тела, брошенного под углом к горизон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Заголовок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ома (!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6" descr="кинематика_табл.PNG"/>
          <p:cNvPicPr/>
          <p:nvPr/>
        </p:nvPicPr>
        <p:blipFill>
          <a:blip r:embed="rId1"/>
          <a:stretch/>
        </p:blipFill>
        <p:spPr>
          <a:xfrm>
            <a:off x="285840" y="987480"/>
            <a:ext cx="857232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214200" y="928800"/>
            <a:ext cx="8715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инемат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– раздел механики, изучающий способы описания движений и связь между величинами, характеризующими эти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писать движение тела – значит указать способ определения его положения в пространстве в любой момент времени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=x(t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сновная модель, используемая в кинематике (и механике вообще) – материальная точка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териальной точ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называется тело, размеры которого пренебрежимо малы по сравнению с расстояниями, которое данное тело проходит при движ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121392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 тела в пространстве может быть указано относительно другого тела (тела отсчета). С телом отсчета связывается определенная система координат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 материальной точки в декартовой системе координат зада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диус-вектор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 начало вектора находится в начале отсчета, конец вектора совпадает с положением материальной то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685800" y="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 материальной точки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685800" y="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диус-вектор материальной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радиус-вектор.PNG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685800" y="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особы задания дви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856800"/>
            <a:ext cx="8715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1) Координатный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2) Вектор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кинематика1.PNG"/>
          <p:cNvPicPr/>
          <p:nvPr/>
        </p:nvPicPr>
        <p:blipFill>
          <a:blip r:embed="rId1"/>
          <a:stretch/>
        </p:blipFill>
        <p:spPr>
          <a:xfrm>
            <a:off x="252360" y="1500120"/>
            <a:ext cx="5962680" cy="2745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кинематика2.PNG"/>
          <p:cNvPicPr/>
          <p:nvPr/>
        </p:nvPicPr>
        <p:blipFill>
          <a:blip r:embed="rId2"/>
          <a:stretch/>
        </p:blipFill>
        <p:spPr>
          <a:xfrm>
            <a:off x="3000240" y="4041720"/>
            <a:ext cx="49294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46436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Линия, по которой движется тело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раектор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 Длина траектории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у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, пройденный тел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ектор, проведенный из начального положения тела в конечное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еремещение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путь-перемещение.PNG"/>
          <p:cNvPicPr/>
          <p:nvPr/>
        </p:nvPicPr>
        <p:blipFill>
          <a:blip r:embed="rId1"/>
          <a:stretch/>
        </p:blipFill>
        <p:spPr>
          <a:xfrm>
            <a:off x="4714920" y="1500120"/>
            <a:ext cx="433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Быстрота изменения положения тела со временем характеризуется скоростью. Если тело проходит за равные промежутки времени одинаковое расстояние, движение называется равномерным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корость равномерного прямолинейного движ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равна отношению перемещения тела к промежутку времени, в течение которого произошло это перемещение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скорость.PNG"/>
          <p:cNvPicPr/>
          <p:nvPr/>
        </p:nvPicPr>
        <p:blipFill>
          <a:blip r:embed="rId1"/>
          <a:stretch/>
        </p:blipFill>
        <p:spPr>
          <a:xfrm>
            <a:off x="6215040" y="5143680"/>
            <a:ext cx="22860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равнение прямолинейного движ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имеет ви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равн_движение.PNG"/>
          <p:cNvPicPr/>
          <p:nvPr/>
        </p:nvPicPr>
        <p:blipFill>
          <a:blip r:embed="rId1"/>
          <a:stretch/>
        </p:blipFill>
        <p:spPr>
          <a:xfrm>
            <a:off x="3143160" y="1928880"/>
            <a:ext cx="2714760" cy="101592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214200" y="3500280"/>
            <a:ext cx="8643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де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 в начальный момент времен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=0), </a:t>
            </a:r>
            <a:r>
              <a:rPr b="0" i="1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скорость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 тел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3T19:15:02Z</dcterms:created>
  <dc:creator>Boris</dc:creator>
  <dc:description/>
  <dc:language>en-US</dc:language>
  <cp:lastModifiedBy>Boris</cp:lastModifiedBy>
  <dcterms:modified xsi:type="dcterms:W3CDTF">2020-10-29T17:08:24Z</dcterms:modified>
  <cp:revision>88</cp:revision>
  <dc:subject/>
  <dc:title>ЭЛЕКТРОДИНАМИКА</dc:title>
</cp:coreProperties>
</file>