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D07-232A-499B-B70B-67D21B3B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CB9-721E-448C-9283-43F8293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30C-0165-4AC9-B849-366F8128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5C8F-07A9-48CB-928D-EBA30E46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12A-CC07-480F-A609-08FE9E1E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C9E-7E5C-4804-A5CF-AEB5E82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927-1C87-46D4-9BCA-B56AE3D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7D8-FCF8-496D-BD96-EBA113E5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AFE-271A-492A-AE66-5070E63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DD29-F78D-4E9B-9574-9066D9D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215-8055-4B42-A107-DE6C2A6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33F-28A1-45B5-9670-B5BC7701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B94D-8552-4A44-9DE0-6AFEF6C94D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858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КИНЕМА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неравномерном движении тело проходит неодинаковые расстояния за один и тот же промежуток времен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корость тела в определенный момент времени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гновенной скорость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D:\Boris.doc\Documents\КОЛЛЕДЖ\мгновенная_скорость.PNG"/>
          <p:cNvPicPr/>
          <p:nvPr/>
        </p:nvPicPr>
        <p:blipFill>
          <a:blip r:embed="rId1"/>
          <a:stretch/>
        </p:blipFill>
        <p:spPr>
          <a:xfrm>
            <a:off x="4595760" y="3500280"/>
            <a:ext cx="3905280" cy="3152880"/>
          </a:xfrm>
          <a:prstGeom prst="rect">
            <a:avLst/>
          </a:prstGeom>
          <a:ln w="0">
            <a:noFill/>
          </a:ln>
        </p:spPr>
      </p:pic>
      <p:sp>
        <p:nvSpPr>
          <p:cNvPr id="64" name="Заголовок 1"/>
          <p:cNvSpPr/>
          <p:nvPr/>
        </p:nvSpPr>
        <p:spPr>
          <a:xfrm>
            <a:off x="214200" y="3714840"/>
            <a:ext cx="435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гновенная скорость направлена по касательной к траектори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гновенная скорос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есть величина, равная пределу отношению перемещения к отрезку времени при устремлении отрезка времени к нулю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192400" y="2219400"/>
                <a:ext cx="45226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мгн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t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" name="Picture 3" descr="D:\Boris.doc\Documents\КОЛЛЕДЖ\мгн_скорость.PNG"/>
          <p:cNvPicPr/>
          <p:nvPr/>
        </p:nvPicPr>
        <p:blipFill>
          <a:blip r:embed="rId1"/>
          <a:stretch/>
        </p:blipFill>
        <p:spPr>
          <a:xfrm>
            <a:off x="1357200" y="3429000"/>
            <a:ext cx="592956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и изучении неравномерного движения также используется понятие средней скорости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редняя скорост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еремещ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редняя путев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кор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335240" y="3071880"/>
                <a:ext cx="19508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1357200" y="5286240"/>
                <a:ext cx="19065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Рисунок 5" descr="путь-перемещение.PNG"/>
          <p:cNvPicPr/>
          <p:nvPr/>
        </p:nvPicPr>
        <p:blipFill>
          <a:blip r:embed="rId1"/>
          <a:stretch/>
        </p:blipFill>
        <p:spPr>
          <a:xfrm>
            <a:off x="4714920" y="1500120"/>
            <a:ext cx="433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64396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ыстроту изменения скорости определяет ускоре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е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предел отношения изменения скорости тела к промежутку времени при устремлении промежутка времени к нулю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642960" y="4000680"/>
                <a:ext cx="3902040" cy="12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</m:t>
                    </m:r>
                    <m:r>
                      <m:t xml:space="preserve"> </m:t>
                    </m:r>
                    <m:r>
                      <m:t xml:space="preserve">Δt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Рисунок 3" descr="ускорение.PNG"/>
          <p:cNvPicPr/>
          <p:nvPr/>
        </p:nvPicPr>
        <p:blipFill>
          <a:blip r:embed="rId1"/>
          <a:stretch/>
        </p:blipFill>
        <p:spPr>
          <a:xfrm>
            <a:off x="5214960" y="3679920"/>
            <a:ext cx="39290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8715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ижение с неизменным ускорением (как по величине, так и по направлению)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вноускоренным (равнозамедленным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ускоренное_движение.PNG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357200"/>
            <a:ext cx="8715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ла тяжести сообщает всем телам одинаковое постоянное по величине и направлению ускор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3071880" y="4559400"/>
                <a:ext cx="2881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≈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sSup>
                          <m:e>
                            <m:r>
                              <m:t xml:space="preserve">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Заголовок 1"/>
          <p:cNvSpPr/>
          <p:nvPr/>
        </p:nvSpPr>
        <p:spPr>
          <a:xfrm>
            <a:off x="285840" y="3416400"/>
            <a:ext cx="86439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скорение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(вблизи поверхности Земли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Заголовок 1"/>
          <p:cNvSpPr/>
          <p:nvPr/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вободное падение тел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ижение тела, брошенного вертикально вниз/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6" descr="свободн_падение1.PNG"/>
          <p:cNvPicPr/>
          <p:nvPr/>
        </p:nvPicPr>
        <p:blipFill>
          <a:blip r:embed="rId1"/>
          <a:stretch/>
        </p:blipFill>
        <p:spPr>
          <a:xfrm>
            <a:off x="0" y="1496880"/>
            <a:ext cx="4357800" cy="507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5286240" y="2714760"/>
                <a:ext cx="2838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g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4576680" y="3281400"/>
                <a:ext cx="42577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свободн_падение2.PNG"/>
          <p:cNvPicPr/>
          <p:nvPr/>
        </p:nvPicPr>
        <p:blipFill>
          <a:blip r:embed="rId1"/>
          <a:stretch/>
        </p:blipFill>
        <p:spPr>
          <a:xfrm>
            <a:off x="0" y="1285920"/>
            <a:ext cx="5641920" cy="507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5062680" y="3125880"/>
                <a:ext cx="40813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5572080" y="2416320"/>
                <a:ext cx="2838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Заголовок 1"/>
          <p:cNvSpPr/>
          <p:nvPr/>
        </p:nvSpPr>
        <p:spPr>
          <a:xfrm>
            <a:off x="685800" y="0"/>
            <a:ext cx="7772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вободное падение тел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вижение тела, брошенного под углом к горизон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Заголовок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6" descr="кинематика_табл.PNG"/>
          <p:cNvPicPr/>
          <p:nvPr/>
        </p:nvPicPr>
        <p:blipFill>
          <a:blip r:embed="rId1"/>
          <a:stretch/>
        </p:blipFill>
        <p:spPr>
          <a:xfrm>
            <a:off x="285840" y="987480"/>
            <a:ext cx="857232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928800"/>
            <a:ext cx="8715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инематик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– раздел механики, изучающий способы описания движений и связь между величинами, характеризующими эти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писать движение тела – значит указать способ определения его положения в пространстве в любой момент времени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x=x(t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сновная модель, используемая в кинематике (и механике вообще) – материальная точка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териальной точко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называется тело, размеры которого пренебрежимо малы по сравнению с расстояниями, которое данное тело проходит при движ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1213920"/>
            <a:ext cx="871560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тела в пространстве может быть указано относительно другого тела (тела отсчета). С телом отсчета связывается определенная система координат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материальной точки в декартовой системе координат зад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диус-вектор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 начало вектора находится в начале отсчета, конец вектора совпадает с положением материальной точ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материальной точки в простран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Радиус-вектор материальной т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радиус-вектор.PNG"/>
          <p:cNvPicPr/>
          <p:nvPr/>
        </p:nvPicPr>
        <p:blipFill>
          <a:blip r:embed="rId1"/>
          <a:stretch/>
        </p:blipFill>
        <p:spPr>
          <a:xfrm>
            <a:off x="0" y="1320840"/>
            <a:ext cx="9144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685800" y="0"/>
            <a:ext cx="77724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особы задания дви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715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1) Координатный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2) Векто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5" descr="кинематика1.PNG"/>
          <p:cNvPicPr/>
          <p:nvPr/>
        </p:nvPicPr>
        <p:blipFill>
          <a:blip r:embed="rId1"/>
          <a:stretch/>
        </p:blipFill>
        <p:spPr>
          <a:xfrm>
            <a:off x="252360" y="1500120"/>
            <a:ext cx="5962680" cy="2745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кинематика2.PNG"/>
          <p:cNvPicPr/>
          <p:nvPr/>
        </p:nvPicPr>
        <p:blipFill>
          <a:blip r:embed="rId2"/>
          <a:stretch/>
        </p:blipFill>
        <p:spPr>
          <a:xfrm>
            <a:off x="3000240" y="4041720"/>
            <a:ext cx="49294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46436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Линия, по которой движется тело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раектор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Длина траектории –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у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, пройденный тел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ектор, проведенный из начального положения тела в конечное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еремещение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5" descr="путь-перемещение.PNG"/>
          <p:cNvPicPr/>
          <p:nvPr/>
        </p:nvPicPr>
        <p:blipFill>
          <a:blip r:embed="rId1"/>
          <a:stretch/>
        </p:blipFill>
        <p:spPr>
          <a:xfrm>
            <a:off x="4714920" y="1500120"/>
            <a:ext cx="4336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Быстрота изменения положения тела со временем характеризуется скоростью. Если тело проходит за равные промежутки времени одинаковое расстояние, движение называется равномерным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корость равномерного прямолинейного дви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равна отношению перемещения тела к промежутку времени, в течение которого произошло это перемещение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скорость.PNG"/>
          <p:cNvPicPr/>
          <p:nvPr/>
        </p:nvPicPr>
        <p:blipFill>
          <a:blip r:embed="rId1"/>
          <a:stretch/>
        </p:blipFill>
        <p:spPr>
          <a:xfrm>
            <a:off x="6215040" y="5143680"/>
            <a:ext cx="2286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равнение прямолинейного движен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имеет вид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4" descr="равн_движение.PNG"/>
          <p:cNvPicPr/>
          <p:nvPr/>
        </p:nvPicPr>
        <p:blipFill>
          <a:blip r:embed="rId1"/>
          <a:stretch/>
        </p:blipFill>
        <p:spPr>
          <a:xfrm>
            <a:off x="3143160" y="1928880"/>
            <a:ext cx="2714760" cy="101592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214200" y="3500280"/>
            <a:ext cx="8643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в начальный момент време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=0), </a:t>
            </a:r>
            <a:r>
              <a:rPr b="0" i="1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- скорость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ложение тела в момент времени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08:24Z</dcterms:modified>
  <cp:revision>88</cp:revision>
  <dc:subject/>
  <dc:title>ЭЛЕКТРОДИНАМИКА</dc:title>
</cp:coreProperties>
</file>