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E4F-09D5-4CE5-95C0-631CF4C4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3B10-B2DF-4699-8F07-D1A440F4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75D-6105-4785-92D1-B64F63F6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93F-5C93-4AA5-B4C2-476A2E0E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A46-6E98-457B-A1B5-F3A26BE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3F7-2C7D-4A0D-9BFA-0BEAEAB2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4CA-0A6C-4710-A07E-95AB27F4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DA9-5DAE-46E3-BA92-F922D562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2E9-62D6-4D40-8279-6319B330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A28-9CC4-4B52-9BD6-8E87CD1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C8A-E044-4AA9-8F81-BBD7188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AD7-FA99-4E40-9F0F-8FA20BC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B284-9D14-46C8-AFCD-E0F320D09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ОСНОВЫ МОЛЕКУЛЯРНО-КИНЕТИЧЕСКОЙ ТЕОР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785880"/>
            <a:ext cx="87156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основе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лекулярно-кинетической теории (МКТ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лежат следующие утверж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ещество состоит из час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астицы вещества беспорядочно движу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Частицы взаимодействуют друг с друг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4200" y="71280"/>
            <a:ext cx="87156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роуновское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orig.gif"/>
          <p:cNvPicPr/>
          <p:nvPr/>
        </p:nvPicPr>
        <p:blipFill>
          <a:blip r:embed="rId1"/>
          <a:stretch/>
        </p:blipFill>
        <p:spPr>
          <a:xfrm>
            <a:off x="1714680" y="1000080"/>
            <a:ext cx="564336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0" y="14292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Размер молекул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~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10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м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; масса молекул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~ 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ru-RU" sz="2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27</a:t>
            </a:r>
            <a:r>
              <a:rPr b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 к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obor15.jpg"/>
          <p:cNvPicPr/>
          <p:nvPr/>
        </p:nvPicPr>
        <p:blipFill>
          <a:blip r:embed="rId1"/>
          <a:stretch/>
        </p:blipFill>
        <p:spPr>
          <a:xfrm>
            <a:off x="214200" y="1258920"/>
            <a:ext cx="3429000" cy="53751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l101_1.jpg"/>
          <p:cNvPicPr/>
          <p:nvPr/>
        </p:nvPicPr>
        <p:blipFill>
          <a:blip r:embed="rId2"/>
          <a:stretch/>
        </p:blipFill>
        <p:spPr>
          <a:xfrm>
            <a:off x="4071960" y="1285920"/>
            <a:ext cx="4643280" cy="367812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4071960" y="5072040"/>
            <a:ext cx="46432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ahoma"/>
                <a:ea typeface="Tahoma"/>
              </a:rPr>
              <a:t>«Увидеть» частицы вещества можно с помощью сканирующего туннельного микроскоп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396720"/>
          <a:ext cx="8715600" cy="6315120"/>
        </p:xfrm>
        <a:graphic>
          <a:graphicData uri="http://schemas.openxmlformats.org/drawingml/2006/table">
            <a:tbl>
              <a:tblPr/>
              <a:tblGrid>
                <a:gridCol w="3000600"/>
                <a:gridCol w="2857320"/>
                <a:gridCol w="28576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аз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дкост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Твердые те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легко сжимаютс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 сохраняют ни форму, ни объем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астицы движутся свободно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заимодействие частиц – соударения;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мало сжимаем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е сохраняют форму, но сохраняют об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асположение частиц сохраняется на малом расстоянии («ближний порядок»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заимодействие частиц – силы притяжения и отталки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актически несжимаемы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охраняют и объем, и форм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асположение частиц сохраняется во всем объеме тела («дальний порядок»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ильное межчастичное взаимодейств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214200" y="1143000"/>
            <a:ext cx="8715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Stroenie-gaza-zhidkosti-tverdogo-tela.jpg"/>
          <p:cNvPicPr/>
          <p:nvPr/>
        </p:nvPicPr>
        <p:blipFill>
          <a:blip r:embed="rId1"/>
          <a:stretch/>
        </p:blipFill>
        <p:spPr>
          <a:xfrm>
            <a:off x="0" y="0"/>
            <a:ext cx="9034560" cy="4008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molecules-gas.jpg"/>
          <p:cNvPicPr/>
          <p:nvPr/>
        </p:nvPicPr>
        <p:blipFill>
          <a:blip r:embed="rId2"/>
          <a:stretch/>
        </p:blipFill>
        <p:spPr>
          <a:xfrm>
            <a:off x="828720" y="3857760"/>
            <a:ext cx="3957480" cy="2786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Koob.jpg"/>
          <p:cNvPicPr/>
          <p:nvPr/>
        </p:nvPicPr>
        <p:blipFill>
          <a:blip r:embed="rId3"/>
          <a:stretch/>
        </p:blipFill>
        <p:spPr>
          <a:xfrm>
            <a:off x="5334120" y="3786120"/>
            <a:ext cx="32385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Заголовок 1"/>
          <p:cNvSpPr/>
          <p:nvPr/>
        </p:nvSpPr>
        <p:spPr>
          <a:xfrm>
            <a:off x="214200" y="69840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личеством веще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отношение числа частиц в теле к числу Авогадро. Единица измерения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mol.PNG"/>
          <p:cNvPicPr/>
          <p:nvPr/>
        </p:nvPicPr>
        <p:blipFill>
          <a:blip r:embed="rId1"/>
          <a:stretch/>
        </p:blipFill>
        <p:spPr>
          <a:xfrm>
            <a:off x="214200" y="2841480"/>
            <a:ext cx="878688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214200" y="428760"/>
            <a:ext cx="8715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лярной масс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масса вещества, взятого в количестве 1 м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mol.PNG"/>
          <p:cNvPicPr/>
          <p:nvPr/>
        </p:nvPicPr>
        <p:blipFill>
          <a:blip r:embed="rId1"/>
          <a:stretch/>
        </p:blipFill>
        <p:spPr>
          <a:xfrm>
            <a:off x="1285920" y="2071800"/>
            <a:ext cx="6824520" cy="2214360"/>
          </a:xfrm>
          <a:prstGeom prst="rect">
            <a:avLst/>
          </a:prstGeom>
          <a:ln w="0">
            <a:noFill/>
          </a:ln>
        </p:spPr>
      </p:pic>
      <p:sp>
        <p:nvSpPr>
          <p:cNvPr id="62" name="Заголовок 1"/>
          <p:cNvSpPr/>
          <p:nvPr/>
        </p:nvSpPr>
        <p:spPr>
          <a:xfrm>
            <a:off x="214200" y="4572000"/>
            <a:ext cx="8715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десь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сса одной частицы вещества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 –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ся масс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665280" y="857160"/>
            <a:ext cx="77436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10:56Z</dcterms:modified>
  <cp:revision>173</cp:revision>
  <dc:subject/>
  <dc:title>ЭЛЕКТРОДИНАМИКА</dc:title>
</cp:coreProperties>
</file>