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728-2732-4E50-832B-E0A8C5C9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C0D-B852-4D1F-828D-9945BD9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C37-FE19-40E5-80FB-FF48488B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2C6-9778-4463-8005-1774AEE7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37E-5274-4204-BA73-0EC2383D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1A1-28CA-40DE-A352-ECB5225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0F1-4814-458A-9B74-60D2D3D6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8EE-CC2D-4E4D-9AED-051A540F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FE2-9F9B-488F-AADA-5E495DB0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B3F-1AC3-4620-8354-E41B8E33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D07-7935-4CC5-8120-AC0F317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491-9ABF-45BB-A7DF-89E6F54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95D-E04F-4604-A877-C00860D59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ОСНОВЫ МОЛЕКУЛЯРНО-КИНЕТИЧЕСКОЙ ТЕОР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785880"/>
            <a:ext cx="87156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основ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лекулярно-кинетической теории (МКТ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лежат следующие утверж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ещество состоит из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астицы вещества беспорядочно движу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астицы взаимодействуют друг с д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4200" y="71280"/>
            <a:ext cx="8715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роуновск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orig.gif"/>
          <p:cNvPicPr/>
          <p:nvPr/>
        </p:nvPicPr>
        <p:blipFill>
          <a:blip r:embed="rId1"/>
          <a:stretch/>
        </p:blipFill>
        <p:spPr>
          <a:xfrm>
            <a:off x="1714680" y="1000080"/>
            <a:ext cx="564336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0" y="14292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Размер молекул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~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10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; масса молекул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~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27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к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obor15.jpg"/>
          <p:cNvPicPr/>
          <p:nvPr/>
        </p:nvPicPr>
        <p:blipFill>
          <a:blip r:embed="rId1"/>
          <a:stretch/>
        </p:blipFill>
        <p:spPr>
          <a:xfrm>
            <a:off x="214200" y="1258920"/>
            <a:ext cx="3429000" cy="5375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l101_1.jpg"/>
          <p:cNvPicPr/>
          <p:nvPr/>
        </p:nvPicPr>
        <p:blipFill>
          <a:blip r:embed="rId2"/>
          <a:stretch/>
        </p:blipFill>
        <p:spPr>
          <a:xfrm>
            <a:off x="4071960" y="1285920"/>
            <a:ext cx="4643280" cy="367812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4071960" y="5072040"/>
            <a:ext cx="4643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«Увидеть» частицы вещества можно с помощью сканирующего туннельного микроско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396720"/>
          <a:ext cx="8715600" cy="6315120"/>
        </p:xfrm>
        <a:graphic>
          <a:graphicData uri="http://schemas.openxmlformats.org/drawingml/2006/table">
            <a:tbl>
              <a:tblPr/>
              <a:tblGrid>
                <a:gridCol w="3000600"/>
                <a:gridCol w="2857320"/>
                <a:gridCol w="28576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аз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дкост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вердые те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легко сжимаютс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 сохраняют ни форму, ни объем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астицы движутся свободно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заимодействие частиц – соударения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мало сжимаем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 сохраняют форму, но сохраняют об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асположение частиц сохраняется на малом расстоянии («ближний порядок»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заимодействие частиц – силы притяжения и отталки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актически несжимаем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храняют и объем, и форм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асположение частиц сохраняется во всем объеме тела («дальний порядок»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ильное межчастичное взаимодейств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Stroenie-gaza-zhidkosti-tverdogo-tela.jpg"/>
          <p:cNvPicPr/>
          <p:nvPr/>
        </p:nvPicPr>
        <p:blipFill>
          <a:blip r:embed="rId1"/>
          <a:stretch/>
        </p:blipFill>
        <p:spPr>
          <a:xfrm>
            <a:off x="0" y="0"/>
            <a:ext cx="9034560" cy="4008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molecules-gas.jpg"/>
          <p:cNvPicPr/>
          <p:nvPr/>
        </p:nvPicPr>
        <p:blipFill>
          <a:blip r:embed="rId2"/>
          <a:stretch/>
        </p:blipFill>
        <p:spPr>
          <a:xfrm>
            <a:off x="828720" y="3857760"/>
            <a:ext cx="3957480" cy="2786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Koob.jpg"/>
          <p:cNvPicPr/>
          <p:nvPr/>
        </p:nvPicPr>
        <p:blipFill>
          <a:blip r:embed="rId3"/>
          <a:stretch/>
        </p:blipFill>
        <p:spPr>
          <a:xfrm>
            <a:off x="5334120" y="3786120"/>
            <a:ext cx="32385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214200" y="69840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личеством веще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отношение числа частиц в теле к числу Авогадро. Единица измерения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mol.PNG"/>
          <p:cNvPicPr/>
          <p:nvPr/>
        </p:nvPicPr>
        <p:blipFill>
          <a:blip r:embed="rId1"/>
          <a:stretch/>
        </p:blipFill>
        <p:spPr>
          <a:xfrm>
            <a:off x="214200" y="2841480"/>
            <a:ext cx="878688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214200" y="428760"/>
            <a:ext cx="8715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лярной масс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масса вещества, взятого в количестве 1 м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mol.PNG"/>
          <p:cNvPicPr/>
          <p:nvPr/>
        </p:nvPicPr>
        <p:blipFill>
          <a:blip r:embed="rId1"/>
          <a:stretch/>
        </p:blipFill>
        <p:spPr>
          <a:xfrm>
            <a:off x="1285920" y="2071800"/>
            <a:ext cx="6824520" cy="221436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214200" y="4572000"/>
            <a:ext cx="8715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десь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сса одной частицы вещества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ся масс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665280" y="857160"/>
            <a:ext cx="77436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10:56Z</dcterms:modified>
  <cp:revision>173</cp:revision>
  <dc:subject/>
  <dc:title>ЭЛЕКТРОДИНАМИКА</dc:title>
</cp:coreProperties>
</file>