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515-9DD7-401F-8014-7E85A29D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7E2-0E89-40D0-A633-7E35B561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695-52A7-4318-8DCA-1EA2EDE3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50F-AF1D-4972-8998-D0BFEAE2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A868-495D-4ED5-963B-610F000F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FE6-DAD6-48F1-A7AA-C882D5D3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1F9-E028-462D-972B-3B48F60E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13A-5F31-4495-9AEE-DA83D625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6D6-CF14-4D96-A973-D43D6BCD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0B8-4E41-4AB4-AF39-85F675E4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E6D-2DB4-453E-ADAA-EE2D865F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1C9-7364-43A5-9E44-4A4716A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6883-14A4-4344-B283-24BCD70A7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ЗАКОНЫ СОХРАНЕНИЯ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В МЕХАНИ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4200" y="71280"/>
            <a:ext cx="8715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Формула работы в векторной записи (через скалярное произведение векторов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214200" y="2428920"/>
            <a:ext cx="87156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диница работы – джоуль. Од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жоу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это работа, которую совершает сила в 1 Н при перемещении тела на 1 м, если направление силы и перемещения совпа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3214800" y="1500120"/>
                <a:ext cx="26272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Рисунок 6" descr="энергия3.PNG"/>
          <p:cNvPicPr/>
          <p:nvPr/>
        </p:nvPicPr>
        <p:blipFill>
          <a:blip r:embed="rId1"/>
          <a:stretch/>
        </p:blipFill>
        <p:spPr>
          <a:xfrm>
            <a:off x="1214280" y="5283360"/>
            <a:ext cx="678672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энергия4.PNG"/>
          <p:cNvPicPr/>
          <p:nvPr/>
        </p:nvPicPr>
        <p:blipFill>
          <a:blip r:embed="rId1"/>
          <a:stretch/>
        </p:blipFill>
        <p:spPr>
          <a:xfrm>
            <a:off x="3143160" y="3286080"/>
            <a:ext cx="2587680" cy="126216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214200" y="71280"/>
            <a:ext cx="8715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ыстрота совершения работы характеризуется мощ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214200" y="1357200"/>
            <a:ext cx="8715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ощность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отношение работы к промежутку времени, в течение которого эта работа соверш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214200" y="4357800"/>
            <a:ext cx="871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диница мощности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ат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9" descr="энергия5.PNG"/>
          <p:cNvPicPr/>
          <p:nvPr/>
        </p:nvPicPr>
        <p:blipFill>
          <a:blip r:embed="rId2"/>
          <a:stretch/>
        </p:blipFill>
        <p:spPr>
          <a:xfrm>
            <a:off x="2039760" y="5286240"/>
            <a:ext cx="51040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1"/>
          <p:cNvSpPr/>
          <p:nvPr/>
        </p:nvSpPr>
        <p:spPr>
          <a:xfrm>
            <a:off x="214200" y="214200"/>
            <a:ext cx="8715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нерг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арактеризует способность тела совершать работу. Энергия определяется состоянием тела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, скор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 и изменяется при совершении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214200" y="2500200"/>
            <a:ext cx="60008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иды механической энерг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инетическа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(связана с движением тел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тенциальна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(связана с действием на тело сторонних сил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202440" y="3514680"/>
                <a:ext cx="24541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6143760" y="5443560"/>
                <a:ext cx="2798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1"/>
          <p:cNvSpPr/>
          <p:nvPr/>
        </p:nvSpPr>
        <p:spPr>
          <a:xfrm>
            <a:off x="214200" y="4572000"/>
            <a:ext cx="87156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Энергия измеряется в тех же единицах, что и работа (Дж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14200" y="500040"/>
            <a:ext cx="8715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нение кинетической энергии тела за некоторый промежуток времени равно работе, совершенной за это время силой, действующей на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6" descr="энергия6.PNG"/>
          <p:cNvPicPr/>
          <p:nvPr/>
        </p:nvPicPr>
        <p:blipFill>
          <a:blip r:embed="rId1"/>
          <a:stretch/>
        </p:blipFill>
        <p:spPr>
          <a:xfrm>
            <a:off x="1882800" y="3314880"/>
            <a:ext cx="56181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1"/>
          <p:cNvSpPr/>
          <p:nvPr/>
        </p:nvSpPr>
        <p:spPr>
          <a:xfrm>
            <a:off x="214200" y="2579760"/>
            <a:ext cx="87156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соб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силы тяжести не зависит от формы траекто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при движении по замкнутому контуру равна ну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обладающие такими свойствами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нсервативны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214200" y="50004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силы тяжести определяется только изменением высоты, на которую поднято те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энергия6.PNG"/>
          <p:cNvPicPr/>
          <p:nvPr/>
        </p:nvPicPr>
        <p:blipFill>
          <a:blip r:embed="rId1"/>
          <a:stretch/>
        </p:blipFill>
        <p:spPr>
          <a:xfrm>
            <a:off x="2065320" y="1857240"/>
            <a:ext cx="50068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214200" y="3214800"/>
            <a:ext cx="364356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 упругости также являются консерватив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214200" y="50004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силы упругости зависит от величины деформации пружины в начальном и конечном состоян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энергия6.PNG"/>
          <p:cNvPicPr/>
          <p:nvPr/>
        </p:nvPicPr>
        <p:blipFill>
          <a:blip r:embed="rId1"/>
          <a:stretch/>
        </p:blipFill>
        <p:spPr>
          <a:xfrm>
            <a:off x="71280" y="2428920"/>
            <a:ext cx="5357880" cy="12142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упр_энергия2.PNG"/>
          <p:cNvPicPr/>
          <p:nvPr/>
        </p:nvPicPr>
        <p:blipFill>
          <a:blip r:embed="rId2"/>
          <a:stretch/>
        </p:blipFill>
        <p:spPr>
          <a:xfrm>
            <a:off x="5429160" y="1789200"/>
            <a:ext cx="364356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1"/>
          <p:cNvSpPr/>
          <p:nvPr/>
        </p:nvSpPr>
        <p:spPr>
          <a:xfrm>
            <a:off x="214200" y="500040"/>
            <a:ext cx="87156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у указанных сил можно представить как разность энергии в двух состояниях. Такую энергию называют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тенциальной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упр_энергия3.PNG"/>
          <p:cNvPicPr/>
          <p:nvPr/>
        </p:nvPicPr>
        <p:blipFill>
          <a:blip r:embed="rId1"/>
          <a:stretch/>
        </p:blipFill>
        <p:spPr>
          <a:xfrm>
            <a:off x="0" y="2357280"/>
            <a:ext cx="4286160" cy="3990960"/>
          </a:xfrm>
          <a:prstGeom prst="rect">
            <a:avLst/>
          </a:prstGeom>
          <a:ln w="0">
            <a:noFill/>
          </a:ln>
        </p:spPr>
      </p:pic>
      <p:sp>
        <p:nvSpPr>
          <p:cNvPr id="96" name="Заголовок 1"/>
          <p:cNvSpPr/>
          <p:nvPr/>
        </p:nvSpPr>
        <p:spPr>
          <a:xfrm>
            <a:off x="3929040" y="2714760"/>
            <a:ext cx="52149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потенциальная энергия взаимодействия тела и Зем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3929040" y="4714920"/>
            <a:ext cx="52149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потенциальная энергия упруго деформированн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214200" y="114300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изолированной системе, в которой действуют консервативные силы, механическая энергия сохра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акон сохранения энер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1749600" y="2786040"/>
                <a:ext cx="57513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1798560" y="4000680"/>
                <a:ext cx="5383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798560" y="5286240"/>
                <a:ext cx="5559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214200" y="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бсолютно упруги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214280" y="1214280"/>
                <a:ext cx="6453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05" name="Рисунок 6" descr="импульс7.PNG"/>
          <p:cNvPicPr/>
          <p:nvPr/>
        </p:nvPicPr>
        <p:blipFill>
          <a:blip r:embed="rId1"/>
          <a:stretch/>
        </p:blipFill>
        <p:spPr>
          <a:xfrm>
            <a:off x="285840" y="3500280"/>
            <a:ext cx="3214440" cy="334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150920" y="1971720"/>
                <a:ext cx="72788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Заголовок 1"/>
          <p:cNvSpPr/>
          <p:nvPr/>
        </p:nvSpPr>
        <p:spPr>
          <a:xfrm>
            <a:off x="3571920" y="3714840"/>
            <a:ext cx="52862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 абсолютно упругом ударе выполняется закон сохранения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Newtons_cradle_animation_book.gif"/>
          <p:cNvPicPr/>
          <p:nvPr/>
        </p:nvPicPr>
        <p:blipFill>
          <a:blip r:embed="rId1"/>
          <a:stretch/>
        </p:blipFill>
        <p:spPr>
          <a:xfrm>
            <a:off x="928800" y="64296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785880"/>
            <a:ext cx="8715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мпульс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личеством дви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 тела называется величина, равная произведению массы тела на его ско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импульс1.PNG"/>
          <p:cNvPicPr/>
          <p:nvPr/>
        </p:nvPicPr>
        <p:blipFill>
          <a:blip r:embed="rId1"/>
          <a:stretch/>
        </p:blipFill>
        <p:spPr>
          <a:xfrm>
            <a:off x="3159000" y="3262320"/>
            <a:ext cx="269892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импульс3.PNG"/>
          <p:cNvPicPr/>
          <p:nvPr/>
        </p:nvPicPr>
        <p:blipFill>
          <a:blip r:embed="rId2"/>
          <a:stretch/>
        </p:blipFill>
        <p:spPr>
          <a:xfrm>
            <a:off x="200160" y="5048280"/>
            <a:ext cx="88009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Заголовок 1"/>
          <p:cNvSpPr/>
          <p:nvPr/>
        </p:nvSpPr>
        <p:spPr>
          <a:xfrm>
            <a:off x="357120" y="71280"/>
            <a:ext cx="8429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3" descr="динамика_табл.PNG"/>
          <p:cNvPicPr/>
          <p:nvPr/>
        </p:nvPicPr>
        <p:blipFill>
          <a:blip r:embed="rId1"/>
          <a:stretch/>
        </p:blipFill>
        <p:spPr>
          <a:xfrm>
            <a:off x="142920" y="857160"/>
            <a:ext cx="87883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импульс2.PNG"/>
          <p:cNvPicPr/>
          <p:nvPr/>
        </p:nvPicPr>
        <p:blipFill>
          <a:blip r:embed="rId1"/>
          <a:stretch/>
        </p:blipFill>
        <p:spPr>
          <a:xfrm>
            <a:off x="0" y="1481040"/>
            <a:ext cx="924084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214200" y="285840"/>
            <a:ext cx="87156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пись второго закона Ньютона через изменение импуль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4200" y="3571920"/>
            <a:ext cx="87156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нение импульса тела прямо пропорционально приложенной к нему силе и имеет такое же направление, как и си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214200" y="285840"/>
            <a:ext cx="871560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действующие на тело, принадлежащее рассматриваемой системе, со стороны тел, не относящихся к данной системе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нешни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ы, возникающие вследствие взаимодействия тел, принадлежащих системе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нутренни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импульс4.PNG"/>
          <p:cNvPicPr/>
          <p:nvPr/>
        </p:nvPicPr>
        <p:blipFill>
          <a:blip r:embed="rId1"/>
          <a:stretch/>
        </p:blipFill>
        <p:spPr>
          <a:xfrm>
            <a:off x="2071800" y="4000680"/>
            <a:ext cx="48574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214200" y="64296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мпульс системы могут изменить только внешние силы, так как согласно третьему закону Ньют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импульс5.PNG"/>
          <p:cNvPicPr/>
          <p:nvPr/>
        </p:nvPicPr>
        <p:blipFill>
          <a:blip r:embed="rId1"/>
          <a:stretch/>
        </p:blipFill>
        <p:spPr>
          <a:xfrm>
            <a:off x="1428840" y="5286240"/>
            <a:ext cx="6270480" cy="106704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4200" y="357192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сли сумма внешних сил равна нулю, то полный импульс системы остается неизменн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8" descr="импульс6.PNG"/>
          <p:cNvPicPr/>
          <p:nvPr/>
        </p:nvPicPr>
        <p:blipFill>
          <a:blip r:embed="rId2"/>
          <a:stretch/>
        </p:blipFill>
        <p:spPr>
          <a:xfrm>
            <a:off x="1163520" y="2381400"/>
            <a:ext cx="69804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214200" y="1143000"/>
            <a:ext cx="8715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сли сумма внешних сил равна нулю, то импульс системы тел сохран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214200" y="214200"/>
            <a:ext cx="8715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акон сохранения импульс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946080" y="2786040"/>
                <a:ext cx="734076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4714920" y="4572000"/>
                <a:ext cx="414324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Заголовок 1"/>
          <p:cNvSpPr/>
          <p:nvPr/>
        </p:nvSpPr>
        <p:spPr>
          <a:xfrm>
            <a:off x="0" y="4643280"/>
            <a:ext cx="47862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сокращенной запис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8" descr="импульс6.PNG"/>
          <p:cNvPicPr/>
          <p:nvPr/>
        </p:nvPicPr>
        <p:blipFill>
          <a:blip r:embed="rId1"/>
          <a:stretch/>
        </p:blipFill>
        <p:spPr>
          <a:xfrm>
            <a:off x="2857680" y="3357720"/>
            <a:ext cx="2928600" cy="338760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214200" y="21420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бсолютно неупругий уда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взаимодействие тел, после которого они движутся как одно ц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428840" y="2357280"/>
                <a:ext cx="6143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214200" y="21420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бсолютно упругий уда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взаимодействие тел, при котором не происходит их де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346040" y="2357280"/>
                <a:ext cx="6453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67" name="Рисунок 6" descr="импульс7.PNG"/>
          <p:cNvPicPr/>
          <p:nvPr/>
        </p:nvPicPr>
        <p:blipFill>
          <a:blip r:embed="rId1"/>
          <a:stretch/>
        </p:blipFill>
        <p:spPr>
          <a:xfrm>
            <a:off x="2928960" y="3286080"/>
            <a:ext cx="321480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214200" y="214200"/>
            <a:ext cx="87156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нение величины скорости тела при его движении под действием силы характеризуется раб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бота сил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равна произведению модулей силы и перемещения точки приложения силы и косинуса угла между ни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энергия1.PNG"/>
          <p:cNvPicPr/>
          <p:nvPr/>
        </p:nvPicPr>
        <p:blipFill>
          <a:blip r:embed="rId1"/>
          <a:stretch/>
        </p:blipFill>
        <p:spPr>
          <a:xfrm>
            <a:off x="4183200" y="4224240"/>
            <a:ext cx="4889520" cy="12765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энергия2.PNG"/>
          <p:cNvPicPr/>
          <p:nvPr/>
        </p:nvPicPr>
        <p:blipFill>
          <a:blip r:embed="rId2"/>
          <a:stretch/>
        </p:blipFill>
        <p:spPr>
          <a:xfrm>
            <a:off x="71280" y="4214880"/>
            <a:ext cx="4015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09:32Z</dcterms:modified>
  <cp:revision>148</cp:revision>
  <dc:subject/>
  <dc:title>ЭЛЕКТРОДИНАМИКА</dc:title>
</cp:coreProperties>
</file>