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EEA-A8D7-44E0-8489-3C27C1A0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0DC-2C3C-4ED9-9C00-87B28B2C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77E-942F-4F4B-8A59-7DDFAAF6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977-4F9B-4785-AF8C-5A373DA0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CD3-F006-4877-8D02-83ED62D1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7F7-48F9-45E7-B476-3AAAB05E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CE8-EF23-432F-8A41-399ED972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3D4-7CA3-43E2-BA4F-89C2F422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E9A-8653-4695-AD9D-AC50055B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34A-B3EA-427E-85E5-CE56AEDD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598-63D1-4F66-80A0-FC1C9D18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65A-5453-4237-B570-C1CD9D46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A2CF-7D3C-46B0-B872-62751DF070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7180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  <a:ea typeface="Tahoma"/>
              </a:rPr>
              <a:t>ЗАКОНЫ СОХРАНЕНИЯ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ahoma"/>
                <a:ea typeface="Tahoma"/>
              </a:rPr>
              <a:t>В МЕХАНИК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357120" y="0"/>
            <a:ext cx="8429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Пб ГБПОУ «Фельдшерский колледж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5929200" y="4857840"/>
            <a:ext cx="2857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еподава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Лобанов Б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357280" y="6000840"/>
            <a:ext cx="4572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214200" y="71280"/>
            <a:ext cx="87156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Формула работы в векторной записи (через скалярное произведение векторов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214200" y="2428920"/>
            <a:ext cx="87156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Единица работы – джоуль. Один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жоу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– это работа, которую совершает сила в 1 Н при перемещении тела на 1 м, если направление силы и перемещения совпа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3214800" y="1500120"/>
                <a:ext cx="26272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" name="Рисунок 6" descr="энергия3.PNG"/>
          <p:cNvPicPr/>
          <p:nvPr/>
        </p:nvPicPr>
        <p:blipFill>
          <a:blip r:embed="rId1"/>
          <a:stretch/>
        </p:blipFill>
        <p:spPr>
          <a:xfrm>
            <a:off x="1214280" y="5283360"/>
            <a:ext cx="6786720" cy="7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энергия4.PNG"/>
          <p:cNvPicPr/>
          <p:nvPr/>
        </p:nvPicPr>
        <p:blipFill>
          <a:blip r:embed="rId1"/>
          <a:stretch/>
        </p:blipFill>
        <p:spPr>
          <a:xfrm>
            <a:off x="3143160" y="3286080"/>
            <a:ext cx="2587680" cy="1262160"/>
          </a:xfrm>
          <a:prstGeom prst="rect">
            <a:avLst/>
          </a:prstGeom>
          <a:ln w="0">
            <a:noFill/>
          </a:ln>
        </p:spPr>
      </p:pic>
      <p:sp>
        <p:nvSpPr>
          <p:cNvPr id="76" name="Заголовок 1"/>
          <p:cNvSpPr/>
          <p:nvPr/>
        </p:nvSpPr>
        <p:spPr>
          <a:xfrm>
            <a:off x="214200" y="71280"/>
            <a:ext cx="87156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Быстрота совершения работы характеризуется мощ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214200" y="1357200"/>
            <a:ext cx="8715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ощность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называется отношение работы к промежутку времени, в течение которого эта работа соверш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214200" y="4357800"/>
            <a:ext cx="8715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Единица мощности –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ат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9" descr="энергия5.PNG"/>
          <p:cNvPicPr/>
          <p:nvPr/>
        </p:nvPicPr>
        <p:blipFill>
          <a:blip r:embed="rId2"/>
          <a:stretch/>
        </p:blipFill>
        <p:spPr>
          <a:xfrm>
            <a:off x="2039760" y="5286240"/>
            <a:ext cx="51040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Заголовок 1"/>
          <p:cNvSpPr/>
          <p:nvPr/>
        </p:nvSpPr>
        <p:spPr>
          <a:xfrm>
            <a:off x="214200" y="214200"/>
            <a:ext cx="8715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Энерг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арактеризует способность тела совершать работу. Энергия определяется состоянием тела (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ложение, скор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) и изменяется при совершении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0"/>
          <p:cNvSpPr/>
          <p:nvPr/>
        </p:nvSpPr>
        <p:spPr>
          <a:xfrm>
            <a:off x="214200" y="2500200"/>
            <a:ext cx="60008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иды механической энер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инетическая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(связана с движением тела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тенциальная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(связана с действием на тело сторонних сил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6202440" y="3514680"/>
                <a:ext cx="245412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"/>
              <p:cNvSpPr txBox="1"/>
              <p:nvPr/>
            </p:nvSpPr>
            <p:spPr>
              <a:xfrm>
                <a:off x="6143760" y="5443560"/>
                <a:ext cx="2798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Заголовок 1"/>
          <p:cNvSpPr/>
          <p:nvPr/>
        </p:nvSpPr>
        <p:spPr>
          <a:xfrm>
            <a:off x="214200" y="4572000"/>
            <a:ext cx="87156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Энергия измеряется в тех же единицах, что и работа (Дж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214200" y="500040"/>
            <a:ext cx="87156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зменение кинетической энергии тела за некоторый промежуток времени равно работе, совершенной за это время силой, действующей на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6" descr="энергия6.PNG"/>
          <p:cNvPicPr/>
          <p:nvPr/>
        </p:nvPicPr>
        <p:blipFill>
          <a:blip r:embed="rId1"/>
          <a:stretch/>
        </p:blipFill>
        <p:spPr>
          <a:xfrm>
            <a:off x="1882800" y="3314880"/>
            <a:ext cx="56181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Заголовок 1"/>
          <p:cNvSpPr/>
          <p:nvPr/>
        </p:nvSpPr>
        <p:spPr>
          <a:xfrm>
            <a:off x="214200" y="2579760"/>
            <a:ext cx="87156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собен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абота силы тяжести не зависит от формы траекто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абота при движении по замкнутому контуру равна ну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ы, обладающие такими свойствами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онсервативны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Заголовок 1"/>
          <p:cNvSpPr/>
          <p:nvPr/>
        </p:nvSpPr>
        <p:spPr>
          <a:xfrm>
            <a:off x="214200" y="500040"/>
            <a:ext cx="8715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абота силы тяжести определяется только изменением высоты, на которую поднято те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6" descr="энергия6.PNG"/>
          <p:cNvPicPr/>
          <p:nvPr/>
        </p:nvPicPr>
        <p:blipFill>
          <a:blip r:embed="rId1"/>
          <a:stretch/>
        </p:blipFill>
        <p:spPr>
          <a:xfrm>
            <a:off x="2065320" y="1857240"/>
            <a:ext cx="50068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1"/>
          <p:cNvSpPr/>
          <p:nvPr/>
        </p:nvSpPr>
        <p:spPr>
          <a:xfrm>
            <a:off x="214200" y="3214800"/>
            <a:ext cx="364356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ы упругости также являются консерватив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214200" y="500040"/>
            <a:ext cx="8715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абота силы упругости зависит от величины деформации пружины в начальном и конечном состоя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6" descr="энергия6.PNG"/>
          <p:cNvPicPr/>
          <p:nvPr/>
        </p:nvPicPr>
        <p:blipFill>
          <a:blip r:embed="rId1"/>
          <a:stretch/>
        </p:blipFill>
        <p:spPr>
          <a:xfrm>
            <a:off x="71280" y="2428920"/>
            <a:ext cx="5357880" cy="12142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упр_энергия2.PNG"/>
          <p:cNvPicPr/>
          <p:nvPr/>
        </p:nvPicPr>
        <p:blipFill>
          <a:blip r:embed="rId2"/>
          <a:stretch/>
        </p:blipFill>
        <p:spPr>
          <a:xfrm>
            <a:off x="5429160" y="1789200"/>
            <a:ext cx="364356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Заголовок 1"/>
          <p:cNvSpPr/>
          <p:nvPr/>
        </p:nvSpPr>
        <p:spPr>
          <a:xfrm>
            <a:off x="214200" y="500040"/>
            <a:ext cx="87156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аботу указанных сил можно представить как разность энергии в двух состояниях. Такую энергию называют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тенциальной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7" descr="упр_энергия3.PNG"/>
          <p:cNvPicPr/>
          <p:nvPr/>
        </p:nvPicPr>
        <p:blipFill>
          <a:blip r:embed="rId1"/>
          <a:stretch/>
        </p:blipFill>
        <p:spPr>
          <a:xfrm>
            <a:off x="0" y="2357280"/>
            <a:ext cx="4286160" cy="3990960"/>
          </a:xfrm>
          <a:prstGeom prst="rect">
            <a:avLst/>
          </a:prstGeom>
          <a:ln w="0">
            <a:noFill/>
          </a:ln>
        </p:spPr>
      </p:pic>
      <p:sp>
        <p:nvSpPr>
          <p:cNvPr id="96" name="Заголовок 1"/>
          <p:cNvSpPr/>
          <p:nvPr/>
        </p:nvSpPr>
        <p:spPr>
          <a:xfrm>
            <a:off x="3929040" y="2714760"/>
            <a:ext cx="52149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- потенциальная энергия взаимодействия тела и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3929040" y="4714920"/>
            <a:ext cx="52149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- потенциальная энергия упруго деформированного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1"/>
          <p:cNvSpPr/>
          <p:nvPr/>
        </p:nvSpPr>
        <p:spPr>
          <a:xfrm>
            <a:off x="214200" y="1143000"/>
            <a:ext cx="8715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 изолированной системе, в которой действуют консервативные силы, механическая энергия сохран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214200" y="214200"/>
            <a:ext cx="8715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Закон сохранения энерг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1749600" y="2786040"/>
                <a:ext cx="57513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1798560" y="4000680"/>
                <a:ext cx="53834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798560" y="5286240"/>
                <a:ext cx="555948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Заголовок 1"/>
          <p:cNvSpPr/>
          <p:nvPr/>
        </p:nvSpPr>
        <p:spPr>
          <a:xfrm>
            <a:off x="214200" y="0"/>
            <a:ext cx="871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Абсолютно упруги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1214280" y="1214280"/>
                <a:ext cx="6453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05" name="Рисунок 6" descr="импульс7.PNG"/>
          <p:cNvPicPr/>
          <p:nvPr/>
        </p:nvPicPr>
        <p:blipFill>
          <a:blip r:embed="rId1"/>
          <a:stretch/>
        </p:blipFill>
        <p:spPr>
          <a:xfrm>
            <a:off x="285840" y="3500280"/>
            <a:ext cx="3214440" cy="334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1150920" y="1971720"/>
                <a:ext cx="72788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Заголовок 1"/>
          <p:cNvSpPr/>
          <p:nvPr/>
        </p:nvSpPr>
        <p:spPr>
          <a:xfrm>
            <a:off x="3571920" y="3714840"/>
            <a:ext cx="528624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и абсолютно упругом ударе выполняется закон сохранения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4" descr="Newtons_cradle_animation_book.gif"/>
          <p:cNvPicPr/>
          <p:nvPr/>
        </p:nvPicPr>
        <p:blipFill>
          <a:blip r:embed="rId1"/>
          <a:stretch/>
        </p:blipFill>
        <p:spPr>
          <a:xfrm>
            <a:off x="928800" y="64296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214200" y="785880"/>
            <a:ext cx="8715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мпульс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оличеством движ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) тела называется величина, равная произведению массы тела на его скор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импульс1.PNG"/>
          <p:cNvPicPr/>
          <p:nvPr/>
        </p:nvPicPr>
        <p:blipFill>
          <a:blip r:embed="rId1"/>
          <a:stretch/>
        </p:blipFill>
        <p:spPr>
          <a:xfrm>
            <a:off x="3159000" y="3262320"/>
            <a:ext cx="269892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импульс3.PNG"/>
          <p:cNvPicPr/>
          <p:nvPr/>
        </p:nvPicPr>
        <p:blipFill>
          <a:blip r:embed="rId2"/>
          <a:stretch/>
        </p:blipFill>
        <p:spPr>
          <a:xfrm>
            <a:off x="200160" y="5048280"/>
            <a:ext cx="88009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Заголовок 1"/>
          <p:cNvSpPr/>
          <p:nvPr/>
        </p:nvSpPr>
        <p:spPr>
          <a:xfrm>
            <a:off x="357120" y="71280"/>
            <a:ext cx="84297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Дома (!)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: заполнить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3" descr="динамика_табл.PNG"/>
          <p:cNvPicPr/>
          <p:nvPr/>
        </p:nvPicPr>
        <p:blipFill>
          <a:blip r:embed="rId1"/>
          <a:stretch/>
        </p:blipFill>
        <p:spPr>
          <a:xfrm>
            <a:off x="142920" y="857160"/>
            <a:ext cx="878832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импульс2.PNG"/>
          <p:cNvPicPr/>
          <p:nvPr/>
        </p:nvPicPr>
        <p:blipFill>
          <a:blip r:embed="rId1"/>
          <a:stretch/>
        </p:blipFill>
        <p:spPr>
          <a:xfrm>
            <a:off x="0" y="1481040"/>
            <a:ext cx="9240840" cy="230508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214200" y="285840"/>
            <a:ext cx="87156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апись второго закона Ньютона через изменение импуль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214200" y="3571920"/>
            <a:ext cx="87156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зменение импульса тела прямо пропорционально приложенной к нему силе и имеет такое же направление, как и с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214200" y="285840"/>
            <a:ext cx="87156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ы, действующие на тело, принадлежащее рассматриваемой системе, со стороны тел, не относящихся к данной системе, называю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нешни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ы, возникающие вследствие взаимодействия тел, принадлежащих системе, называю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нутренни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импульс4.PNG"/>
          <p:cNvPicPr/>
          <p:nvPr/>
        </p:nvPicPr>
        <p:blipFill>
          <a:blip r:embed="rId1"/>
          <a:stretch/>
        </p:blipFill>
        <p:spPr>
          <a:xfrm>
            <a:off x="2071800" y="4000680"/>
            <a:ext cx="48574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1"/>
          <p:cNvSpPr/>
          <p:nvPr/>
        </p:nvSpPr>
        <p:spPr>
          <a:xfrm>
            <a:off x="214200" y="642960"/>
            <a:ext cx="8715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мпульс системы могут изменить только внешние силы, так как согласно третьему закону Ньют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импульс5.PNG"/>
          <p:cNvPicPr/>
          <p:nvPr/>
        </p:nvPicPr>
        <p:blipFill>
          <a:blip r:embed="rId1"/>
          <a:stretch/>
        </p:blipFill>
        <p:spPr>
          <a:xfrm>
            <a:off x="1428840" y="5286240"/>
            <a:ext cx="6270480" cy="106704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214200" y="3571920"/>
            <a:ext cx="8715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Если сумма внешних сил равна нулю, то полный импульс системы остается неизмен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8" descr="импульс6.PNG"/>
          <p:cNvPicPr/>
          <p:nvPr/>
        </p:nvPicPr>
        <p:blipFill>
          <a:blip r:embed="rId2"/>
          <a:stretch/>
        </p:blipFill>
        <p:spPr>
          <a:xfrm>
            <a:off x="1163520" y="2381400"/>
            <a:ext cx="69804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1"/>
          <p:cNvSpPr/>
          <p:nvPr/>
        </p:nvSpPr>
        <p:spPr>
          <a:xfrm>
            <a:off x="214200" y="1143000"/>
            <a:ext cx="8715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Если сумма внешних сил равна нулю, то импульс системы тел сохран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214200" y="214200"/>
            <a:ext cx="8715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Закон сохранения импульс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946080" y="2786040"/>
                <a:ext cx="734076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4714920" y="4572000"/>
                <a:ext cx="414324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Заголовок 1"/>
          <p:cNvSpPr/>
          <p:nvPr/>
        </p:nvSpPr>
        <p:spPr>
          <a:xfrm>
            <a:off x="0" y="4643280"/>
            <a:ext cx="47862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 сокращенной запис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8" descr="импульс6.PNG"/>
          <p:cNvPicPr/>
          <p:nvPr/>
        </p:nvPicPr>
        <p:blipFill>
          <a:blip r:embed="rId1"/>
          <a:stretch/>
        </p:blipFill>
        <p:spPr>
          <a:xfrm>
            <a:off x="2857680" y="3357720"/>
            <a:ext cx="2928600" cy="338760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214200" y="214200"/>
            <a:ext cx="8715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Абсолютно неупругий уда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– взаимодействие тел, после которого они движутся как одно цел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1428840" y="2357280"/>
                <a:ext cx="61434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1"/>
          <p:cNvSpPr/>
          <p:nvPr/>
        </p:nvSpPr>
        <p:spPr>
          <a:xfrm>
            <a:off x="214200" y="214200"/>
            <a:ext cx="8715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Абсолютно упругий уда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– взаимодействие тел, при котором не происходит их де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346040" y="2357280"/>
                <a:ext cx="6453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67" name="Рисунок 6" descr="импульс7.PNG"/>
          <p:cNvPicPr/>
          <p:nvPr/>
        </p:nvPicPr>
        <p:blipFill>
          <a:blip r:embed="rId1"/>
          <a:stretch/>
        </p:blipFill>
        <p:spPr>
          <a:xfrm>
            <a:off x="2928960" y="3286080"/>
            <a:ext cx="321480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1"/>
          <p:cNvSpPr/>
          <p:nvPr/>
        </p:nvSpPr>
        <p:spPr>
          <a:xfrm>
            <a:off x="214200" y="214200"/>
            <a:ext cx="87156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зменение величины скорости тела при его движении под действием силы характеризуется раб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абота сил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равна произведению модулей силы и перемещения точки приложения силы и косинуса угла между ни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7" descr="энергия1.PNG"/>
          <p:cNvPicPr/>
          <p:nvPr/>
        </p:nvPicPr>
        <p:blipFill>
          <a:blip r:embed="rId1"/>
          <a:stretch/>
        </p:blipFill>
        <p:spPr>
          <a:xfrm>
            <a:off x="4183200" y="4224240"/>
            <a:ext cx="4889520" cy="12765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энергия2.PNG"/>
          <p:cNvPicPr/>
          <p:nvPr/>
        </p:nvPicPr>
        <p:blipFill>
          <a:blip r:embed="rId2"/>
          <a:stretch/>
        </p:blipFill>
        <p:spPr>
          <a:xfrm>
            <a:off x="71280" y="4214880"/>
            <a:ext cx="40150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3T19:15:02Z</dcterms:created>
  <dc:creator>Boris</dc:creator>
  <dc:description/>
  <dc:language>en-US</dc:language>
  <cp:lastModifiedBy>Boris</cp:lastModifiedBy>
  <dcterms:modified xsi:type="dcterms:W3CDTF">2020-10-29T17:09:32Z</dcterms:modified>
  <cp:revision>148</cp:revision>
  <dc:subject/>
  <dc:title>ЭЛЕКТРОДИНАМИКА</dc:title>
</cp:coreProperties>
</file>