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B2F8-F050-4C71-A8AE-6395FFD3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E78C-179E-44F1-AE15-D8E2446A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B197-B092-4274-874B-B74B5AA4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4A73-35E9-4BA9-86C9-7682E454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5DC3-F1E8-4175-85F4-4F6288CF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F1E1-4377-45AA-9650-FAE9E5AF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588C-C366-4438-9E4E-5700A9CF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E7C2-AEB4-4717-B9EA-4678D0BB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E578-1BB6-4315-AFD5-5CD74105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EC73-5593-4D3E-834C-E3E2C4B6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05EF-9852-4236-94D9-49141AAB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26E4-94C6-4528-AD99-EB49E404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6559-B764-4A13-9DAF-41AE1F03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B511-80D4-4437-B4A0-17BFA23E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14CA-84D3-4E86-BF99-1AA4EA26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2598-1CBB-4192-8EF7-8075FFFB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C829-87C7-4156-A873-793C683F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BAA4-0FF5-4E41-9298-B6BD8133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B561-F479-4071-935C-36143A73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3172-B4CE-4D83-98D5-AC249C16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3EAF-7988-4223-BCC9-642F681D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68F7-ABAF-484A-9331-0B221EAB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406D-AB61-4EC0-8FC3-DDEEBAC9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E953-2603-422C-A54A-E701D7B5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585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7474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C00F-5ED0-41AB-8590-3C3E7EC32B0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4f4f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7474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88D9-DF37-4DFB-ACE3-2A34112C91A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afa12"/>
                </a:solidFill>
                <a:latin typeface="Monotype Corsiva"/>
              </a:rPr>
              <a:t>Фоамиран</a:t>
            </a:r>
            <a:endParaRPr b="0" lang="en-US" sz="80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367344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Tahoma"/>
              </a:rPr>
              <a:t>Вырежьте два картонных лекала разного размера, но одной формы лепестка роз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Tahoma"/>
              </a:rPr>
              <a:t>Обведите зубочисткой на фоаме по лекалам 5 больших и 5 маленьких лепестков, вырежь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Как сделать розу из фоамирана"/>
          <p:cNvPicPr/>
          <p:nvPr/>
        </p:nvPicPr>
        <p:blipFill>
          <a:blip r:embed="rId1"/>
          <a:srcRect l="75364" t="0" r="0" b="51050"/>
          <a:stretch/>
        </p:blipFill>
        <p:spPr>
          <a:xfrm>
            <a:off x="4140360" y="0"/>
            <a:ext cx="5003640" cy="3267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Как сделать розу из фоамирана"/>
          <p:cNvPicPr/>
          <p:nvPr/>
        </p:nvPicPr>
        <p:blipFill>
          <a:blip r:embed="rId2"/>
          <a:srcRect l="0" t="0" r="51050" b="75364"/>
          <a:stretch/>
        </p:blipFill>
        <p:spPr>
          <a:xfrm>
            <a:off x="4140360" y="3333600"/>
            <a:ext cx="500364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8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a12"/>
                </a:solidFill>
                <a:latin typeface="Tahoma"/>
              </a:rPr>
              <a:t>Все лепестки прислоните к утюгу, и потяните край, чтобы они стали волнисты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a12"/>
                </a:solidFill>
                <a:latin typeface="Tahoma"/>
              </a:rPr>
              <a:t>Скатайте шарик из фольги, оберните первый маленький лепесток вокруг него в конус, зафиксируйте кле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Как сделать розу из фоамирана"/>
          <p:cNvPicPr/>
          <p:nvPr/>
        </p:nvPicPr>
        <p:blipFill>
          <a:blip r:embed="rId1"/>
          <a:srcRect l="50707" t="50051" r="25454" b="0"/>
          <a:stretch/>
        </p:blipFill>
        <p:spPr>
          <a:xfrm>
            <a:off x="4608360" y="0"/>
            <a:ext cx="4535640" cy="3784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Как сделать розу из фоамирана"/>
          <p:cNvPicPr/>
          <p:nvPr/>
        </p:nvPicPr>
        <p:blipFill>
          <a:blip r:embed="rId2"/>
          <a:srcRect l="0" t="50924" r="51050" b="25236"/>
          <a:stretch/>
        </p:blipFill>
        <p:spPr>
          <a:xfrm>
            <a:off x="4643280" y="3573360"/>
            <a:ext cx="45007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89000"/>
            <a:ext cx="42447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afa12"/>
                </a:solidFill>
                <a:latin typeface="Tahoma"/>
              </a:rPr>
              <a:t>Сделайте бутон из остальных маленьких лепестков, а большие, приклейте сверху, дела края волнистыми с помощью утю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afa12"/>
                </a:solidFill>
                <a:latin typeface="Tahoma"/>
              </a:rPr>
              <a:t>Вырежьте из зеленого фоама 6 листочков, приложите к утюгу, затем приклейте к роз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Как сделать розу из фоамирана"/>
          <p:cNvPicPr/>
          <p:nvPr/>
        </p:nvPicPr>
        <p:blipFill>
          <a:blip r:embed="rId1"/>
          <a:srcRect l="25236" t="51120" r="50111" b="0"/>
          <a:stretch/>
        </p:blipFill>
        <p:spPr>
          <a:xfrm>
            <a:off x="0" y="0"/>
            <a:ext cx="4427640" cy="4044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Как сделать розу из фоамирана"/>
          <p:cNvPicPr/>
          <p:nvPr/>
        </p:nvPicPr>
        <p:blipFill>
          <a:blip r:embed="rId2"/>
          <a:srcRect l="10809" t="77233" r="58955" b="0"/>
          <a:stretch/>
        </p:blipFill>
        <p:spPr>
          <a:xfrm>
            <a:off x="1258920" y="3429000"/>
            <a:ext cx="3457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a12"/>
                </a:solidFill>
                <a:latin typeface="Tahoma"/>
              </a:rPr>
              <a:t>Фоамиран – это новый синтетический иранский материал, недавно завезенный в Россию. Его название произошло от названия выпускающей компании «FoamIran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a12"/>
                </a:solidFill>
                <a:latin typeface="Tahoma"/>
              </a:rPr>
              <a:t>Фоам – это популярный материал, ведь его богатая цветовая гамма позволяет создавать очень реалистичные композиции и игрушки. Материал легко принимает любую форму, а объем заготовке придают с помощью легкого нагрева утюг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Фоамиран можно окрашивать и тонировать красками, патинами, пудрами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Фоамирану легко придать форму с помощью легкого нагрева (например, прикладывания к утюгу или щипцам для завивки), скручивания, растяжения, обработки инструментами для моделирования и т.д. 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ОЧЕНЬ ВАЖНО: после деформации фоамиран стойко сохраняет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форм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21608"/>
                </a:solidFill>
                <a:latin typeface="Tahoma"/>
              </a:rPr>
              <a:t>Особенности фоамирана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686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i="1" lang="ru-RU" sz="2400" spc="-1" strike="noStrike">
                <a:solidFill>
                  <a:srgbClr val="00ffff"/>
                </a:solidFill>
                <a:latin typeface="Tahoma"/>
              </a:rPr>
              <a:t>.</a:t>
            </a:r>
            <a:r>
              <a:rPr b="0" i="1" lang="ru-RU" sz="2400" spc="-1" strike="noStrike">
                <a:solidFill>
                  <a:srgbClr val="00ffff"/>
                </a:solidFill>
                <a:latin typeface="Tahoma"/>
              </a:rPr>
              <a:t> Главная его особенность состоит в </a:t>
            </a:r>
            <a:r>
              <a:rPr b="1" i="1" lang="ru-RU" sz="2400" spc="-1" strike="noStrike">
                <a:solidFill>
                  <a:srgbClr val="00ffff"/>
                </a:solidFill>
                <a:latin typeface="Tahoma"/>
              </a:rPr>
              <a:t>способности к небольшому растяжению</a:t>
            </a:r>
            <a:r>
              <a:rPr b="0" i="1" lang="ru-RU" sz="2400" spc="-1" strike="noStrike">
                <a:solidFill>
                  <a:srgbClr val="00ffff"/>
                </a:solidFill>
                <a:latin typeface="Tahoma"/>
              </a:rPr>
              <a:t> (до 10%).  Этого растяжения бывает достаточно, чтобы материал смог принять и "запомнить" новую форм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 Пластичная замша при толщине листа около 1 мм 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легко режется ножницами и вырубается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фигурными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компостерами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, а также специальными 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машинками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 для вырубки.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3. </a:t>
            </a:r>
            <a:r>
              <a:rPr b="1" i="1" lang="ru-RU" sz="2400" spc="-1" strike="noStrike">
                <a:solidFill>
                  <a:srgbClr val="00ffff"/>
                </a:solidFill>
                <a:latin typeface="Tahoma"/>
              </a:rPr>
              <a:t>Фоамиран </a:t>
            </a:r>
            <a:r>
              <a:rPr b="0" i="1" lang="ru-RU" sz="2400" spc="-1" strike="noStrike">
                <a:solidFill>
                  <a:srgbClr val="00ffff"/>
                </a:solidFill>
                <a:latin typeface="Tahoma"/>
              </a:rPr>
              <a:t>- довольно </a:t>
            </a:r>
            <a:r>
              <a:rPr b="1" i="1" lang="ru-RU" sz="2400" spc="-1" strike="noStrike">
                <a:solidFill>
                  <a:srgbClr val="00ffff"/>
                </a:solidFill>
                <a:latin typeface="Tahoma"/>
              </a:rPr>
              <a:t>универсальный материал</a:t>
            </a:r>
            <a:r>
              <a:rPr b="0" i="1" lang="ru-RU" sz="2400" spc="-1" strike="noStrike">
                <a:solidFill>
                  <a:srgbClr val="00ffff"/>
                </a:solidFill>
                <a:latin typeface="Tahoma"/>
              </a:rPr>
              <a:t> и может с успехом применяться для работы над совершенно различными объектами декора. </a:t>
            </a:r>
            <a:r>
              <a:rPr b="0" lang="ru-RU" sz="2400" spc="-1" strike="noStrike">
                <a:solidFill>
                  <a:srgbClr val="00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Фоамиран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 имеет слегка выраженную 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ористую структуру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 ("пористая резина", "пеноматериал"), но при этом обладает низким водопоглощением.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21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53160" cy="4314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8811" t="9417" r="3293" b="0"/>
          <a:stretch/>
        </p:blipFill>
        <p:spPr>
          <a:xfrm>
            <a:off x="2446200" y="2276640"/>
            <a:ext cx="6697800" cy="45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21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152880" y="0"/>
            <a:ext cx="5991120" cy="4495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219640" cy="3914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258920" y="2538360"/>
            <a:ext cx="57592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3914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48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48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21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6724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4556" t="0" r="0" b="0"/>
          <a:stretch/>
        </p:blipFill>
        <p:spPr>
          <a:xfrm>
            <a:off x="4716360" y="-24300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Как сделать розу из фоамирана"/>
          <p:cNvPicPr/>
          <p:nvPr/>
        </p:nvPicPr>
        <p:blipFill>
          <a:blip r:embed="rId1"/>
          <a:srcRect l="58696" t="75581" r="11074" b="0"/>
          <a:stretch/>
        </p:blipFill>
        <p:spPr>
          <a:xfrm>
            <a:off x="3333600" y="0"/>
            <a:ext cx="58104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485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1608"/>
                </a:solidFill>
                <a:latin typeface="Tahoma"/>
              </a:rPr>
              <a:t>Изготовление розы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адобя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1608"/>
                </a:solidFill>
                <a:latin typeface="Tahoma"/>
              </a:rPr>
              <a:t>2 листа фоа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1608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d21608"/>
                </a:solidFill>
                <a:latin typeface="Tahoma"/>
              </a:rPr>
              <a:t>(зеленый 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1608"/>
                </a:solidFill>
                <a:latin typeface="Tahoma"/>
              </a:rPr>
              <a:t>розовый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1608"/>
                </a:solidFill>
                <a:latin typeface="Tahoma"/>
              </a:rPr>
              <a:t>кл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1608"/>
                </a:solidFill>
                <a:latin typeface="Tahoma"/>
              </a:rPr>
              <a:t>фольг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1608"/>
                </a:solidFill>
                <a:latin typeface="Tahoma"/>
              </a:rPr>
              <a:t>лека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2T15:04:45Z</dcterms:created>
  <dc:creator>ыва</dc:creator>
  <dc:description/>
  <dc:language>en-US</dc:language>
  <cp:lastModifiedBy>ыва</cp:lastModifiedBy>
  <dcterms:modified xsi:type="dcterms:W3CDTF">2016-11-22T15:38:06Z</dcterms:modified>
  <cp:revision>2</cp:revision>
  <dc:subject/>
  <dc:title>Фоамиран</dc:title>
</cp:coreProperties>
</file>