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B423-A508-4E16-9124-CEB7F3B4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3C9-89A8-4988-A796-74E32483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640-AF6E-4FA5-8914-8EF918BE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C93-5C07-47E3-BA9C-D0CF0F6A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9EE1-CCE5-4AA5-9024-3F972962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A843-5DED-4F5C-B589-FC328973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EAE1-1C83-4168-AF44-0C1F5550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7625-54D9-45CE-AC5F-65D66CA2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BAEE-6B04-493C-B5EC-51280ECA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FFAD-D763-4133-924B-C313818B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609F-20F1-4566-8C64-6ABE95FF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357-5049-41C0-AE7D-B009CC84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73AC-DFBA-4A6F-B884-01B034BD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A2E8-DF09-4109-92C2-FD5898C1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3FDF-9C83-40E6-9BBA-F2CB8048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72A6-6E09-478E-A184-3634ADD9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1FCD-8946-4E8B-8318-6B2291D86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1D9-991E-4F4A-9F6E-8EC5C230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A94-1634-41D8-8856-0C05BF32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6A86-FA07-4A9E-B72C-CF672F3B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259-7A0A-4DF3-8FB5-D99B7441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4E5-4649-42A5-91AF-973B21D9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C7B-1E94-4D4C-8F6F-B4D35CE1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5E4-607B-4E96-A9B7-61A60F85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5858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131A-FECA-4CE9-A3FD-980A5353450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4f4f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e5e8e"/>
                </a:gs>
                <a:gs pos="100000">
                  <a:srgbClr val="7474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F6C3-DFA4-4EB2-9EF7-2EE96C2DCD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afa12"/>
                </a:solidFill>
                <a:latin typeface="Monotype Corsiva"/>
              </a:rPr>
              <a:t>Фоамиран</a:t>
            </a:r>
            <a:endParaRPr b="0" lang="en-US" sz="8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36734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Tahoma"/>
              </a:rPr>
              <a:t>Вырежьте два картонных лекала разного размера, но одной формы лепестка роз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Tahoma"/>
              </a:rPr>
              <a:t>Обведите зубочисткой на фоаме по лекалам 5 больших и 5 маленьких лепестков, вырежь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Как сделать розу из фоамирана"/>
          <p:cNvPicPr/>
          <p:nvPr/>
        </p:nvPicPr>
        <p:blipFill>
          <a:blip r:embed="rId1"/>
          <a:srcRect l="75364" t="0" r="0" b="51050"/>
          <a:stretch/>
        </p:blipFill>
        <p:spPr>
          <a:xfrm>
            <a:off x="4140360" y="0"/>
            <a:ext cx="5003640" cy="3267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Как сделать розу из фоамирана"/>
          <p:cNvPicPr/>
          <p:nvPr/>
        </p:nvPicPr>
        <p:blipFill>
          <a:blip r:embed="rId2"/>
          <a:srcRect l="0" t="0" r="51050" b="75364"/>
          <a:stretch/>
        </p:blipFill>
        <p:spPr>
          <a:xfrm>
            <a:off x="4140360" y="3333600"/>
            <a:ext cx="50036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a12"/>
                </a:solidFill>
                <a:latin typeface="Tahoma"/>
              </a:rPr>
              <a:t>Все лепестки прислоните к утюгу, и потяните край, чтобы они стали волнист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a12"/>
                </a:solidFill>
                <a:latin typeface="Tahoma"/>
              </a:rPr>
              <a:t>Скатайте шарик из фольги, оберните первый маленький лепесток вокруг него в конус, зафиксируйте кле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Как сделать розу из фоамирана"/>
          <p:cNvPicPr/>
          <p:nvPr/>
        </p:nvPicPr>
        <p:blipFill>
          <a:blip r:embed="rId1"/>
          <a:srcRect l="50707" t="50051" r="25454" b="0"/>
          <a:stretch/>
        </p:blipFill>
        <p:spPr>
          <a:xfrm>
            <a:off x="4608360" y="0"/>
            <a:ext cx="4535640" cy="3784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Как сделать розу из фоамирана"/>
          <p:cNvPicPr/>
          <p:nvPr/>
        </p:nvPicPr>
        <p:blipFill>
          <a:blip r:embed="rId2"/>
          <a:srcRect l="0" t="50924" r="51050" b="25236"/>
          <a:stretch/>
        </p:blipFill>
        <p:spPr>
          <a:xfrm>
            <a:off x="4643280" y="3573360"/>
            <a:ext cx="4500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89000"/>
            <a:ext cx="42447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fa12"/>
                </a:solidFill>
                <a:latin typeface="Tahoma"/>
              </a:rPr>
              <a:t>Сделайте бутон из остальных маленьких лепестков, а большие, приклейте сверху, дела края волнистыми с помощью утю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fa12"/>
                </a:solidFill>
                <a:latin typeface="Tahoma"/>
              </a:rPr>
              <a:t>Вырежьте из зеленого фоама 6 листочков, приложите к утюгу, затем приклейте к роз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Как сделать розу из фоамирана"/>
          <p:cNvPicPr/>
          <p:nvPr/>
        </p:nvPicPr>
        <p:blipFill>
          <a:blip r:embed="rId1"/>
          <a:srcRect l="25236" t="51120" r="50111" b="0"/>
          <a:stretch/>
        </p:blipFill>
        <p:spPr>
          <a:xfrm>
            <a:off x="0" y="0"/>
            <a:ext cx="4427640" cy="4044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к сделать розу из фоамирана"/>
          <p:cNvPicPr/>
          <p:nvPr/>
        </p:nvPicPr>
        <p:blipFill>
          <a:blip r:embed="rId2"/>
          <a:srcRect l="10809" t="77233" r="58955" b="0"/>
          <a:stretch/>
        </p:blipFill>
        <p:spPr>
          <a:xfrm>
            <a:off x="1258920" y="3429000"/>
            <a:ext cx="3457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a12"/>
                </a:solidFill>
                <a:latin typeface="Tahoma"/>
              </a:rPr>
              <a:t>Фоамиран – это новый синтетический иранский материал, недавно завезенный в Россию. Его название произошло от названия выпускающей компании «FoamIran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afa12"/>
                </a:solidFill>
                <a:latin typeface="Tahoma"/>
              </a:rPr>
              <a:t>Фоам – это популярный материал, ведь его богатая цветовая гамма позволяет создавать очень реалистичные композиции и игрушки. Материал легко принимает любую форму, а объем заготовке придают с помощью легкого нагрева утюг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Фоамиран можно окрашивать и тонировать красками, патинами, пудрами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Фоамирану легко придать форму с помощью легкого нагрева (например, прикладывания к утюгу или щипцам для завивки), скручивания, растяжения, обработки инструментами для моделирования и т.д. 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ОЧЕНЬ ВАЖНО: после деформации фоамиран стойко сохраняет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фор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21608"/>
                </a:solidFill>
                <a:latin typeface="Tahoma"/>
              </a:rPr>
              <a:t>Особенности фоамирана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i="1" lang="ru-RU" sz="2400" spc="-1" strike="noStrike">
                <a:solidFill>
                  <a:srgbClr val="00ffff"/>
                </a:solidFill>
                <a:latin typeface="Tahoma"/>
              </a:rPr>
              <a:t>.</a:t>
            </a:r>
            <a:r>
              <a:rPr b="0" i="1" lang="ru-RU" sz="2400" spc="-1" strike="noStrike">
                <a:solidFill>
                  <a:srgbClr val="00ffff"/>
                </a:solidFill>
                <a:latin typeface="Tahoma"/>
              </a:rPr>
              <a:t> Главная его особенность состоит в </a:t>
            </a:r>
            <a:r>
              <a:rPr b="1" i="1" lang="ru-RU" sz="2400" spc="-1" strike="noStrike">
                <a:solidFill>
                  <a:srgbClr val="00ffff"/>
                </a:solidFill>
                <a:latin typeface="Tahoma"/>
              </a:rPr>
              <a:t>способности к небольшому растяжению</a:t>
            </a:r>
            <a:r>
              <a:rPr b="0" i="1" lang="ru-RU" sz="2400" spc="-1" strike="noStrike">
                <a:solidFill>
                  <a:srgbClr val="00ffff"/>
                </a:solidFill>
                <a:latin typeface="Tahoma"/>
              </a:rPr>
              <a:t> (до 10%).  Этого растяжения бывает достаточно, чтобы материал смог принять и "запомнить" новую форм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 Пластичная замша при толщине листа около 1 мм 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легко режется ножницами и вырубается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фигурным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компостерам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, а также специальными 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ашинкам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 для вырубки.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3. </a:t>
            </a:r>
            <a:r>
              <a:rPr b="1" i="1" lang="ru-RU" sz="2400" spc="-1" strike="noStrike">
                <a:solidFill>
                  <a:srgbClr val="00ffff"/>
                </a:solidFill>
                <a:latin typeface="Tahoma"/>
              </a:rPr>
              <a:t>Фоамиран </a:t>
            </a:r>
            <a:r>
              <a:rPr b="0" i="1" lang="ru-RU" sz="2400" spc="-1" strike="noStrike">
                <a:solidFill>
                  <a:srgbClr val="00ffff"/>
                </a:solidFill>
                <a:latin typeface="Tahoma"/>
              </a:rPr>
              <a:t>- довольно </a:t>
            </a:r>
            <a:r>
              <a:rPr b="1" i="1" lang="ru-RU" sz="2400" spc="-1" strike="noStrike">
                <a:solidFill>
                  <a:srgbClr val="00ffff"/>
                </a:solidFill>
                <a:latin typeface="Tahoma"/>
              </a:rPr>
              <a:t>универсальный материал</a:t>
            </a:r>
            <a:r>
              <a:rPr b="0" i="1" lang="ru-RU" sz="2400" spc="-1" strike="noStrike">
                <a:solidFill>
                  <a:srgbClr val="00ffff"/>
                </a:solidFill>
                <a:latin typeface="Tahoma"/>
              </a:rPr>
              <a:t> и может с успехом применяться для работы над совершенно различными объектами декора. </a:t>
            </a: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Фоамиран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 имеет слегка выраженную 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ористую структуру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 ("пористая резина", "пеноматериал"), но при этом обладает низким водопоглощением.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21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53160" cy="4314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8811" t="9417" r="3293" b="0"/>
          <a:stretch/>
        </p:blipFill>
        <p:spPr>
          <a:xfrm>
            <a:off x="2446200" y="2276640"/>
            <a:ext cx="6697800" cy="45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21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52880" y="0"/>
            <a:ext cx="5991120" cy="4495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19640" cy="3914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258920" y="2538360"/>
            <a:ext cx="5759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3914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48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48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21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672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4556" t="0" r="0" b="0"/>
          <a:stretch/>
        </p:blipFill>
        <p:spPr>
          <a:xfrm>
            <a:off x="4716360" y="-24300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Как сделать розу из фоамирана"/>
          <p:cNvPicPr/>
          <p:nvPr/>
        </p:nvPicPr>
        <p:blipFill>
          <a:blip r:embed="rId1"/>
          <a:srcRect l="58696" t="75581" r="11074" b="0"/>
          <a:stretch/>
        </p:blipFill>
        <p:spPr>
          <a:xfrm>
            <a:off x="3333600" y="0"/>
            <a:ext cx="5810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1608"/>
                </a:solidFill>
                <a:latin typeface="Tahoma"/>
              </a:rPr>
              <a:t>Изготовление розы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адобя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1608"/>
                </a:solidFill>
                <a:latin typeface="Tahoma"/>
              </a:rPr>
              <a:t>2 листа фоа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1608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d21608"/>
                </a:solidFill>
                <a:latin typeface="Tahoma"/>
              </a:rPr>
              <a:t>(зеленый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1608"/>
                </a:solidFill>
                <a:latin typeface="Tahoma"/>
              </a:rPr>
              <a:t>розов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1608"/>
                </a:solidFill>
                <a:latin typeface="Tahoma"/>
              </a:rPr>
              <a:t>кл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1608"/>
                </a:solidFill>
                <a:latin typeface="Tahoma"/>
              </a:rPr>
              <a:t>фольг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1608"/>
                </a:solidFill>
                <a:latin typeface="Tahoma"/>
              </a:rPr>
              <a:t>лека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2T15:04:45Z</dcterms:created>
  <dc:creator>ыва</dc:creator>
  <dc:description/>
  <dc:language>en-US</dc:language>
  <cp:lastModifiedBy>ыва</cp:lastModifiedBy>
  <dcterms:modified xsi:type="dcterms:W3CDTF">2016-11-22T15:38:06Z</dcterms:modified>
  <cp:revision>2</cp:revision>
  <dc:subject/>
  <dc:title>Фоамиран</dc:title>
</cp:coreProperties>
</file>