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02E-6F70-4FCC-941F-DC292DFE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11F-44B4-4885-8800-6DB098F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509-D51E-4642-A11D-AD4C2D9B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BFC-A439-437C-A3CC-ED0FA4F9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DFE9-8873-41DE-8F47-A79AC371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1B4-8097-47CB-BD89-4AB5C930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1778-1E9C-45B4-8783-97FA7A7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0F05-01FB-4CA8-B9FA-AAA37A2C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7E46-88BE-4036-82F0-79E21275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B623-1C86-45DA-B189-012FE8BA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22D5-37BF-457A-862D-4203126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FB1-B2D1-4A39-86FA-B02AF776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4E3B-B179-45F7-9EE3-D92074C3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D7CD-4F48-4918-9126-05BF3E9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82F7-E09B-44A9-9A0B-895C65D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9C86-FB26-415B-BD5C-2DC39FFF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9F04-45DD-487A-AD35-279191C5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6307-AFC8-4D33-BACE-5D45B8B0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6822-8742-4E23-A644-314D8AD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1AEC-90A3-419D-9E17-1BDFFF4B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34B2-721C-4C88-838E-25DD735D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E34F-B9F8-4AE8-AB11-C5228220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C63-2A2F-46D8-8635-1098B44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A833-067F-4E98-AB61-A30C1887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2DB2-411C-4A6F-A326-4EBF072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495F3-CEF9-4A9F-A657-AB36542F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5651-4D86-46EB-8131-F1ED02D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5F50-A6F3-436D-A6E2-EB60F395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40D1-7031-48AD-A0AE-35AD6AFB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043C-3AB3-4F71-8734-CAA4A672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3C714-9C3E-48B0-9C6A-5B3A729F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8A4B-D0C2-4EF4-B8AA-29322C8D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3AA4-068F-4B7C-9373-DCE5BBD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48E-7284-42BA-BE3A-C8363DC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E9C4-B4FA-4FA1-866E-D4CA9423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C16C-C4FF-4BE3-9913-96770114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E717-9ACB-439D-9C02-76C63B8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206B-EAF9-4CA4-9D81-6DD8773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0A69A-57C9-49D5-BCC6-79D62428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9CF0-DB4E-4303-B5F6-5A8A446C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B014-C172-4FA1-89A4-0C283575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92A8-D200-4EF8-9B40-D9438754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41B1-DB37-4A89-93DA-767D6CA4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71FC2-F77B-472F-A42E-42E69B49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4A9-76FA-4B52-AE90-FFE3C100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1618-3A2D-4A01-A516-8CF0FB1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F476-2FE2-4054-91A9-F286529B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6407-5025-41A7-BA53-2A004842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27E81-EE5C-420C-919F-4AC4827B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98C1-2030-4C7B-B1EC-552ED39D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1B81-08CF-419B-9F5F-E278B1D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51E84-8F64-4AC6-8C6C-D3205668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9C31-589B-4F5A-B2E4-EF5B622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045D1-2DD0-4321-8AF2-5B153F08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2DE1-AF1E-4314-A904-12682498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C7E-A68A-40EE-A701-39476149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32C0-B43F-4C15-9BA4-BAF15EC3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8A89-81B5-4998-A06F-57E9B2AF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62127-0BFF-401A-85BD-DAB51D0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7A8BB-5590-458C-8306-0BCF4E97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B8FE1-97BE-4B92-95FE-6EF6BE8F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41FC-D086-4C45-9436-0D71F79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3E9D-1C4C-4003-A138-92052DC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62A3-395D-49AE-98BB-8A91439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C9A05-6A62-440C-8F76-DBCDEFFB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68403-A3FC-4693-AC10-E429902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D0B-1B5F-4E61-80FE-CFE0AF7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A72EA-88E3-4092-9E30-2ACFDB9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B6AD-097E-481B-B4E2-0F49BB28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1634D-F482-4741-9BF5-91614ACD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60589-E761-4FA2-B87A-BE6E8402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D6EAC-1E2F-4584-8E2A-7DCCA08E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F377F-B2CB-4EDA-98FE-34D52B4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3E97-12C1-4615-9299-B08DA18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011C7-BD90-4FE0-ABC0-8A16A4D2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867D7-B40E-4F8F-BEE2-702CD400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9FE8-6C2C-4A93-B92F-FAAD889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E7F-04F2-4689-9E40-07A82E94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063A9-39DC-4F7F-9F09-6CB6728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72759-BEA0-43FD-8FDA-0A150F34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504E7-4F77-457D-A7E6-0D5A036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B91AF-1CF9-4934-9E25-6724F2AD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62EF8-6F04-4289-87E5-B3B8AE70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C4E-108F-4404-BB71-DDB29D5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EDB9-16C4-4C63-908F-899A36C5DA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EC0-6C2D-49FC-92CB-B56E7B2993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EB4E-5380-4817-BB40-DE23847FBD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F193-CE95-4E1A-8B45-3927E18432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3D9D-86B6-4191-A7FB-85FFDC33CB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5E5D-BBD2-481C-95F4-EEDA21F6ED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A271-8CA6-4AC8-8519-333AB86E7B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3/7.htm" TargetMode="External"/><Relationship Id="rId2" Type="http://schemas.openxmlformats.org/officeDocument/2006/relationships/hyperlink" Target="file:///3/7.htm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&#1040;&#1076;&#1084;&#1080;&#1085;&#1080;&#1089;&#1090;&#1088;&#1072;&#1090;&#1086;&#1088;/&#1056;&#1072;&#1073;&#1086;&#1095;&#1080;&#1081;%20&#1089;&#1090;&#1086;&#1083;/3/6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b80a"/>
                </a:solidFill>
                <a:latin typeface="Corbel"/>
              </a:rPr>
              <a:t>Тема урок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 Культура стран халифата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200400" y="304560"/>
            <a:ext cx="5943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еликий учёный из Хорезма, автор многочисленных  трудов по истории, географии, филологии, астрономии, математике, геодезии, минералогии, фармакологии, геологии и др.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Аль- Бируни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ладел почти всеми науками своего времени. 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8" descr="180px-Biruni_Iranian"/>
          <p:cNvPicPr/>
          <p:nvPr/>
        </p:nvPicPr>
        <p:blipFill>
          <a:blip r:embed="rId1"/>
          <a:stretch/>
        </p:blipFill>
        <p:spPr>
          <a:xfrm>
            <a:off x="0" y="1523880"/>
            <a:ext cx="3244680" cy="5029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9"/>
          <p:cNvSpPr/>
          <p:nvPr/>
        </p:nvSpPr>
        <p:spPr>
          <a:xfrm>
            <a:off x="0" y="6019920"/>
            <a:ext cx="312408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5" descr="Рисунок4"/>
          <p:cNvPicPr/>
          <p:nvPr/>
        </p:nvPicPr>
        <p:blipFill>
          <a:blip r:embed="rId1"/>
          <a:stretch/>
        </p:blipFill>
        <p:spPr>
          <a:xfrm>
            <a:off x="457200" y="1603440"/>
            <a:ext cx="3400560" cy="4873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9621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orbel"/>
              </a:rPr>
              <a:t>Он </a:t>
            </a:r>
            <a:r>
              <a:rPr b="1" lang="ru-RU" sz="3700" spc="-1" strike="noStrike">
                <a:solidFill>
                  <a:srgbClr val="ff0000"/>
                </a:solidFill>
                <a:latin typeface="Corbel"/>
              </a:rPr>
              <a:t>высказал</a:t>
            </a:r>
            <a:r>
              <a:rPr b="1" lang="ru-RU" sz="3700" spc="-1" strike="noStrike">
                <a:solidFill>
                  <a:srgbClr val="000000"/>
                </a:solidFill>
                <a:latin typeface="Corbel"/>
              </a:rPr>
              <a:t> гениальную догадку, что центром нашей Вселенной является Солнце, а Земля движется вокруг него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0880" y="5943600"/>
            <a:ext cx="3429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1" descr="Рисунок7"/>
          <p:cNvPicPr/>
          <p:nvPr/>
        </p:nvPicPr>
        <p:blipFill>
          <a:blip r:embed="rId1"/>
          <a:stretch/>
        </p:blipFill>
        <p:spPr>
          <a:xfrm>
            <a:off x="0" y="1295280"/>
            <a:ext cx="3854520" cy="5105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3809880" y="8377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исьменная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история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одилась у арабов вместе с исламом. Появились предания и сообщения о Мухаммеде, его биографии, сведения о том, как возник ислам. Историки прославляли завоевания арабов и в кратком виде излагали историю римских, византийских и иранских правител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9" descr="Рисунок8"/>
          <p:cNvPicPr/>
          <p:nvPr/>
        </p:nvPicPr>
        <p:blipFill>
          <a:blip r:embed="rId1"/>
          <a:stretch/>
        </p:blipFill>
        <p:spPr>
          <a:xfrm>
            <a:off x="0" y="685800"/>
            <a:ext cx="4143240" cy="5181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419360" y="1447560"/>
            <a:ext cx="4724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большом почете у арабов была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географ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. Об этом говорит пословица: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Кто отправляется в путь ради науки, перед тем открываются двери рая».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еографы не только изучали сообщения о других странах, но и стремились побывать в них, с риском для жизни совершали далекие путешеств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0" y="5638680"/>
            <a:ext cx="419112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утешест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09880" y="685800"/>
            <a:ext cx="51055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спешно развивалась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Corbel"/>
              </a:rPr>
              <a:t>медицина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 Средней Азии жил великий ученый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Ибн Сина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(980— 1037), в Европе его называли Авиценна. Он был очень разносторонним мыслителем — философ, астроном, географ, медик, поэт. Ему принадлежит более ста научных труд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8" descr="4f2f942a9907e"/>
          <p:cNvPicPr/>
          <p:nvPr/>
        </p:nvPicPr>
        <p:blipFill>
          <a:blip r:embed="rId1"/>
          <a:stretch/>
        </p:blipFill>
        <p:spPr>
          <a:xfrm>
            <a:off x="0" y="1295280"/>
            <a:ext cx="3673440" cy="5105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248520"/>
            <a:ext cx="380988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419360" y="914040"/>
            <a:ext cx="47242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собенно прославился Ибн Сина как врач. В своем знаменитом труде по медицине он описал признаки многих болезней, которые до него не умели различать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10" descr="muselman-alimi"/>
          <p:cNvPicPr/>
          <p:nvPr/>
        </p:nvPicPr>
        <p:blipFill>
          <a:blip r:embed="rId1"/>
          <a:stretch/>
        </p:blipFill>
        <p:spPr>
          <a:xfrm>
            <a:off x="0" y="1828800"/>
            <a:ext cx="4343400" cy="32655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1"/>
          <p:cNvSpPr/>
          <p:nvPr/>
        </p:nvSpPr>
        <p:spPr>
          <a:xfrm>
            <a:off x="0" y="510552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32" descr="Рисунок13"/>
          <p:cNvPicPr/>
          <p:nvPr/>
        </p:nvPicPr>
        <p:blipFill>
          <a:blip r:embed="rId1"/>
          <a:stretch/>
        </p:blipFill>
        <p:spPr>
          <a:xfrm>
            <a:off x="0" y="1447920"/>
            <a:ext cx="4105440" cy="5410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343040" y="12193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упцы и погонщики верблюдов привозили из других стран чудесные сказки. Их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рассказывали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о дворцах халифа и знати, на базарах, улицах и в домах Багдада. Многие слушатели любили рассказы об удивительных путешествиях и приключения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27672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остой люд передавал смешные истории о хитрецах, которые ловко обманывали судей и чиновников. Из этих сказок позднее был составлен известный всему миру сборник      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orbel"/>
              </a:rPr>
              <a:t>« Тысяча и одна ночь»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обравший в себя предания и легенды многих наро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7" descr="notes_1323251570"/>
          <p:cNvPicPr/>
          <p:nvPr/>
        </p:nvPicPr>
        <p:blipFill>
          <a:blip r:embed="rId3"/>
          <a:stretch/>
        </p:blipFill>
        <p:spPr>
          <a:xfrm>
            <a:off x="0" y="0"/>
            <a:ext cx="2295360" cy="3048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0" descr="5907"/>
          <p:cNvPicPr/>
          <p:nvPr/>
        </p:nvPicPr>
        <p:blipFill>
          <a:blip r:embed="rId4"/>
          <a:stretch/>
        </p:blipFill>
        <p:spPr>
          <a:xfrm>
            <a:off x="1066680" y="2819520"/>
            <a:ext cx="2360880" cy="310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7" descr="Рисунок15"/>
          <p:cNvPicPr/>
          <p:nvPr/>
        </p:nvPicPr>
        <p:blipFill>
          <a:blip r:embed="rId1"/>
          <a:stretch/>
        </p:blipFill>
        <p:spPr>
          <a:xfrm>
            <a:off x="0" y="213372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19112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ще до ислама у арабов возникла богатая поэзия, отразившая быт и обычаи кочевников. В каждом племени был свой признанный поэт, выступавший на празднествах. Доисламские поэты воспели смелого воина, щедрого и верного данному слов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" descr="Рисунок14"/>
          <p:cNvPicPr/>
          <p:nvPr/>
        </p:nvPicPr>
        <p:blipFill>
          <a:blip r:embed="rId1"/>
          <a:stretch/>
        </p:blipFill>
        <p:spPr>
          <a:xfrm>
            <a:off x="0" y="167652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038480" y="11430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накомство с культурой покоренных народов изменило интересы и вкусы арабов. Поэтов интересовали теперь «вечные» вопросы: о добре и зле, о жизни и смерти, о богатстве и бедности, о любви и измене, о красоте мира и его печалях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430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Образование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Наук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Искусство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Значение культура халифат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ПЛАН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419360" y="12949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дним из самых знаменитых поэтов был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Фирдоуси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(934—1020). Более 30 лет он работал над поэмой «Шахнаме» («Книга царей»). В ней рассказывается о борьбе иранского народа против завоевателей, прославляются подвиги легендарных герое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7" descr="File:Фирдуси читает поэму «Шах-Наме» шаху Махмуду Газневи (1913).jpg"/>
          <p:cNvPicPr/>
          <p:nvPr/>
        </p:nvPicPr>
        <p:blipFill>
          <a:blip r:embed="rId1"/>
          <a:stretch/>
        </p:blipFill>
        <p:spPr>
          <a:xfrm>
            <a:off x="0" y="1905120"/>
            <a:ext cx="4267080" cy="39542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0" y="5638680"/>
            <a:ext cx="42670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доуси читает поэ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Шахна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26708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з всех видов искусства более всего в халифате была развита архитектура. Строители возводили для халифов великолепные дворцы, гробницы и крепости. Всему миру известна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Альгамбра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— дворец эмира в испанском городе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Гранад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7" descr="File:Patio de los Arrayanes.jpg"/>
          <p:cNvPicPr/>
          <p:nvPr/>
        </p:nvPicPr>
        <p:blipFill>
          <a:blip r:embed="rId1"/>
          <a:stretch/>
        </p:blipFill>
        <p:spPr>
          <a:xfrm>
            <a:off x="0" y="114300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8"/>
          <p:cNvSpPr/>
          <p:nvPr/>
        </p:nvSpPr>
        <p:spPr>
          <a:xfrm>
            <a:off x="0" y="6095880"/>
            <a:ext cx="373392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 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ИСКУССТВО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34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4419720" cy="38228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36" descr="Рисунок18"/>
          <p:cNvPicPr/>
          <p:nvPr/>
        </p:nvPicPr>
        <p:blipFill>
          <a:blip r:embed="rId2"/>
          <a:stretch/>
        </p:blipFill>
        <p:spPr>
          <a:xfrm>
            <a:off x="4343400" y="36576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394" name="Oval 8"/>
          <p:cNvSpPr/>
          <p:nvPr/>
        </p:nvSpPr>
        <p:spPr>
          <a:xfrm>
            <a:off x="4572000" y="609480"/>
            <a:ext cx="3962520" cy="160020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800240" y="10666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ородах сооружали мечети. Мечеть служила не только местом молитвы, но и залом суда, хранилищем книг, а также денег, собранных для бедных, и просто клубом, где можно было потолковать с друз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7" descr="200px-Sultan_Ahmed_Mosque%2C_Istambul"/>
          <p:cNvPicPr/>
          <p:nvPr/>
        </p:nvPicPr>
        <p:blipFill>
          <a:blip r:embed="rId1"/>
          <a:stretch/>
        </p:blipFill>
        <p:spPr>
          <a:xfrm>
            <a:off x="0" y="220968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038480" y="837720"/>
            <a:ext cx="5105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лавное здание мечети — четырехугольный молитвенный зал, открытый во двор, который обычно окружала галерея с колоннами, где собравшиеся отдыхали; в середине двора верующие совершали омовение у бассейна с проточной водой. Иногда над мечетью возводили купол, но чаще крыша была плоской. Множество колонн, изящных и легких, заполняли молитвенный за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Picture 7" descr="cairo_al_azhar_mosque2"/>
          <p:cNvPicPr/>
          <p:nvPr/>
        </p:nvPicPr>
        <p:blipFill>
          <a:blip r:embed="rId1"/>
          <a:stretch/>
        </p:blipFill>
        <p:spPr>
          <a:xfrm>
            <a:off x="0" y="22860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81280" y="114300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 сравнению с христианским храмом убранство мечети самое простое: в ней нет ни мебели, ни дорогой утвари, ни музыкальных инструментов. Пол застлан коврами, на которых рассаживаются посетители, предварительно оставив за дверями обувь; стены расписаны изречениями из Кора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3" name="Picture 7" descr="P1000547"/>
          <p:cNvPicPr/>
          <p:nvPr/>
        </p:nvPicPr>
        <p:blipFill>
          <a:blip r:embed="rId1"/>
          <a:stretch/>
        </p:blipFill>
        <p:spPr>
          <a:xfrm>
            <a:off x="0" y="19810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коло мечети возводили один или несколько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Corbel"/>
              </a:rPr>
              <a:t>минаретов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— высоких башен, с которых пять раз в день верующих созывали на молитву специальные служит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7" descr="0_51430_ee5403f6_L"/>
          <p:cNvPicPr/>
          <p:nvPr/>
        </p:nvPicPr>
        <p:blipFill>
          <a:blip r:embed="rId1"/>
          <a:stretch/>
        </p:blipFill>
        <p:spPr>
          <a:xfrm>
            <a:off x="0" y="1523880"/>
            <a:ext cx="3552840" cy="5334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6200" y="8377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рабские постройки богато украшали резьбой по камню, изразцами, мозаикой на стенах и на полу. Стены зданий покрывали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арабесками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— сложными геометрическими узорами из пересекающихся и переплетающихся линий. Изображение людей и животных мусульманством запрещен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7" descr="4e786696e2e1"/>
          <p:cNvPicPr/>
          <p:nvPr/>
        </p:nvPicPr>
        <p:blipFill>
          <a:blip r:embed="rId1"/>
          <a:stretch/>
        </p:blipFill>
        <p:spPr>
          <a:xfrm>
            <a:off x="0" y="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arabesque_13"/>
          <p:cNvPicPr/>
          <p:nvPr/>
        </p:nvPicPr>
        <p:blipFill>
          <a:blip r:embed="rId2"/>
          <a:stretch/>
        </p:blipFill>
        <p:spPr>
          <a:xfrm>
            <a:off x="533520" y="2666880"/>
            <a:ext cx="2852640" cy="32767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14264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тр. 89-90 – прочитать и ответить на вопрос </a:t>
            </a:r>
            <a:r>
              <a:rPr b="1" lang="ru-RU" sz="4000" spc="-1" strike="noStrike">
                <a:solidFill>
                  <a:srgbClr val="cc3300"/>
                </a:solidFill>
                <a:latin typeface="Corbel"/>
              </a:rPr>
              <a:t>« Каково значение культуры халифата?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709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Значение культуры халифата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218960" y="1294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Параграф 10, записи, вопрос 7 - письменно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3430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халифат входило много стран с высокой древней культурой: Египет, Сирия, Палестина, Месопотамия, Иран, Средняя Азия. В этих странах широко распространился ислам, а вместе с ним — арабский язык. Его называли «латынью Восток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10" descr="Файл:Asia history map 632.png"/>
          <p:cNvPicPr/>
          <p:nvPr/>
        </p:nvPicPr>
        <p:blipFill>
          <a:blip r:embed="rId1"/>
          <a:stretch/>
        </p:blipFill>
        <p:spPr>
          <a:xfrm>
            <a:off x="0" y="2057400"/>
            <a:ext cx="4648320" cy="3381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0" y="5562720"/>
            <a:ext cx="4572000" cy="533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й халифат в 63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ОБРАЗОВАНИ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38" descr="Рисунок1"/>
          <p:cNvPicPr/>
          <p:nvPr/>
        </p:nvPicPr>
        <p:blipFill>
          <a:blip r:embed="rId1"/>
          <a:stretch/>
        </p:blipFill>
        <p:spPr>
          <a:xfrm>
            <a:off x="0" y="1698480"/>
            <a:ext cx="4572000" cy="3918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164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ьные школы у мусульман были частными. Те, кто мог платить, занимались на дому с наемными учителями. Образование можно было продолжить, посещая лекции и беседы знатоков Корана, Сунны и шариата. При наиболее известных мечетях в больших городах были открыты высшие мусульманские школы — медрес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0" y="5562720"/>
            <a:ext cx="4572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ресе в Бух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990720" y="1523520"/>
            <a:ext cx="847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"/>
              </a:rPr>
              <a:t>Сунна</a:t>
            </a:r>
            <a:r>
              <a:rPr b="1" lang="ru-RU" sz="4000" spc="-1" strike="noStrike">
                <a:solidFill>
                  <a:srgbClr val="ff0000"/>
                </a:solidFill>
                <a:latin typeface="com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– собрание рассказов об изречениях и поступках Мухаммед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"/>
              </a:rPr>
              <a:t>Мечеть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– мусульманский хра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Определе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29" descr="Рисунок3"/>
          <p:cNvPicPr/>
          <p:nvPr/>
        </p:nvPicPr>
        <p:blipFill>
          <a:blip r:embed="rId1"/>
          <a:stretch/>
        </p:blipFill>
        <p:spPr>
          <a:xfrm>
            <a:off x="0" y="1981080"/>
            <a:ext cx="4724280" cy="3451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72428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ждый знатный человек желал иметь в своем окружении как можно больше выдающихся поэтов, ученых, знатоков Корана, которые чаще всего жили при дворцах халифов и эмиров, получали содержание и дары от своих покровителей, за это прославляли их, посвящали им свои произвед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5410080"/>
            <a:ext cx="4572000" cy="8384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оэты просла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л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971440" y="144756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VIII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X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веках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а арабский язык были переведены научные труды древнегреческих, иранских, индийских ученых.- Особенно много переводов было сделано при Харуне ар-Рашиде и его сыне. В Багдаде тогда был основан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 Дом Мудрости»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— хранилище рукописей, где переводили и переписывали книг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8" descr="File:Harun Al-Rashid and the World of the Thousand and One Nights.jpg"/>
          <p:cNvPicPr/>
          <p:nvPr/>
        </p:nvPicPr>
        <p:blipFill>
          <a:blip r:embed="rId2"/>
          <a:stretch/>
        </p:blipFill>
        <p:spPr>
          <a:xfrm>
            <a:off x="0" y="1523880"/>
            <a:ext cx="2755800" cy="5029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9"/>
          <p:cNvSpPr/>
          <p:nvPr/>
        </p:nvSpPr>
        <p:spPr>
          <a:xfrm>
            <a:off x="0" y="6324480"/>
            <a:ext cx="3048120" cy="5335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ун ар-Раш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НАУК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3812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рабским математикам были известны труды Пифагора, Евклида и Архимеда, индийских астрономов и математик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ни создали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лгебру,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тали пользоваться индийскими цифрами. Постепенно эти цифры, стали называться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рабскими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, и их счет проникли в Европ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7" descr="Al-kindi.jpeg"/>
          <p:cNvPicPr/>
          <p:nvPr/>
        </p:nvPicPr>
        <p:blipFill>
          <a:blip r:embed="rId1"/>
          <a:stretch/>
        </p:blipFill>
        <p:spPr>
          <a:xfrm>
            <a:off x="0" y="0"/>
            <a:ext cx="2600280" cy="3581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20010219-001-01.jpg"/>
          <p:cNvPicPr/>
          <p:nvPr/>
        </p:nvPicPr>
        <p:blipFill>
          <a:blip r:embed="rId2"/>
          <a:stretch/>
        </p:blipFill>
        <p:spPr>
          <a:xfrm>
            <a:off x="1752480" y="2819520"/>
            <a:ext cx="2324160" cy="3276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1"/>
          <p:cNvSpPr/>
          <p:nvPr/>
        </p:nvSpPr>
        <p:spPr>
          <a:xfrm>
            <a:off x="0" y="6095880"/>
            <a:ext cx="42670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9520" y="533160"/>
            <a:ext cx="5334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 Багдаде и Дамаске действовали </a:t>
            </a:r>
            <a:r>
              <a:rPr b="0" lang="ru-RU" sz="3600" spc="-1" strike="noStrike" u="sng">
                <a:solidFill>
                  <a:srgbClr val="cc3300"/>
                </a:solidFill>
                <a:uFillTx/>
                <a:latin typeface="Corbel"/>
              </a:rPr>
              <a:t>обсерватории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Пользуясь сложными инструментами, </a:t>
            </a:r>
            <a:r>
              <a:rPr b="0" i="1" lang="ru-RU" sz="3600" spc="-1" strike="noStrike">
                <a:solidFill>
                  <a:srgbClr val="ff0000"/>
                </a:solidFill>
                <a:latin typeface="Corbel"/>
              </a:rPr>
              <a:t>астрономы</a:t>
            </a:r>
            <a:r>
              <a:rPr b="0" i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умели приблизительно вычислить окружность Земли, описали положение видимых звезд на небе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7" descr="File:Taqi al din.jpg"/>
          <p:cNvPicPr/>
          <p:nvPr/>
        </p:nvPicPr>
        <p:blipFill>
          <a:blip r:embed="rId1"/>
          <a:stretch/>
        </p:blipFill>
        <p:spPr>
          <a:xfrm>
            <a:off x="0" y="1523880"/>
            <a:ext cx="3654360" cy="5334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3-17T17:33:3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