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EC1-B619-487E-AB7F-D569748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60D-B978-426E-A997-F886881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65A-E989-4C8B-9652-F4C98310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8BA-AA2A-450B-AB04-3554CCEE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C6E-F117-4C34-B83D-4C357938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3BE-6E21-483C-ABED-5B19E9DB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7B20-64BB-48F5-82CD-A912D422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85F-813B-4144-8027-DA0DD48F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78E-ED1D-4D37-BDB2-B98B13D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4AC-6C95-4041-B1B2-2D22B852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D7B4-D5FA-49B1-B984-F6D75252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283-9CF5-448A-8ED0-96B89A94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1614-A56B-4A90-9E95-ED01D50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A497-743F-43C1-828A-7097428A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6147-4593-4D86-92F3-50894BF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9752-4165-477B-A0B6-B891F702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832A-1590-4406-992F-CC594525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539B-58E7-4219-9CC1-580DB5F9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8222-6CF8-4F2D-B016-CE55F5F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2120-CEFC-4FAE-B681-D07F016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B411-0113-4914-8F45-55BBAE8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7264-4464-4F2F-8EFC-522AFDD7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B34-A811-4C63-96F3-2F1C1DB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FBFF-4699-4D2C-B7DF-0A514DA0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03BC-1867-4CA6-A42F-AD3A742C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0C18-D4C8-42F9-AA92-91A5307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3B08-BF03-4DBA-9A45-125E5FC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FB60-0A63-4520-8A19-3D72336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0AFB0-468A-40F4-85A4-08B65786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7085-57FC-4902-8ECD-A7CFD65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14E2-2FD5-49E7-BB5D-B77B8681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8C95-2110-4FC8-BB28-9E9C453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24B4-F816-4F2C-B383-9DCA62D4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2DD-F8D5-4EDC-8855-306F90EE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6A14-A857-4B35-8F32-0F6B859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8B5F-7338-4DBD-B4E2-7AF253BA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57C3-524E-4271-B2B7-D3EF4A4B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A3E0-EABF-4847-B86B-FC4A336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23B3-F48B-464F-99DE-D0ACB4F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8482-4A85-4054-A6CD-7D13AB4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14E7-BBA1-4AC7-B77B-B6CE7217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DCD1-7BB3-4775-BE29-CCAD5329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A58E-2D85-438B-884B-BAA9E88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7FFB-19D7-4AEC-BB1B-24949241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D74-2E46-4CF5-B859-F996896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838C-C5DF-44B4-9A2D-D9154CC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5751-4FC1-4682-8684-4CD00432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32874-CBA2-46D5-A892-D6CF8CA6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2570-0D03-4282-A664-488B36F4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7CBD-C8A3-4AB8-904B-B1F9F09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F30E-9F0D-4283-B245-615F6AE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3CC2-0F26-4FC4-9CEC-54BA808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EE3BF-0ECD-4426-9942-736D600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3A6D-BE8A-40BC-8599-4281947A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42CC-E132-4C5F-BF84-44055372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3A3-6BE2-4DE5-BF22-35787B17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8B9B-AAA3-4782-8A1C-55B7F9FF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22CC-FA10-443F-99C2-A300B4D8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2AE4-33CA-44A3-9C2F-7E06F97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C98B-5AF4-45DC-8EB4-FBE68447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F0D5-745D-4E86-9F1C-E966C400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A917-C15A-475D-8CE9-5C90124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2A6E4-427D-4CD7-A697-0830EFC0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CC1CA-E441-4A39-A5AD-B00AACD2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41EE1-8EEF-41F1-A93A-660D90F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305D2-C3A7-40E9-AF54-E7840BA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01F-32FC-403F-B95C-8EFDADE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31AA-1EFD-4EA6-B41F-4C251B0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9358-7567-48DC-9FE6-57C152BE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ABCF-FB4F-4140-BB2B-1D5AB378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8C47-98ED-47B4-9288-0FD651E2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3D47C-F6DE-42C3-8B1A-3585D9DE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62284-3638-4C60-BB03-31C696B7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05347-3CDE-4331-AC44-9A12E90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463BA-8846-4389-A4F7-73A8089D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B8E60-9C4C-4BEB-8A48-0BAB30DA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A238E-4167-47BF-9D10-71E2BA05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002-B7AC-4762-A030-8BFF861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05D5-582B-442B-8C79-EEC9F8E0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2B81-9934-4854-8243-AA4AAB9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5C99-75EC-4E32-89E7-D60A7083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9295-282E-4CB0-8C72-2A7597CC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3138-2B32-4EA3-85BA-567241DC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630-BA10-450F-8114-CBBC50A3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CD2-9249-426C-900A-8FCBE1EAE2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F8E1-972B-4D0C-A9CB-CC7AFCBF85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C24-3139-4575-B554-36A06EC434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8DA-2096-4F81-A9EC-C35EB6022D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36A-9B40-4E89-B4F2-DA19C996BEB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D0F8-BF46-45F1-8D26-3B87A26DA9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3FEA-2203-48F8-915E-DD6AED039E7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3/7.htm" TargetMode="External"/><Relationship Id="rId2" Type="http://schemas.openxmlformats.org/officeDocument/2006/relationships/hyperlink" Target="file:///3/7.htm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3/6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b80a"/>
                </a:solidFill>
                <a:latin typeface="Corbel"/>
              </a:rPr>
              <a:t>Тема урок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« Культура стран халифат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00400" y="30456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еликий учёный из Хорезма, автор многочисленных  трудов по истории, географии, филологии, астрономии, математике, геодезии, минералогии, фармакологии, геологии и др.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Аль- Бируни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ладел почти всеми науками своего времени. 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8" descr="180px-Biruni_Iranian"/>
          <p:cNvPicPr/>
          <p:nvPr/>
        </p:nvPicPr>
        <p:blipFill>
          <a:blip r:embed="rId1"/>
          <a:stretch/>
        </p:blipFill>
        <p:spPr>
          <a:xfrm>
            <a:off x="0" y="1523880"/>
            <a:ext cx="3244680" cy="50292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9"/>
          <p:cNvSpPr/>
          <p:nvPr/>
        </p:nvSpPr>
        <p:spPr>
          <a:xfrm>
            <a:off x="0" y="6019920"/>
            <a:ext cx="3124080" cy="4572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Рисунок 5" descr="Рисунок4"/>
          <p:cNvPicPr/>
          <p:nvPr/>
        </p:nvPicPr>
        <p:blipFill>
          <a:blip r:embed="rId1"/>
          <a:stretch/>
        </p:blipFill>
        <p:spPr>
          <a:xfrm>
            <a:off x="457200" y="1603440"/>
            <a:ext cx="3400560" cy="48736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9621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orbel"/>
              </a:rPr>
              <a:t>Он </a:t>
            </a:r>
            <a:r>
              <a:rPr b="1" lang="ru-RU" sz="3700" spc="-1" strike="noStrike">
                <a:solidFill>
                  <a:srgbClr val="ff0000"/>
                </a:solidFill>
                <a:latin typeface="Corbel"/>
              </a:rPr>
              <a:t>высказал</a:t>
            </a:r>
            <a:r>
              <a:rPr b="1" lang="ru-RU" sz="3700" spc="-1" strike="noStrike">
                <a:solidFill>
                  <a:srgbClr val="000000"/>
                </a:solidFill>
                <a:latin typeface="Corbel"/>
              </a:rPr>
              <a:t> гениальную догадку, что центром нашей Вселенной является Солнце, а Земля движется вокруг него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0880" y="5943600"/>
            <a:ext cx="3429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 – Биру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1" descr="Рисунок7"/>
          <p:cNvPicPr/>
          <p:nvPr/>
        </p:nvPicPr>
        <p:blipFill>
          <a:blip r:embed="rId1"/>
          <a:stretch/>
        </p:blipFill>
        <p:spPr>
          <a:xfrm>
            <a:off x="0" y="1295280"/>
            <a:ext cx="3854520" cy="5105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3809880" y="8377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исьменная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история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одилась у арабов вместе с исламом. Появились предания и сообщения о Мухаммеде, его биографии, сведения о том, как возник ислам. Историки прославляли завоевания арабов и в кратком виде излагали историю римских, византийских и иранских правител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9" descr="Рисунок8"/>
          <p:cNvPicPr/>
          <p:nvPr/>
        </p:nvPicPr>
        <p:blipFill>
          <a:blip r:embed="rId1"/>
          <a:stretch/>
        </p:blipFill>
        <p:spPr>
          <a:xfrm>
            <a:off x="0" y="685800"/>
            <a:ext cx="4143240" cy="51814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419360" y="1447560"/>
            <a:ext cx="4724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большом почете у арабов была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география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 Об этом говорит пословица: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Кто отправляется в путь ради науки, перед тем открываются двери рая».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еографы не только изучали сообщения о других странах, но и стремились побывать в них, с риском для жизни совершали далекие путешеств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0" y="5638680"/>
            <a:ext cx="419112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утешест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09880" y="685800"/>
            <a:ext cx="5105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спешно развивалась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Corbel"/>
              </a:rPr>
              <a:t>медицина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Средней Азии жил великий ученый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Ибн Сина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(980— 1037), в Европе его называли Авиценна. Он был очень разносторонним мыслителем — философ, астроном, географ, медик, поэт. Ему принадлежит более ста научных труд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8" descr="4f2f942a9907e"/>
          <p:cNvPicPr/>
          <p:nvPr/>
        </p:nvPicPr>
        <p:blipFill>
          <a:blip r:embed="rId1"/>
          <a:stretch/>
        </p:blipFill>
        <p:spPr>
          <a:xfrm>
            <a:off x="0" y="1295280"/>
            <a:ext cx="3673440" cy="5105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248520"/>
            <a:ext cx="380988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419360" y="914040"/>
            <a:ext cx="47242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собенно прославился Ибн Сина как врач. В своем знаменитом труде по медицине он описал признаки многих болезней, которые до него не умели различать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10" descr="muselman-alimi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32655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0" y="5105520"/>
            <a:ext cx="4419720" cy="6858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бн Сина ( Авиценн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2" descr="Рисунок13"/>
          <p:cNvPicPr/>
          <p:nvPr/>
        </p:nvPicPr>
        <p:blipFill>
          <a:blip r:embed="rId1"/>
          <a:stretch/>
        </p:blipFill>
        <p:spPr>
          <a:xfrm>
            <a:off x="0" y="1447920"/>
            <a:ext cx="4105440" cy="5410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343040" y="12193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упцы и погонщики верблюдов привозили из других стран чудесные сказки. Их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рассказывали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о дворцах халифа и знати, на базарах, улицах и в домах Багдада. Многие слушатели любили рассказы об удивительных путешествиях и приключениях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276720" y="13716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остой люд передавал смешные истории о хитрецах, которые ловко обманывали судей и чиновников. Из этих сказок позднее был составлен известный всему миру сборник                           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orbel"/>
              </a:rPr>
              <a:t>« Тысяча и одна ночь»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обравший в себя предания и легенды многих нар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7" descr="notes_1323251570"/>
          <p:cNvPicPr/>
          <p:nvPr/>
        </p:nvPicPr>
        <p:blipFill>
          <a:blip r:embed="rId3"/>
          <a:stretch/>
        </p:blipFill>
        <p:spPr>
          <a:xfrm>
            <a:off x="0" y="0"/>
            <a:ext cx="2295360" cy="3048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0" descr="5907"/>
          <p:cNvPicPr/>
          <p:nvPr/>
        </p:nvPicPr>
        <p:blipFill>
          <a:blip r:embed="rId4"/>
          <a:stretch/>
        </p:blipFill>
        <p:spPr>
          <a:xfrm>
            <a:off x="1066680" y="2819520"/>
            <a:ext cx="2360880" cy="3105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Рисунок 7" descr="Рисунок15"/>
          <p:cNvPicPr/>
          <p:nvPr/>
        </p:nvPicPr>
        <p:blipFill>
          <a:blip r:embed="rId1"/>
          <a:stretch/>
        </p:blipFill>
        <p:spPr>
          <a:xfrm>
            <a:off x="0" y="213372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19112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Еще до ислама у арабов возникла богатая поэзия, отразившая быт и обычаи кочевников. В каждом племени был свой признанный поэт, выступавший на празднествах. Доисламские поэты воспели смелого воина, щедрого и верного данному слов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6" descr="Рисунок14"/>
          <p:cNvPicPr/>
          <p:nvPr/>
        </p:nvPicPr>
        <p:blipFill>
          <a:blip r:embed="rId1"/>
          <a:stretch/>
        </p:blipFill>
        <p:spPr>
          <a:xfrm>
            <a:off x="0" y="1676520"/>
            <a:ext cx="3962520" cy="4114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038480" y="1143000"/>
            <a:ext cx="5105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накомство с культурой покоренных народов изменило интересы и вкусы арабов. Поэтов интересовали теперь «вечные» вопросы: о добре и зле, о жизни и смерти, о богатстве и бедности, о любви и измене, о красоте мира и его печалях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430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Образование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Нау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Литератур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Искусство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"/>
              </a:rPr>
              <a:t>Значение культура халифат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ПЛАН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41936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дним из самых знаменитых поэтов был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Фирдоуси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(934—1020). Более 30 лет он работал над поэмой «Шахнаме» («Книга царей»). В ней рассказывается о борьбе иранского народа против завоевателей, прославляются подвиги легендарных герое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7" descr="File:Фирдуси читает поэму «Шах-Наме» шаху Махмуду Газневи (1913).jpg"/>
          <p:cNvPicPr/>
          <p:nvPr/>
        </p:nvPicPr>
        <p:blipFill>
          <a:blip r:embed="rId1"/>
          <a:stretch/>
        </p:blipFill>
        <p:spPr>
          <a:xfrm>
            <a:off x="0" y="1905120"/>
            <a:ext cx="4267080" cy="39542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56386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доуси читает поэ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Шахна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26708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Из всех видов искусства более всего в халифате была развита архитектура. Строители возводили для халифов великолепные дворцы, гробницы и крепости. Всему миру известна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Альгамбра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дворец эмира в испанском городе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Гранад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7" descr="File:Patio de los Arrayanes.jpg"/>
          <p:cNvPicPr/>
          <p:nvPr/>
        </p:nvPicPr>
        <p:blipFill>
          <a:blip r:embed="rId1"/>
          <a:stretch/>
        </p:blipFill>
        <p:spPr>
          <a:xfrm>
            <a:off x="0" y="11430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8"/>
          <p:cNvSpPr/>
          <p:nvPr/>
        </p:nvSpPr>
        <p:spPr>
          <a:xfrm>
            <a:off x="0" y="6095880"/>
            <a:ext cx="373392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 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ИСКУССТВО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34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4419720" cy="382284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36" descr="Рисунок18"/>
          <p:cNvPicPr/>
          <p:nvPr/>
        </p:nvPicPr>
        <p:blipFill>
          <a:blip r:embed="rId2"/>
          <a:stretch/>
        </p:blipFill>
        <p:spPr>
          <a:xfrm>
            <a:off x="4343400" y="36576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394" name="Oval 8"/>
          <p:cNvSpPr/>
          <p:nvPr/>
        </p:nvSpPr>
        <p:spPr>
          <a:xfrm>
            <a:off x="4572000" y="609480"/>
            <a:ext cx="3962520" cy="160020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гам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800240" y="1066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городах сооружали мечети. Мечеть служила не только местом молитвы, но и залом суда, хранилищем книг, а также денег, собранных для бедных, и просто клубом, где можно было потолковать с друзь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7" descr="200px-Sultan_Ahmed_Mosque%2C_Istambul"/>
          <p:cNvPicPr/>
          <p:nvPr/>
        </p:nvPicPr>
        <p:blipFill>
          <a:blip r:embed="rId1"/>
          <a:stretch/>
        </p:blipFill>
        <p:spPr>
          <a:xfrm>
            <a:off x="0" y="2209680"/>
            <a:ext cx="4724280" cy="35434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038480" y="837720"/>
            <a:ext cx="5105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лавное здание мечети — четырехугольный молитвенный зал, открытый во двор, который обычно окружала галерея с колоннами, где собравшиеся отдыхали; в середине двора верующие совершали омовение у бассейна с проточной водой. Иногда над мечетью возводили купол, но чаще крыша была плоской. Множество колонн, изящных и легких, заполняли молитвенный за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7" descr="cairo_al_azhar_mosque2"/>
          <p:cNvPicPr/>
          <p:nvPr/>
        </p:nvPicPr>
        <p:blipFill>
          <a:blip r:embed="rId1"/>
          <a:stretch/>
        </p:blipFill>
        <p:spPr>
          <a:xfrm>
            <a:off x="0" y="2286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81280" y="114300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 сравнению с христианским храмом убранство мечети самое простое: в ней нет ни мебели, ни дорогой утвари, ни музыкальных инструментов. Пол застлан коврами, на которых рассаживаются посетители, предварительно оставив за дверями обувь; стены расписаны изречениями из Коран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7" descr="P1000547"/>
          <p:cNvPicPr/>
          <p:nvPr/>
        </p:nvPicPr>
        <p:blipFill>
          <a:blip r:embed="rId1"/>
          <a:stretch/>
        </p:blipFill>
        <p:spPr>
          <a:xfrm>
            <a:off x="0" y="19810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коло мечети возводили один или несколько </a:t>
            </a:r>
            <a:r>
              <a:rPr b="1" lang="ru-RU" sz="3200" spc="-1" strike="noStrike" u="sng">
                <a:solidFill>
                  <a:srgbClr val="cc3300"/>
                </a:solidFill>
                <a:uFillTx/>
                <a:latin typeface="Corbel"/>
              </a:rPr>
              <a:t>минаретов</a:t>
            </a: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— высоких башен, с которых пять раз в день верующих созывали на молитву специальные служит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7" descr="0_51430_ee5403f6_L"/>
          <p:cNvPicPr/>
          <p:nvPr/>
        </p:nvPicPr>
        <p:blipFill>
          <a:blip r:embed="rId1"/>
          <a:stretch/>
        </p:blipFill>
        <p:spPr>
          <a:xfrm>
            <a:off x="0" y="1523880"/>
            <a:ext cx="3552840" cy="5334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6200" y="8377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рабские постройки богато украшали резьбой по камню, изразцами, мозаикой на стенах и на полу. Стены зданий покрывали </a:t>
            </a:r>
            <a:r>
              <a:rPr b="1" lang="ru-RU" sz="2800" spc="-1" strike="noStrike" u="sng">
                <a:solidFill>
                  <a:srgbClr val="cc3300"/>
                </a:solidFill>
                <a:uFillTx/>
                <a:latin typeface="Corbel"/>
              </a:rPr>
              <a:t>арабесками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сложными геометрическими узорами из пересекающихся и переплетающихся линий. Изображение людей и животных мусульманством запрещено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7" descr="4e786696e2e1"/>
          <p:cNvPicPr/>
          <p:nvPr/>
        </p:nvPicPr>
        <p:blipFill>
          <a:blip r:embed="rId1"/>
          <a:stretch/>
        </p:blipFill>
        <p:spPr>
          <a:xfrm>
            <a:off x="0" y="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arabesque_13"/>
          <p:cNvPicPr/>
          <p:nvPr/>
        </p:nvPicPr>
        <p:blipFill>
          <a:blip r:embed="rId2"/>
          <a:stretch/>
        </p:blipFill>
        <p:spPr>
          <a:xfrm>
            <a:off x="533520" y="2666880"/>
            <a:ext cx="2852640" cy="32767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14264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Стр. 89-90 – прочитать и ответить на вопрос </a:t>
            </a:r>
            <a:r>
              <a:rPr b="1" lang="ru-RU" sz="4000" spc="-1" strike="noStrike">
                <a:solidFill>
                  <a:srgbClr val="cc3300"/>
                </a:solidFill>
                <a:latin typeface="Corbel"/>
              </a:rPr>
              <a:t>« Каково значение культуры халифата?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7090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Значение культуры халифата: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1218960" y="129492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Параграф 10, записи, вопрос 7 - письменно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3430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халифат входило много стран с высокой древней культурой: Египет, Сирия, Палестина, Месопотамия, Иран, Средняя Азия. В этих странах широко распространился ислам, а вместе с ним — арабский язык. Его называли «латынью Востока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10" descr="Файл:Asia history map 632.png"/>
          <p:cNvPicPr/>
          <p:nvPr/>
        </p:nvPicPr>
        <p:blipFill>
          <a:blip r:embed="rId1"/>
          <a:stretch/>
        </p:blipFill>
        <p:spPr>
          <a:xfrm>
            <a:off x="0" y="2057400"/>
            <a:ext cx="4648320" cy="3381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2"/>
          <p:cNvSpPr/>
          <p:nvPr/>
        </p:nvSpPr>
        <p:spPr>
          <a:xfrm>
            <a:off x="0" y="5562720"/>
            <a:ext cx="4572000" cy="533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й халифат в 63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ОБРАЗОВАНИ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Рисунок 38" descr="Рисунок1"/>
          <p:cNvPicPr/>
          <p:nvPr/>
        </p:nvPicPr>
        <p:blipFill>
          <a:blip r:embed="rId1"/>
          <a:stretch/>
        </p:blipFill>
        <p:spPr>
          <a:xfrm>
            <a:off x="0" y="1698480"/>
            <a:ext cx="4572000" cy="3918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1640" y="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ьные школы у мусульман были частными. Те, кто мог платить, занимались на дому с наемными учителями. Образование можно было продолжить, посещая лекции и беседы знатоков Корана, Сунны и шариата. При наиболее известных мечетях в больших городах были открыты высшие мусульманские школы — медрес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0" y="5562720"/>
            <a:ext cx="4572000" cy="6094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ресе в Бух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990720" y="1523520"/>
            <a:ext cx="847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"/>
              </a:rPr>
              <a:t>Сунна</a:t>
            </a:r>
            <a:r>
              <a:rPr b="1" lang="ru-RU" sz="4000" spc="-1" strike="noStrike">
                <a:solidFill>
                  <a:srgbClr val="ff0000"/>
                </a:solidFill>
                <a:latin typeface="com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– собрание рассказов об изречениях и поступках Мухамме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"/>
              </a:rPr>
              <a:t>Мечеть</a:t>
            </a:r>
            <a:r>
              <a:rPr b="1" lang="ru-RU" sz="4000" spc="-1" strike="noStrike">
                <a:solidFill>
                  <a:srgbClr val="000000"/>
                </a:solidFill>
                <a:latin typeface="comic"/>
              </a:rPr>
              <a:t> – мусульманский хра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Определ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29" descr="Рисунок3"/>
          <p:cNvPicPr/>
          <p:nvPr/>
        </p:nvPicPr>
        <p:blipFill>
          <a:blip r:embed="rId1"/>
          <a:stretch/>
        </p:blipFill>
        <p:spPr>
          <a:xfrm>
            <a:off x="0" y="1981080"/>
            <a:ext cx="4724280" cy="3451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724280" y="3808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ждый знатный человек желал иметь в своем окружении как можно больше выдающихся поэтов, ученых, знатоков Корана, которые чаще всего жили при дворцах халифов и эмиров, получали содержание и дары от своих покровителей, за это прославляли их, посвящали им свои произвед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5410080"/>
            <a:ext cx="4572000" cy="8384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поэты просла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л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971440" y="144756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VIII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—</a:t>
            </a:r>
            <a:r>
              <a:rPr b="1" lang="en-US" sz="2800" spc="-1" strike="noStrike">
                <a:solidFill>
                  <a:srgbClr val="ff0000"/>
                </a:solidFill>
                <a:latin typeface="Gill Sans MT"/>
              </a:rPr>
              <a:t>IX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веках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 арабский язык были переведены научные труды древнегреческих, иранских, индийских ученых.- Особенно много переводов было сделано при Харуне ар-Рашиде и его сыне. В Багдаде тогда был основан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 Дом Мудрости»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— хранилище рукописей, где переводили и переписывали книг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8" descr="File:Harun Al-Rashid and the World of the Thousand and One Nights.jpg"/>
          <p:cNvPicPr/>
          <p:nvPr/>
        </p:nvPicPr>
        <p:blipFill>
          <a:blip r:embed="rId2"/>
          <a:stretch/>
        </p:blipFill>
        <p:spPr>
          <a:xfrm>
            <a:off x="0" y="1523880"/>
            <a:ext cx="2755800" cy="502920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9"/>
          <p:cNvSpPr/>
          <p:nvPr/>
        </p:nvSpPr>
        <p:spPr>
          <a:xfrm>
            <a:off x="0" y="6324480"/>
            <a:ext cx="3048120" cy="5335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ун ар-Раш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72314"/>
                </a:solidFill>
                <a:latin typeface="Corbel"/>
              </a:rPr>
              <a:t>НАУК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03812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рабским математикам были известны труды Пифагора, Евклида и Архимеда, индийских астрономов и математик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ни создали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лгебру,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тали пользоваться индийскими цифрами. Постепенно эти цифры, стали называться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рабскими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, и их счет проникли в Европ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7" descr="Al-kindi.jpeg"/>
          <p:cNvPicPr/>
          <p:nvPr/>
        </p:nvPicPr>
        <p:blipFill>
          <a:blip r:embed="rId1"/>
          <a:stretch/>
        </p:blipFill>
        <p:spPr>
          <a:xfrm>
            <a:off x="0" y="0"/>
            <a:ext cx="2600280" cy="35812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20010219-001-01.jpg"/>
          <p:cNvPicPr/>
          <p:nvPr/>
        </p:nvPicPr>
        <p:blipFill>
          <a:blip r:embed="rId2"/>
          <a:stretch/>
        </p:blipFill>
        <p:spPr>
          <a:xfrm>
            <a:off x="1752480" y="2819520"/>
            <a:ext cx="2324160" cy="32763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1"/>
          <p:cNvSpPr/>
          <p:nvPr/>
        </p:nvSpPr>
        <p:spPr>
          <a:xfrm>
            <a:off x="0" y="6095880"/>
            <a:ext cx="4267080" cy="7621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абские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09520" y="533160"/>
            <a:ext cx="5334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 Багдаде и Дамаске действовали </a:t>
            </a:r>
            <a:r>
              <a:rPr b="0" lang="ru-RU" sz="3600" spc="-1" strike="noStrike" u="sng">
                <a:solidFill>
                  <a:srgbClr val="cc3300"/>
                </a:solidFill>
                <a:uFillTx/>
                <a:latin typeface="Corbel"/>
              </a:rPr>
              <a:t>обсерватории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. Пользуясь сложными инструментами, </a:t>
            </a:r>
            <a:r>
              <a:rPr b="0" i="1" lang="ru-RU" sz="3600" spc="-1" strike="noStrike">
                <a:solidFill>
                  <a:srgbClr val="ff0000"/>
                </a:solidFill>
                <a:latin typeface="Corbel"/>
              </a:rPr>
              <a:t>астрономы</a:t>
            </a:r>
            <a:r>
              <a:rPr b="0" i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умели приблизительно вычислить окружность Земли, описали положение видимых звезд на неб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7" descr="File:Taqi al din.jpg"/>
          <p:cNvPicPr/>
          <p:nvPr/>
        </p:nvPicPr>
        <p:blipFill>
          <a:blip r:embed="rId1"/>
          <a:stretch/>
        </p:blipFill>
        <p:spPr>
          <a:xfrm>
            <a:off x="0" y="1523880"/>
            <a:ext cx="3654360" cy="5334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3-17T17:33:3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