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4.wmf" ContentType="image/x-wmf"/>
  <Override PartName="/ppt/media/image6.gif" ContentType="image/gif"/>
  <Override PartName="/ppt/media/image8.jpeg" ContentType="image/jpeg"/>
  <Override PartName="/ppt/media/image10.jpeg" ContentType="image/jpeg"/>
  <Override PartName="/ppt/media/image13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6.png" ContentType="image/png"/>
  <Override PartName="/ppt/media/chimes.wav" ContentType="audio/x-wav"/>
  <Override PartName="/ppt/media/image5.gif" ContentType="image/gif"/>
  <Override PartName="/ppt/media/image15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7F7-671F-4A0F-A60B-719AD336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02F-D860-4834-9B7A-DC339201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11A-2041-49B7-869A-9E131925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D39-5ECA-478C-AD85-BB20781A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DD1-B43B-464B-BE95-A44FB38E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2D6-2E2E-460B-A894-8E5E1176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21C-980D-446D-A408-817543A1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215-6E39-4512-9223-1A29E62B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9E3-B8DC-47E4-9CE0-87BF5B07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C13-74C0-4D64-9075-F22058CB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D61-87DD-49BA-BE02-57B97918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FF1-3188-4D6E-AE02-09DAB54C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4FA1-B08D-4641-8715-7AF296EDC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ult-37"/>
          <p:cNvPicPr/>
          <p:nvPr/>
        </p:nvPicPr>
        <p:blipFill>
          <a:blip r:embed="rId1"/>
          <a:stretch/>
        </p:blipFill>
        <p:spPr>
          <a:xfrm>
            <a:off x="2124000" y="2852640"/>
            <a:ext cx="5183280" cy="3116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684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19 сентября.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Классная  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1763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C -3.05556E-006 0.17248 0.07761 0.31445 0.17205 0.31445 C 0.28351 0.31445 0.32379 0.15699 0.3408 0.06243 L 0.35834 -0.06312 C 0.37552 -0.15769 0.41841 -0.31468 0.54427 -0.31468 C 0.625 -0.31468 0.71667 -0.17318 0.71667 2.65896E-006 C 0.71667 0.17248 0.625 0.31445 0.54427 0.31445 C 0.41841 0.31445 0.37552 0.15699 0.35834 0.06243 L 0.3408 -0.06312 C 0.32379 -0.15769 0.28351 -0.31468 0.17205 -0.31468 C 0.07761 -0.31468 -3.05556E-006 -0.17318 -3.05556E-006 2.65896E-006 Z">
                                      <p:cBhvr>
                                        <p:cTn id="212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45663E-006 L 0.71459 -2.45663E-006 E">
                                      <p:cBhvr>
                                        <p:cTn id="21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8 -2.45663E-006 L 0.0059 -2.45663E-006 E">
                                      <p:cBhvr>
                                        <p:cTn id="21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1536E-006 L 0.35243 -0.43025 E">
                                      <p:cBhvr>
                                        <p:cTn id="22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243 0.37497 E">
                                      <p:cBhvr>
                                        <p:cTn id="22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35052 -0.42262 E">
                                      <p:cBhvr>
                                        <p:cTn id="22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833 0.37474 E">
                                      <p:cBhvr>
                                        <p:cTn id="23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71268 0.00763 E">
                                      <p:cBhvr>
                                        <p:cTn id="23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9 3.96253E-006 C 0.71442 -0.01712 0.71459 -0.03609 0.71338 -0.05159 C 0.71216 -0.06755 0.71095 -0.07726 0.70747 -0.09392 C 0.704 -0.11057 0.69879 -0.13347 0.6922 -0.15198 C 0.6856 -0.17048 0.67883 -0.18529 0.66754 -0.20518 C 0.65626 -0.22508 0.64046 -0.2533 0.62397 -0.27111 C 0.60747 -0.28892 0.58438 -0.30419 0.56876 -0.31182 C 0.55313 -0.31946 0.54463 -0.31807 0.52987 -0.31645 C 0.51511 -0.31483 0.49775 -0.31321 0.48039 -0.30257 C 0.46303 -0.29193 0.44185 -0.27666 0.42518 -0.25237 C 0.40851 -0.22808 0.39272 -0.19315 0.38039 -0.15661 C 0.36806 -0.12006 0.36077 -0.08374 0.35105 -0.03285 C 0.34133 0.01804 0.33803 0.09692 0.32171 0.14897 C 0.30539 0.20102 0.27917 0.25144 0.25348 0.2792 C 0.22779 0.30696 0.19706 0.31668 0.16754 0.31483 C 0.13803 0.31344 0.10244 0.29979 0.07692 0.26972 C 0.0514 0.23965 0.02779 0.17881 0.01459 0.13486 C 0.0014 0.09091 -0.0007 0.04395 -0.0019 0.00624 C -0.00312 -0.03146 -0.00017 -0.05367 0.00747 -0.09091 C 0.01511 -0.12815 0.02397 -0.18228 0.04393 -0.21791 C 0.0639 -0.25353 0.10296 -0.288 0.12761 -0.30396 C 0.15226 -0.31992 0.1698 -0.31946 0.1922 -0.31344 C 0.21459 -0.30743 0.23994 -0.2947 0.26164 -0.26787 C 0.28334 -0.24104 0.30799 -0.20009 0.32275 -0.15198 C 0.33751 -0.10386 0.34046 -0.03169 0.34983 0.02035 C 0.35921 0.0724 0.36424 0.11843 0.37935 0.15984 C 0.39445 0.20148 0.41546 0.24381 0.44046 0.26972 C 0.46529 0.29563 0.50313 0.31043 0.52987 0.31483 C 0.5566 0.31922 0.57987 0.30974 0.60053 0.29609 C 0.62119 0.28244 0.63733 0.26047 0.65348 0.2334 C 0.66963 0.2068 0.68664 0.16516 0.69688 0.13486 C 0.70713 0.10456 0.71112 0.07472 0.71459 0.05181 C 0.71806 0.02891 0.71476 0.01712 0.71459 3.96253E-006 Z">
                                      <p:cBhvr>
                                        <p:cTn id="236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8388360" y="364500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248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3780000" y="2133720"/>
            <a:ext cx="3735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дм = 1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3635280" y="3573360"/>
            <a:ext cx="30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lfaen"/>
              </a:rPr>
              <a:t>М Е Т Р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1619280" y="472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м = 1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5580000" y="472428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 10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2195640" y="692280"/>
            <a:ext cx="5676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ицы измерения дли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их соотношени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7" descr="к удавуi"/>
          <p:cNvPicPr/>
          <p:nvPr/>
        </p:nvPicPr>
        <p:blipFill>
          <a:blip r:embed="rId1"/>
          <a:stretch/>
        </p:blipFill>
        <p:spPr>
          <a:xfrm>
            <a:off x="1476360" y="2133720"/>
            <a:ext cx="208764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к удавуi"/>
          <p:cNvPicPr/>
          <p:nvPr/>
        </p:nvPicPr>
        <p:blipFill>
          <a:blip r:embed="rId1"/>
          <a:stretch/>
        </p:blipFill>
        <p:spPr>
          <a:xfrm>
            <a:off x="1619280" y="1700280"/>
            <a:ext cx="2922480" cy="219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Мерка попугайi"/>
          <p:cNvPicPr/>
          <p:nvPr/>
        </p:nvPicPr>
        <p:blipFill>
          <a:blip r:embed="rId2"/>
          <a:stretch/>
        </p:blipFill>
        <p:spPr>
          <a:xfrm>
            <a:off x="5148360" y="4508640"/>
            <a:ext cx="2232000" cy="1670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Линейка3526"/>
          <p:cNvPicPr/>
          <p:nvPr/>
        </p:nvPicPr>
        <p:blipFill>
          <a:blip r:embed="rId3"/>
          <a:stretch/>
        </p:blipFill>
        <p:spPr>
          <a:xfrm>
            <a:off x="4572000" y="1413000"/>
            <a:ext cx="3994200" cy="12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Метр070198_01"/>
          <p:cNvPicPr/>
          <p:nvPr/>
        </p:nvPicPr>
        <p:blipFill>
          <a:blip r:embed="rId4"/>
          <a:stretch/>
        </p:blipFill>
        <p:spPr>
          <a:xfrm>
            <a:off x="507672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рулетка 2"/>
          <p:cNvPicPr/>
          <p:nvPr/>
        </p:nvPicPr>
        <p:blipFill>
          <a:blip r:embed="rId5"/>
          <a:stretch/>
        </p:blipFill>
        <p:spPr>
          <a:xfrm>
            <a:off x="3708360" y="4653000"/>
            <a:ext cx="1357200" cy="140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Складной"/>
          <p:cNvPicPr/>
          <p:nvPr/>
        </p:nvPicPr>
        <p:blipFill>
          <a:blip r:embed="rId6"/>
          <a:stretch/>
        </p:blipFill>
        <p:spPr>
          <a:xfrm>
            <a:off x="1619280" y="4005360"/>
            <a:ext cx="2044800" cy="12110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7"/>
          <p:cNvSpPr txBox="1"/>
          <p:nvPr/>
        </p:nvSpPr>
        <p:spPr>
          <a:xfrm>
            <a:off x="2195640" y="620640"/>
            <a:ext cx="569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рительные инструм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500"/>
                            </p:stCondLst>
                            <p:childTnLst>
                              <p:par>
                                <p:cTn id="28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нн"/>
          <p:cNvPicPr/>
          <p:nvPr/>
        </p:nvPicPr>
        <p:blipFill>
          <a:blip r:embed="rId1"/>
          <a:stretch/>
        </p:blipFill>
        <p:spPr>
          <a:xfrm>
            <a:off x="2340000" y="1916280"/>
            <a:ext cx="4751280" cy="42242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5"/>
          <p:cNvSpPr txBox="1"/>
          <p:nvPr/>
        </p:nvSpPr>
        <p:spPr>
          <a:xfrm>
            <a:off x="2050920" y="76500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8"/>
          <p:cNvSpPr txBox="1"/>
          <p:nvPr/>
        </p:nvSpPr>
        <p:spPr>
          <a:xfrm>
            <a:off x="1619280" y="549360"/>
            <a:ext cx="6238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С какой величиной работали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916360" y="1125360"/>
            <a:ext cx="43434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сса    длина    время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WordArt 10"/>
          <p:cNvSpPr txBox="1"/>
          <p:nvPr/>
        </p:nvSpPr>
        <p:spPr>
          <a:xfrm>
            <a:off x="1547640" y="1557360"/>
            <a:ext cx="720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Что не является единицей измерения длины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11"/>
          <p:cNvSpPr txBox="1"/>
          <p:nvPr/>
        </p:nvSpPr>
        <p:spPr>
          <a:xfrm>
            <a:off x="1547640" y="2205000"/>
            <a:ext cx="73821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нтиметр   метр   диаметр   децимет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1547640" y="2708280"/>
            <a:ext cx="7067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В какой единице удобнее измерять путь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WordArt 13"/>
          <p:cNvSpPr txBox="1"/>
          <p:nvPr/>
        </p:nvSpPr>
        <p:spPr>
          <a:xfrm>
            <a:off x="1979640" y="3141720"/>
            <a:ext cx="6494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 "маленькой" школы до "большой"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1835280" y="3789360"/>
            <a:ext cx="680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дециметрах    в сантиметрах    в метрах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WordArt 15"/>
          <p:cNvSpPr txBox="1"/>
          <p:nvPr/>
        </p:nvSpPr>
        <p:spPr>
          <a:xfrm>
            <a:off x="1476360" y="4365720"/>
            <a:ext cx="7277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В какой единице удобнее измерить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16"/>
          <p:cNvSpPr txBox="1"/>
          <p:nvPr/>
        </p:nvSpPr>
        <p:spPr>
          <a:xfrm>
            <a:off x="2771640" y="4797360"/>
            <a:ext cx="42008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у крышки стола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17"/>
          <p:cNvSpPr txBox="1"/>
          <p:nvPr/>
        </p:nvSpPr>
        <p:spPr>
          <a:xfrm>
            <a:off x="1763640" y="5445000"/>
            <a:ext cx="68040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дециметрах    в сантиметрах    в метрах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4356000" y="1484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5148360" y="256536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7236000" y="414972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1763640" y="580536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2" descr="MCj04244660000[1]"/>
          <p:cNvPicPr/>
          <p:nvPr/>
        </p:nvPicPr>
        <p:blipFill>
          <a:blip r:embed="rId1"/>
          <a:stretch/>
        </p:blipFill>
        <p:spPr>
          <a:xfrm>
            <a:off x="1908000" y="1484280"/>
            <a:ext cx="5400720" cy="4646520"/>
          </a:xfrm>
          <a:prstGeom prst="rect">
            <a:avLst/>
          </a:prstGeom>
          <a:ln w="0">
            <a:noFill/>
          </a:ln>
        </p:spPr>
      </p:pic>
      <p:sp>
        <p:nvSpPr>
          <p:cNvPr id="142" name="WordArt 14"/>
          <p:cNvSpPr txBox="1"/>
          <p:nvPr/>
        </p:nvSpPr>
        <p:spPr>
          <a:xfrm rot="537000">
            <a:off x="2771640" y="404280"/>
            <a:ext cx="511200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2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050920" y="1052640"/>
            <a:ext cx="6050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счёт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8" descr="b176e9f63801t"/>
          <p:cNvPicPr/>
          <p:nvPr/>
        </p:nvPicPr>
        <p:blipFill>
          <a:blip r:embed="rId1"/>
          <a:srcRect l="0" t="0" r="0" b="6103"/>
          <a:stretch/>
        </p:blipFill>
        <p:spPr>
          <a:xfrm>
            <a:off x="3708360" y="2276640"/>
            <a:ext cx="3230640" cy="388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6ea91854e38t"/>
          <p:cNvPicPr/>
          <p:nvPr/>
        </p:nvPicPr>
        <p:blipFill>
          <a:blip r:embed="rId2"/>
          <a:srcRect l="0" t="0" r="0" b="7427"/>
          <a:stretch/>
        </p:blipFill>
        <p:spPr>
          <a:xfrm rot="1431600">
            <a:off x="2195640" y="2781000"/>
            <a:ext cx="1212840" cy="1512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6ea91854e38t"/>
          <p:cNvPicPr/>
          <p:nvPr/>
        </p:nvPicPr>
        <p:blipFill>
          <a:blip r:embed="rId3"/>
          <a:srcRect l="0" t="0" r="0" b="7427"/>
          <a:stretch/>
        </p:blipFill>
        <p:spPr>
          <a:xfrm rot="19810800">
            <a:off x="1618920" y="3645000"/>
            <a:ext cx="12128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908000" y="765000"/>
            <a:ext cx="626616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пишите числа, в которых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987640" y="177336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дес. 5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987640" y="2565360"/>
            <a:ext cx="396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дес.  4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3995640" y="3429000"/>
            <a:ext cx="208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 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3995640" y="4221000"/>
            <a:ext cx="2017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 д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3" name="WordArt 12"/>
          <p:cNvSpPr txBox="1"/>
          <p:nvPr/>
        </p:nvSpPr>
        <p:spPr>
          <a:xfrm>
            <a:off x="3203640" y="5013360"/>
            <a:ext cx="26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дес. 1 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0"/>
          <p:cNvSpPr txBox="1"/>
          <p:nvPr/>
        </p:nvSpPr>
        <p:spPr>
          <a:xfrm>
            <a:off x="2124000" y="206064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75  64  6  30  6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979640" y="4797360"/>
            <a:ext cx="41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23"/>
          <p:cNvSpPr txBox="1"/>
          <p:nvPr/>
        </p:nvSpPr>
        <p:spPr>
          <a:xfrm rot="21325800">
            <a:off x="2340000" y="4292280"/>
            <a:ext cx="4248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787"/>
                <a:gd name="adj2" fmla="val -2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91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91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2195640" y="620640"/>
            <a:ext cx="619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 какими величина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мы знакомы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58" name="Picture 30" descr="web"/>
          <p:cNvPicPr/>
          <p:nvPr/>
        </p:nvPicPr>
        <p:blipFill>
          <a:blip r:embed="rId1"/>
          <a:stretch/>
        </p:blipFill>
        <p:spPr>
          <a:xfrm>
            <a:off x="5867280" y="4076640"/>
            <a:ext cx="1136880" cy="115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4" descr="Forzuto"/>
          <p:cNvPicPr/>
          <p:nvPr/>
        </p:nvPicPr>
        <p:blipFill>
          <a:blip r:embed="rId2"/>
          <a:stretch/>
        </p:blipFill>
        <p:spPr>
          <a:xfrm>
            <a:off x="1835280" y="342900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60" name="WordArt 46"/>
          <p:cNvSpPr txBox="1"/>
          <p:nvPr/>
        </p:nvSpPr>
        <p:spPr>
          <a:xfrm>
            <a:off x="1763640" y="2637000"/>
            <a:ext cx="19447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масса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1" name="WordArt 47"/>
          <p:cNvSpPr txBox="1"/>
          <p:nvPr/>
        </p:nvSpPr>
        <p:spPr>
          <a:xfrm>
            <a:off x="5580000" y="2852640"/>
            <a:ext cx="19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длина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2340000" y="3573360"/>
            <a:ext cx="4608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1"/>
          <p:cNvGrpSpPr/>
          <p:nvPr/>
        </p:nvGrpSpPr>
        <p:grpSpPr>
          <a:xfrm>
            <a:off x="1908000" y="4005360"/>
            <a:ext cx="5943600" cy="778320"/>
            <a:chOff x="1908000" y="4005360"/>
            <a:chExt cx="5943600" cy="778320"/>
          </a:xfrm>
        </p:grpSpPr>
        <p:grpSp>
          <p:nvGrpSpPr>
            <p:cNvPr id="64" name="Group 22"/>
            <p:cNvGrpSpPr/>
            <p:nvPr/>
          </p:nvGrpSpPr>
          <p:grpSpPr>
            <a:xfrm>
              <a:off x="1908000" y="4005360"/>
              <a:ext cx="5943600" cy="778320"/>
              <a:chOff x="1908000" y="4005360"/>
              <a:chExt cx="5943600" cy="778320"/>
            </a:xfrm>
          </p:grpSpPr>
          <p:sp>
            <p:nvSpPr>
              <p:cNvPr id="65" name="Rectangle 23"/>
              <p:cNvSpPr/>
              <p:nvPr/>
            </p:nvSpPr>
            <p:spPr>
              <a:xfrm>
                <a:off x="1908000" y="4005360"/>
                <a:ext cx="5943600" cy="761760"/>
              </a:xfrm>
              <a:prstGeom prst="rect">
                <a:avLst/>
              </a:prstGeom>
              <a:solidFill>
                <a:srgbClr val="66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24"/>
              <p:cNvSpPr/>
              <p:nvPr/>
            </p:nvSpPr>
            <p:spPr>
              <a:xfrm>
                <a:off x="2138040" y="40802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25"/>
              <p:cNvSpPr/>
              <p:nvPr/>
            </p:nvSpPr>
            <p:spPr>
              <a:xfrm>
                <a:off x="26719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26"/>
              <p:cNvSpPr/>
              <p:nvPr/>
            </p:nvSpPr>
            <p:spPr>
              <a:xfrm>
                <a:off x="31291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27"/>
              <p:cNvSpPr/>
              <p:nvPr/>
            </p:nvSpPr>
            <p:spPr>
              <a:xfrm>
                <a:off x="35863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8"/>
              <p:cNvSpPr/>
              <p:nvPr/>
            </p:nvSpPr>
            <p:spPr>
              <a:xfrm>
                <a:off x="40435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29"/>
              <p:cNvSpPr/>
              <p:nvPr/>
            </p:nvSpPr>
            <p:spPr>
              <a:xfrm>
                <a:off x="45007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30"/>
              <p:cNvSpPr/>
              <p:nvPr/>
            </p:nvSpPr>
            <p:spPr>
              <a:xfrm>
                <a:off x="49579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31"/>
              <p:cNvSpPr/>
              <p:nvPr/>
            </p:nvSpPr>
            <p:spPr>
              <a:xfrm>
                <a:off x="54151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32"/>
              <p:cNvSpPr/>
              <p:nvPr/>
            </p:nvSpPr>
            <p:spPr>
              <a:xfrm>
                <a:off x="58723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33"/>
              <p:cNvSpPr/>
              <p:nvPr/>
            </p:nvSpPr>
            <p:spPr>
              <a:xfrm>
                <a:off x="63295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34"/>
              <p:cNvSpPr/>
              <p:nvPr/>
            </p:nvSpPr>
            <p:spPr>
              <a:xfrm>
                <a:off x="6710040" y="4232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35"/>
              <p:cNvSpPr/>
              <p:nvPr/>
            </p:nvSpPr>
            <p:spPr>
              <a:xfrm>
                <a:off x="7167240" y="4232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36"/>
            <p:cNvGrpSpPr/>
            <p:nvPr/>
          </p:nvGrpSpPr>
          <p:grpSpPr>
            <a:xfrm>
              <a:off x="2365200" y="4005360"/>
              <a:ext cx="2286000" cy="151920"/>
              <a:chOff x="2365200" y="4005360"/>
              <a:chExt cx="2286000" cy="151920"/>
            </a:xfrm>
          </p:grpSpPr>
          <p:sp>
            <p:nvSpPr>
              <p:cNvPr id="79" name="Line 37"/>
              <p:cNvSpPr/>
              <p:nvPr/>
            </p:nvSpPr>
            <p:spPr>
              <a:xfrm>
                <a:off x="2365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8"/>
              <p:cNvSpPr/>
              <p:nvPr/>
            </p:nvSpPr>
            <p:spPr>
              <a:xfrm>
                <a:off x="2822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39"/>
              <p:cNvSpPr/>
              <p:nvPr/>
            </p:nvSpPr>
            <p:spPr>
              <a:xfrm>
                <a:off x="32796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40"/>
              <p:cNvSpPr/>
              <p:nvPr/>
            </p:nvSpPr>
            <p:spPr>
              <a:xfrm>
                <a:off x="37368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1"/>
              <p:cNvSpPr/>
              <p:nvPr/>
            </p:nvSpPr>
            <p:spPr>
              <a:xfrm>
                <a:off x="41940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42"/>
              <p:cNvSpPr/>
              <p:nvPr/>
            </p:nvSpPr>
            <p:spPr>
              <a:xfrm>
                <a:off x="4651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3"/>
            <p:cNvGrpSpPr/>
            <p:nvPr/>
          </p:nvGrpSpPr>
          <p:grpSpPr>
            <a:xfrm>
              <a:off x="5108400" y="4005360"/>
              <a:ext cx="2286000" cy="151920"/>
              <a:chOff x="5108400" y="4005360"/>
              <a:chExt cx="2286000" cy="151920"/>
            </a:xfrm>
          </p:grpSpPr>
          <p:sp>
            <p:nvSpPr>
              <p:cNvPr id="86" name="Line 44"/>
              <p:cNvSpPr/>
              <p:nvPr/>
            </p:nvSpPr>
            <p:spPr>
              <a:xfrm>
                <a:off x="5108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45"/>
              <p:cNvSpPr/>
              <p:nvPr/>
            </p:nvSpPr>
            <p:spPr>
              <a:xfrm>
                <a:off x="55656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46"/>
              <p:cNvSpPr/>
              <p:nvPr/>
            </p:nvSpPr>
            <p:spPr>
              <a:xfrm>
                <a:off x="60228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47"/>
              <p:cNvSpPr/>
              <p:nvPr/>
            </p:nvSpPr>
            <p:spPr>
              <a:xfrm>
                <a:off x="64800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48"/>
              <p:cNvSpPr/>
              <p:nvPr/>
            </p:nvSpPr>
            <p:spPr>
              <a:xfrm>
                <a:off x="6937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49"/>
              <p:cNvSpPr/>
              <p:nvPr/>
            </p:nvSpPr>
            <p:spPr>
              <a:xfrm>
                <a:off x="7394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Line 50"/>
          <p:cNvSpPr/>
          <p:nvPr/>
        </p:nvSpPr>
        <p:spPr>
          <a:xfrm>
            <a:off x="2340000" y="3573360"/>
            <a:ext cx="792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1"/>
          <p:cNvSpPr/>
          <p:nvPr/>
        </p:nvSpPr>
        <p:spPr>
          <a:xfrm>
            <a:off x="6948360" y="3573360"/>
            <a:ext cx="792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52"/>
          <p:cNvSpPr txBox="1"/>
          <p:nvPr/>
        </p:nvSpPr>
        <p:spPr>
          <a:xfrm>
            <a:off x="6732720" y="4292640"/>
            <a:ext cx="41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53"/>
          <p:cNvSpPr txBox="1"/>
          <p:nvPr/>
        </p:nvSpPr>
        <p:spPr>
          <a:xfrm>
            <a:off x="2195640" y="42210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6" name="Group 54"/>
          <p:cNvGrpSpPr/>
          <p:nvPr/>
        </p:nvGrpSpPr>
        <p:grpSpPr>
          <a:xfrm>
            <a:off x="2193480" y="1050840"/>
            <a:ext cx="2790720" cy="2790720"/>
            <a:chOff x="2193480" y="1050840"/>
            <a:chExt cx="2790720" cy="2790720"/>
          </a:xfrm>
        </p:grpSpPr>
        <p:sp>
          <p:nvSpPr>
            <p:cNvPr id="97" name="AutoShape 55"/>
            <p:cNvSpPr/>
            <p:nvPr/>
          </p:nvSpPr>
          <p:spPr>
            <a:xfrm rot="1095000">
              <a:off x="2484000" y="1341000"/>
              <a:ext cx="2209680" cy="2210040"/>
            </a:xfrm>
            <a:prstGeom prst="irregularSeal1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56"/>
            <p:cNvSpPr txBox="1"/>
            <p:nvPr/>
          </p:nvSpPr>
          <p:spPr>
            <a:xfrm rot="21496800">
              <a:off x="3110400" y="2113560"/>
              <a:ext cx="1038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0 см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9" name="Group 57"/>
          <p:cNvGrpSpPr/>
          <p:nvPr/>
        </p:nvGrpSpPr>
        <p:grpSpPr>
          <a:xfrm>
            <a:off x="4505400" y="985680"/>
            <a:ext cx="2775240" cy="2775600"/>
            <a:chOff x="4505400" y="985680"/>
            <a:chExt cx="2775240" cy="2775600"/>
          </a:xfrm>
        </p:grpSpPr>
        <p:sp>
          <p:nvSpPr>
            <p:cNvPr id="100" name="AutoShape 58"/>
            <p:cNvSpPr/>
            <p:nvPr/>
          </p:nvSpPr>
          <p:spPr>
            <a:xfrm rot="1057800">
              <a:off x="4788000" y="1268280"/>
              <a:ext cx="2209680" cy="2210040"/>
            </a:xfrm>
            <a:prstGeom prst="irregularSeal1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WordArt 59"/>
            <p:cNvSpPr txBox="1"/>
            <p:nvPr/>
          </p:nvSpPr>
          <p:spPr>
            <a:xfrm rot="21459600">
              <a:off x="5413680" y="2040120"/>
              <a:ext cx="1038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 дм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517760" y="1657440"/>
            <a:ext cx="7205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3780000" y="2133720"/>
            <a:ext cx="3735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дм = 1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3635280" y="3573360"/>
            <a:ext cx="30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lfaen"/>
              </a:rPr>
              <a:t>М Е Т Р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1619280" y="472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м = 1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5580000" y="472428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 10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71"/>
          <p:cNvSpPr txBox="1"/>
          <p:nvPr/>
        </p:nvSpPr>
        <p:spPr>
          <a:xfrm>
            <a:off x="2195640" y="692280"/>
            <a:ext cx="5676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ицы измерения дли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их соотношени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72" descr="к удавуi"/>
          <p:cNvPicPr/>
          <p:nvPr/>
        </p:nvPicPr>
        <p:blipFill>
          <a:blip r:embed="rId1"/>
          <a:stretch/>
        </p:blipFill>
        <p:spPr>
          <a:xfrm>
            <a:off x="1476360" y="2133720"/>
            <a:ext cx="208764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1979640" y="1413000"/>
            <a:ext cx="62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3:39Z</dcterms:created>
  <dc:creator>user</dc:creator>
  <dc:description/>
  <dc:language>en-US</dc:language>
  <cp:lastModifiedBy>Самохины</cp:lastModifiedBy>
  <dcterms:modified xsi:type="dcterms:W3CDTF">2011-09-17T16:59:36Z</dcterms:modified>
  <cp:revision>19</cp:revision>
  <dc:subject/>
  <dc:title>Слайд 1</dc:title>
</cp:coreProperties>
</file>