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4.wmf" ContentType="image/x-wmf"/>
  <Override PartName="/ppt/media/image6.gif" ContentType="image/gif"/>
  <Override PartName="/ppt/media/image8.jpeg" ContentType="image/jpeg"/>
  <Override PartName="/ppt/media/image10.jpeg" ContentType="image/jpeg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chimes.wav" ContentType="audio/x-wav"/>
  <Override PartName="/ppt/media/image5.gif" ContentType="image/gif"/>
  <Override PartName="/ppt/media/image15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D4F-4AB1-4A2C-B2F1-9645644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345-DC06-4A86-8E91-9ED23D8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67B-6685-4CC7-A8FF-67E89A6C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20C-4E00-4685-A599-AB2C0C15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D1D-116D-4E34-8830-4461D6F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FC3-9A12-43CE-9F6A-6F67D8B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2A2-2E59-4084-9F17-19A10A2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3D3-AA7B-4864-B77A-0295D3FB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B3E-03DF-4D02-BDEC-9146B23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D6A-98F8-4FBA-8B8A-511B35C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8B7-3BC8-4B9C-AC1A-323FBCF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7CB-387F-4287-A46C-0271572E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C2D7-606F-45FA-8884-E23B226BA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ult-37"/>
          <p:cNvPicPr/>
          <p:nvPr/>
        </p:nvPicPr>
        <p:blipFill>
          <a:blip r:embed="rId1"/>
          <a:stretch/>
        </p:blipFill>
        <p:spPr>
          <a:xfrm>
            <a:off x="2124000" y="2852640"/>
            <a:ext cx="5183280" cy="3116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684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19 сентября.</a:t>
            </a:r>
            <a:br>
              <a:rPr sz="3200"/>
            </a:br>
            <a:r>
              <a:rPr b="0" lang="ru-RU" sz="3200" spc="-1" strike="noStrike">
                <a:solidFill>
                  <a:srgbClr val="0033cc"/>
                </a:solidFill>
                <a:latin typeface="Monotype Corsiva"/>
              </a:rPr>
              <a:t>Классная  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212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45663E-006 L 0.71459 -2.45663E-006 E">
                                      <p:cBhvr>
                                        <p:cTn id="21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8 -2.45663E-006 L 0.0059 -2.45663E-006 E">
                                      <p:cBhvr>
                                        <p:cTn id="21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1536E-006 L 0.35243 -0.43025 E">
                                      <p:cBhvr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243 0.37497 E">
                                      <p:cBhvr>
                                        <p:cTn id="22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35052 -0.42262 E">
                                      <p:cBhvr>
                                        <p:cTn id="22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-0.43025 L 0.35833 0.37474 E">
                                      <p:cBhvr>
                                        <p:cTn id="23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43 0.37497 L 0.71268 0.00763 E">
                                      <p:cBhvr>
                                        <p:cTn id="23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459 3.96253E-006 C 0.71442 -0.01712 0.71459 -0.03609 0.71338 -0.05159 C 0.71216 -0.06755 0.71095 -0.07726 0.70747 -0.09392 C 0.704 -0.11057 0.69879 -0.13347 0.6922 -0.15198 C 0.6856 -0.17048 0.67883 -0.18529 0.66754 -0.20518 C 0.65626 -0.22508 0.64046 -0.2533 0.62397 -0.27111 C 0.60747 -0.28892 0.58438 -0.30419 0.56876 -0.31182 C 0.55313 -0.31946 0.54463 -0.31807 0.52987 -0.31645 C 0.51511 -0.31483 0.49775 -0.31321 0.48039 -0.30257 C 0.46303 -0.29193 0.44185 -0.27666 0.42518 -0.25237 C 0.40851 -0.22808 0.39272 -0.19315 0.38039 -0.15661 C 0.36806 -0.12006 0.36077 -0.08374 0.35105 -0.03285 C 0.34133 0.01804 0.33803 0.09692 0.32171 0.14897 C 0.30539 0.20102 0.27917 0.25144 0.25348 0.2792 C 0.22779 0.30696 0.19706 0.31668 0.16754 0.31483 C 0.13803 0.31344 0.10244 0.29979 0.07692 0.26972 C 0.0514 0.23965 0.02779 0.17881 0.01459 0.13486 C 0.0014 0.09091 -0.0007 0.04395 -0.0019 0.00624 C -0.00312 -0.03146 -0.00017 -0.05367 0.00747 -0.09091 C 0.01511 -0.12815 0.02397 -0.18228 0.04393 -0.21791 C 0.0639 -0.25353 0.10296 -0.288 0.12761 -0.30396 C 0.15226 -0.31992 0.1698 -0.31946 0.1922 -0.31344 C 0.21459 -0.30743 0.23994 -0.2947 0.26164 -0.26787 C 0.28334 -0.24104 0.30799 -0.20009 0.32275 -0.15198 C 0.33751 -0.10386 0.34046 -0.03169 0.34983 0.02035 C 0.35921 0.0724 0.36424 0.11843 0.37935 0.15984 C 0.39445 0.20148 0.41546 0.24381 0.44046 0.26972 C 0.46529 0.29563 0.50313 0.31043 0.52987 0.31483 C 0.5566 0.31922 0.57987 0.30974 0.60053 0.29609 C 0.62119 0.28244 0.63733 0.26047 0.65348 0.2334 C 0.66963 0.2068 0.68664 0.16516 0.69688 0.13486 C 0.70713 0.10456 0.71112 0.07472 0.71459 0.05181 C 0.71806 0.02891 0.71476 0.01712 0.71459 3.96253E-006 Z">
                                      <p:cBhvr>
                                        <p:cTn id="236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48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7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 удавуi"/>
          <p:cNvPicPr/>
          <p:nvPr/>
        </p:nvPicPr>
        <p:blipFill>
          <a:blip r:embed="rId1"/>
          <a:stretch/>
        </p:blipFill>
        <p:spPr>
          <a:xfrm>
            <a:off x="1619280" y="1700280"/>
            <a:ext cx="2922480" cy="21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Мерка попугайi"/>
          <p:cNvPicPr/>
          <p:nvPr/>
        </p:nvPicPr>
        <p:blipFill>
          <a:blip r:embed="rId2"/>
          <a:stretch/>
        </p:blipFill>
        <p:spPr>
          <a:xfrm>
            <a:off x="5148360" y="4508640"/>
            <a:ext cx="2232000" cy="1670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Линейка3526"/>
          <p:cNvPicPr/>
          <p:nvPr/>
        </p:nvPicPr>
        <p:blipFill>
          <a:blip r:embed="rId3"/>
          <a:stretch/>
        </p:blipFill>
        <p:spPr>
          <a:xfrm>
            <a:off x="4572000" y="1413000"/>
            <a:ext cx="3994200" cy="12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Метр070198_01"/>
          <p:cNvPicPr/>
          <p:nvPr/>
        </p:nvPicPr>
        <p:blipFill>
          <a:blip r:embed="rId4"/>
          <a:stretch/>
        </p:blipFill>
        <p:spPr>
          <a:xfrm>
            <a:off x="5076720" y="2708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улетка 2"/>
          <p:cNvPicPr/>
          <p:nvPr/>
        </p:nvPicPr>
        <p:blipFill>
          <a:blip r:embed="rId5"/>
          <a:stretch/>
        </p:blipFill>
        <p:spPr>
          <a:xfrm>
            <a:off x="3708360" y="4653000"/>
            <a:ext cx="1357200" cy="1406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кладной"/>
          <p:cNvPicPr/>
          <p:nvPr/>
        </p:nvPicPr>
        <p:blipFill>
          <a:blip r:embed="rId6"/>
          <a:stretch/>
        </p:blipFill>
        <p:spPr>
          <a:xfrm>
            <a:off x="1619280" y="4005360"/>
            <a:ext cx="2044800" cy="12110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7"/>
          <p:cNvSpPr txBox="1"/>
          <p:nvPr/>
        </p:nvSpPr>
        <p:spPr>
          <a:xfrm>
            <a:off x="2195640" y="620640"/>
            <a:ext cx="569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рительные инструмен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500"/>
                            </p:stCondLst>
                            <p:childTnLst>
                              <p:par>
                                <p:cTn id="2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500"/>
                            </p:stCondLst>
                            <p:childTnLst>
                              <p:par>
                                <p:cTn id="2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нн"/>
          <p:cNvPicPr/>
          <p:nvPr/>
        </p:nvPicPr>
        <p:blipFill>
          <a:blip r:embed="rId1"/>
          <a:stretch/>
        </p:blipFill>
        <p:spPr>
          <a:xfrm>
            <a:off x="2340000" y="1916280"/>
            <a:ext cx="4751280" cy="42242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2050920" y="76500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8"/>
          <p:cNvSpPr txBox="1"/>
          <p:nvPr/>
        </p:nvSpPr>
        <p:spPr>
          <a:xfrm>
            <a:off x="1619280" y="549360"/>
            <a:ext cx="623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. С какой величиной работали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>
            <a:off x="2916360" y="1125360"/>
            <a:ext cx="43434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сса    длина    время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10"/>
          <p:cNvSpPr txBox="1"/>
          <p:nvPr/>
        </p:nvSpPr>
        <p:spPr>
          <a:xfrm>
            <a:off x="1547640" y="1557360"/>
            <a:ext cx="720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. Что не является единицей измерения длины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1547640" y="2205000"/>
            <a:ext cx="73821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нтиметр   метр   диаметр   децимет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WordArt 12"/>
          <p:cNvSpPr txBox="1"/>
          <p:nvPr/>
        </p:nvSpPr>
        <p:spPr>
          <a:xfrm>
            <a:off x="1547640" y="2708280"/>
            <a:ext cx="7067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. В какой единице удобнее измерять пу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WordArt 13"/>
          <p:cNvSpPr txBox="1"/>
          <p:nvPr/>
        </p:nvSpPr>
        <p:spPr>
          <a:xfrm>
            <a:off x="1979640" y="3141720"/>
            <a:ext cx="64944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"маленькой" школы до "большой"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1835280" y="3789360"/>
            <a:ext cx="680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15"/>
          <p:cNvSpPr txBox="1"/>
          <p:nvPr/>
        </p:nvSpPr>
        <p:spPr>
          <a:xfrm>
            <a:off x="1476360" y="4365720"/>
            <a:ext cx="72770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. В какой единице удобнее измерить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6"/>
          <p:cNvSpPr txBox="1"/>
          <p:nvPr/>
        </p:nvSpPr>
        <p:spPr>
          <a:xfrm>
            <a:off x="2771640" y="4797360"/>
            <a:ext cx="42008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ину крышки стола?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7"/>
          <p:cNvSpPr txBox="1"/>
          <p:nvPr/>
        </p:nvSpPr>
        <p:spPr>
          <a:xfrm>
            <a:off x="1763640" y="5445000"/>
            <a:ext cx="68040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дециметрах    в сантиметрах    в метрах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4356000" y="1484280"/>
            <a:ext cx="1440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5148360" y="256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236000" y="414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1763640" y="580536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MCj04244660000[1]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646520"/>
          </a:xfrm>
          <a:prstGeom prst="rect">
            <a:avLst/>
          </a:prstGeom>
          <a:ln w="0">
            <a:noFill/>
          </a:ln>
        </p:spPr>
      </p:pic>
      <p:sp>
        <p:nvSpPr>
          <p:cNvPr id="142" name="WordArt 14"/>
          <p:cNvSpPr txBox="1"/>
          <p:nvPr/>
        </p:nvSpPr>
        <p:spPr>
          <a:xfrm rot="537000">
            <a:off x="2771640" y="404280"/>
            <a:ext cx="5112000" cy="123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050920" y="1052640"/>
            <a:ext cx="6050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Picture 8" descr="b176e9f63801t"/>
          <p:cNvPicPr/>
          <p:nvPr/>
        </p:nvPicPr>
        <p:blipFill>
          <a:blip r:embed="rId1"/>
          <a:srcRect l="0" t="0" r="0" b="6103"/>
          <a:stretch/>
        </p:blipFill>
        <p:spPr>
          <a:xfrm>
            <a:off x="3708360" y="2276640"/>
            <a:ext cx="3230640" cy="388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6ea91854e38t"/>
          <p:cNvPicPr/>
          <p:nvPr/>
        </p:nvPicPr>
        <p:blipFill>
          <a:blip r:embed="rId2"/>
          <a:srcRect l="0" t="0" r="0" b="7427"/>
          <a:stretch/>
        </p:blipFill>
        <p:spPr>
          <a:xfrm rot="1431600">
            <a:off x="2195640" y="2781000"/>
            <a:ext cx="121284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6ea91854e38t"/>
          <p:cNvPicPr/>
          <p:nvPr/>
        </p:nvPicPr>
        <p:blipFill>
          <a:blip r:embed="rId3"/>
          <a:srcRect l="0" t="0" r="0" b="7427"/>
          <a:stretch/>
        </p:blipFill>
        <p:spPr>
          <a:xfrm rot="19810800">
            <a:off x="1618920" y="3645000"/>
            <a:ext cx="12128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908000" y="765000"/>
            <a:ext cx="62661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пишите числа, в которых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2987640" y="1773360"/>
            <a:ext cx="39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дес. 5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87640" y="2565360"/>
            <a:ext cx="396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дес.  4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995640" y="3429000"/>
            <a:ext cx="208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 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3995640" y="4221000"/>
            <a:ext cx="201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 д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3" name="WordArt 12"/>
          <p:cNvSpPr txBox="1"/>
          <p:nvPr/>
        </p:nvSpPr>
        <p:spPr>
          <a:xfrm>
            <a:off x="3203640" y="5013360"/>
            <a:ext cx="266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дес. 1 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0"/>
          <p:cNvSpPr txBox="1"/>
          <p:nvPr/>
        </p:nvSpPr>
        <p:spPr>
          <a:xfrm>
            <a:off x="2124000" y="2060640"/>
            <a:ext cx="619308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75  64  6  30  6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979640" y="479736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3"/>
          <p:cNvSpPr txBox="1"/>
          <p:nvPr/>
        </p:nvSpPr>
        <p:spPr>
          <a:xfrm rot="21325800">
            <a:off x="2340000" y="4292280"/>
            <a:ext cx="4248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787"/>
                <a:gd name="adj2" fmla="val -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916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916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195640" y="620640"/>
            <a:ext cx="61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С какими величин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ы знаком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58" name="Picture 30" descr="web"/>
          <p:cNvPicPr/>
          <p:nvPr/>
        </p:nvPicPr>
        <p:blipFill>
          <a:blip r:embed="rId1"/>
          <a:stretch/>
        </p:blipFill>
        <p:spPr>
          <a:xfrm>
            <a:off x="5867280" y="4076640"/>
            <a:ext cx="113688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4" descr="Forzuto"/>
          <p:cNvPicPr/>
          <p:nvPr/>
        </p:nvPicPr>
        <p:blipFill>
          <a:blip r:embed="rId2"/>
          <a:stretch/>
        </p:blipFill>
        <p:spPr>
          <a:xfrm>
            <a:off x="1835280" y="342900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60" name="WordArt 46"/>
          <p:cNvSpPr txBox="1"/>
          <p:nvPr/>
        </p:nvSpPr>
        <p:spPr>
          <a:xfrm>
            <a:off x="1763640" y="2637000"/>
            <a:ext cx="19447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масс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1" name="WordArt 47"/>
          <p:cNvSpPr txBox="1"/>
          <p:nvPr/>
        </p:nvSpPr>
        <p:spPr>
          <a:xfrm>
            <a:off x="5580000" y="285264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длина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1"/>
          <p:cNvGrpSpPr/>
          <p:nvPr/>
        </p:nvGrpSpPr>
        <p:grpSpPr>
          <a:xfrm>
            <a:off x="1908000" y="4005360"/>
            <a:ext cx="5943600" cy="778320"/>
            <a:chOff x="1908000" y="4005360"/>
            <a:chExt cx="5943600" cy="778320"/>
          </a:xfrm>
        </p:grpSpPr>
        <p:grpSp>
          <p:nvGrpSpPr>
            <p:cNvPr id="64" name="Group 22"/>
            <p:cNvGrpSpPr/>
            <p:nvPr/>
          </p:nvGrpSpPr>
          <p:grpSpPr>
            <a:xfrm>
              <a:off x="1908000" y="4005360"/>
              <a:ext cx="5943600" cy="778320"/>
              <a:chOff x="1908000" y="4005360"/>
              <a:chExt cx="5943600" cy="778320"/>
            </a:xfrm>
          </p:grpSpPr>
          <p:sp>
            <p:nvSpPr>
              <p:cNvPr id="65" name="Rectangle 23"/>
              <p:cNvSpPr/>
              <p:nvPr/>
            </p:nvSpPr>
            <p:spPr>
              <a:xfrm>
                <a:off x="1908000" y="4005360"/>
                <a:ext cx="5943600" cy="761760"/>
              </a:xfrm>
              <a:prstGeom prst="rect">
                <a:avLst/>
              </a:prstGeom>
              <a:solidFill>
                <a:srgbClr val="66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24"/>
              <p:cNvSpPr/>
              <p:nvPr/>
            </p:nvSpPr>
            <p:spPr>
              <a:xfrm>
                <a:off x="2138040" y="4080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25"/>
              <p:cNvSpPr/>
              <p:nvPr/>
            </p:nvSpPr>
            <p:spPr>
              <a:xfrm>
                <a:off x="2671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 Box 26"/>
              <p:cNvSpPr/>
              <p:nvPr/>
            </p:nvSpPr>
            <p:spPr>
              <a:xfrm>
                <a:off x="3129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27"/>
              <p:cNvSpPr/>
              <p:nvPr/>
            </p:nvSpPr>
            <p:spPr>
              <a:xfrm>
                <a:off x="3586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8"/>
              <p:cNvSpPr/>
              <p:nvPr/>
            </p:nvSpPr>
            <p:spPr>
              <a:xfrm>
                <a:off x="4043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 Box 29"/>
              <p:cNvSpPr/>
              <p:nvPr/>
            </p:nvSpPr>
            <p:spPr>
              <a:xfrm>
                <a:off x="45007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30"/>
              <p:cNvSpPr/>
              <p:nvPr/>
            </p:nvSpPr>
            <p:spPr>
              <a:xfrm>
                <a:off x="49579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31"/>
              <p:cNvSpPr/>
              <p:nvPr/>
            </p:nvSpPr>
            <p:spPr>
              <a:xfrm>
                <a:off x="54151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32"/>
              <p:cNvSpPr/>
              <p:nvPr/>
            </p:nvSpPr>
            <p:spPr>
              <a:xfrm>
                <a:off x="58723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33"/>
              <p:cNvSpPr/>
              <p:nvPr/>
            </p:nvSpPr>
            <p:spPr>
              <a:xfrm>
                <a:off x="6329520" y="4232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34"/>
              <p:cNvSpPr/>
              <p:nvPr/>
            </p:nvSpPr>
            <p:spPr>
              <a:xfrm>
                <a:off x="67100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35"/>
              <p:cNvSpPr/>
              <p:nvPr/>
            </p:nvSpPr>
            <p:spPr>
              <a:xfrm>
                <a:off x="7167240" y="4232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36"/>
            <p:cNvGrpSpPr/>
            <p:nvPr/>
          </p:nvGrpSpPr>
          <p:grpSpPr>
            <a:xfrm>
              <a:off x="2365200" y="4005360"/>
              <a:ext cx="2286000" cy="151920"/>
              <a:chOff x="2365200" y="4005360"/>
              <a:chExt cx="2286000" cy="151920"/>
            </a:xfrm>
          </p:grpSpPr>
          <p:sp>
            <p:nvSpPr>
              <p:cNvPr id="79" name="Line 37"/>
              <p:cNvSpPr/>
              <p:nvPr/>
            </p:nvSpPr>
            <p:spPr>
              <a:xfrm>
                <a:off x="2365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8"/>
              <p:cNvSpPr/>
              <p:nvPr/>
            </p:nvSpPr>
            <p:spPr>
              <a:xfrm>
                <a:off x="2822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9"/>
              <p:cNvSpPr/>
              <p:nvPr/>
            </p:nvSpPr>
            <p:spPr>
              <a:xfrm>
                <a:off x="3279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0"/>
              <p:cNvSpPr/>
              <p:nvPr/>
            </p:nvSpPr>
            <p:spPr>
              <a:xfrm>
                <a:off x="3736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1"/>
              <p:cNvSpPr/>
              <p:nvPr/>
            </p:nvSpPr>
            <p:spPr>
              <a:xfrm>
                <a:off x="4194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2"/>
              <p:cNvSpPr/>
              <p:nvPr/>
            </p:nvSpPr>
            <p:spPr>
              <a:xfrm>
                <a:off x="4651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3"/>
            <p:cNvGrpSpPr/>
            <p:nvPr/>
          </p:nvGrpSpPr>
          <p:grpSpPr>
            <a:xfrm>
              <a:off x="5108400" y="4005360"/>
              <a:ext cx="2286000" cy="151920"/>
              <a:chOff x="5108400" y="4005360"/>
              <a:chExt cx="2286000" cy="151920"/>
            </a:xfrm>
          </p:grpSpPr>
          <p:sp>
            <p:nvSpPr>
              <p:cNvPr id="86" name="Line 44"/>
              <p:cNvSpPr/>
              <p:nvPr/>
            </p:nvSpPr>
            <p:spPr>
              <a:xfrm>
                <a:off x="5108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5"/>
              <p:cNvSpPr/>
              <p:nvPr/>
            </p:nvSpPr>
            <p:spPr>
              <a:xfrm>
                <a:off x="55656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6"/>
              <p:cNvSpPr/>
              <p:nvPr/>
            </p:nvSpPr>
            <p:spPr>
              <a:xfrm>
                <a:off x="60228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7"/>
              <p:cNvSpPr/>
              <p:nvPr/>
            </p:nvSpPr>
            <p:spPr>
              <a:xfrm>
                <a:off x="64800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48"/>
              <p:cNvSpPr/>
              <p:nvPr/>
            </p:nvSpPr>
            <p:spPr>
              <a:xfrm>
                <a:off x="69372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49"/>
              <p:cNvSpPr/>
              <p:nvPr/>
            </p:nvSpPr>
            <p:spPr>
              <a:xfrm>
                <a:off x="7394400" y="4005360"/>
                <a:ext cx="0" cy="151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Line 50"/>
          <p:cNvSpPr/>
          <p:nvPr/>
        </p:nvSpPr>
        <p:spPr>
          <a:xfrm>
            <a:off x="234000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1"/>
          <p:cNvSpPr/>
          <p:nvPr/>
        </p:nvSpPr>
        <p:spPr>
          <a:xfrm>
            <a:off x="6948360" y="3573360"/>
            <a:ext cx="7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52"/>
          <p:cNvSpPr txBox="1"/>
          <p:nvPr/>
        </p:nvSpPr>
        <p:spPr>
          <a:xfrm>
            <a:off x="6732720" y="4292640"/>
            <a:ext cx="41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WordArt 53"/>
          <p:cNvSpPr txBox="1"/>
          <p:nvPr/>
        </p:nvSpPr>
        <p:spPr>
          <a:xfrm>
            <a:off x="2195640" y="42210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6" name="Group 54"/>
          <p:cNvGrpSpPr/>
          <p:nvPr/>
        </p:nvGrpSpPr>
        <p:grpSpPr>
          <a:xfrm>
            <a:off x="2193480" y="1050840"/>
            <a:ext cx="2790720" cy="2790720"/>
            <a:chOff x="2193480" y="1050840"/>
            <a:chExt cx="2790720" cy="2790720"/>
          </a:xfrm>
        </p:grpSpPr>
        <p:sp>
          <p:nvSpPr>
            <p:cNvPr id="97" name="AutoShape 55"/>
            <p:cNvSpPr/>
            <p:nvPr/>
          </p:nvSpPr>
          <p:spPr>
            <a:xfrm rot="1095000">
              <a:off x="2484000" y="134100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56"/>
            <p:cNvSpPr txBox="1"/>
            <p:nvPr/>
          </p:nvSpPr>
          <p:spPr>
            <a:xfrm rot="21496800">
              <a:off x="3110400" y="211356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0 с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9" name="Group 57"/>
          <p:cNvGrpSpPr/>
          <p:nvPr/>
        </p:nvGrpSpPr>
        <p:grpSpPr>
          <a:xfrm>
            <a:off x="4505400" y="985680"/>
            <a:ext cx="2775240" cy="2775600"/>
            <a:chOff x="4505400" y="985680"/>
            <a:chExt cx="2775240" cy="2775600"/>
          </a:xfrm>
        </p:grpSpPr>
        <p:sp>
          <p:nvSpPr>
            <p:cNvPr id="100" name="AutoShape 58"/>
            <p:cNvSpPr/>
            <p:nvPr/>
          </p:nvSpPr>
          <p:spPr>
            <a:xfrm rot="1057800">
              <a:off x="4788000" y="1268280"/>
              <a:ext cx="2209680" cy="2210040"/>
            </a:xfrm>
            <a:prstGeom prst="irregularSeal1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59"/>
            <p:cNvSpPr txBox="1"/>
            <p:nvPr/>
          </p:nvSpPr>
          <p:spPr>
            <a:xfrm rot="21459600">
              <a:off x="5413680" y="2040120"/>
              <a:ext cx="10382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1 дм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517760" y="1657440"/>
            <a:ext cx="7205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3780000" y="2133720"/>
            <a:ext cx="3735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дм = 1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3635280" y="357336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66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ylfaen"/>
              </a:rPr>
              <a:t>М Е Т Р</a:t>
            </a:r>
            <a:endParaRPr b="0" lang="en-US" sz="1800" spc="1" strike="noStrike">
              <a:ln w="19080">
                <a:solidFill>
                  <a:srgbClr val="cc66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ylfaen"/>
              <a:ea typeface="Sylfaen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619280" y="472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м = 10 д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5580000" y="472428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 100 с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71"/>
          <p:cNvSpPr txBox="1"/>
          <p:nvPr/>
        </p:nvSpPr>
        <p:spPr>
          <a:xfrm>
            <a:off x="2195640" y="692280"/>
            <a:ext cx="5676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диницы измерения дл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их соотношени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72" descr="к удавуi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Самохины</cp:lastModifiedBy>
  <dcterms:modified xsi:type="dcterms:W3CDTF">2011-09-17T16:59:36Z</dcterms:modified>
  <cp:revision>19</cp:revision>
  <dc:subject/>
  <dc:title>Слайд 1</dc:title>
</cp:coreProperties>
</file>