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jpeg" ContentType="image/jpeg"/>
  <Override PartName="/ppt/media/image50.jpeg" ContentType="image/jpeg"/>
  <Override PartName="/ppt/media/image49.jpeg" ContentType="image/jpeg"/>
  <Override PartName="/ppt/media/image88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1.png" ContentType="image/png"/>
  <Override PartName="/ppt/media/image36.jpeg" ContentType="image/jpeg"/>
  <Override PartName="/ppt/media/image31.jpeg" ContentType="image/jpeg"/>
  <Override PartName="/ppt/media/image30.png" ContentType="image/pn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6.jpeg" ContentType="image/jpeg"/>
  <Override PartName="/ppt/media/image43.jpeg" ContentType="image/jpeg"/>
  <Override PartName="/ppt/media/image28.png" ContentType="image/png"/>
  <Override PartName="/ppt/media/image5.png" ContentType="image/png"/>
  <Override PartName="/ppt/media/image39.jpeg" ContentType="image/jpeg"/>
  <Override PartName="/ppt/media/image38.jpeg" ContentType="image/jpeg"/>
  <Override PartName="/ppt/media/image18.jpeg" ContentType="image/jpeg"/>
  <Override PartName="/ppt/media/image20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83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91.jpeg" ContentType="image/jpeg"/>
  <Override PartName="/ppt/media/image64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6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69.jpeg" ContentType="image/jpeg"/>
  <Override PartName="/ppt/media/image89.png" ContentType="image/png"/>
  <Override PartName="/ppt/media/image68.jpeg" ContentType="image/jpeg"/>
  <Override PartName="/ppt/media/image67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84.jpeg" ContentType="image/jpeg"/>
  <Override PartName="/ppt/media/image25.jpeg" ContentType="image/jpeg"/>
  <Override PartName="/ppt/media/image32.png" ContentType="image/png"/>
  <Override PartName="/ppt/media/image2.png" ContentType="image/png"/>
  <Override PartName="/ppt/media/image72.jpeg" ContentType="image/jpeg"/>
  <Override PartName="/ppt/media/image14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media/image87.jpeg" ContentType="image/jpeg"/>
  <Override PartName="/ppt/media/image1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79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5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8335-0D91-408F-B37F-00D4D7B76A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8BF6-6D04-47A6-915B-DB857913E89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62A6-13BE-4C8F-B2E8-51C40548EE1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DA4-DB62-4642-BBCF-DA6EC8D8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BC4-AF49-454E-B4E0-90CDF700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334-B1F6-45FD-A3EC-8A1CA95E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1B9-A04A-4AB4-AC58-2D6D918A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AE92-8D05-4D58-890B-45953008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E9CA-8CA0-4F52-95D0-C87BE23D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B2D2-0805-4D9D-A500-76485E78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194E-B623-4E17-9283-9A505383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2039-6354-47D0-B356-1BADDF37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C38B-4037-441D-B28A-1E0AFF89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0B26-C8DA-410B-94C1-977678A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604-4A81-418A-8196-48C26326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2008-C81C-454B-9FDD-17E0C377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D792-24AA-4896-B286-CC2A3C27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12AB-F31E-4A3E-ADA6-0051A185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FEDC-3400-4DAC-91E6-AE1FB1D1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F07C-3B5C-4BF9-A622-72CF9B61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87AF-C04D-4E11-A751-7017CE0F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5D58-A586-4FDC-BDC0-DF866853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A5E1-42D6-4685-8691-0E541D75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E5C8D-5711-4417-A864-1DB6C2AA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3FE25-BEA6-42B7-A530-DD2C5F91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BA3-62A6-4FA3-8425-91F69355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FC1DA-19AA-4CD1-8E82-191470BF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85AE-1967-4AFC-A246-59C3A2D4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B50C-99A5-4F09-8643-0DF210CF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EF4D-88EC-44E4-B116-FE6D9E56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096C3-A5FB-4261-A58E-062CE08F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B60E-87F2-4381-A2F5-8790E8E3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7B404-21E3-4C0E-B920-B9C2ED30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B2CCD-8898-4106-9BBB-93E4044E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BBB5B-0385-4D7A-8554-7DE16163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AB232-72A2-4549-B24C-47AF1A39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523-92E9-41C0-B4AC-790F0C3E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CC60B-19C3-4144-B4AC-26C18DA1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64C64-5CBE-454A-A061-56D59192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98E0A-DD7F-4FC1-B6DF-894166B3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34FF8-CAB4-4379-AA05-F7ADB8A7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F9A6-7838-49E8-847A-79A85ED4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13330-43AD-44DC-B6B2-720ADC97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F9B1F-E8C0-49ED-98CD-633A6EBC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847A-C3C2-43AE-BA49-4ACC0C58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0878D-F662-4392-A98C-088B4143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3C0C-00E4-441F-A137-8533B488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E9D-BB57-4031-A3BE-4415EEA3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13F-3331-435C-AD43-3B89253B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4C9-32D2-48CD-ADA8-96971BA3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1DC-EB4A-40BB-92D0-5DFE572D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63CC-D634-4B16-AD3E-B52B2A4FC57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97F7-6E00-4644-934E-737F851591D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BB14-40D8-4D34-B79D-89FB3CD2664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45B4-6288-4DE4-B71B-51CC0971936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2.jpeg"/><Relationship Id="rId8" Type="http://schemas.openxmlformats.org/officeDocument/2006/relationships/image" Target="../media/image63.jpeg"/><Relationship Id="rId9" Type="http://schemas.openxmlformats.org/officeDocument/2006/relationships/image" Target="../media/image64.jpeg"/><Relationship Id="rId10" Type="http://schemas.openxmlformats.org/officeDocument/2006/relationships/image" Target="../media/image65.jpeg"/><Relationship Id="rId11" Type="http://schemas.openxmlformats.org/officeDocument/2006/relationships/image" Target="../media/image66.jpeg"/><Relationship Id="rId12" Type="http://schemas.openxmlformats.org/officeDocument/2006/relationships/image" Target="../media/image67.jpeg"/><Relationship Id="rId13" Type="http://schemas.openxmlformats.org/officeDocument/2006/relationships/image" Target="../media/image68.jpeg"/><Relationship Id="rId14" Type="http://schemas.openxmlformats.org/officeDocument/2006/relationships/image" Target="../media/image69.jpeg"/><Relationship Id="rId15" Type="http://schemas.openxmlformats.org/officeDocument/2006/relationships/image" Target="../media/image70.jpeg"/><Relationship Id="rId16" Type="http://schemas.openxmlformats.org/officeDocument/2006/relationships/image" Target="../media/image71.jpeg"/><Relationship Id="rId17" Type="http://schemas.openxmlformats.org/officeDocument/2006/relationships/image" Target="../media/image72.jpeg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19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image" Target="../media/image23.jpeg"/><Relationship Id="rId17" Type="http://schemas.openxmlformats.org/officeDocument/2006/relationships/image" Target="../media/image18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image" Target="../media/image26.jpeg"/><Relationship Id="rId21" Type="http://schemas.openxmlformats.org/officeDocument/2006/relationships/slide" Target="slide14.xml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image" Target="../media/image88.png"/><Relationship Id="rId6" Type="http://schemas.openxmlformats.org/officeDocument/2006/relationships/image" Target="../media/image8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pic>
        <p:nvPicPr>
          <p:cNvPr id="203" name="Заголовок 3" descr=""/>
          <p:cNvPicPr/>
          <p:nvPr/>
        </p:nvPicPr>
        <p:blipFill>
          <a:blip r:embed="rId2"/>
          <a:stretch/>
        </p:blipFill>
        <p:spPr>
          <a:xfrm>
            <a:off x="-384120" y="189000"/>
            <a:ext cx="9279000" cy="1963800"/>
          </a:xfrm>
          <a:prstGeom prst="rect">
            <a:avLst/>
          </a:prstGeom>
          <a:ln w="0">
            <a:noFill/>
          </a:ln>
        </p:spPr>
      </p:pic>
      <p:pic>
        <p:nvPicPr>
          <p:cNvPr id="204" name="Песни военных лет - Тучи в голубом.mp3" descr=""/>
          <p:cNvPicPr/>
          <p:nvPr/>
        </p:nvPicPr>
        <p:blipFill>
          <a:blip r:embed="rId3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6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247" name="Picture 7" descr="Radost"/>
            <p:cNvPicPr/>
            <p:nvPr/>
          </p:nvPicPr>
          <p:blipFill>
            <a:blip r:embed="rId1">
              <a:lum contrast="8000"/>
            </a:blip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31680">
              <a:solidFill>
                <a:srgbClr val="b00000"/>
              </a:solidFill>
              <a:miter/>
            </a:ln>
          </p:spPr>
        </p:pic>
        <p:pic>
          <p:nvPicPr>
            <p:cNvPr id="248" name="Picture 8" descr="File0704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4428720" y="4642200"/>
              <a:ext cx="4297320" cy="1933560"/>
            </a:xfrm>
            <a:prstGeom prst="rect">
              <a:avLst/>
            </a:prstGeom>
            <a:ln w="31680">
              <a:solidFill>
                <a:srgbClr val="b00000"/>
              </a:solidFill>
              <a:miter/>
            </a:ln>
          </p:spPr>
        </p:pic>
      </p:grpSp>
      <p:pic>
        <p:nvPicPr>
          <p:cNvPr id="249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16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Установка противотанкового орудия командира Панышева на огневой позиции..    1941 г. Место съемки: Московская обл.. Автор съемки:   Велигжанин Л. . РГАКФД,ед.хр.0-177116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1" descr="P1020277.JPG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3"/>
          <p:cNvSpPr/>
          <p:nvPr/>
        </p:nvSpPr>
        <p:spPr>
          <a:xfrm>
            <a:off x="1928880" y="5000760"/>
            <a:ext cx="4143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2500200" y="0"/>
            <a:ext cx="52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libri"/>
                <a:ea typeface="Arial"/>
              </a:rPr>
              <a:t>Письмо любим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258920" y="1484280"/>
            <a:ext cx="5818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уся!!!Если встретиться нам не придё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 если коварно постигнет судь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усть на память тебе остаё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еподдельная личность моя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3/x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46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Дуся!!!Если любишь ,то х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А не любишь , то пришли со своим дру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И земляк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6" name="Picture 2" descr="http://im5-tub-ru.yandex.net/i?id=357788775-27-72&amp;n=21"/>
            <p:cNvPicPr/>
            <p:nvPr/>
          </p:nvPicPr>
          <p:blipFill>
            <a:blip r:embed="rId1"/>
            <a:stretch/>
          </p:blipFill>
          <p:spPr>
            <a:xfrm>
              <a:off x="0" y="3501000"/>
              <a:ext cx="5527800" cy="33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4" descr="http://im5-tub-ru.yandex.net/i?id=140206296-40-72&amp;n=21"/>
            <p:cNvPicPr/>
            <p:nvPr/>
          </p:nvPicPr>
          <p:blipFill>
            <a:blip r:embed="rId2"/>
            <a:stretch/>
          </p:blipFill>
          <p:spPr>
            <a:xfrm>
              <a:off x="4668120" y="3501000"/>
              <a:ext cx="4475880" cy="33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" descr="http://im8-tub-ru.yandex.net/i?id=349455787-33-72&amp;n=2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55640" cy="141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0" descr="http://im5-tub-ru.yandex.net/i?id=260229874-51-72&amp;n=21"/>
            <p:cNvPicPr/>
            <p:nvPr/>
          </p:nvPicPr>
          <p:blipFill>
            <a:blip r:embed="rId4"/>
            <a:stretch/>
          </p:blipFill>
          <p:spPr>
            <a:xfrm>
              <a:off x="5508000" y="0"/>
              <a:ext cx="3636000" cy="349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2" descr="http://im7-tub-ru.yandex.net/i?id=247291546-58-72&amp;n=21"/>
            <p:cNvPicPr/>
            <p:nvPr/>
          </p:nvPicPr>
          <p:blipFill>
            <a:blip r:embed="rId5"/>
            <a:stretch/>
          </p:blipFill>
          <p:spPr>
            <a:xfrm>
              <a:off x="0" y="1484640"/>
              <a:ext cx="302436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8" descr="http://im0-tub-ru.yandex.net/i?id=515019919-25-72&amp;n=21"/>
            <p:cNvPicPr/>
            <p:nvPr/>
          </p:nvPicPr>
          <p:blipFill>
            <a:blip r:embed="rId6"/>
            <a:stretch/>
          </p:blipFill>
          <p:spPr>
            <a:xfrm>
              <a:off x="2339640" y="0"/>
              <a:ext cx="3528360" cy="2496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Группа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63" name="Picture 2" descr="http://im7-tub-ru.yandex.net/i?id=148240391-18-72&amp;n=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4796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6" descr="http://im5-tub-ru.yandex.net/i?id=492630278-71-72&amp;n=21"/>
            <p:cNvPicPr/>
            <p:nvPr/>
          </p:nvPicPr>
          <p:blipFill>
            <a:blip r:embed="rId2"/>
            <a:stretch/>
          </p:blipFill>
          <p:spPr>
            <a:xfrm>
              <a:off x="0" y="3213000"/>
              <a:ext cx="5005800" cy="36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8" descr="http://im5-tub-ru.yandex.net/i?id=396595285-51-72&amp;n=21"/>
            <p:cNvPicPr/>
            <p:nvPr/>
          </p:nvPicPr>
          <p:blipFill>
            <a:blip r:embed="rId3"/>
            <a:stretch/>
          </p:blipFill>
          <p:spPr>
            <a:xfrm>
              <a:off x="4648680" y="0"/>
              <a:ext cx="449532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10" descr="http://im7-tub-ru.yandex.net/i?id=52677296-06-72&amp;n=21"/>
            <p:cNvPicPr/>
            <p:nvPr/>
          </p:nvPicPr>
          <p:blipFill>
            <a:blip r:embed="rId4"/>
            <a:stretch/>
          </p:blipFill>
          <p:spPr>
            <a:xfrm>
              <a:off x="4499640" y="3141000"/>
              <a:ext cx="4644360" cy="3717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Группа 19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pic>
          <p:nvPicPr>
            <p:cNvPr id="268" name="Picture 2" descr="http://im3-tub-ru.yandex.net/i?id=122585686-60-72&amp;n=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4000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" descr="http://im4-tub-ru.yandex.net/i?id=388625553-09-72&amp;n=21"/>
            <p:cNvPicPr/>
            <p:nvPr/>
          </p:nvPicPr>
          <p:blipFill>
            <a:blip r:embed="rId2"/>
            <a:stretch/>
          </p:blipFill>
          <p:spPr>
            <a:xfrm>
              <a:off x="0" y="1988640"/>
              <a:ext cx="1475640" cy="17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6" descr="http://im4-tub-ru.yandex.net/i?id=299595852-23-72&amp;n=21"/>
            <p:cNvPicPr/>
            <p:nvPr/>
          </p:nvPicPr>
          <p:blipFill>
            <a:blip r:embed="rId3"/>
            <a:stretch/>
          </p:blipFill>
          <p:spPr>
            <a:xfrm>
              <a:off x="0" y="3717000"/>
              <a:ext cx="147564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" descr="http://im4-tub-ru.yandex.net/i?id=116037614-28-72&amp;n=21"/>
            <p:cNvPicPr/>
            <p:nvPr/>
          </p:nvPicPr>
          <p:blipFill>
            <a:blip r:embed="rId4"/>
            <a:stretch/>
          </p:blipFill>
          <p:spPr>
            <a:xfrm>
              <a:off x="0" y="5157000"/>
              <a:ext cx="1475640" cy="17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10" descr="http://im2-tub-ru.yandex.net/i?id=311869542-20-72&amp;n=21"/>
            <p:cNvPicPr/>
            <p:nvPr/>
          </p:nvPicPr>
          <p:blipFill>
            <a:blip r:embed="rId5"/>
            <a:stretch/>
          </p:blipFill>
          <p:spPr>
            <a:xfrm>
              <a:off x="1475640" y="0"/>
              <a:ext cx="155124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2" descr="http://im8-tub-ru.yandex.net/i?id=34664844-02-72&amp;n=21"/>
            <p:cNvPicPr/>
            <p:nvPr/>
          </p:nvPicPr>
          <p:blipFill>
            <a:blip r:embed="rId6"/>
            <a:stretch/>
          </p:blipFill>
          <p:spPr>
            <a:xfrm>
              <a:off x="1547640" y="5157000"/>
              <a:ext cx="1584000" cy="17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4" descr="http://im4-tub-ru.yandex.net/i?id=109160285-02-72&amp;n=21"/>
            <p:cNvPicPr/>
            <p:nvPr/>
          </p:nvPicPr>
          <p:blipFill>
            <a:blip r:embed="rId7"/>
            <a:stretch/>
          </p:blipFill>
          <p:spPr>
            <a:xfrm>
              <a:off x="3203640" y="5129640"/>
              <a:ext cx="1728000" cy="17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6" descr="http://im0-tub-ru.yandex.net/i?id=308804197-03-72&amp;n=21"/>
            <p:cNvPicPr/>
            <p:nvPr/>
          </p:nvPicPr>
          <p:blipFill>
            <a:blip r:embed="rId8"/>
            <a:stretch/>
          </p:blipFill>
          <p:spPr>
            <a:xfrm>
              <a:off x="2987640" y="0"/>
              <a:ext cx="173664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8" descr="http://im5-tub-ru.yandex.net/i?id=339800701-11-72&amp;n=21"/>
            <p:cNvPicPr/>
            <p:nvPr/>
          </p:nvPicPr>
          <p:blipFill>
            <a:blip r:embed="rId9"/>
            <a:stretch/>
          </p:blipFill>
          <p:spPr>
            <a:xfrm>
              <a:off x="2267640" y="1916640"/>
              <a:ext cx="4623840" cy="30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2" descr="http://im2-tub-ru.yandex.net/i?id=455626924-38-72&amp;n=21"/>
            <p:cNvPicPr/>
            <p:nvPr/>
          </p:nvPicPr>
          <p:blipFill>
            <a:blip r:embed="rId10"/>
            <a:stretch/>
          </p:blipFill>
          <p:spPr>
            <a:xfrm>
              <a:off x="4788000" y="0"/>
              <a:ext cx="1443960" cy="19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4" descr="http://im3-tub-ru.yandex.net/i?id=286472944-62-72&amp;n=21"/>
            <p:cNvPicPr/>
            <p:nvPr/>
          </p:nvPicPr>
          <p:blipFill>
            <a:blip r:embed="rId11"/>
            <a:stretch/>
          </p:blipFill>
          <p:spPr>
            <a:xfrm>
              <a:off x="6228360" y="0"/>
              <a:ext cx="144000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6" descr="http://im2-tub-ru.yandex.net/i?id=124998994-67-72&amp;n=21"/>
            <p:cNvPicPr/>
            <p:nvPr/>
          </p:nvPicPr>
          <p:blipFill>
            <a:blip r:embed="rId12"/>
            <a:stretch/>
          </p:blipFill>
          <p:spPr>
            <a:xfrm>
              <a:off x="5004000" y="5085000"/>
              <a:ext cx="115200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28" descr="http://im0-tub-ru.yandex.net/i?id=104824675-14-72&amp;n=21"/>
            <p:cNvPicPr/>
            <p:nvPr/>
          </p:nvPicPr>
          <p:blipFill>
            <a:blip r:embed="rId13"/>
            <a:stretch/>
          </p:blipFill>
          <p:spPr>
            <a:xfrm>
              <a:off x="6228360" y="5085000"/>
              <a:ext cx="1500840" cy="177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30" descr="http://im2-tub-ru.yandex.net/i?id=8901044-39-72&amp;n=21"/>
            <p:cNvPicPr/>
            <p:nvPr/>
          </p:nvPicPr>
          <p:blipFill>
            <a:blip r:embed="rId14"/>
            <a:stretch/>
          </p:blipFill>
          <p:spPr>
            <a:xfrm>
              <a:off x="7704000" y="0"/>
              <a:ext cx="1440000" cy="191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32" descr="http://im2-tub-ru.yandex.net/i?id=951987415-23-72&amp;n=21"/>
            <p:cNvPicPr/>
            <p:nvPr/>
          </p:nvPicPr>
          <p:blipFill>
            <a:blip r:embed="rId15"/>
            <a:stretch/>
          </p:blipFill>
          <p:spPr>
            <a:xfrm>
              <a:off x="7740360" y="5090040"/>
              <a:ext cx="1403640" cy="176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34" descr="http://im5-tub-ru.yandex.net/i?id=321669155-06-72&amp;n=21"/>
            <p:cNvPicPr/>
            <p:nvPr/>
          </p:nvPicPr>
          <p:blipFill>
            <a:blip r:embed="rId16"/>
            <a:stretch/>
          </p:blipFill>
          <p:spPr>
            <a:xfrm>
              <a:off x="7581240" y="3573000"/>
              <a:ext cx="1562760" cy="15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36" descr="http://im7-tub-ru.yandex.net/i?id=562167272-52-72&amp;n=21"/>
            <p:cNvPicPr/>
            <p:nvPr/>
          </p:nvPicPr>
          <p:blipFill>
            <a:blip r:embed="rId17"/>
            <a:stretch/>
          </p:blipFill>
          <p:spPr>
            <a:xfrm>
              <a:off x="7596360" y="1916640"/>
              <a:ext cx="1547640" cy="158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49_big"/>
          <p:cNvPicPr/>
          <p:nvPr/>
        </p:nvPicPr>
        <p:blipFill>
          <a:blip r:embed="rId1"/>
          <a:stretch/>
        </p:blipFill>
        <p:spPr>
          <a:xfrm>
            <a:off x="0" y="0"/>
            <a:ext cx="982836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Группа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7" name="Picture 2" descr="http://im4-tub-ru.yandex.net/i?id=196061717-19-72&amp;n=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500000" cy="328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4" descr="http://im8-tub-ru.yandex.net/i?id=162564264-67-72&amp;n=21"/>
            <p:cNvPicPr/>
            <p:nvPr/>
          </p:nvPicPr>
          <p:blipFill>
            <a:blip r:embed="rId2"/>
            <a:stretch/>
          </p:blipFill>
          <p:spPr>
            <a:xfrm>
              <a:off x="4500000" y="0"/>
              <a:ext cx="4644000" cy="32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" descr="http://im3-tub-ru.yandex.net/i?id=92974819-61-72&amp;n=21"/>
            <p:cNvPicPr/>
            <p:nvPr/>
          </p:nvPicPr>
          <p:blipFill>
            <a:blip r:embed="rId3"/>
            <a:stretch/>
          </p:blipFill>
          <p:spPr>
            <a:xfrm>
              <a:off x="0" y="3285000"/>
              <a:ext cx="4428000" cy="357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8" descr="http://im3-tub-ru.yandex.net/i?id=146418045-59-72&amp;n=21"/>
            <p:cNvPicPr/>
            <p:nvPr/>
          </p:nvPicPr>
          <p:blipFill>
            <a:blip r:embed="rId4"/>
            <a:stretch/>
          </p:blipFill>
          <p:spPr>
            <a:xfrm>
              <a:off x="4188240" y="3285000"/>
              <a:ext cx="4955760" cy="357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857160" y="400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Коновалов Алексе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Содержимое 8" descr="2FE571F5.jpg"/>
          <p:cNvPicPr/>
          <p:nvPr/>
        </p:nvPicPr>
        <p:blipFill>
          <a:blip r:embed="rId1"/>
          <a:stretch/>
        </p:blipFill>
        <p:spPr>
          <a:xfrm>
            <a:off x="0" y="0"/>
            <a:ext cx="493092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Содержимое 9" descr="8C16304.jpg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Павленко Наст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5" name="Содержимое 4" descr="9F4C12A7.jpg"/>
          <p:cNvPicPr/>
          <p:nvPr/>
        </p:nvPicPr>
        <p:blipFill>
          <a:blip r:embed="rId1"/>
          <a:stretch/>
        </p:blipFill>
        <p:spPr>
          <a:xfrm>
            <a:off x="0" y="0"/>
            <a:ext cx="496728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Содержимое 5" descr="C9743ED8.jpg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619280" y="476280"/>
            <a:ext cx="59054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чная память героя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43000" y="1285920"/>
          <a:ext cx="5329080" cy="1616040"/>
        </p:xfrm>
        <a:graphic>
          <a:graphicData uri="http://schemas.openxmlformats.org/drawingml/2006/table">
            <a:tbl>
              <a:tblPr/>
              <a:tblGrid>
                <a:gridCol w="5329080"/>
              </a:tblGrid>
              <a:tr h="1616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свящается всем, кто погиб, 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 всем, кто дожил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м, кто не утратил память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м, кому дорога та Победа..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м...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7" name="Picture 17" descr="img02_"/>
          <p:cNvPicPr/>
          <p:nvPr/>
        </p:nvPicPr>
        <p:blipFill>
          <a:blip r:embed="rId1"/>
          <a:stretch/>
        </p:blipFill>
        <p:spPr>
          <a:xfrm>
            <a:off x="0" y="836640"/>
            <a:ext cx="871560" cy="824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8" name="Picture 19" descr="img16_"/>
          <p:cNvPicPr/>
          <p:nvPr/>
        </p:nvPicPr>
        <p:blipFill>
          <a:blip r:embed="rId2"/>
          <a:stretch/>
        </p:blipFill>
        <p:spPr>
          <a:xfrm>
            <a:off x="3564000" y="5877000"/>
            <a:ext cx="100800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9" name="Picture 20" descr="img04_"/>
          <p:cNvPicPr/>
          <p:nvPr/>
        </p:nvPicPr>
        <p:blipFill>
          <a:blip r:embed="rId3"/>
          <a:stretch/>
        </p:blipFill>
        <p:spPr>
          <a:xfrm>
            <a:off x="2627280" y="5877000"/>
            <a:ext cx="93672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0" name="Picture 21" descr="img05_"/>
          <p:cNvPicPr/>
          <p:nvPr/>
        </p:nvPicPr>
        <p:blipFill>
          <a:blip r:embed="rId4"/>
          <a:stretch/>
        </p:blipFill>
        <p:spPr>
          <a:xfrm>
            <a:off x="1763640" y="5877000"/>
            <a:ext cx="86364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1" name="Picture 22" descr="img06_"/>
          <p:cNvPicPr/>
          <p:nvPr/>
        </p:nvPicPr>
        <p:blipFill>
          <a:blip r:embed="rId5"/>
          <a:stretch/>
        </p:blipFill>
        <p:spPr>
          <a:xfrm>
            <a:off x="900000" y="5877000"/>
            <a:ext cx="86364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2" name="Picture 23" descr="img08_"/>
          <p:cNvPicPr/>
          <p:nvPr/>
        </p:nvPicPr>
        <p:blipFill>
          <a:blip r:embed="rId6"/>
          <a:stretch/>
        </p:blipFill>
        <p:spPr>
          <a:xfrm>
            <a:off x="0" y="5589720"/>
            <a:ext cx="900000" cy="1268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3" name="Picture 28" descr="img18_"/>
          <p:cNvPicPr/>
          <p:nvPr/>
        </p:nvPicPr>
        <p:blipFill>
          <a:blip r:embed="rId7"/>
          <a:stretch/>
        </p:blipFill>
        <p:spPr>
          <a:xfrm>
            <a:off x="6372360" y="5877000"/>
            <a:ext cx="86364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4" name="Picture 30" descr="img07_"/>
          <p:cNvPicPr/>
          <p:nvPr/>
        </p:nvPicPr>
        <p:blipFill>
          <a:blip r:embed="rId8"/>
          <a:stretch/>
        </p:blipFill>
        <p:spPr>
          <a:xfrm>
            <a:off x="5435640" y="5877000"/>
            <a:ext cx="93672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5" name="Picture 31" descr="img11_"/>
          <p:cNvPicPr/>
          <p:nvPr/>
        </p:nvPicPr>
        <p:blipFill>
          <a:blip r:embed="rId9"/>
          <a:stretch/>
        </p:blipFill>
        <p:spPr>
          <a:xfrm>
            <a:off x="4572000" y="5877000"/>
            <a:ext cx="86508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6" name="Picture 32" descr="img13_"/>
          <p:cNvPicPr/>
          <p:nvPr/>
        </p:nvPicPr>
        <p:blipFill>
          <a:blip r:embed="rId10"/>
          <a:stretch/>
        </p:blipFill>
        <p:spPr>
          <a:xfrm>
            <a:off x="7236000" y="5877000"/>
            <a:ext cx="100800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17" name="Picture 33" descr="img01_"/>
          <p:cNvPicPr/>
          <p:nvPr/>
        </p:nvPicPr>
        <p:blipFill>
          <a:blip r:embed="rId11"/>
          <a:stretch/>
        </p:blipFill>
        <p:spPr>
          <a:xfrm>
            <a:off x="8244000" y="5877000"/>
            <a:ext cx="900000" cy="98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grpSp>
        <p:nvGrpSpPr>
          <p:cNvPr id="218" name="Группа 24"/>
          <p:cNvGrpSpPr/>
          <p:nvPr/>
        </p:nvGrpSpPr>
        <p:grpSpPr>
          <a:xfrm>
            <a:off x="0" y="0"/>
            <a:ext cx="9144000" cy="5877000"/>
            <a:chOff x="0" y="0"/>
            <a:chExt cx="9144000" cy="5877000"/>
          </a:xfrm>
        </p:grpSpPr>
        <p:pic>
          <p:nvPicPr>
            <p:cNvPr id="219" name="Picture 15" descr="При въезде в город Вас встретит Тачанка-Ростовчанка, памятник Героям Гражданской войны и символ нашего города"/>
            <p:cNvPicPr/>
            <p:nvPr/>
          </p:nvPicPr>
          <p:blipFill>
            <a:blip r:embed="rId12"/>
            <a:stretch/>
          </p:blipFill>
          <p:spPr>
            <a:xfrm>
              <a:off x="6659640" y="1268280"/>
              <a:ext cx="2303280" cy="13208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0" name="Picture 16" descr="img01_"/>
            <p:cNvPicPr/>
            <p:nvPr/>
          </p:nvPicPr>
          <p:blipFill>
            <a:blip r:embed="rId13"/>
            <a:stretch/>
          </p:blipFill>
          <p:spPr>
            <a:xfrm>
              <a:off x="0" y="0"/>
              <a:ext cx="853920" cy="85392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1" name="Picture 18" descr="img03_"/>
            <p:cNvPicPr/>
            <p:nvPr/>
          </p:nvPicPr>
          <p:blipFill>
            <a:blip r:embed="rId14"/>
            <a:stretch/>
          </p:blipFill>
          <p:spPr>
            <a:xfrm>
              <a:off x="0" y="1628640"/>
              <a:ext cx="900000" cy="7920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2" name="Picture 24" descr="img09_"/>
            <p:cNvPicPr/>
            <p:nvPr/>
          </p:nvPicPr>
          <p:blipFill>
            <a:blip r:embed="rId15"/>
            <a:stretch/>
          </p:blipFill>
          <p:spPr>
            <a:xfrm>
              <a:off x="0" y="4869000"/>
              <a:ext cx="900000" cy="10080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3" name="Picture 25" descr="img10_"/>
            <p:cNvPicPr/>
            <p:nvPr/>
          </p:nvPicPr>
          <p:blipFill>
            <a:blip r:embed="rId16"/>
            <a:stretch/>
          </p:blipFill>
          <p:spPr>
            <a:xfrm>
              <a:off x="0" y="4000680"/>
              <a:ext cx="900000" cy="8636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4" name="Picture 26" descr="img13_"/>
            <p:cNvPicPr/>
            <p:nvPr/>
          </p:nvPicPr>
          <p:blipFill>
            <a:blip r:embed="rId17"/>
            <a:stretch/>
          </p:blipFill>
          <p:spPr>
            <a:xfrm>
              <a:off x="0" y="3213000"/>
              <a:ext cx="900000" cy="82692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5" name="Picture 27" descr="img14_"/>
            <p:cNvPicPr/>
            <p:nvPr/>
          </p:nvPicPr>
          <p:blipFill>
            <a:blip r:embed="rId18"/>
            <a:stretch/>
          </p:blipFill>
          <p:spPr>
            <a:xfrm>
              <a:off x="0" y="2378160"/>
              <a:ext cx="900000" cy="82692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6" name="Picture 34" descr="16826265_normal_DSCF9408"/>
            <p:cNvPicPr/>
            <p:nvPr/>
          </p:nvPicPr>
          <p:blipFill>
            <a:blip r:embed="rId19"/>
            <a:stretch/>
          </p:blipFill>
          <p:spPr>
            <a:xfrm>
              <a:off x="1116000" y="2943360"/>
              <a:ext cx="3672000" cy="27478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227" name="Picture 35" descr="ngr_pogran1"/>
            <p:cNvPicPr/>
            <p:nvPr/>
          </p:nvPicPr>
          <p:blipFill>
            <a:blip r:embed="rId20"/>
            <a:stretch/>
          </p:blipFill>
          <p:spPr>
            <a:xfrm>
              <a:off x="5148360" y="2924280"/>
              <a:ext cx="3594240" cy="26956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228" name="AutoShape 36">
              <a:hlinkClick r:id="rId21" action="ppaction://hlinksldjump"/>
            </p:cNvPr>
            <p:cNvSpPr/>
            <p:nvPr/>
          </p:nvSpPr>
          <p:spPr>
            <a:xfrm>
              <a:off x="7885080" y="0"/>
              <a:ext cx="1258920" cy="1125360"/>
            </a:xfrm>
            <a:custGeom>
              <a:avLst/>
              <a:gdLst/>
              <a:ahLst/>
              <a:rect l="l" t="t" r="r" b="b"/>
              <a:pathLst>
                <a:path w="1258887" h="1125538">
                  <a:moveTo>
                    <a:pt x="1" y="429916"/>
                  </a:moveTo>
                  <a:lnTo>
                    <a:pt x="480855" y="429919"/>
                  </a:lnTo>
                  <a:lnTo>
                    <a:pt x="629444" y="0"/>
                  </a:lnTo>
                  <a:lnTo>
                    <a:pt x="778032" y="429919"/>
                  </a:lnTo>
                  <a:lnTo>
                    <a:pt x="1258886" y="429916"/>
                  </a:lnTo>
                  <a:lnTo>
                    <a:pt x="869865" y="695618"/>
                  </a:lnTo>
                  <a:lnTo>
                    <a:pt x="1018460" y="1125535"/>
                  </a:lnTo>
                  <a:lnTo>
                    <a:pt x="629444" y="859829"/>
                  </a:lnTo>
                  <a:lnTo>
                    <a:pt x="240427" y="1125535"/>
                  </a:lnTo>
                  <a:lnTo>
                    <a:pt x="389022" y="695618"/>
                  </a:lnTo>
                  <a:lnTo>
                    <a:pt x="1" y="429916"/>
                  </a:lnTo>
                  <a:close/>
                </a:path>
              </a:pathLst>
            </a:custGeom>
            <a:gradFill rotWithShape="0">
              <a:gsLst>
                <a:gs pos="0">
                  <a:srgbClr val="04617b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7000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Содержимое 4" descr="8023FCAA.jpg"/>
          <p:cNvPicPr/>
          <p:nvPr/>
        </p:nvPicPr>
        <p:blipFill>
          <a:blip r:embed="rId1"/>
          <a:stretch/>
        </p:blipFill>
        <p:spPr>
          <a:xfrm>
            <a:off x="0" y="0"/>
            <a:ext cx="493092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Содержимое 5" descr="BE5B2884.jpg"/>
          <p:cNvPicPr/>
          <p:nvPr/>
        </p:nvPicPr>
        <p:blipFill>
          <a:blip r:embed="rId2"/>
          <a:stretch/>
        </p:blipFill>
        <p:spPr>
          <a:xfrm>
            <a:off x="4929120" y="0"/>
            <a:ext cx="4035600" cy="679140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0" name="Picture 3" descr="File069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4" descr="File0693"/>
            <p:cNvPicPr/>
            <p:nvPr/>
          </p:nvPicPr>
          <p:blipFill>
            <a:blip r:embed="rId2"/>
            <a:stretch/>
          </p:blipFill>
          <p:spPr>
            <a:xfrm>
              <a:off x="0" y="5734080"/>
              <a:ext cx="914400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5" descr="Salut_Moscow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31680">
              <a:solidFill>
                <a:srgbClr val="b00000"/>
              </a:solidFill>
              <a:miter/>
            </a:ln>
          </p:spPr>
        </p:pic>
        <p:pic>
          <p:nvPicPr>
            <p:cNvPr id="303" name="Picture 6" descr="File0704"/>
            <p:cNvPicPr/>
            <p:nvPr/>
          </p:nvPicPr>
          <p:blipFill>
            <a:blip r:embed="rId4">
              <a:lum contrast="8000"/>
            </a:blip>
            <a:stretch/>
          </p:blipFill>
          <p:spPr>
            <a:xfrm>
              <a:off x="5616720" y="5272200"/>
              <a:ext cx="3527280" cy="1585800"/>
            </a:xfrm>
            <a:prstGeom prst="rect">
              <a:avLst/>
            </a:prstGeom>
            <a:ln w="31680">
              <a:solidFill>
                <a:srgbClr val="b00000"/>
              </a:solidFill>
              <a:miter/>
            </a:ln>
          </p:spPr>
        </p:pic>
      </p:grpSp>
      <p:sp>
        <p:nvSpPr>
          <p:cNvPr id="304" name="WordArt 8"/>
          <p:cNvSpPr txBox="1"/>
          <p:nvPr/>
        </p:nvSpPr>
        <p:spPr>
          <a:xfrm>
            <a:off x="684360" y="2860560"/>
            <a:ext cx="777528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Победу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rcRect l="20297" t="21020" r="3661" b="7162"/>
          <a:stretch/>
        </p:blipFill>
        <p:spPr>
          <a:xfrm>
            <a:off x="34920" y="1628640"/>
            <a:ext cx="9109080" cy="50403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сей России высятся памятники и обелиски героям Великой Отечественной войны. Они воздвигнуты на местах подвигов, на родине героев, в местах захоронения погибших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advTm="9000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" descr="C:\Users\20\Desktop\clip779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2"/>
          <p:cNvSpPr/>
          <p:nvPr/>
        </p:nvSpPr>
        <p:spPr>
          <a:xfrm>
            <a:off x="4859280" y="4724280"/>
            <a:ext cx="428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последнее поколение, которое видит наших ветеран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http://im6-tub-ru.yandex.net/i?id=599933674-53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http://im3-tub-ru.yandex.net/i?id=39398178-41-72&amp;n=2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 advTm="8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Москвичи слушают по радио заявление Советского правительства о вероломном нападении фашистской Германии на Советский Союз. 22 июня  1941 г. Место съемки: Москва. Автор съемки:   Халдей Е. . РГАКФД,ед.хр.0-255726"/>
          <p:cNvPicPr/>
          <p:nvPr/>
        </p:nvPicPr>
        <p:blipFill>
          <a:blip r:embed="rId1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0" y="1785960"/>
            <a:ext cx="4357800" cy="5072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4343400" cy="1785960"/>
          </a:xfrm>
          <a:prstGeom prst="rect">
            <a:avLst/>
          </a:prstGeom>
          <a:ln w="0">
            <a:noFill/>
          </a:ln>
        </p:spPr>
      </p:pic>
      <p:pic>
        <p:nvPicPr>
          <p:cNvPr id="232" name="Левитан.mp3" descr=""/>
          <p:cNvPicPr/>
          <p:nvPr/>
        </p:nvPicPr>
        <p:blipFill>
          <a:blip r:embed="rId4"/>
          <a:stretch/>
        </p:blipFill>
        <p:spPr>
          <a:xfrm>
            <a:off x="845964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Подразделение сержанта Изьенкова форсирует реку.    1942 г. Место съемки: Ленинградский фронт. Автор съемки:   Коновалов  . РГАКФД,ед. хр. 0-93691"/>
          <p:cNvPicPr/>
          <p:nvPr/>
        </p:nvPicPr>
        <p:blipFill>
          <a:blip r:embed="rId1"/>
          <a:stretch/>
        </p:blipFill>
        <p:spPr>
          <a:xfrm>
            <a:off x="-612720" y="0"/>
            <a:ext cx="9931320" cy="688644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6" name="Picture 2" descr="http://im4-tub-ru.yandex.net/i?id=7631705-59-72&amp;n=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42800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" descr="http://im4-tub-ru.yandex.net/i?id=79961223-30-72&amp;n=21"/>
            <p:cNvPicPr/>
            <p:nvPr/>
          </p:nvPicPr>
          <p:blipFill>
            <a:blip r:embed="rId2"/>
            <a:stretch/>
          </p:blipFill>
          <p:spPr>
            <a:xfrm>
              <a:off x="4428000" y="0"/>
              <a:ext cx="4716000" cy="31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6" descr="http://im4-tub-ru.yandex.net/i?id=26508525-62-72&amp;n=21"/>
            <p:cNvPicPr/>
            <p:nvPr/>
          </p:nvPicPr>
          <p:blipFill>
            <a:blip r:embed="rId3"/>
            <a:stretch/>
          </p:blipFill>
          <p:spPr>
            <a:xfrm>
              <a:off x="0" y="3213000"/>
              <a:ext cx="4572000" cy="364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Picture 8" descr="http://im8-tub-ru.yandex.net/i?id=18003348-33-72&amp;n=21"/>
          <p:cNvPicPr/>
          <p:nvPr/>
        </p:nvPicPr>
        <p:blipFill>
          <a:blip r:embed="rId4"/>
          <a:stretch/>
        </p:blipFill>
        <p:spPr>
          <a:xfrm>
            <a:off x="4427640" y="3141720"/>
            <a:ext cx="4716360" cy="37162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Пулеметное отделение Лебедева А. на огневой позиции на подступах к Москве.    1941 г. Место съемки: Западный фронт. Автор съемки:   Федоров  . РГАКФД,ед.хр.0-121214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Группа 8"/>
          <p:cNvGrpSpPr/>
          <p:nvPr/>
        </p:nvGrpSpPr>
        <p:grpSpPr>
          <a:xfrm>
            <a:off x="0" y="-27000"/>
            <a:ext cx="9144000" cy="6885000"/>
            <a:chOff x="0" y="-27000"/>
            <a:chExt cx="9144000" cy="6885000"/>
          </a:xfrm>
        </p:grpSpPr>
        <p:pic>
          <p:nvPicPr>
            <p:cNvPr id="242" name="Picture 2" descr="http://im3-tub-ru.yandex.net/i?id=384337145-51-72&amp;n=2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88000" cy="329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4" descr="http://im5-tub-ru.yandex.net/i?id=107356044-00-72&amp;n=21"/>
            <p:cNvPicPr/>
            <p:nvPr/>
          </p:nvPicPr>
          <p:blipFill>
            <a:blip r:embed="rId2"/>
            <a:stretch/>
          </p:blipFill>
          <p:spPr>
            <a:xfrm>
              <a:off x="0" y="3213000"/>
              <a:ext cx="5613480" cy="36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0" descr="http://im5-tub-ru.yandex.net/i?id=115197546-51-72&amp;n=21"/>
            <p:cNvPicPr/>
            <p:nvPr/>
          </p:nvPicPr>
          <p:blipFill>
            <a:blip r:embed="rId3"/>
            <a:stretch/>
          </p:blipFill>
          <p:spPr>
            <a:xfrm>
              <a:off x="4691520" y="-27000"/>
              <a:ext cx="4452480" cy="6885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Рабочие Кировского завода уходят на фронт.    1941 г. Место съемки: г.Ленинград. Автор съемки:   Чертов Г. . РГАКФД,ед.хр. 0-325628"/>
          <p:cNvPicPr/>
          <p:nvPr/>
        </p:nvPicPr>
        <p:blipFill>
          <a:blip r:embed="rId1"/>
          <a:stretch/>
        </p:blipFill>
        <p:spPr>
          <a:xfrm>
            <a:off x="-684360" y="-17640"/>
            <a:ext cx="10585440" cy="68454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3:09:21Z</dcterms:created>
  <dc:creator>Home</dc:creator>
  <dc:description/>
  <dc:language>en-US</dc:language>
  <cp:lastModifiedBy>User</cp:lastModifiedBy>
  <dcterms:modified xsi:type="dcterms:W3CDTF">2022-05-04T09:56:27Z</dcterms:modified>
  <cp:revision>160</cp:revision>
  <dc:subject/>
  <dc:title>Слайд 1</dc:title>
</cp:coreProperties>
</file>