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50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1.png" ContentType="image/png"/>
  <Override PartName="/ppt/media/image36.jpeg" ContentType="image/jpeg"/>
  <Override PartName="/ppt/media/image31.jpeg" ContentType="image/jpeg"/>
  <Override PartName="/ppt/media/image30.png" ContentType="image/pn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6.jpeg" ContentType="image/jpeg"/>
  <Override PartName="/ppt/media/image43.jpeg" ContentType="image/jpeg"/>
  <Override PartName="/ppt/media/image28.png" ContentType="image/png"/>
  <Override PartName="/ppt/media/image5.png" ContentType="image/png"/>
  <Override PartName="/ppt/media/image39.jpeg" ContentType="image/jpeg"/>
  <Override PartName="/ppt/media/image38.jpeg" ContentType="image/jpeg"/>
  <Override PartName="/ppt/media/image18.jpeg" ContentType="image/jpeg"/>
  <Override PartName="/ppt/media/image20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91.jpeg" ContentType="image/jpeg"/>
  <Override PartName="/ppt/media/image64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6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9.jpeg" ContentType="image/jpeg"/>
  <Override PartName="/ppt/media/image89.png" ContentType="image/png"/>
  <Override PartName="/ppt/media/image68.jpeg" ContentType="image/jpeg"/>
  <Override PartName="/ppt/media/image67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84.jpeg" ContentType="image/jpeg"/>
  <Override PartName="/ppt/media/image25.jpeg" ContentType="image/jpeg"/>
  <Override PartName="/ppt/media/image32.png" ContentType="image/png"/>
  <Override PartName="/ppt/media/image2.png" ContentType="image/png"/>
  <Override PartName="/ppt/media/image72.jpeg" ContentType="image/jpeg"/>
  <Override PartName="/ppt/media/image14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87.jpeg" ContentType="image/jpeg"/>
  <Override PartName="/ppt/media/image1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79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5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A0E9-9653-4175-9036-BDB4379542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6B3E-B266-401F-A12B-27FA4385773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205F-8356-44B8-8A4B-F522E494809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961-4D82-4AA9-8635-31569AF9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9DE-E683-43B5-93CF-03C214EE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6DB-0D4F-42F8-BE02-288EB11D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9D3-255C-4B40-BB7C-A5F72A6B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CE70-FDDE-4521-A2BA-71B685BC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FB67-10B5-4056-AA9A-1A4C358B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FBDB-B035-4396-8BB3-AD42C17B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0828-AD62-431F-89AA-517124F7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A468-FDCF-4F9A-BC1D-B52F3A29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E83C-A2C3-4C8C-8F41-A8F0DA8F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3A67-0F17-4450-9094-583CDF40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FE4-E016-4656-8CC0-D70CAFED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5B5E-902F-403F-B308-7562F91D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0C79-84C8-437A-9992-6BB166F2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B2E1-735A-49CC-999B-6133DF69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44FF-5F41-475A-9FA9-11F312D4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F7D7-0301-45BC-BE87-CC66009C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223ED-B168-428F-A0D7-F1C68522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B59F-2889-40C8-A6A4-65B00229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BAB5-FDDF-4CA5-AA36-5F6EFFE1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B00B-D6C1-4ABE-BD8D-0B8CF993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CA3D-E457-4DB7-9810-AB5B9EC9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07E-4DEE-4446-855D-5BE353B5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D331-D3A4-4B1F-BDE6-482F3D62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C867-ECCD-425D-A2BD-43090E30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86D3-0AB9-4C2C-B766-177FEE69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83343-E910-4048-8AF2-1380C594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EE62-04C8-4E76-8072-5516815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2FDC-89B1-4D9E-9BF5-8BE69BA6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5C45-2F1A-4952-88CF-11195F48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AF5C-47D2-447D-81F0-02DE1322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03EF-B1C4-4DF5-A133-D79B6AF4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FC82-3FC1-42A1-9688-7543879E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DBB-EC8A-4BFC-AFEF-59D59FF3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7EF2-164C-4407-B571-14030A8D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36C4-BEA1-46BB-BACA-A7AE5480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5DE98-0988-4442-A4AC-6CBBA055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D66B5-4975-4BCF-B502-3A6D7BEB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8FF1D-40F1-4BC8-82D9-B25FD822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55A0-2AF9-489E-A367-E3850FBC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1B99-A44D-497E-A2C2-A5D6201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D19BB-6D4D-4E16-94EE-2F2FA4D0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6428-CFEC-4F75-9E1F-DA2690D8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6C1-2F1D-4270-A4E2-AD89D8EC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06D-AEC6-456A-87A9-9906B305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3A0-0919-466F-949E-E6B616F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87D-3B5C-4696-92E7-FEBEFB16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E5C-1719-427D-9B5E-BC7D6B7D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F2E9-B429-4664-9087-E7589B6412F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35C-C919-4486-A71A-325DC7C39EF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EB30-2D31-4957-B38F-8E9C354FB23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E2D4-0B57-49AD-8B6A-E44CDF8C4A5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image" Target="../media/image63.jpeg"/><Relationship Id="rId9" Type="http://schemas.openxmlformats.org/officeDocument/2006/relationships/image" Target="../media/image64.jpeg"/><Relationship Id="rId10" Type="http://schemas.openxmlformats.org/officeDocument/2006/relationships/image" Target="../media/image65.jpeg"/><Relationship Id="rId11" Type="http://schemas.openxmlformats.org/officeDocument/2006/relationships/image" Target="../media/image66.jpeg"/><Relationship Id="rId12" Type="http://schemas.openxmlformats.org/officeDocument/2006/relationships/image" Target="../media/image67.jpeg"/><Relationship Id="rId13" Type="http://schemas.openxmlformats.org/officeDocument/2006/relationships/image" Target="../media/image68.jpeg"/><Relationship Id="rId14" Type="http://schemas.openxmlformats.org/officeDocument/2006/relationships/image" Target="../media/image69.jpeg"/><Relationship Id="rId15" Type="http://schemas.openxmlformats.org/officeDocument/2006/relationships/image" Target="../media/image70.jpeg"/><Relationship Id="rId16" Type="http://schemas.openxmlformats.org/officeDocument/2006/relationships/image" Target="../media/image71.jpeg"/><Relationship Id="rId17" Type="http://schemas.openxmlformats.org/officeDocument/2006/relationships/image" Target="../media/image72.jpe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19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18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image" Target="../media/image26.jpeg"/><Relationship Id="rId21" Type="http://schemas.openxmlformats.org/officeDocument/2006/relationships/slide" Target="slide14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image" Target="../media/image88.png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03" name="Заголовок 3" descr=""/>
          <p:cNvPicPr/>
          <p:nvPr/>
        </p:nvPicPr>
        <p:blipFill>
          <a:blip r:embed="rId2"/>
          <a:stretch/>
        </p:blipFill>
        <p:spPr>
          <a:xfrm>
            <a:off x="-384120" y="189000"/>
            <a:ext cx="9279000" cy="1963800"/>
          </a:xfrm>
          <a:prstGeom prst="rect">
            <a:avLst/>
          </a:prstGeom>
          <a:ln w="0">
            <a:noFill/>
          </a:ln>
        </p:spPr>
      </p:pic>
      <p:pic>
        <p:nvPicPr>
          <p:cNvPr id="204" name="Песни военных лет - Тучи в голубом.mp3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6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47" name="Picture 7" descr="Radost"/>
            <p:cNvPicPr/>
            <p:nvPr/>
          </p:nvPicPr>
          <p:blipFill>
            <a:blip r:embed="rId1">
              <a:lum contrast="8000"/>
            </a:blip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31680">
              <a:solidFill>
                <a:srgbClr val="b00000"/>
              </a:solidFill>
              <a:miter/>
            </a:ln>
          </p:spPr>
        </p:pic>
        <p:pic>
          <p:nvPicPr>
            <p:cNvPr id="248" name="Picture 8" descr="File0704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4428720" y="4642200"/>
              <a:ext cx="4297320" cy="1933560"/>
            </a:xfrm>
            <a:prstGeom prst="rect">
              <a:avLst/>
            </a:prstGeom>
            <a:ln w="31680">
              <a:solidFill>
                <a:srgbClr val="b00000"/>
              </a:solidFill>
              <a:miter/>
            </a:ln>
          </p:spPr>
        </p:pic>
      </p:grpSp>
      <p:pic>
        <p:nvPicPr>
          <p:cNvPr id="249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16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Установка противотанкового орудия командира Панышева на огневой позиции..    1941 г. Место съемки: Московская обл.. Автор съемки:   Велигжанин Л. . РГАКФД,ед.хр.0-177116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1" descr="P1020277.JPG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1928880" y="5000760"/>
            <a:ext cx="414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500200" y="0"/>
            <a:ext cx="52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  <a:ea typeface="Arial"/>
              </a:rPr>
              <a:t>Письмо любим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258920" y="1484280"/>
            <a:ext cx="5818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уся!!!Если встретиться нам не прид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 если коварно постигнет суд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усть на память тебе остаё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еподдельная личность моя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3/x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46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уся!!!Если любишь ,то х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А не любишь , то пришли со своим дру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 земляк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6" name="Picture 2" descr="http://im5-tub-ru.yandex.net/i?id=357788775-27-72&amp;n=21"/>
            <p:cNvPicPr/>
            <p:nvPr/>
          </p:nvPicPr>
          <p:blipFill>
            <a:blip r:embed="rId1"/>
            <a:stretch/>
          </p:blipFill>
          <p:spPr>
            <a:xfrm>
              <a:off x="0" y="3501000"/>
              <a:ext cx="5527800" cy="33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4" descr="http://im5-tub-ru.yandex.net/i?id=140206296-40-72&amp;n=21"/>
            <p:cNvPicPr/>
            <p:nvPr/>
          </p:nvPicPr>
          <p:blipFill>
            <a:blip r:embed="rId2"/>
            <a:stretch/>
          </p:blipFill>
          <p:spPr>
            <a:xfrm>
              <a:off x="4668120" y="3501000"/>
              <a:ext cx="4475880" cy="33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" descr="http://im8-tub-ru.yandex.net/i?id=349455787-33-72&amp;n=2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55640" cy="14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0" descr="http://im5-tub-ru.yandex.net/i?id=260229874-51-72&amp;n=21"/>
            <p:cNvPicPr/>
            <p:nvPr/>
          </p:nvPicPr>
          <p:blipFill>
            <a:blip r:embed="rId4"/>
            <a:stretch/>
          </p:blipFill>
          <p:spPr>
            <a:xfrm>
              <a:off x="5508000" y="0"/>
              <a:ext cx="3636000" cy="34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2" descr="http://im7-tub-ru.yandex.net/i?id=247291546-58-72&amp;n=21"/>
            <p:cNvPicPr/>
            <p:nvPr/>
          </p:nvPicPr>
          <p:blipFill>
            <a:blip r:embed="rId5"/>
            <a:stretch/>
          </p:blipFill>
          <p:spPr>
            <a:xfrm>
              <a:off x="0" y="1484640"/>
              <a:ext cx="3024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8" descr="http://im0-tub-ru.yandex.net/i?id=515019919-25-72&amp;n=21"/>
            <p:cNvPicPr/>
            <p:nvPr/>
          </p:nvPicPr>
          <p:blipFill>
            <a:blip r:embed="rId6"/>
            <a:stretch/>
          </p:blipFill>
          <p:spPr>
            <a:xfrm>
              <a:off x="2339640" y="0"/>
              <a:ext cx="3528360" cy="2496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Группа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3" name="Picture 2" descr="http://im7-tub-ru.yandex.net/i?id=148240391-18-72&amp;n=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4796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6" descr="http://im5-tub-ru.yandex.net/i?id=492630278-71-72&amp;n=21"/>
            <p:cNvPicPr/>
            <p:nvPr/>
          </p:nvPicPr>
          <p:blipFill>
            <a:blip r:embed="rId2"/>
            <a:stretch/>
          </p:blipFill>
          <p:spPr>
            <a:xfrm>
              <a:off x="0" y="3213000"/>
              <a:ext cx="5005800" cy="36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8" descr="http://im5-tub-ru.yandex.net/i?id=396595285-51-72&amp;n=21"/>
            <p:cNvPicPr/>
            <p:nvPr/>
          </p:nvPicPr>
          <p:blipFill>
            <a:blip r:embed="rId3"/>
            <a:stretch/>
          </p:blipFill>
          <p:spPr>
            <a:xfrm>
              <a:off x="4648680" y="0"/>
              <a:ext cx="449532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0" descr="http://im7-tub-ru.yandex.net/i?id=52677296-06-72&amp;n=21"/>
            <p:cNvPicPr/>
            <p:nvPr/>
          </p:nvPicPr>
          <p:blipFill>
            <a:blip r:embed="rId4"/>
            <a:stretch/>
          </p:blipFill>
          <p:spPr>
            <a:xfrm>
              <a:off x="4499640" y="3141000"/>
              <a:ext cx="4644360" cy="3717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Группа 19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268" name="Picture 2" descr="http://im3-tub-ru.yandex.net/i?id=122585686-60-72&amp;n=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4000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http://im4-tub-ru.yandex.net/i?id=388625553-09-72&amp;n=21"/>
            <p:cNvPicPr/>
            <p:nvPr/>
          </p:nvPicPr>
          <p:blipFill>
            <a:blip r:embed="rId2"/>
            <a:stretch/>
          </p:blipFill>
          <p:spPr>
            <a:xfrm>
              <a:off x="0" y="1988640"/>
              <a:ext cx="1475640" cy="17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6" descr="http://im4-tub-ru.yandex.net/i?id=299595852-23-72&amp;n=21"/>
            <p:cNvPicPr/>
            <p:nvPr/>
          </p:nvPicPr>
          <p:blipFill>
            <a:blip r:embed="rId3"/>
            <a:stretch/>
          </p:blipFill>
          <p:spPr>
            <a:xfrm>
              <a:off x="0" y="3717000"/>
              <a:ext cx="147564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" descr="http://im4-tub-ru.yandex.net/i?id=116037614-28-72&amp;n=21"/>
            <p:cNvPicPr/>
            <p:nvPr/>
          </p:nvPicPr>
          <p:blipFill>
            <a:blip r:embed="rId4"/>
            <a:stretch/>
          </p:blipFill>
          <p:spPr>
            <a:xfrm>
              <a:off x="0" y="5157000"/>
              <a:ext cx="1475640" cy="17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10" descr="http://im2-tub-ru.yandex.net/i?id=311869542-20-72&amp;n=21"/>
            <p:cNvPicPr/>
            <p:nvPr/>
          </p:nvPicPr>
          <p:blipFill>
            <a:blip r:embed="rId5"/>
            <a:stretch/>
          </p:blipFill>
          <p:spPr>
            <a:xfrm>
              <a:off x="1475640" y="0"/>
              <a:ext cx="155124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2" descr="http://im8-tub-ru.yandex.net/i?id=34664844-02-72&amp;n=21"/>
            <p:cNvPicPr/>
            <p:nvPr/>
          </p:nvPicPr>
          <p:blipFill>
            <a:blip r:embed="rId6"/>
            <a:stretch/>
          </p:blipFill>
          <p:spPr>
            <a:xfrm>
              <a:off x="1547640" y="5157000"/>
              <a:ext cx="1584000" cy="17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4" descr="http://im4-tub-ru.yandex.net/i?id=109160285-02-72&amp;n=21"/>
            <p:cNvPicPr/>
            <p:nvPr/>
          </p:nvPicPr>
          <p:blipFill>
            <a:blip r:embed="rId7"/>
            <a:stretch/>
          </p:blipFill>
          <p:spPr>
            <a:xfrm>
              <a:off x="3203640" y="5129640"/>
              <a:ext cx="1728000" cy="17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6" descr="http://im0-tub-ru.yandex.net/i?id=308804197-03-72&amp;n=21"/>
            <p:cNvPicPr/>
            <p:nvPr/>
          </p:nvPicPr>
          <p:blipFill>
            <a:blip r:embed="rId8"/>
            <a:stretch/>
          </p:blipFill>
          <p:spPr>
            <a:xfrm>
              <a:off x="2987640" y="0"/>
              <a:ext cx="173664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8" descr="http://im5-tub-ru.yandex.net/i?id=339800701-11-72&amp;n=21"/>
            <p:cNvPicPr/>
            <p:nvPr/>
          </p:nvPicPr>
          <p:blipFill>
            <a:blip r:embed="rId9"/>
            <a:stretch/>
          </p:blipFill>
          <p:spPr>
            <a:xfrm>
              <a:off x="2267640" y="1916640"/>
              <a:ext cx="4623840" cy="30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2" descr="http://im2-tub-ru.yandex.net/i?id=455626924-38-72&amp;n=21"/>
            <p:cNvPicPr/>
            <p:nvPr/>
          </p:nvPicPr>
          <p:blipFill>
            <a:blip r:embed="rId10"/>
            <a:stretch/>
          </p:blipFill>
          <p:spPr>
            <a:xfrm>
              <a:off x="4788000" y="0"/>
              <a:ext cx="1443960" cy="19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4" descr="http://im3-tub-ru.yandex.net/i?id=286472944-62-72&amp;n=21"/>
            <p:cNvPicPr/>
            <p:nvPr/>
          </p:nvPicPr>
          <p:blipFill>
            <a:blip r:embed="rId11"/>
            <a:stretch/>
          </p:blipFill>
          <p:spPr>
            <a:xfrm>
              <a:off x="6228360" y="0"/>
              <a:ext cx="14400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6" descr="http://im2-tub-ru.yandex.net/i?id=124998994-67-72&amp;n=21"/>
            <p:cNvPicPr/>
            <p:nvPr/>
          </p:nvPicPr>
          <p:blipFill>
            <a:blip r:embed="rId12"/>
            <a:stretch/>
          </p:blipFill>
          <p:spPr>
            <a:xfrm>
              <a:off x="5004000" y="5085000"/>
              <a:ext cx="115200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28" descr="http://im0-tub-ru.yandex.net/i?id=104824675-14-72&amp;n=21"/>
            <p:cNvPicPr/>
            <p:nvPr/>
          </p:nvPicPr>
          <p:blipFill>
            <a:blip r:embed="rId13"/>
            <a:stretch/>
          </p:blipFill>
          <p:spPr>
            <a:xfrm>
              <a:off x="6228360" y="5085000"/>
              <a:ext cx="1500840" cy="177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0" descr="http://im2-tub-ru.yandex.net/i?id=8901044-39-72&amp;n=21"/>
            <p:cNvPicPr/>
            <p:nvPr/>
          </p:nvPicPr>
          <p:blipFill>
            <a:blip r:embed="rId14"/>
            <a:stretch/>
          </p:blipFill>
          <p:spPr>
            <a:xfrm>
              <a:off x="7704000" y="0"/>
              <a:ext cx="1440000" cy="19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32" descr="http://im2-tub-ru.yandex.net/i?id=951987415-23-72&amp;n=21"/>
            <p:cNvPicPr/>
            <p:nvPr/>
          </p:nvPicPr>
          <p:blipFill>
            <a:blip r:embed="rId15"/>
            <a:stretch/>
          </p:blipFill>
          <p:spPr>
            <a:xfrm>
              <a:off x="7740360" y="5090040"/>
              <a:ext cx="1403640" cy="17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34" descr="http://im5-tub-ru.yandex.net/i?id=321669155-06-72&amp;n=21"/>
            <p:cNvPicPr/>
            <p:nvPr/>
          </p:nvPicPr>
          <p:blipFill>
            <a:blip r:embed="rId16"/>
            <a:stretch/>
          </p:blipFill>
          <p:spPr>
            <a:xfrm>
              <a:off x="7581240" y="3573000"/>
              <a:ext cx="156276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36" descr="http://im7-tub-ru.yandex.net/i?id=562167272-52-72&amp;n=21"/>
            <p:cNvPicPr/>
            <p:nvPr/>
          </p:nvPicPr>
          <p:blipFill>
            <a:blip r:embed="rId17"/>
            <a:stretch/>
          </p:blipFill>
          <p:spPr>
            <a:xfrm>
              <a:off x="7596360" y="1916640"/>
              <a:ext cx="1547640" cy="158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49_big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Группа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7" name="Picture 2" descr="http://im4-tub-ru.yandex.net/i?id=196061717-19-72&amp;n=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00000" cy="328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" descr="http://im8-tub-ru.yandex.net/i?id=162564264-67-72&amp;n=21"/>
            <p:cNvPicPr/>
            <p:nvPr/>
          </p:nvPicPr>
          <p:blipFill>
            <a:blip r:embed="rId2"/>
            <a:stretch/>
          </p:blipFill>
          <p:spPr>
            <a:xfrm>
              <a:off x="4500000" y="0"/>
              <a:ext cx="4644000" cy="32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" descr="http://im3-tub-ru.yandex.net/i?id=92974819-61-72&amp;n=21"/>
            <p:cNvPicPr/>
            <p:nvPr/>
          </p:nvPicPr>
          <p:blipFill>
            <a:blip r:embed="rId3"/>
            <a:stretch/>
          </p:blipFill>
          <p:spPr>
            <a:xfrm>
              <a:off x="0" y="3285000"/>
              <a:ext cx="4428000" cy="357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8" descr="http://im3-tub-ru.yandex.net/i?id=146418045-59-72&amp;n=21"/>
            <p:cNvPicPr/>
            <p:nvPr/>
          </p:nvPicPr>
          <p:blipFill>
            <a:blip r:embed="rId4"/>
            <a:stretch/>
          </p:blipFill>
          <p:spPr>
            <a:xfrm>
              <a:off x="4188240" y="3285000"/>
              <a:ext cx="4955760" cy="357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857160" y="400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Коновалов Алекс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Содержимое 8" descr="2FE571F5.jpg"/>
          <p:cNvPicPr/>
          <p:nvPr/>
        </p:nvPicPr>
        <p:blipFill>
          <a:blip r:embed="rId1"/>
          <a:stretch/>
        </p:blipFill>
        <p:spPr>
          <a:xfrm>
            <a:off x="0" y="0"/>
            <a:ext cx="493092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Содержимое 9" descr="8C16304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Павленко Наст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5" name="Содержимое 4" descr="9F4C12A7.jpg"/>
          <p:cNvPicPr/>
          <p:nvPr/>
        </p:nvPicPr>
        <p:blipFill>
          <a:blip r:embed="rId1"/>
          <a:stretch/>
        </p:blipFill>
        <p:spPr>
          <a:xfrm>
            <a:off x="0" y="0"/>
            <a:ext cx="496728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Содержимое 5" descr="C9743ED8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619280" y="476280"/>
            <a:ext cx="59054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чная память героя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43000" y="1285920"/>
          <a:ext cx="5329080" cy="1616040"/>
        </p:xfrm>
        <a:graphic>
          <a:graphicData uri="http://schemas.openxmlformats.org/drawingml/2006/table">
            <a:tbl>
              <a:tblPr/>
              <a:tblGrid>
                <a:gridCol w="5329080"/>
              </a:tblGrid>
              <a:tr h="1616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свящается всем, кто погиб, 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всем, кто дожил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м, кто не утратил память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м, кому дорога та Победа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м...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17" descr="img02_"/>
          <p:cNvPicPr/>
          <p:nvPr/>
        </p:nvPicPr>
        <p:blipFill>
          <a:blip r:embed="rId1"/>
          <a:stretch/>
        </p:blipFill>
        <p:spPr>
          <a:xfrm>
            <a:off x="0" y="836640"/>
            <a:ext cx="871560" cy="824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8" name="Picture 19" descr="img16_"/>
          <p:cNvPicPr/>
          <p:nvPr/>
        </p:nvPicPr>
        <p:blipFill>
          <a:blip r:embed="rId2"/>
          <a:stretch/>
        </p:blipFill>
        <p:spPr>
          <a:xfrm>
            <a:off x="3564000" y="5877000"/>
            <a:ext cx="100800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9" name="Picture 20" descr="img04_"/>
          <p:cNvPicPr/>
          <p:nvPr/>
        </p:nvPicPr>
        <p:blipFill>
          <a:blip r:embed="rId3"/>
          <a:stretch/>
        </p:blipFill>
        <p:spPr>
          <a:xfrm>
            <a:off x="2627280" y="5877000"/>
            <a:ext cx="93672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0" name="Picture 21" descr="img05_"/>
          <p:cNvPicPr/>
          <p:nvPr/>
        </p:nvPicPr>
        <p:blipFill>
          <a:blip r:embed="rId4"/>
          <a:stretch/>
        </p:blipFill>
        <p:spPr>
          <a:xfrm>
            <a:off x="1763640" y="5877000"/>
            <a:ext cx="86364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1" name="Picture 22" descr="img06_"/>
          <p:cNvPicPr/>
          <p:nvPr/>
        </p:nvPicPr>
        <p:blipFill>
          <a:blip r:embed="rId5"/>
          <a:stretch/>
        </p:blipFill>
        <p:spPr>
          <a:xfrm>
            <a:off x="900000" y="5877000"/>
            <a:ext cx="86364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2" name="Picture 23" descr="img08_"/>
          <p:cNvPicPr/>
          <p:nvPr/>
        </p:nvPicPr>
        <p:blipFill>
          <a:blip r:embed="rId6"/>
          <a:stretch/>
        </p:blipFill>
        <p:spPr>
          <a:xfrm>
            <a:off x="0" y="5589720"/>
            <a:ext cx="900000" cy="1268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3" name="Picture 28" descr="img18_"/>
          <p:cNvPicPr/>
          <p:nvPr/>
        </p:nvPicPr>
        <p:blipFill>
          <a:blip r:embed="rId7"/>
          <a:stretch/>
        </p:blipFill>
        <p:spPr>
          <a:xfrm>
            <a:off x="6372360" y="5877000"/>
            <a:ext cx="86364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4" name="Picture 30" descr="img07_"/>
          <p:cNvPicPr/>
          <p:nvPr/>
        </p:nvPicPr>
        <p:blipFill>
          <a:blip r:embed="rId8"/>
          <a:stretch/>
        </p:blipFill>
        <p:spPr>
          <a:xfrm>
            <a:off x="5435640" y="5877000"/>
            <a:ext cx="93672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5" name="Picture 31" descr="img11_"/>
          <p:cNvPicPr/>
          <p:nvPr/>
        </p:nvPicPr>
        <p:blipFill>
          <a:blip r:embed="rId9"/>
          <a:stretch/>
        </p:blipFill>
        <p:spPr>
          <a:xfrm>
            <a:off x="4572000" y="5877000"/>
            <a:ext cx="86508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6" name="Picture 32" descr="img13_"/>
          <p:cNvPicPr/>
          <p:nvPr/>
        </p:nvPicPr>
        <p:blipFill>
          <a:blip r:embed="rId10"/>
          <a:stretch/>
        </p:blipFill>
        <p:spPr>
          <a:xfrm>
            <a:off x="7236000" y="5877000"/>
            <a:ext cx="100800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7" name="Picture 33" descr="img01_"/>
          <p:cNvPicPr/>
          <p:nvPr/>
        </p:nvPicPr>
        <p:blipFill>
          <a:blip r:embed="rId11"/>
          <a:stretch/>
        </p:blipFill>
        <p:spPr>
          <a:xfrm>
            <a:off x="8244000" y="5877000"/>
            <a:ext cx="90000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pSp>
        <p:nvGrpSpPr>
          <p:cNvPr id="218" name="Группа 24"/>
          <p:cNvGrpSpPr/>
          <p:nvPr/>
        </p:nvGrpSpPr>
        <p:grpSpPr>
          <a:xfrm>
            <a:off x="0" y="0"/>
            <a:ext cx="9144000" cy="5877000"/>
            <a:chOff x="0" y="0"/>
            <a:chExt cx="9144000" cy="5877000"/>
          </a:xfrm>
        </p:grpSpPr>
        <p:pic>
          <p:nvPicPr>
            <p:cNvPr id="219" name="Picture 15" descr="При въезде в город Вас встретит Тачанка-Ростовчанка, памятник Героям Гражданской войны и символ нашего города"/>
            <p:cNvPicPr/>
            <p:nvPr/>
          </p:nvPicPr>
          <p:blipFill>
            <a:blip r:embed="rId12"/>
            <a:stretch/>
          </p:blipFill>
          <p:spPr>
            <a:xfrm>
              <a:off x="6659640" y="1268280"/>
              <a:ext cx="2303280" cy="13208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0" name="Picture 16" descr="img01_"/>
            <p:cNvPicPr/>
            <p:nvPr/>
          </p:nvPicPr>
          <p:blipFill>
            <a:blip r:embed="rId13"/>
            <a:stretch/>
          </p:blipFill>
          <p:spPr>
            <a:xfrm>
              <a:off x="0" y="0"/>
              <a:ext cx="853920" cy="8539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1" name="Picture 18" descr="img03_"/>
            <p:cNvPicPr/>
            <p:nvPr/>
          </p:nvPicPr>
          <p:blipFill>
            <a:blip r:embed="rId14"/>
            <a:stretch/>
          </p:blipFill>
          <p:spPr>
            <a:xfrm>
              <a:off x="0" y="1628640"/>
              <a:ext cx="900000" cy="7920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2" name="Picture 24" descr="img09_"/>
            <p:cNvPicPr/>
            <p:nvPr/>
          </p:nvPicPr>
          <p:blipFill>
            <a:blip r:embed="rId15"/>
            <a:stretch/>
          </p:blipFill>
          <p:spPr>
            <a:xfrm>
              <a:off x="0" y="4869000"/>
              <a:ext cx="900000" cy="10080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3" name="Picture 25" descr="img10_"/>
            <p:cNvPicPr/>
            <p:nvPr/>
          </p:nvPicPr>
          <p:blipFill>
            <a:blip r:embed="rId16"/>
            <a:stretch/>
          </p:blipFill>
          <p:spPr>
            <a:xfrm>
              <a:off x="0" y="4000680"/>
              <a:ext cx="900000" cy="8636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4" name="Picture 26" descr="img13_"/>
            <p:cNvPicPr/>
            <p:nvPr/>
          </p:nvPicPr>
          <p:blipFill>
            <a:blip r:embed="rId17"/>
            <a:stretch/>
          </p:blipFill>
          <p:spPr>
            <a:xfrm>
              <a:off x="0" y="3213000"/>
              <a:ext cx="900000" cy="8269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5" name="Picture 27" descr="img14_"/>
            <p:cNvPicPr/>
            <p:nvPr/>
          </p:nvPicPr>
          <p:blipFill>
            <a:blip r:embed="rId18"/>
            <a:stretch/>
          </p:blipFill>
          <p:spPr>
            <a:xfrm>
              <a:off x="0" y="2378160"/>
              <a:ext cx="900000" cy="8269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6" name="Picture 34" descr="16826265_normal_DSCF9408"/>
            <p:cNvPicPr/>
            <p:nvPr/>
          </p:nvPicPr>
          <p:blipFill>
            <a:blip r:embed="rId19"/>
            <a:stretch/>
          </p:blipFill>
          <p:spPr>
            <a:xfrm>
              <a:off x="1116000" y="2943360"/>
              <a:ext cx="3672000" cy="27478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7" name="Picture 35" descr="ngr_pogran1"/>
            <p:cNvPicPr/>
            <p:nvPr/>
          </p:nvPicPr>
          <p:blipFill>
            <a:blip r:embed="rId20"/>
            <a:stretch/>
          </p:blipFill>
          <p:spPr>
            <a:xfrm>
              <a:off x="5148360" y="2924280"/>
              <a:ext cx="3594240" cy="26956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28" name="AutoShape 36">
              <a:hlinkClick r:id="rId21" action="ppaction://hlinksldjump"/>
            </p:cNvPr>
            <p:cNvSpPr/>
            <p:nvPr/>
          </p:nvSpPr>
          <p:spPr>
            <a:xfrm>
              <a:off x="7885080" y="0"/>
              <a:ext cx="1258920" cy="1125360"/>
            </a:xfrm>
            <a:custGeom>
              <a:avLst/>
              <a:gdLst/>
              <a:ahLst/>
              <a:rect l="l" t="t" r="r" b="b"/>
              <a:pathLst>
                <a:path w="1258887" h="1125538">
                  <a:moveTo>
                    <a:pt x="1" y="429916"/>
                  </a:moveTo>
                  <a:lnTo>
                    <a:pt x="480855" y="429919"/>
                  </a:lnTo>
                  <a:lnTo>
                    <a:pt x="629444" y="0"/>
                  </a:lnTo>
                  <a:lnTo>
                    <a:pt x="778032" y="429919"/>
                  </a:lnTo>
                  <a:lnTo>
                    <a:pt x="1258886" y="429916"/>
                  </a:lnTo>
                  <a:lnTo>
                    <a:pt x="869865" y="695618"/>
                  </a:lnTo>
                  <a:lnTo>
                    <a:pt x="1018460" y="1125535"/>
                  </a:lnTo>
                  <a:lnTo>
                    <a:pt x="629444" y="859829"/>
                  </a:lnTo>
                  <a:lnTo>
                    <a:pt x="240427" y="1125535"/>
                  </a:lnTo>
                  <a:lnTo>
                    <a:pt x="389022" y="695618"/>
                  </a:lnTo>
                  <a:lnTo>
                    <a:pt x="1" y="429916"/>
                  </a:lnTo>
                  <a:close/>
                </a:path>
              </a:pathLst>
            </a:custGeom>
            <a:gradFill rotWithShape="0">
              <a:gsLst>
                <a:gs pos="0">
                  <a:srgbClr val="04617b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7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Содержимое 4" descr="8023FCAA.jpg"/>
          <p:cNvPicPr/>
          <p:nvPr/>
        </p:nvPicPr>
        <p:blipFill>
          <a:blip r:embed="rId1"/>
          <a:stretch/>
        </p:blipFill>
        <p:spPr>
          <a:xfrm>
            <a:off x="0" y="0"/>
            <a:ext cx="493092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Содержимое 5" descr="BE5B2884.jpg"/>
          <p:cNvPicPr/>
          <p:nvPr/>
        </p:nvPicPr>
        <p:blipFill>
          <a:blip r:embed="rId2"/>
          <a:stretch/>
        </p:blipFill>
        <p:spPr>
          <a:xfrm>
            <a:off x="4929120" y="0"/>
            <a:ext cx="4035600" cy="679140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0" name="Picture 3" descr="File069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4" descr="File0693"/>
            <p:cNvPicPr/>
            <p:nvPr/>
          </p:nvPicPr>
          <p:blipFill>
            <a:blip r:embed="rId2"/>
            <a:stretch/>
          </p:blipFill>
          <p:spPr>
            <a:xfrm>
              <a:off x="0" y="5734080"/>
              <a:ext cx="9144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5" descr="Salut_Moscow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31680">
              <a:solidFill>
                <a:srgbClr val="b00000"/>
              </a:solidFill>
              <a:miter/>
            </a:ln>
          </p:spPr>
        </p:pic>
        <p:pic>
          <p:nvPicPr>
            <p:cNvPr id="303" name="Picture 6" descr="File0704"/>
            <p:cNvPicPr/>
            <p:nvPr/>
          </p:nvPicPr>
          <p:blipFill>
            <a:blip r:embed="rId4">
              <a:lum contrast="8000"/>
            </a:blip>
            <a:stretch/>
          </p:blipFill>
          <p:spPr>
            <a:xfrm>
              <a:off x="5616720" y="5272200"/>
              <a:ext cx="3527280" cy="1585800"/>
            </a:xfrm>
            <a:prstGeom prst="rect">
              <a:avLst/>
            </a:prstGeom>
            <a:ln w="31680">
              <a:solidFill>
                <a:srgbClr val="b00000"/>
              </a:solidFill>
              <a:miter/>
            </a:ln>
          </p:spPr>
        </p:pic>
      </p:grpSp>
      <p:sp>
        <p:nvSpPr>
          <p:cNvPr id="304" name="WordArt 8"/>
          <p:cNvSpPr txBox="1"/>
          <p:nvPr/>
        </p:nvSpPr>
        <p:spPr>
          <a:xfrm>
            <a:off x="684360" y="2860560"/>
            <a:ext cx="777528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Победу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rcRect l="20297" t="21020" r="3661" b="7162"/>
          <a:stretch/>
        </p:blipFill>
        <p:spPr>
          <a:xfrm>
            <a:off x="34920" y="1628640"/>
            <a:ext cx="9109080" cy="50403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сей России высятся памятники и обелиски героям Великой Отечественной войны. Они воздвигнуты на местах подвигов, на родине героев, в местах захоронения погибших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advTm="9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" descr="C:\Users\20\Desktop\clip77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4859280" y="472428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последнее поколение, которое видит наших ветеран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http://im6-tub-ru.yandex.net/i?id=599933674-53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http://im3-tub-ru.yandex.net/i?id=39398178-41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Москвичи слушают по радио заявление Советского правительства о вероломном нападении фашистской Германии на Советский Союз. 22 июня  1941 г. Место съемки: Москва. Автор съемки:   Халдей Е. . РГАКФД,ед.хр.0-255726"/>
          <p:cNvPicPr/>
          <p:nvPr/>
        </p:nvPicPr>
        <p:blipFill>
          <a:blip r:embed="rId1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1785960"/>
            <a:ext cx="4357800" cy="5072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343400" cy="1785960"/>
          </a:xfrm>
          <a:prstGeom prst="rect">
            <a:avLst/>
          </a:prstGeom>
          <a:ln w="0">
            <a:noFill/>
          </a:ln>
        </p:spPr>
      </p:pic>
      <p:pic>
        <p:nvPicPr>
          <p:cNvPr id="232" name="Левитан.mp3" descr=""/>
          <p:cNvPicPr/>
          <p:nvPr/>
        </p:nvPicPr>
        <p:blipFill>
          <a:blip r:embed="rId4"/>
          <a:stretch/>
        </p:blipFill>
        <p:spPr>
          <a:xfrm>
            <a:off x="845964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Подразделение сержанта Изьенкова форсирует реку.    1942 г. Место съемки: Ленинградский фронт. Автор съемки:   Коновалов  . РГАКФД,ед. хр. 0-93691"/>
          <p:cNvPicPr/>
          <p:nvPr/>
        </p:nvPicPr>
        <p:blipFill>
          <a:blip r:embed="rId1"/>
          <a:stretch/>
        </p:blipFill>
        <p:spPr>
          <a:xfrm>
            <a:off x="-612720" y="0"/>
            <a:ext cx="9931320" cy="688644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6" name="Picture 2" descr="http://im4-tub-ru.yandex.net/i?id=7631705-59-72&amp;n=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42800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" descr="http://im4-tub-ru.yandex.net/i?id=79961223-30-72&amp;n=21"/>
            <p:cNvPicPr/>
            <p:nvPr/>
          </p:nvPicPr>
          <p:blipFill>
            <a:blip r:embed="rId2"/>
            <a:stretch/>
          </p:blipFill>
          <p:spPr>
            <a:xfrm>
              <a:off x="4428000" y="0"/>
              <a:ext cx="4716000" cy="31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6" descr="http://im4-tub-ru.yandex.net/i?id=26508525-62-72&amp;n=21"/>
            <p:cNvPicPr/>
            <p:nvPr/>
          </p:nvPicPr>
          <p:blipFill>
            <a:blip r:embed="rId3"/>
            <a:stretch/>
          </p:blipFill>
          <p:spPr>
            <a:xfrm>
              <a:off x="0" y="3213000"/>
              <a:ext cx="4572000" cy="364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Picture 8" descr="http://im8-tub-ru.yandex.net/i?id=18003348-33-72&amp;n=21"/>
          <p:cNvPicPr/>
          <p:nvPr/>
        </p:nvPicPr>
        <p:blipFill>
          <a:blip r:embed="rId4"/>
          <a:stretch/>
        </p:blipFill>
        <p:spPr>
          <a:xfrm>
            <a:off x="4427640" y="3141720"/>
            <a:ext cx="4716360" cy="37162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Пулеметное отделение Лебедева А. на огневой позиции на подступах к Москве.    1941 г. Место съемки: Западный фронт. Автор съемки:   Федоров  . РГАКФД,ед.хр.0-121214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Группа 8"/>
          <p:cNvGrpSpPr/>
          <p:nvPr/>
        </p:nvGrpSpPr>
        <p:grpSpPr>
          <a:xfrm>
            <a:off x="0" y="-27000"/>
            <a:ext cx="9144000" cy="6885000"/>
            <a:chOff x="0" y="-27000"/>
            <a:chExt cx="9144000" cy="6885000"/>
          </a:xfrm>
        </p:grpSpPr>
        <p:pic>
          <p:nvPicPr>
            <p:cNvPr id="242" name="Picture 2" descr="http://im3-tub-ru.yandex.net/i?id=384337145-51-72&amp;n=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88000" cy="329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4" descr="http://im5-tub-ru.yandex.net/i?id=107356044-00-72&amp;n=21"/>
            <p:cNvPicPr/>
            <p:nvPr/>
          </p:nvPicPr>
          <p:blipFill>
            <a:blip r:embed="rId2"/>
            <a:stretch/>
          </p:blipFill>
          <p:spPr>
            <a:xfrm>
              <a:off x="0" y="3213000"/>
              <a:ext cx="5613480" cy="36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0" descr="http://im5-tub-ru.yandex.net/i?id=115197546-51-72&amp;n=21"/>
            <p:cNvPicPr/>
            <p:nvPr/>
          </p:nvPicPr>
          <p:blipFill>
            <a:blip r:embed="rId3"/>
            <a:stretch/>
          </p:blipFill>
          <p:spPr>
            <a:xfrm>
              <a:off x="4691520" y="-27000"/>
              <a:ext cx="4452480" cy="6885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Рабочие Кировского завода уходят на фронт.    1941 г. Место съемки: г.Ленинград. Автор съемки:   Чертов Г. . РГАКФД,ед.хр. 0-325628"/>
          <p:cNvPicPr/>
          <p:nvPr/>
        </p:nvPicPr>
        <p:blipFill>
          <a:blip r:embed="rId1"/>
          <a:stretch/>
        </p:blipFill>
        <p:spPr>
          <a:xfrm>
            <a:off x="-684360" y="-17640"/>
            <a:ext cx="10585440" cy="68454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3:09:21Z</dcterms:created>
  <dc:creator>Home</dc:creator>
  <dc:description/>
  <dc:language>en-US</dc:language>
  <cp:lastModifiedBy>User</cp:lastModifiedBy>
  <dcterms:modified xsi:type="dcterms:W3CDTF">2022-05-04T09:56:27Z</dcterms:modified>
  <cp:revision>160</cp:revision>
  <dc:subject/>
  <dc:title>Слайд 1</dc:title>
</cp:coreProperties>
</file>