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6DC-787B-4526-8824-5233D33B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42D-2AF4-4E67-89E3-F09F4E4F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33C-381A-4337-9135-F5CCF4F3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210-345C-4AB6-BB55-F9580DC8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C0C-9581-4E68-A75E-45224BE0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5FB-1892-4914-8B14-166F330B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29A-7F14-4778-B84D-119A2302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0C1-37AC-407E-AE28-B9F6CD5F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831-B7B7-4AF9-A3D3-EEB79694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BA4-54DF-4FE9-8581-A7B795FD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994-3498-4C13-B2AC-51FF0FBF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7B7-2D7D-4A99-B681-D8FFDA36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0CD3-5606-49C5-89EA-0CB303ABBA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10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Жизнь и творчество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Александра Николаевича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Островского</a:t>
            </a:r>
            <a:br>
              <a:rPr sz="4800"/>
            </a:b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(1823-1886)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«Свои люди – сочтёмся!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ьеса 10 лет находилось под арестом, потому что в ней, по словам Добролюбова,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…повержено в прах и нагло растоптано самодурами человеческое достоинство, свобода личности, вера в любовь и счастье и святыня честного труда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Театральная деятельност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50-х годов репертуар русских театров был скуден. Театру был нужен драматург… Островский начинает работу над пьес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е в свои сани не садись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январе 1853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оялась премьера. Это начало театральной славы Островск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вгусте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едная невест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Сотрудничество с Малым театром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3962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53 – 185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ьес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Бедность не порок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е так живи, как хочется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 чужом пиру похмель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оходное мест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7" descr="Рисунок2"/>
          <p:cNvPicPr/>
          <p:nvPr/>
        </p:nvPicPr>
        <p:blipFill>
          <a:blip r:embed="rId1"/>
          <a:stretch/>
        </p:blipFill>
        <p:spPr>
          <a:xfrm>
            <a:off x="4038480" y="1828800"/>
            <a:ext cx="48769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4" descr="dni-008"/>
          <p:cNvPicPr/>
          <p:nvPr/>
        </p:nvPicPr>
        <p:blipFill>
          <a:blip r:embed="rId1"/>
          <a:stretch/>
        </p:blipFill>
        <p:spPr>
          <a:xfrm>
            <a:off x="152280" y="3733920"/>
            <a:ext cx="4194360" cy="2968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Герои Островског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12" descr="glumov"/>
          <p:cNvPicPr/>
          <p:nvPr/>
        </p:nvPicPr>
        <p:blipFill>
          <a:blip r:embed="rId2"/>
          <a:stretch/>
        </p:blipFill>
        <p:spPr>
          <a:xfrm>
            <a:off x="2133720" y="1219320"/>
            <a:ext cx="3886200" cy="291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0021-023-Svoi-ljudi-sochtemsja"/>
          <p:cNvPicPr/>
          <p:nvPr/>
        </p:nvPicPr>
        <p:blipFill>
          <a:blip r:embed="rId3"/>
          <a:stretch/>
        </p:blipFill>
        <p:spPr>
          <a:xfrm>
            <a:off x="4800600" y="3505320"/>
            <a:ext cx="396252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5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отрудничество 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урнал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овременник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«Литературная экспедиция» по Волге. Цель – изучить быт и нравы поволжских посе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57, ле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одолжение поездки по Вол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5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емьера драм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роз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как результат «экспедиций»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Драма «Гроз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7" descr="1003271653"/>
          <p:cNvPicPr/>
          <p:nvPr/>
        </p:nvPicPr>
        <p:blipFill>
          <a:blip r:embed="rId1"/>
          <a:stretch/>
        </p:blipFill>
        <p:spPr>
          <a:xfrm>
            <a:off x="995400" y="1676520"/>
            <a:ext cx="2805120" cy="442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0016-028-Konflikt-pesy"/>
          <p:cNvPicPr/>
          <p:nvPr/>
        </p:nvPicPr>
        <p:blipFill>
          <a:blip r:embed="rId2"/>
          <a:stretch/>
        </p:blipFill>
        <p:spPr>
          <a:xfrm>
            <a:off x="5173560" y="1676520"/>
            <a:ext cx="31435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ьеса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Гроза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отражает период общественного подъема, когда рушились устои крепостничества. Название драмы – это социальное потряс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тровский - один из первых русских писателей, кто раскрыл трагическое положение женщины в семь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мед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За чем пойдешь, то и найдешь» («Женитьба Бальзаминова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збран членом-корреспондентом Академии нау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еподавал в новом московском «Артистическом кружке»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о послужило основой для создания русского национального теат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- «Театра Островског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0" y="114264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мерть жены, Агафьи Иванов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венчался с Марией Бахметьевой (Васильевой), актрисой Малого теа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6" descr="Бахметьева"/>
          <p:cNvPicPr/>
          <p:nvPr/>
        </p:nvPicPr>
        <p:blipFill>
          <a:blip r:embed="rId1"/>
          <a:stretch/>
        </p:blipFill>
        <p:spPr>
          <a:xfrm>
            <a:off x="990720" y="1447920"/>
            <a:ext cx="3043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Жена и дети писателя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8" name="Picture 6" descr="жена 1"/>
          <p:cNvPicPr/>
          <p:nvPr/>
        </p:nvPicPr>
        <p:blipFill>
          <a:blip r:embed="rId1"/>
          <a:stretch/>
        </p:blipFill>
        <p:spPr>
          <a:xfrm>
            <a:off x="790560" y="1676520"/>
            <a:ext cx="3019320" cy="4422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жена 2"/>
          <p:cNvPicPr/>
          <p:nvPr/>
        </p:nvPicPr>
        <p:blipFill>
          <a:blip r:embed="rId2"/>
          <a:stretch/>
        </p:blipFill>
        <p:spPr>
          <a:xfrm>
            <a:off x="5254560" y="1676520"/>
            <a:ext cx="29815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"Я тружусь всю жизнь…"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2209680"/>
            <a:ext cx="4343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«Моя задача – служить русскому драматическому искусству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6" descr="0004-006-Slavjanofilstvo-Ostrovskogo"/>
          <p:cNvPicPr/>
          <p:nvPr/>
        </p:nvPicPr>
        <p:blipFill>
          <a:blip r:embed="rId1"/>
          <a:stretch/>
        </p:blipFill>
        <p:spPr>
          <a:xfrm>
            <a:off x="428760" y="1371600"/>
            <a:ext cx="421164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1870 – 1886 – самый плодотворный период жизни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8" descr="волки и"/>
          <p:cNvPicPr/>
          <p:nvPr/>
        </p:nvPicPr>
        <p:blipFill>
          <a:blip r:embed="rId1"/>
          <a:stretch/>
        </p:blipFill>
        <p:spPr>
          <a:xfrm>
            <a:off x="4952880" y="1574640"/>
            <a:ext cx="3810240" cy="254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бесприд"/>
          <p:cNvPicPr/>
          <p:nvPr/>
        </p:nvPicPr>
        <p:blipFill>
          <a:blip r:embed="rId2"/>
          <a:stretch/>
        </p:blipFill>
        <p:spPr>
          <a:xfrm>
            <a:off x="4952880" y="4191120"/>
            <a:ext cx="3886200" cy="246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беш"/>
          <p:cNvPicPr/>
          <p:nvPr/>
        </p:nvPicPr>
        <p:blipFill>
          <a:blip r:embed="rId3"/>
          <a:stretch/>
        </p:blipFill>
        <p:spPr>
          <a:xfrm>
            <a:off x="380880" y="160020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2"/>
          <p:cNvSpPr/>
          <p:nvPr/>
        </p:nvSpPr>
        <p:spPr>
          <a:xfrm>
            <a:off x="380880" y="44956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609480" y="445608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457200" y="4495680"/>
            <a:ext cx="3733920" cy="29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ед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ешеные деньги», «Лес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олки и овц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м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есприданниц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аланты и поклонник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ез вины виноватые»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533520"/>
            <a:ext cx="419400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ое место в наследии Островского занимает «весенняя сказка»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негурочк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7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взгляд на древний, патриархальный, сказочный мир, в котором тоже господствуют материальные отнош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8" descr="1325958427_aleksandr-ostrovskij-snegurochka"/>
          <p:cNvPicPr/>
          <p:nvPr/>
        </p:nvPicPr>
        <p:blipFill>
          <a:blip r:embed="rId1"/>
          <a:stretch/>
        </p:blipFill>
        <p:spPr>
          <a:xfrm>
            <a:off x="4916520" y="380880"/>
            <a:ext cx="3848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0039-041-Pismennyj-stol-sdelannyj-samim-dramaturgom-stoit-v-ego-kabinete"/>
          <p:cNvPicPr/>
          <p:nvPr/>
        </p:nvPicPr>
        <p:blipFill>
          <a:blip r:embed="rId1"/>
          <a:stretch/>
        </p:blipFill>
        <p:spPr>
          <a:xfrm>
            <a:off x="380880" y="3733920"/>
            <a:ext cx="4194360" cy="284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80356644_large_4505656_19020"/>
          <p:cNvPicPr/>
          <p:nvPr/>
        </p:nvPicPr>
        <p:blipFill>
          <a:blip r:embed="rId2"/>
          <a:stretch/>
        </p:blipFill>
        <p:spPr>
          <a:xfrm>
            <a:off x="380880" y="762120"/>
            <a:ext cx="4191120" cy="2849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могила"/>
          <p:cNvPicPr/>
          <p:nvPr/>
        </p:nvPicPr>
        <p:blipFill>
          <a:blip r:embed="rId3"/>
          <a:stretch/>
        </p:blipFill>
        <p:spPr>
          <a:xfrm>
            <a:off x="4952880" y="3854520"/>
            <a:ext cx="3886200" cy="2747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6461280" y="102708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4724280" y="762120"/>
            <a:ext cx="426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 июня 1886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рть писателя в своем имении Щелыково (за письменным столом)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о А.Н.Островский написал 47 пьес, 7 пьес – в сотрудничестве с другими драматургами, перевел более 20-ти пьес с итальянского, испанского, французского, английского и латинского язы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53 по 1872 г.г. его пьесы прошли 766 раз в столичных и провинциальных театрах, принеся Дирекции императорских театров доход больше 2-х миллионов руб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308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Заслуга А.Н.Островского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Н.Островский открыл миру человека новой формации: купца-старообрядца и купца-капиталиста, ездящего за границу и занимающегося своим бизнесом. Его по праву называю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Колумбом Замоскворечь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А.Н.Островского русская театральная история насчитывала лишь несколько имен. Драматург внес огромный вклад в развитие русского теа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рчество А.Н.Островского, продолжая традиции Фонвизина, Грибоедова, Пушкина, Гоголя, отличается новаторством в изображении героев, в языке персонажей и в поднятых социально-нравственных пробле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«Колумб Замоскворечья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6" descr="Рисунок3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19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ы один достроили здание, в основание которого положили краеугольные камни Фонвизин, Грибоедов и Гоголь. Но только после вас мы, русские, можем с гордостью сказат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«У нас есть свой русский, национальный театр». Он, по справедливости, должен называться «Театр Островског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А.Гонч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sk313"/>
          <p:cNvPicPr/>
          <p:nvPr/>
        </p:nvPicPr>
        <p:blipFill>
          <a:blip r:embed="rId1"/>
          <a:stretch/>
        </p:blipFill>
        <p:spPr>
          <a:xfrm>
            <a:off x="4835520" y="990720"/>
            <a:ext cx="33670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звали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ды жизни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родился Островск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какому сословию принадлежала семья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образование получил Островск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произведение принесло литературную известность молодому Островско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еятельности какого журнала и с какого времени Островский принимал участ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ом году, за что, какой премией был награждён Островский за свой вклад в развитие теат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1680" y="1066320"/>
            <a:ext cx="854064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деятельность осуществлял Островский во время руководства московскими театра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числите произведения Островского. ( не менее 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лет насчитывает литературная и театральная деятельность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Детство и юност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335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1 мар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823 г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семье чиновника (юриста). Родина – район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москвореч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где большей частью жило московское купечеств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274736"/>
          <p:cNvPicPr/>
          <p:nvPr/>
        </p:nvPicPr>
        <p:blipFill>
          <a:blip r:embed="rId1"/>
          <a:stretch/>
        </p:blipFill>
        <p:spPr>
          <a:xfrm>
            <a:off x="3657600" y="2332080"/>
            <a:ext cx="533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й кружок основал Островский и в каком год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известные люди посещали дом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ая жизнь пис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де и когда похоронили Островског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5562360"/>
            <a:ext cx="861372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москворечь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19-ом ве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Рисунок1"/>
          <p:cNvPicPr/>
          <p:nvPr/>
        </p:nvPicPr>
        <p:blipFill>
          <a:blip r:embed="rId1"/>
          <a:stretch/>
        </p:blipFill>
        <p:spPr>
          <a:xfrm>
            <a:off x="685800" y="685800"/>
            <a:ext cx="782172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ил хорошее домашнее образование, с детства изучая иностранные языки. Впоследствии знал греческий, французский, немецкий, а позже — английский, итальянский, испанский язы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406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84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закончил Московскую гимназию. Поступление в Московский университет на юридический факультет. Сильное увлечение театр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184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Отчислен из университета. Принял решение заняться литератур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ребованию отца служит в Московском совестном суд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1843 – 1845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где разбирались дела между родственн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5 – 185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еревод в Московский коммерческий суд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 это – уникальная возможность наблюдать и анализировать поступки людей из разных социальных сло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гражданский брак (против воли отца) с Агафьей Ивановной, девицей из мещ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Начало творчест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19360" y="1676520"/>
            <a:ext cx="4422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50 (март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 журнале «Москвитянин» напечатана первая комеди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«Свои люди – сочтемся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«Банкрот»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Автор сразу стал знамен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Svoy_ludy_-_Rybakov_Sadovsky_1892"/>
          <p:cNvPicPr/>
          <p:nvPr/>
        </p:nvPicPr>
        <p:blipFill>
          <a:blip r:embed="rId1"/>
          <a:stretch/>
        </p:blipFill>
        <p:spPr>
          <a:xfrm>
            <a:off x="730080" y="1371600"/>
            <a:ext cx="3387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Рисунок2"/>
          <p:cNvPicPr/>
          <p:nvPr/>
        </p:nvPicPr>
        <p:blipFill>
          <a:blip r:embed="rId1"/>
          <a:stretch/>
        </p:blipFill>
        <p:spPr>
          <a:xfrm>
            <a:off x="131760" y="533520"/>
            <a:ext cx="4546440" cy="556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Рисунок1"/>
          <p:cNvPicPr/>
          <p:nvPr/>
        </p:nvPicPr>
        <p:blipFill>
          <a:blip r:embed="rId2"/>
          <a:stretch/>
        </p:blipFill>
        <p:spPr>
          <a:xfrm>
            <a:off x="4800600" y="533520"/>
            <a:ext cx="4237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2-05-04T17:54:05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