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B6E-8B3B-4ADE-9CDF-948C0986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F1C-56C4-4761-988B-917E414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898-BE9F-4507-BD04-F7816FB6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8D3-A19D-4EAA-B562-766ED443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DA5-E5E3-44C9-8D07-AE02DB2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E76-6683-4EE6-B4C7-E8D8F5FD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BA1-E0A2-4126-A516-F6CD8D2D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13D-9052-4500-9BAA-C5DE654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4C5-E266-4E95-A56D-A145880C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408-43F7-413E-9BB9-183F43E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EBF-95A3-48FF-8E09-19A4BB8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01B-F29F-4506-BD6E-67DB8DD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6058-8EC0-4E81-8930-16BE4D5DF9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10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Жизнь и творчество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Александра Николаевича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Островского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(1823-1886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Свои люди – сочтёмся!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ьеса 10 лет находилось под арестом, потому что в ней, по словам Добролюбова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…повержено в прах и нагло растоптано самодурами человеческое достоинство, свобода личности, вера в любовь и счастье и святыня честного труда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Театральная деятельн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50-х годов репертуар русских театров был скуден. Театру был нужен драматург… Островский начинает работу над пьес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е в свои сани не садись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нваре 1853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оялась премьера. Это начало театральной славы Остров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густе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ая невест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Сотрудничество с Малым театром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96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3 – 18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ьес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ость не поро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е так живи, как хочетс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 чужом пиру похмель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ходное мест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Рисунок2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4" descr="dni-008"/>
          <p:cNvPicPr/>
          <p:nvPr/>
        </p:nvPicPr>
        <p:blipFill>
          <a:blip r:embed="rId1"/>
          <a:stretch/>
        </p:blipFill>
        <p:spPr>
          <a:xfrm>
            <a:off x="152280" y="3733920"/>
            <a:ext cx="4194360" cy="2968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Герои Островско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12" descr="glumov"/>
          <p:cNvPicPr/>
          <p:nvPr/>
        </p:nvPicPr>
        <p:blipFill>
          <a:blip r:embed="rId2"/>
          <a:stretch/>
        </p:blipFill>
        <p:spPr>
          <a:xfrm>
            <a:off x="2133720" y="1219320"/>
            <a:ext cx="3886200" cy="29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021-023-Svoi-ljudi-sochtemsja"/>
          <p:cNvPicPr/>
          <p:nvPr/>
        </p:nvPicPr>
        <p:blipFill>
          <a:blip r:embed="rId3"/>
          <a:stretch/>
        </p:blipFill>
        <p:spPr>
          <a:xfrm>
            <a:off x="4800600" y="35053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трудничество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рна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овременни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«Литературная экспедиция» по Волге. Цель – изучить быт и нравы поволжских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7, л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одолжение поездки по Вол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мьера драм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оз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ак результат «экспедиций»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Драма «Гроз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7" descr="1003271653"/>
          <p:cNvPicPr/>
          <p:nvPr/>
        </p:nvPicPr>
        <p:blipFill>
          <a:blip r:embed="rId1"/>
          <a:stretch/>
        </p:blipFill>
        <p:spPr>
          <a:xfrm>
            <a:off x="995400" y="1676520"/>
            <a:ext cx="2805120" cy="442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016-028-Konflikt-pesy"/>
          <p:cNvPicPr/>
          <p:nvPr/>
        </p:nvPicPr>
        <p:blipFill>
          <a:blip r:embed="rId2"/>
          <a:stretch/>
        </p:blipFill>
        <p:spPr>
          <a:xfrm>
            <a:off x="5173560" y="1676520"/>
            <a:ext cx="3143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ьес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Гроза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тражает период общественного подъема, когда рушились устои крепостничества. Название драмы – это социальное потряс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тровский - один из первых русских писателей, кто раскрыл трагическое положение женщины в семь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мед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 чем пойдешь, то и найдешь» («Женитьба Бальзаминова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збран членом-корреспондентом Академии н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подавал в новом московском «Артистическом кружке»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 послужило основой для создания русского национального теат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«Театра Островск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0" y="11426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мерть жены, Агафьи Иван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венчался с Марией Бахметьевой (Васильевой), актрисой Малого теа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Бахметьева"/>
          <p:cNvPicPr/>
          <p:nvPr/>
        </p:nvPicPr>
        <p:blipFill>
          <a:blip r:embed="rId1"/>
          <a:stretch/>
        </p:blipFill>
        <p:spPr>
          <a:xfrm>
            <a:off x="990720" y="1447920"/>
            <a:ext cx="304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Жена и дети писател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6" descr="жена 1"/>
          <p:cNvPicPr/>
          <p:nvPr/>
        </p:nvPicPr>
        <p:blipFill>
          <a:blip r:embed="rId1"/>
          <a:stretch/>
        </p:blipFill>
        <p:spPr>
          <a:xfrm>
            <a:off x="790560" y="1676520"/>
            <a:ext cx="3019320" cy="442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жена 2"/>
          <p:cNvPicPr/>
          <p:nvPr/>
        </p:nvPicPr>
        <p:blipFill>
          <a:blip r:embed="rId2"/>
          <a:stretch/>
        </p:blipFill>
        <p:spPr>
          <a:xfrm>
            <a:off x="5254560" y="1676520"/>
            <a:ext cx="2981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"Я тружусь всю жизнь…"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Моя задача – служить русскому драматическому искусству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0004-006-Slavjanofilstvo-Ostrovskogo"/>
          <p:cNvPicPr/>
          <p:nvPr/>
        </p:nvPicPr>
        <p:blipFill>
          <a:blip r:embed="rId1"/>
          <a:stretch/>
        </p:blipFill>
        <p:spPr>
          <a:xfrm>
            <a:off x="428760" y="1371600"/>
            <a:ext cx="4211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870 – 1886 – самый плодотворный период жизни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8" descr="волки и"/>
          <p:cNvPicPr/>
          <p:nvPr/>
        </p:nvPicPr>
        <p:blipFill>
          <a:blip r:embed="rId1"/>
          <a:stretch/>
        </p:blipFill>
        <p:spPr>
          <a:xfrm>
            <a:off x="4952880" y="1574640"/>
            <a:ext cx="3810240" cy="25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бесприд"/>
          <p:cNvPicPr/>
          <p:nvPr/>
        </p:nvPicPr>
        <p:blipFill>
          <a:blip r:embed="rId2"/>
          <a:stretch/>
        </p:blipFill>
        <p:spPr>
          <a:xfrm>
            <a:off x="4952880" y="4191120"/>
            <a:ext cx="3886200" cy="246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беш"/>
          <p:cNvPicPr/>
          <p:nvPr/>
        </p:nvPicPr>
        <p:blipFill>
          <a:blip r:embed="rId3"/>
          <a:stretch/>
        </p:blipFill>
        <p:spPr>
          <a:xfrm>
            <a:off x="380880" y="16002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80880" y="44956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09480" y="445608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57200" y="4495680"/>
            <a:ext cx="373392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ед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шеные деньги», «Ле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ки и овц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м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сприданниц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аланты и поклонни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з вины виноватые»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41940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е место в наследии Островского занимает «весенняя сказка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7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взгляд на древний, патриархальный, сказочный мир, в котором тоже господствуют материальные отно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1325958427_aleksandr-ostrovskij-snegurochka"/>
          <p:cNvPicPr/>
          <p:nvPr/>
        </p:nvPicPr>
        <p:blipFill>
          <a:blip r:embed="rId1"/>
          <a:stretch/>
        </p:blipFill>
        <p:spPr>
          <a:xfrm>
            <a:off x="4916520" y="380880"/>
            <a:ext cx="3848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0039-041-Pismennyj-stol-sdelannyj-samim-dramaturgom-stoit-v-ego-kabinete"/>
          <p:cNvPicPr/>
          <p:nvPr/>
        </p:nvPicPr>
        <p:blipFill>
          <a:blip r:embed="rId1"/>
          <a:stretch/>
        </p:blipFill>
        <p:spPr>
          <a:xfrm>
            <a:off x="380880" y="3733920"/>
            <a:ext cx="4194360" cy="284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80356644_large_4505656_19020"/>
          <p:cNvPicPr/>
          <p:nvPr/>
        </p:nvPicPr>
        <p:blipFill>
          <a:blip r:embed="rId2"/>
          <a:stretch/>
        </p:blipFill>
        <p:spPr>
          <a:xfrm>
            <a:off x="380880" y="762120"/>
            <a:ext cx="4191120" cy="284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могила"/>
          <p:cNvPicPr/>
          <p:nvPr/>
        </p:nvPicPr>
        <p:blipFill>
          <a:blip r:embed="rId3"/>
          <a:stretch/>
        </p:blipFill>
        <p:spPr>
          <a:xfrm>
            <a:off x="4952880" y="3854520"/>
            <a:ext cx="3886200" cy="2747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6461280" y="1027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724280" y="762120"/>
            <a:ext cx="426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июня 1886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ь писателя в своем имении Щелыково (за письменным столом)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А.Н.Островский написал 47 пьес, 7 пьес – в сотрудничестве с другими драматургами, перевел более 20-ти пьес с итальянского, испанского, французского, английского и латинского язы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53 по 1872 г.г. его пьесы прошли 766 раз в столичных и провинциальных театрах, принеся Дирекции императорских театров доход больше 2-х миллионов 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Заслуга А.Н.Островског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Островский открыл миру человека новой формации: купца-старообрядца и купца-капиталиста, ездящего за границу и занимающегося своим бизнесом. Его по праву называю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Колумбом Замосквореч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А.Н.Островского русская театральная история насчитывала лишь несколько имен. Драматург внес огромный вклад в развитие русского теа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А.Н.Островского, продолжая традиции Фонвизина, Грибоедова, Пушкина, Гоголя, отличается новаторством в изображении героев, в языке персонажей и в поднятых социально-нравственных пробле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Колумб Замоскворечья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6" descr="Рисунок3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19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 один достроили здание, в основание которого положили краеугольные камни Фонвизин, Грибоедов и Гоголь. Но только после вас мы, русские, можем с гордостью сказат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У нас есть свой русский, национальный театр». Он, по справедливости, должен называться «Театр Островског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А.Гонч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sk313"/>
          <p:cNvPicPr/>
          <p:nvPr/>
        </p:nvPicPr>
        <p:blipFill>
          <a:blip r:embed="rId1"/>
          <a:stretch/>
        </p:blipFill>
        <p:spPr>
          <a:xfrm>
            <a:off x="4835520" y="990720"/>
            <a:ext cx="33670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звал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ы жизн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родился Островск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какому сословию принадлежала семья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образование получил Островск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произведение принесло литературную известность молодому Островско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еятельности какого журнала и с какого времени Островский принимал учас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, за что, какой премией был награждён Островский за свой вклад в развитие теа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деятельность осуществлял Островский во время руководства московскими театр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произведения Островского. ( не менее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лет насчитывает литературная и театральная деятельность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Детство и юн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35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1 мар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823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емье чиновника (юриста). Родина – район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москвореч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где большей частью жило московское купечеств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274736"/>
          <p:cNvPicPr/>
          <p:nvPr/>
        </p:nvPicPr>
        <p:blipFill>
          <a:blip r:embed="rId1"/>
          <a:stretch/>
        </p:blipFill>
        <p:spPr>
          <a:xfrm>
            <a:off x="3657600" y="233208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кружок основал Островский и в каком год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вестные люди посещали дом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ая жизнь пис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и когда похоронил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562360"/>
            <a:ext cx="861372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москворечь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19-ом ве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Рисунок1"/>
          <p:cNvPicPr/>
          <p:nvPr/>
        </p:nvPicPr>
        <p:blipFill>
          <a:blip r:embed="rId1"/>
          <a:stretch/>
        </p:blipFill>
        <p:spPr>
          <a:xfrm>
            <a:off x="685800" y="685800"/>
            <a:ext cx="7821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ил хорошее домашнее образование, с детства изучая иностранные языки. Впоследствии знал греческий, французский, немецкий, а позже — английский, итальянский, испанский я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84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закончил Московскую гимназию. Поступление в Московский университет на юридический факультет. Сильное увлечение теат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84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тчислен из университета. Принял решение заняться литерату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ебованию отца служит в Московском совестном суд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843 – 184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разбирались дела между родствен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5 – 185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евод в Московский коммерческий суд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 это – уникальная возможность наблюдать и анализировать поступки людей из разных социальных сло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гражданский брак (против воли отца) с Агафьей Ивановной, девицей из мещ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Начало творчес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422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0 (мар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 журнале «Москвитянин» напечатана первая комеди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Свои люди – сочтемс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«Банкрот»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Автор сразу стал знамен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Svoy_ludy_-_Rybakov_Sadovsky_1892"/>
          <p:cNvPicPr/>
          <p:nvPr/>
        </p:nvPicPr>
        <p:blipFill>
          <a:blip r:embed="rId1"/>
          <a:stretch/>
        </p:blipFill>
        <p:spPr>
          <a:xfrm>
            <a:off x="730080" y="1371600"/>
            <a:ext cx="33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Рисунок2"/>
          <p:cNvPicPr/>
          <p:nvPr/>
        </p:nvPicPr>
        <p:blipFill>
          <a:blip r:embed="rId1"/>
          <a:stretch/>
        </p:blipFill>
        <p:spPr>
          <a:xfrm>
            <a:off x="131760" y="533520"/>
            <a:ext cx="4546440" cy="55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Рисунок1"/>
          <p:cNvPicPr/>
          <p:nvPr/>
        </p:nvPicPr>
        <p:blipFill>
          <a:blip r:embed="rId2"/>
          <a:stretch/>
        </p:blipFill>
        <p:spPr>
          <a:xfrm>
            <a:off x="4800600" y="533520"/>
            <a:ext cx="4237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2-05-04T17:54:0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