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DA5-B211-4FFB-A140-415A7806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4FA-2770-4B3C-847B-1D4E1199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CB3-FF15-4AB1-AA4C-828BA7A2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69B0-ED1C-4D53-9840-B16A48ED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F3CF-628A-45C8-9610-AE768223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C921-71DC-4B3D-8813-192D3488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1727-4463-45C0-BCC1-7AF901BC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4E80-A2EC-4982-AFCD-91E03D76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474F-B393-4673-97D6-428AEE25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ECE6-6A21-4407-B60B-DE7DFB93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9397-CB40-4848-AF6E-FB99D354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CFF-0B68-4AC1-B5C7-76581D00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8643-3E49-4605-BC7E-061671A8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5634-E371-4D62-B867-9F195B3E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882E-D751-481C-9496-5544B6CE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39E5-5B8F-485A-982F-9BDAFB1F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442D-7967-444B-9254-081DFA13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C3D1B-A55D-40CF-AE53-528B8CC7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4D9C7-1965-46F0-B96A-F3DE06E6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52A7B-638D-483A-A71A-3BBC4146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F950F-6040-47B2-8114-3D7CF96B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8D808-D13A-4E59-B759-13BD6CF0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786-FCC7-4B58-82BA-60FCB0AD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2B6A7-EF02-49CA-9776-7552981C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9A319-8E5F-4D76-9121-6D60F72F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99F31-97E9-48FF-B503-FAB59536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7D3C6-6788-4737-9B81-52E1420A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70697-4AC4-4A35-8525-027F151D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1473E-92D9-4F1E-B5B5-C160B37F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E8FA1-D7C7-4C4C-82EF-16D6667C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FAE03-6987-44BE-B46E-3846339B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F6C98-7B6C-4C57-9474-D243E13B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946F6-5F2A-4242-A6FD-E86D16A6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CAE-3BD8-4B5F-A324-F3790171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C2FD3-377B-4AFC-9143-3E12A044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860B0-A274-4104-B82F-325E3768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57E72-8123-4D62-851B-0599D9A9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C8179-15AE-4C57-B18F-ED35D8E0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BF675-B0B0-400E-A85B-6866EFB4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9DBEA-9572-451A-8D3D-2FEDC6E0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2B9E9-94D5-4C8A-A743-DDA6EBD4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19C33-B54E-4BF7-BE81-FB4244FC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81CB9-AFF0-4CD3-9D48-05002764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D92F-DD68-4D57-A1AB-88BF9BA9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E0F-34D5-4528-88B0-6FA28E85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2F5-0F07-44F1-A966-80D2F64B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0670-1332-44B4-947D-F1B331E0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696-B6CC-4D36-AEB0-DF2329CB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8689-3DCE-4A6D-A3B2-DE9E8B58995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CDCA-30A9-4E14-8304-C5D26C41A5D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8261-22F2-482C-9C83-FAC3E1A37D4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9188-9215-4A30-BA71-E010331B675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Предложения с обособленными и уточняющими член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742840" y="3809520"/>
            <a:ext cx="5715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И.М. Архирейская, преподава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особляется в следующих случаях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066680"/>
            <a:ext cx="8610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Являются обособленными два или более однородных согласованных нераспространенных определения, если они стоят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ле определяемого существительного (часто при этом существительном имеется определение, стоящее до него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пришла весна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ая, солнеч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был морской офицер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и блед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эта мысль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ая и яс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репко легла в его возбужденную голов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особляется в следующих случаях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Является обособленным любое определение, если оно оторвано от определяемого существительного или личного местоимения другими членами предложения, на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итые солнце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лались за рекой гречаные и пшеничные нивы (Шолохов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бособляются определения, если они связаны не только с подлежащим, но и со сказуемым, на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ришел особенно возбужденный и веселы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ение, выраженное существительным в косвенном падеже (чаще с предлогом)обособляется, если относится к имени собственному или к наименованию лица по степени родства, профессии, должности и имеет значение уточнения, добавочного сообщ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а Елена Петровна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0 года рожд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вляется частным предпринимател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шите, расставляя, где нужно, знаки препинания при обособленных определениях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09480" y="12189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 ночь темная и безмолвн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исшая над горизонтом туча предвещала гроз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ямство это слабость имеющая вид сил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решительный и смелый на этот раз он колебал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возвратились утомленные до последней степ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шите, расставляя, где нужно, знаки препинания при обособленных определениях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о ты взыграл неодолимый и стая тонет корабл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труйки дыма вились в ночном воздухе полном влаги и свежести мор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роводимые с молодежью часы были для Константина зарядкой бодр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Театр осаждало молодое море буйное напористо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Мы отправились в путь бодрые и отдохнувш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шите, расставляя, где нужно,знаки препинания при обособленных определ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Привлеченные светом бабочки прилетели и кружились около фонар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Я оглянулся и увидел тысячи людей бледных и плачущих от счаст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Обессиленный навязчивой мыслью о парусе дедушка впадал в забытье (В.Катаев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Взволнованный не спавший несколько ночей я на другой день пошел в театр. (Шаляп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собый вид определений - при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838080"/>
          <a:ext cx="8229600" cy="5675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 при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личные качества предме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жа захлопнула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лодейка-западн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И.Крылов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Националь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ила Петрович выписал из Москвы для своего маленького Саши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анцуза-учителя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.Пушкин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озра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оропливо шествует, добродушно улыбаясь,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рож-стари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рофесс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так уж часто встречались на Волге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щины-штурманы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.Паустовский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Названия газет, журналов, предприятий, худ.произведений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выписываю газету «Комсомольская правда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ения и их обособ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088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1. Одиночное приложение, выраженное именем существительным нарицательным, присоединяется к имени существительному нарицательному посредством дефи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а-песн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ять встрепенулась в груди и взмахнула орлиным кры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фис ставится и в том случае, когда нарицательное существительное стоит после имени собственного и тесно сливается с ним по смыслу.За пустой околицей, за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ец- ре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здрогнет и расколется полевой пок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: Река Дон впадает в Азовское мор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с не стави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рвое существительное является общепринятым обращением (товарищ, гражданин и др), 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йте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омки, агитатора, горлана- главар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иложение, стоящее перед определяемым словом, близко по значению к согласованному определению, 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 в хижин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дня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пожник.(ср.бедный сапожни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Несогласованные приложения (названия газет, журналов, художественных произведений, предприятий и т.п) заключаются в кавычк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088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ть газету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авда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ть оперу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Борис Годунов»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на завод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Красная заря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Обособление определ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Обособление прилож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Обособление дополн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Обособление обстоятельст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Уточняющие члены предлож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Обособляются и отделяются на письме запяты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очные и распространенные приложения, относящиеся к личному местоимению, на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ртиллерис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хлопотали возле оруд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     Распространенные приложения, относящиеся к определяемому слову- существительному нарицательному, например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мышленые зве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бобры зимуют разум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диночные и распространенные приложения стоящие после определяемого существительного- имени собственного, на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ядом с Кудряшом в пьесе выступае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стный мещан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механик-самоуч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Кулиг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Обособленное приложение вместо запятой может отделяться на письме ТИР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если оно не только определяет слово, но и уточняет его содерж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конец августа месяца было назначено интереснейшее спортивное соревнование ( а именно?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– бег по пересеченной мест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если приложение необходимо отграничить от однородных член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квартире Калерии Александровны…собрались Елизавета Алексеевна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ать Волод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его сестра Людмила и тетя Маруся с двумя девочк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Обособляются, отделяются запятыми приложения, присоединяемые союзами ТО ЕСТЬ, ИЛИ (ТО ЕСТЬ) , словами ДАЖЕ, НАПРИМЕР, В ОСОБЕННОСТИ, ПО ПРОЗВАНИЮ, ПО ПРОЗВИЩУ, ПО ИМЕНИ, ПО ФАМИЛИИ,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ТОМ ЧИСЛ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25909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жен за двести Ик разделялся на два рукава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ли прото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правился я со старостиным сыном и другим крестьянином ,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по имени Егор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охот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, присоединяемые союзом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440" y="9140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, присоединяемые союзом КАК, выделяются запятыми, если имеют значение причин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стинный художн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ушкин не нуждался в выборе поэтических предметов для своих произведений, но для него все предметы были равно исполнены поэз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же союз КАК по значению выражению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запятая не стави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лов писал комедии весьма замечательные, но слава ег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аснопис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 могла не затмить его славы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ком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шите, расставляя, где нужно, знаки препинания при обособленных приложениях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она северная ночь нарядная затянутая серебристой дымкой (Г.Федосеев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 нарушитель тишины шумит скользя во мраке вдоль стены (М.Ю.Лермонтов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отник по имени Григорий был нашим проводник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стинный художник Пушкин не нуждался в выборе поэтических предметов для своих произведений… (В.Белински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ишите, расставляя, где нужно, знаки препинания при обособленных приложения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Федосья свекровь Аленки чистенькая и благообразная на вид старушка сидела за столом…(Б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льге Ивановне как хорошей хозяйке так и хочется сделать замечание молодой невест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т полка спасибо за сына храбреца (Твард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Жил в хижине бедняк сапожни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собление допол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полнение-это второстепенный член предложения, который отвечает на вопросы косвенных падежей и обозначает предм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Кому?)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Мн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дали зада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Я прошу Вас (о чем?)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овори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о существ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сять делится (на что?)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 пя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ения бывают  прямые и кос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ые дополн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носятся к переходным глаголам и обозначают предмет, на который направлено действие, 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егодня поймал было (кого?) рыбку. Прямые дополнения выражаются вин.п без предлога или, реже, род.п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стальные дополне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ся косвенны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 да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орудия труда, познакоми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гн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набдил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ом д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вых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2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обленными дополнения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но называют конструкции со значением включения, исключения, замещ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охов …понравился всем в доме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ая Наташ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охотника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ал, как отрадно бродить на заре по куста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ельное либо расширительное значение помогают передать предлог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, ВМЕСТО, ЗА ИСКЛЮЧЕНИЕМ, НАРЯДУ С, ПОМИМО, СВЕРХ И Д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обороты обособляются, на  письме выделяются запят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ещерском крае нет никаких особенных красот и богатств,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лесов, лугов, прозрачного воздух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.Паустовски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собл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523880"/>
            <a:ext cx="83818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ОСОБЛЕНИЕМ- называется интонационное и смысловое выделение членов предлож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особленные члены предложения обычно выделяются запят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ия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914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гда обособляется оборот с предлогом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роме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ередающий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исключение при отрицании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связанный со словам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где, никогда, никто и др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толовой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роме играющи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ет нико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Не обособляется оборот с предлогом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место, употребленный в значении  «за», «взамен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место легкого плащ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учше надеть теплую курт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лай должен был работать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мес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ожиданно заболевшего товарищ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вьте знаки препи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0880" y="9140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сех за исключением комиссара дела шли хорошо и только разговоров было о выпис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охов…понравился всем в доме исключая Наташ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х всякого ожидания бабушка подарила  мне несколько кни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у кроме огня нужно еще освои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вьте знаки препи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квозь пыль залеплявшую глаза не было видно ничего кроме блеска молний (Ч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Я вырос в среде  где трудятся каждый день  все без исключения и мужчины и женщи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остов ничего не видел кроме бежавших вокруг него гусар цеплявшихся шпорами и бренчавших саблями (Л.Н.Т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то кроме охотника испытал как отрадно бродить на заре по куста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СОБЛЕНИЕ ОБСТОЯТЕЛЬ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СТОЯТЕЛЬСТВО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ТОРОСТЕПЕННЫЙ ЧЛЕН ПРЕДЛОЖЕНИЯ, ОБОЗНАЧАЮЩИЙ ПРИЗНАК ДЕЙСТВИЯ ИЛИ ДРУГОГО ПРИЗНАКА И ОТВЕЧАЮЩИЙ НА ВОПРОСЫ ГДЕ?КОГДА? КАК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ег падал (как?) медлен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Е, ОБОСОБЛЯЮТСЯ СЛЕДУЮЩИЕ ВИДЫОБСТОЯТЕЛЬСТ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) обстоятельства, выраженные деепричастным оборотом, на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ержа кувшин над голов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грузинка узкою тропой сходила к берегу. Порой она скользила меж камней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меясь неловкости сво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Л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МНИТЕ, ОБОСОБЛЯЮТСЯ СЛЕДУЮЩИЕ ВИДЫОБСТОЯТЕЛЬСТ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) Обстоятельства, выраженные одиночным деепричастием, на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шумев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ека успокоилась, вновь легла в берега (Пол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охот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 умолк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атится дальш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епь побурела и задымилась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дсых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МНИТЕ, ОБОСОБЛЯЮТСЯ СЛЕДУЮЩИЕ ВИДЫОБСТОЯТЕЛЬСТ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Обстоятельства, выраженные существительным с предлогом НЕСМОТРЯ НА, НЕВЗИРАЯ НА, БЛАГОДАРЯ, СОГЛАСНО, ПРИ НАЛИЧИИ, ПРИ ОТСУТСТВИИ, ЗА НЕИМЕНИЕМ И Д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все мои старания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 никак не мог засну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вы, благодаря дождям, взош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: Благодаря дождям посевы взош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ОБОСОБ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деепричастия, перешедшие в наречия (нехотя, лежа, молча, не спеша, не глядя, шутя, крадучись) и фразеологические обороты наречного характера (спустя рукава, сломя голову), 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возчик греб стоя (Пауст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удем работать засучив рука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ОБОСОБ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деепричастие или деепричастный оборот, связанный с однородным с ним другим обстоятельством- не деепричастием, 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дверям кабинета все подходили обыкновенн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шептываясь и на цыпочка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Л.Т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епричастия и деепричастные обороты, соединенные союзом И, запятой не разделяю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стя в ушах и обдавая прохлад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гновенно наполнил пару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остальных случаях деепричастия и деепричастные обороты отделяются от предшествующего или следующего за ним союза И, 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полминуты соловей пустил высокую мелкую дробь и, испробовав таким образом свой голос, начал пе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торостепенный член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447560"/>
            <a:ext cx="84582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- это второстепенный член предложения, который отвечает на вопросы какой? чей? и  обозначает признак предме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еет парус (какой?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инок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Лермонтов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(какой?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жеств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ерепишите, расставляя недостающие знаки препин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йдя за ворота мы повернули вправо и побрели не спеша  (Ч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ень и ночь по снеговой пустыне спешу к вам голову сломя (Гр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в до самых сумерек и ничего не найдя я пошел по берегу ре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сентября все время шли дожд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ерепишите, расставляя недостающие знаки препина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ашенька улыбаясь посмотрела на них и стала заваривать чай (М.Горький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становив Власову он одним дыханием и не ожидая ответов закидал ее текучими и сухими фразами  (М.Г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Батареи медным строем скачут и гремят и дымясь и дымясь как перед боем фитили горят (Л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атер кренясь то вправо то влево прыгал по волнам (Кон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ОСОБЛЕНИЕ УТОЧНЯЮЩИХ ЧЛЕНОВ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яющие члены предложения выделяются при произнесении интонацией, а на письме- запят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слышал эти рассказы под Аккерманом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Бессараб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а морском берегу (М.Г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 обосо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обособляются уточняющие обстоятельства места и времени, 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ждое утро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шесть час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я отправлялся на рабо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море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 самой отмел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облескивают серебряные сельди (М.Г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нем (Павле Петровиче) был изящный утренний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английском вкус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стюм (Т.). (определени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возчики мерно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ра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взмахивали веслами(Ч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ия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560" y="8380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обленные уточняющие члены предложения могут присоединяться к уточняемым при помощи союзов ТО ЕСТЬ, ИЛИ (в значении то есть) , а так же слов ОСОБЕННО, ДАЖЕ, ГЛАВНЫМ ОБРАЗОМ, В ЧАСТНОСТИ, НАПРИМЕР и д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ая коза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косу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дится по всему Уссурийскому краю (Прж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газы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 водоро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егче воздух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округ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пепельница из розовой раковины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ворило о долгой и мирной жиз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опреде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218960"/>
            <a:ext cx="84582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я бывают двух вид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ны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гласованн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гласованные определ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ываются с существительным согласованием, т.е стоят в том же роде, числе и падеж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кая?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дач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стница была очень крут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опреде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согласованные определе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ываются  с существительными по способу управления или, реже, по способу примыкания, на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поданы яйца (какие?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мят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е в глубокой древности люди мечтали о возможност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а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духу ( М.Горьки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тница (какая?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рда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чень крут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Определение обособляется в следующих случаях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обособленным любое определение (распространенное и нераспространенное), стоящее после определяемого слова или перед ним, если оно относится к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чному местоимени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мленный долгой речь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 закрыл глаза и засну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н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тежны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ит бури, как будто в бурях есть пок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особляется в следующих случаях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особленными являются распространенные определения, выраженные причастным оборотом или прилагательными с зависимыми словами, если определение стои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ле определяемого слова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яц на закате похож на раскаленный уголек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рнутый голубоватым пеплом тучк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.Катаев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е небо с единственным облаком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ожим на кисть виногра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лось в вод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. Паустовский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958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обособляется в следующих случаях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частный оборот, стоящий перед определяемым словом, является обособленным, если имеет добавочное обстоятельственное значение причины или уступки, наприме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енный осколком в плечо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питан Сабуров не покинул строя (К.Симонов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внит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носившийся снизу шум моря вызывал тревог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22-04-14T14:36:4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