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5A1-D4AF-417E-8B56-93306589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FC4-AEBC-4D8B-923A-D27C5B0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D59-958A-46BA-8C95-0E1D08CB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5AC-43F1-4F48-AF9A-AC934F20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972B-5FA4-48EA-B6B2-85C59CA4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16D-9438-48EA-A3D2-66B05E65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9582-4567-47E8-8342-D2F4C590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3C9F-E532-4C46-8F1F-99EDA16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C0B2-6AC4-470E-B152-613A3E8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58DF-EF96-4B3B-B073-AF1437FE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56D1-198F-4E1A-B9E9-8B71248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B32-32EB-4821-8140-853E1D1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E42-C424-4DA5-B9F7-854378FE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35D8-5A74-47BC-9E71-00E0F7E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D634-1C01-4524-9AAE-6B88C990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BA3-E930-43E9-9202-E4EAEE22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C878-724D-4EC7-A5C7-4630885C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06BE-F621-48E0-BA79-84231C7D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BFF5-EB61-41E1-9F97-134A22F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A0EA-B1F5-4138-A3E5-B4CB6D0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12EA-FC64-4ADC-90D8-E15C86F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B351-B4BF-4A93-A8F1-DBD141CA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E02-E879-436A-8A6A-F188F8B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FBF5-7316-4C0C-8F2A-5AB63D54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698E-5393-46F5-B64C-D6FB698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C65A-0910-4509-A9B5-660676B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2C32-D903-4B67-BF07-016EF10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D2B2-45D8-4595-A1B2-09EA5468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19EC-63EA-499D-AA14-9BFFCA64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38CF-8102-412B-AE0F-010D43BC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E930-10C0-40E3-AF3E-3F0532F0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9768-19A5-4A57-B2DA-CE824437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957F-E7B3-465F-A8A7-21CBF61D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2B8-D2B3-4174-A8E2-2EB7174F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5356-C895-4B20-BA64-6FE89E9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9B3F-57ED-44AE-86B6-9B175EA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A27F-24FC-4097-9025-ECB39E9C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3C7D9-B5BB-4AB4-A16C-D8281F9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C6D7-A07B-4A42-859E-13F5C1C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D82E-FAFD-4023-80E6-2F2D57A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1A84-1950-4F19-819D-37B5DED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8879-D508-42A4-B118-6E9F40A7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646A-2897-4E0F-8DDB-7BC2EE74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FC7-589B-4490-8277-03606E72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B77-3DE3-43A6-9960-D7180B75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371-B550-4D67-8FEC-DFE2702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CDC-95C7-452F-862E-93B56DA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73F-30B4-4D4C-A0DD-11A0813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2C04-57B8-46CC-9D8C-681E6D6C9E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CE1A-56B5-4B97-9D49-C1E5FE1A2F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3DEF-1BBB-4B06-A18E-6A25D5A82F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EC35-FB48-42A1-8AD6-546AAB0D18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редложения с обособленными и уточняющими чле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42840" y="38095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И.М. Архирейская, преподава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вляются обособленными два или более однородных согласованных нераспространенных определения, если они стоя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 определяемого существительного (часто при этом существительном имеется определение, стоящее до него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пришла весна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, солнеч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 морской офицер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и блед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та мысль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я и яс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епко легла в его возбужденную голо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вляется обособленным любое определение, если оно оторвано от определяемого существительного или личного местоимения другими членами предложения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тые солнц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лались за рекой гречаные и пшеничные нивы (Шолох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особляются определения, если они связаны не только с подлежащим, но и со сказуемым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шел особенно возбужденный и весел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, выраженное существительным в косвенном падеже (чаще с предлогом)обособляется, если относится к имени собственному или к наименованию лица по степени родства, профессии, должности и имеет значение уточнения, добавочного сооб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Елена Петровна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 года ро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ется частным предпринима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определениях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 ночь темная и безмол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исшая над горизонтом туча предвещала гроз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ямство это слабость имеющая вид си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решительный и смелый на этот раз он колебал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возвратились утомленные до последней степ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определениях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о ты взыграл неодолимый и стая тонет кораб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труйки дыма вились в ночном воздухе полном влаги и свежести мо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водимые с молодежью часы были для Константина зарядкой бодр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еатр осаждало молодое море буйное напорист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Мы отправились в путь бодрые и отдохнувш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знаки препинания при обособленных определ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влеченные светом бабочки прилетели и кружились около фона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Я оглянулся и увидел тысячи людей бледных и плачущих от счаст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бессиленный навязчивой мыслью о парусе дедушка впадал в забытье (В.Катае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Взволнованный не спавший несколько ночей я на другой день пошел в театр. (Шаля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обый вид определений - 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838080"/>
          <a:ext cx="8229600" cy="567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ри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личные качества предм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жа захлопнула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дейка-западн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.Крылов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ациона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а Петрович выписал из Москвы для своего маленького Саш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уза-учител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Пушкин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ропливо шествует, добродушно улыбаясь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ж-стар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фесс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так уж часто встречались на Волге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-штурман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.Паустовский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Названия газет, журналов, предприятий, худ.произведений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выписываю газету «Комсомольская правда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 и их обосо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. Одиночное приложение, выраженное именем существительным нарицательным, присоединяется к имени существительному нарицательному посредством дефи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-пес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ять встрепенулась в груди и взмахнула орлиным кры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фис ставится и в том случае, когда нарицательное существительное стоит после имени собственного и тесно сливается с ним по смыслу.За пустой околицей, з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- ре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дрогнет и расколется полевой по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: Река Дон впадает в Азовское мо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с не ста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ое существительное является общепринятым обращением (товарищ, гражданин и др)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йте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мки, агитатора, горлана- глава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ложение, стоящее перед определяемым словом, близко по значению к согласованному определению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в хижин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я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пожник.(ср.бедный сапожни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есогласованные приложения (названия газет, журналов, художественных произведений, предприятий и т.п) заключаются в кавыч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газет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авда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опер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орис Годунов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на завод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расная зар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Обособление о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Обособление прилож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бособление допол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Обособление обстоятель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Уточняющие члены предло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Обособляются и отделяются на письме запят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очные и распространенные приложения, относящиеся к личному местоимению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ртиллерис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лопотали возле оруд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    Распространенные приложения, относящиеся к определяемому слову- существительному нарицательному, наприме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ышленые зв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бры зимуют разум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диночные и распространенные приложения стоящие после определяемого существительного- имени собственного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ом с Кудряшом в пьесе выступ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стный мещан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механик-самоу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Кулиг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Обособленное приложение вместо запятой может отделяться на письме ТИР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если оно не только определяет слово, но и уточняет его содерж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онец августа месяца было назначено интереснейшее спортивное соревнование ( а именно?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бег по пересеченной мес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если приложение необходимо отграничить от однородных член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вартире Калерии Александровны…собрались Елизавета Алексеевна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ь Воло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го сестра Людмила и тетя Маруся с двумя девоч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Обособляются, отделяются запятыми приложения, присоединяемые союзами ТО ЕСТЬ, ИЛИ (ТО ЕСТЬ) , словами ДАЖЕ, НАПРИМЕР, В ОСОБЕННОСТИ, ПО ПРОЗВАНИЮ, ПО ПРОЗВИЩУ, ПО ИМЕНИ, ПО ФАМИЛИ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2590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жен за двести Ик разделялся на два рукава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ли прот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ился я со старостиным сыном и другим крестьянином 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о имени Егор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хо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, присоединяемые союзом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, присоединяемые союзом КАК, выделяются запятыми, если имеют значение причи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стинный худож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ушкин не нуждался в выборе поэтических предметов для своих произведений, но для него все предметы были равно исполнены поэ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союз КАК по значению выражению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запятая не стави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ов писал комедии весьма замечательные, но слава е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аснопис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могла не затмить его славы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ом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приложениях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а северная ночь нарядная затянутая серебристой дымкой (Г.Федосее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нарушитель тишины шумит скользя во мраке вдоль стены (М.Ю.Лермон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ик по имени Григорий был нашим проводни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стинный художник Пушкин не нуждался в выборе поэтических предметов для своих произведений… (В.Белинск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приложения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едосья свекровь Аленки чистенькая и благообразная на вид старушка сидела за столом…(Б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льге Ивановне как хорошей хозяйке так и хочется сделать замечание молодой невест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т полка спасибо за сына храбреца (Твард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Жил в хижине бедняк сапож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собление допол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полнение-это второстепенный член предложения, который отвечает на вопросы косвенных падежей и обозначает предм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Кому?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Мн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али зад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прошу Вас (о чем?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вори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сущес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сять делится (на что?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пя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ения бывают  прямые и кос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дополн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 переходным глаголам и обозначают предмет, на который направлено действие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егодня поймал было (кого?) рыбку. Прямые дополнения выражаются вин.п без предлога или, реже, род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дополн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косвен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да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орудия труда, познакоми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гн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набди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 д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ых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2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ыми дополнени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но называют конструкции со значением включения, исключения, замещ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хов …понравился всем в доме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я Ната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охотника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л, как отрадно бродить на заре по куста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ельное либо расширительное значение помогают передать предлог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, ВМЕСТО, ЗА ИСКЛЮЧЕНИЕМ, НАРЯДУ С, ПОМИМО, СВЕРХ И Д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обороты обособляются, на  письме выделяются запят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щерском крае нет никаких особенных красот и богатств,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лесов, лугов, прозрачного возду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.Паустовск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собл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М- называется интонационное и смысловое выделение членов предлож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собленные члены предложения обычно выделяются запят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обособляется оборот с предлог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ром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едающий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исключение при отрица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связанный со слова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где, никогда, никто и др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оловой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роме играющ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т ник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е обособляется оборот с предлог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место, употребленный в значении  «за», «взамен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место легкого плащ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 надеть теплую курт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лай должен был работ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жиданно заболевшего товарищ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т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9140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сех за исключением комиссара дела шли хорошо и только разговоров было о выпис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хов…понравился всем в доме исключая Ната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 всякого ожидания бабушка подарила  мне несколько кни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кроме огня нужно еще осво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т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квозь пыль залеплявшую глаза не было видно ничего кроме блеска молний (Ч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Я вырос в среде  где трудятся каждый день  все без исключения и мужчины и женщ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остов ничего не видел кроме бежавших вокруг него гусар цеплявшихся шпорами и бренчавших саблями (Л.Н.Т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то кроме охотника испытал как отрадно бродить на заре по куст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СОБЛЕНИЕ ОБСТОЯТЕЛЬ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СТОЯТЕЛЬСТВО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ТОРОСТЕПЕННЫЙ ЧЛЕН ПРЕДЛОЖЕНИЯ, ОБОЗНАЧАЮЩИЙ ПРИЗНАК ДЕЙСТВИЯ ИЛИ ДРУГОГО ПРИЗНАКА И ОТВЕЧАЮЩИЙ НА ВОПРОСЫ ГДЕ?КОГДА? КАК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ег падал (как?) медлен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, ОБОСОБЛЯЮТСЯ СЛЕДУЮЩИЕ ВИДЫОБСТОЯТЕЛЬСТ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обстоятельства, выраженные деепричастным оборотом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ржа кувшин над голов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рузинка узкою тропой сходила к берегу. Порой она скользила меж камней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меясь неловкости сво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Л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, ОБОСОБЛЯЮТСЯ СЛЕДУЮЩИЕ ВИДЫОБСТОЯТЕЛЬ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Обстоятельства, выраженные одиночным деепричастием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шумев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ека успокоилась, вновь легла в берега (Пол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охо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умолк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тится дальш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пь побурела и задымилась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сых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, ОБОСОБЛЯЮТСЯ СЛЕДУЮЩИЕ ВИДЫОБСТОЯТЕЛЬ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бстоятельства, выраженные существительным с предлогом НЕСМОТРЯ НА, НЕВЗИРАЯ НА, БЛАГОДАРЯ, СОГЛАСНО, ПРИ НАЛИЧИИ, ПРИ ОТСУТСТВИИ, ЗА НЕИМЕНИЕМ И Д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се мои старания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никак не мог засну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, благодаря дождям, взош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: Благодаря дождям посевы взош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БОСОБ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деепричастия, перешедшие в наречия (нехотя, лежа, молча, не спеша, не глядя, шутя, крадучись) и фразеологические обороты наречного характера (спустя рукава, сломя голову)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озчик греб стоя (Пауст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м работать засучив рука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БОСОБ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деепричастие или деепричастный оборот, связанный с однородным с ним другим обстоятельством- не деепричастием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дверям кабинета все подходили обыкновенн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шептываясь и на цыпочк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Л.Т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епричастия и деепричастные обороты, соединенные союзом И, запятой не разделя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я в ушах и обдавая прохлад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гновенно наполнил пару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стальных случаях деепричастия и деепричастные обороты отделяются от предшествующего или следующего за ним союза И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олминуты соловей пустил высокую мелкую дробь и, испробовав таким образом свой голос, начал пе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степенный член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- это второстепенный член предложения, который отвечает на вопросы какой? чей? и  обозначает признак предме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ет парус (какой?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ок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Лермон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(какой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жест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епишите, расставляя недостающие знаки препин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дя за ворота мы повернули вправо и побрели не спеша  (Ч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нь и ночь по снеговой пустыне спешу к вам голову сломя (Гр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в до самых сумерек и ничего не найдя я пошел по берегу ре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сентября все время шли дож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ерепишите, расставляя недостающие знаки препин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ашенька улыбаясь посмотрела на них и стала заваривать чай (М.Горьк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становив Власову он одним дыханием и не ожидая ответов закидал ее текучими и сухими фразами  (М.Г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Батареи медным строем скачут и гремят и дымясь и дымясь как перед боем фитили горят (Л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тер кренясь то вправо то влево прыгал по волнам (Кон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СОБЛЕНИЕ УТОЧНЯЮЩИХ ЧЛЕНОВ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ющие члены предложения выделяются при произнесении интонацией, а на письме- запят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слышал эти рассказы под Аккерманом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Бессараб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а морском берегу (М.Г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обос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обособляются уточняющие обстоятельства места и времени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ое утро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шесть ча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я отправлялся на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оре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 самой отм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блескивают серебряные сельди (М.Г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нем (Павле Петровиче) был изящный утренний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вкус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стюм (Т.). (определени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чики мерно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а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змахивали веслами(Ч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560" y="8380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ые уточняющие члены предложения могут присоединяться к уточняемым при помощи союзов ТО ЕСТЬ, ИЛИ (в значении то есть) , а так же слов ОСОБЕННО, ДАЖЕ, ГЛАВНЫМ ОБРАЗОМ, В ЧАСТНОСТИ, НАПРИМЕР и д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ая коза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су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дится по всему Уссурийскому краю (Прж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газы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водор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гче возду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округ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пепельница из розовой раковины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ворило о долгой и мирно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опред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2189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бывают двух вид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ованные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ываются с существительным согласованием, т.е стоят в том же роде, числе и падеж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ая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ач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стница была очень кру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пред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огласованные определе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ываются  с существительными по способу управления или, реже, по способу примыкания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поданы яйца (какие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мят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глубокой древности люди мечтали о возмож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духу ( М.Горьк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а (какая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рд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чень кру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бособленным любое определение (распространенное и нераспространенное), стоящее после определяемого слова или перед ним, если оно относится 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му местоиме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мленный долгой реч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 закрыл глаза и засну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ежн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ит бури, как будто в бурях есть по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особленными являются распространенные определения, выраженные причастным оборотом или прилагательными с зависимыми словами, если определение сто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 определяемого слова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на закате похож на раскаленный уголек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рнутый голубоватым пеплом туч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Катае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небо с единственным облаком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жим на кисть виногра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лось в во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 Паустовск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958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астный оборот, стоящий перед определяемым словом, является обособленным, если имеет добавочное обстоятельственное значение причины или уступки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енный осколком в плечо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питан Сабуров не покинул строя (К.Симон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т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носившийся снизу шум моря вызывал тревог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2-04-14T14:36:4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