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2A9-1CF9-48CE-830F-EB096AB4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32DD-05BE-4E85-B245-62C46D7F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1E6-BCD9-4E8F-943E-C1A6D20B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605-F54F-4062-B688-A140C6A5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6C4-6CCB-458C-9F37-7274E180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0AC2-665E-4B5E-BF12-E39EF509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5EA-6806-4172-8817-E1C57110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21A-8D06-486E-89D8-7766C45C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D80-461B-4C31-A988-8F70981F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84F-A7D7-499B-9A93-81AC97E9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6A8-CC12-4C61-ADC7-081A280C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5EE-1AC9-4DC1-841E-F90C6558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80C-F822-41D2-8B1E-9809FB67F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торостепенные члены предложения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, 5-й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sova-2"/>
          <p:cNvPicPr/>
          <p:nvPr/>
        </p:nvPicPr>
        <p:blipFill>
          <a:blip r:embed="rId1"/>
          <a:stretch/>
        </p:blipFill>
        <p:spPr>
          <a:xfrm>
            <a:off x="595440" y="4191120"/>
            <a:ext cx="2130120" cy="2406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91440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0"/>
          <p:cNvSpPr/>
          <p:nvPr/>
        </p:nvSpPr>
        <p:spPr>
          <a:xfrm>
            <a:off x="609480" y="304920"/>
            <a:ext cx="7925040" cy="609480"/>
          </a:xfrm>
          <a:prstGeom prst="roundRect">
            <a:avLst>
              <a:gd name="adj" fmla="val 1041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поминаем то, что зн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04920" y="11430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ите пред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1752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рнеют прибрежные и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Картинка 4 из 559"/>
          <p:cNvPicPr/>
          <p:nvPr/>
        </p:nvPicPr>
        <p:blipFill>
          <a:blip r:embed="rId1"/>
          <a:stretch/>
        </p:blipFill>
        <p:spPr>
          <a:xfrm>
            <a:off x="6248520" y="1143000"/>
            <a:ext cx="2590560" cy="1709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304920" y="2362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главные члены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304920" y="3048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вьте вопрос к второстепенному члену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1066680" y="36576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Ивы (какие?) прибреж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380880" y="4267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обозначает этот второстепенный член предложения? Как бы вы его подчеркну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1159920" y="5562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ируйте тему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>
            <a:hlinkClick r:id="" action="ppaction://hlinkshowjump?jump=nextslide"/>
          </p:cNvPr>
          <p:cNvSpPr/>
          <p:nvPr/>
        </p:nvSpPr>
        <p:spPr>
          <a:xfrm>
            <a:off x="662940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42670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1143000" y="2133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11430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Блок-схема: альтернативный процесс 8"/>
          <p:cNvSpPr/>
          <p:nvPr/>
        </p:nvSpPr>
        <p:spPr>
          <a:xfrm>
            <a:off x="2438280" y="388620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6"/>
          <p:cNvSpPr/>
          <p:nvPr/>
        </p:nvSpPr>
        <p:spPr>
          <a:xfrm>
            <a:off x="457200" y="3733920"/>
            <a:ext cx="8077320" cy="1904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второстепенный член предложения, который обознач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предме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твечает на вопрос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й? ч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609480" y="4572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пределение – второстепенный член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609480" y="160020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итайте текст упр. 237.     Поработайте в пара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6477120" y="1523880"/>
            <a:ext cx="2361960" cy="1882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57200" y="25146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ьте на вопросы упражнения. Сформулируйте признаки 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83808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свой вывод с текстом определения (п. 26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914400" y="609480"/>
            <a:ext cx="7848720" cy="65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оизведите замену определений,выраженных прилагательными, определениями,выраженными существительными и наоборо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ыльцо школ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ловая вет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г мор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ставьте предложения с одной из пар. Обозначьте графически опре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Блок-схема: альтернативный процесс 6"/>
          <p:cNvSpPr/>
          <p:nvPr/>
        </p:nvSpPr>
        <p:spPr>
          <a:xfrm>
            <a:off x="3124080" y="457200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304920" y="304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ставьте алгоритм нахождения опреде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пред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альтернативный процесс 4"/>
          <p:cNvSpPr/>
          <p:nvPr/>
        </p:nvSpPr>
        <p:spPr>
          <a:xfrm>
            <a:off x="228600" y="1295280"/>
            <a:ext cx="8610480" cy="2895840"/>
          </a:xfrm>
          <a:prstGeom prst="flowChartAlternateProcess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Найдите в предложении слова, которые обозначают предме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лок-схема: альтернативный процесс 5"/>
          <p:cNvSpPr/>
          <p:nvPr/>
        </p:nvSpPr>
        <p:spPr>
          <a:xfrm>
            <a:off x="152280" y="1295280"/>
            <a:ext cx="8763120" cy="3733920"/>
          </a:xfrm>
          <a:prstGeom prst="flowChartAlternateProcess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йдите в предложении слова, которые обозначают пред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тавьте от них вопросы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какой? какая? какие? чей?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Определите, есть ли в предложении слова, которые отвечают на эти вопросы и обозначают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ризнак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значит,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Картинка 94 из 164038"/>
          <p:cNvPicPr/>
          <p:nvPr/>
        </p:nvPicPr>
        <p:blipFill>
          <a:blip r:embed="rId1"/>
          <a:stretch/>
        </p:blipFill>
        <p:spPr>
          <a:xfrm>
            <a:off x="304920" y="5105520"/>
            <a:ext cx="1828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Блок-схема: альтернативный процесс 9"/>
          <p:cNvSpPr/>
          <p:nvPr/>
        </p:nvSpPr>
        <p:spPr>
          <a:xfrm>
            <a:off x="3200400" y="5105520"/>
            <a:ext cx="2133720" cy="4572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8"/>
          <p:cNvSpPr/>
          <p:nvPr/>
        </p:nvSpPr>
        <p:spPr>
          <a:xfrm>
            <a:off x="3200400" y="5105520"/>
            <a:ext cx="21337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990720" y="304920"/>
            <a:ext cx="7543800" cy="609480"/>
          </a:xfrm>
          <a:prstGeom prst="roundRect">
            <a:avLst>
              <a:gd name="adj" fmla="val 1041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68580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ерите правильные утверждения (запишите их номер в тетрад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5"/>
          <p:cNvSpPr/>
          <p:nvPr/>
        </p:nvSpPr>
        <p:spPr>
          <a:xfrm>
            <a:off x="685800" y="2209680"/>
            <a:ext cx="8001000" cy="266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отвечает на падежны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я обычно бывают выражены именами прилаг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разборе предложения определения подчеркиваются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7"/>
          <p:cNvSpPr/>
          <p:nvPr/>
        </p:nvSpPr>
        <p:spPr>
          <a:xfrm>
            <a:off x="609480" y="2209680"/>
            <a:ext cx="8077320" cy="2667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отвечает на падежны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пределения обычно бывают выражены именами прилагате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и разборе предложения определения подчёркиваются волнистой лин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http://www.segment.ru/data/images/1post.jpg"/>
          <p:cNvPicPr/>
          <p:nvPr/>
        </p:nvPicPr>
        <p:blipFill>
          <a:blip r:embed="rId1"/>
          <a:stretch/>
        </p:blipFill>
        <p:spPr>
          <a:xfrm>
            <a:off x="7653240" y="5029200"/>
            <a:ext cx="11667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Скругленный прямоугольник 8"/>
          <p:cNvSpPr/>
          <p:nvPr/>
        </p:nvSpPr>
        <p:spPr>
          <a:xfrm>
            <a:off x="2971800" y="502920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990720" y="304920"/>
            <a:ext cx="7543800" cy="609480"/>
          </a:xfrm>
          <a:prstGeom prst="roundRect">
            <a:avLst>
              <a:gd name="adj" fmla="val 1041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яем ум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685800" y="1295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шите и графически обозначьте 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/>
          <p:cNvSpPr/>
          <p:nvPr/>
        </p:nvSpPr>
        <p:spPr>
          <a:xfrm>
            <a:off x="685800" y="1905120"/>
            <a:ext cx="8077320" cy="2819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дней осенью поля опять зелене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Снежные горы похожи на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д долиной спустились тёмные 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www.segment.ru/data/images/1post.jpg"/>
          <p:cNvPicPr/>
          <p:nvPr/>
        </p:nvPicPr>
        <p:blipFill>
          <a:blip r:embed="rId1"/>
          <a:stretch/>
        </p:blipFill>
        <p:spPr>
          <a:xfrm>
            <a:off x="7620120" y="5029200"/>
            <a:ext cx="1166760" cy="163188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5"/>
          <p:cNvSpPr/>
          <p:nvPr/>
        </p:nvSpPr>
        <p:spPr>
          <a:xfrm>
            <a:off x="685800" y="1905120"/>
            <a:ext cx="8077320" cy="2819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дней осенью поля опять зелене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Снежные горы похожи на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д долиной спустились тёмные 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4038480" y="2133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>
            <a:off x="4038480" y="21337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895480" y="205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3962520" y="2057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 flipH="1">
            <a:off x="3885840" y="2819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3886200" y="2819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 flipH="1">
            <a:off x="73148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9"/>
          <p:cNvSpPr/>
          <p:nvPr/>
        </p:nvSpPr>
        <p:spPr>
          <a:xfrm>
            <a:off x="731520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2743200" y="289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617220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3809880" y="2895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7238880" y="35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>
            <a:off x="27432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61722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8"/>
          <p:cNvSpPr/>
          <p:nvPr/>
        </p:nvSpPr>
        <p:spPr>
          <a:xfrm>
            <a:off x="1066680" y="5943600"/>
            <a:ext cx="6477120" cy="533520"/>
          </a:xfrm>
          <a:prstGeom prst="roundRect">
            <a:avLst>
              <a:gd name="adj" fmla="val 16667"/>
            </a:avLst>
          </a:prstGeom>
          <a:solidFill>
            <a:srgbClr val="e8aa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 сделал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ви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лод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057320" y="727200"/>
            <a:ext cx="78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533520" y="1905120"/>
            <a:ext cx="6324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исать в тетради  план текста (об определении), уметь рассказать по пла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Выполнить проверочную работу на сайте Я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7:54:58Z</dcterms:created>
  <dc:creator>Нина</dc:creator>
  <dc:description/>
  <dc:language>en-US</dc:language>
  <cp:lastModifiedBy>Экзамен</cp:lastModifiedBy>
  <dcterms:modified xsi:type="dcterms:W3CDTF">2022-05-04T15:35:5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