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0CDB-7F17-4FDF-98FA-2F0F9AEC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CC59-D3CD-47AD-AFD6-17A1B752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DD62-06B8-4E8F-B0A7-7DE5A6F7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3370-8862-4422-8D8A-C42BA6B3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D1FF-34AA-4719-AFAD-66D358DE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7914-FFEE-44C9-8BAD-FDA72B61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050E-8FC3-4D77-A39B-CF860ED5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31F1-D633-4FF7-9FB3-62279E77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53CB-9C7F-407E-BBD5-B494E0C3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63A0-D288-4142-AD9A-20734947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C665-F5C0-4960-9764-A0C8735C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C746-C22F-4D95-A26F-B7771982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7DAC-2B1A-4408-9FE0-510DA4C88F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торостепенные члены предложения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ение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ИЙ ЯЗЫК, 5-й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sova-2"/>
          <p:cNvPicPr/>
          <p:nvPr/>
        </p:nvPicPr>
        <p:blipFill>
          <a:blip r:embed="rId1"/>
          <a:stretch/>
        </p:blipFill>
        <p:spPr>
          <a:xfrm>
            <a:off x="595440" y="4191120"/>
            <a:ext cx="2130120" cy="24066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91440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0"/>
          <p:cNvSpPr/>
          <p:nvPr/>
        </p:nvSpPr>
        <p:spPr>
          <a:xfrm>
            <a:off x="609480" y="304920"/>
            <a:ext cx="7925040" cy="609480"/>
          </a:xfrm>
          <a:prstGeom prst="roundRect">
            <a:avLst>
              <a:gd name="adj" fmla="val 1041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поминаем то, что зн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304920" y="114300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предл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685800" y="1752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Чернеют прибрежные и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Картинка 4 из 559"/>
          <p:cNvPicPr/>
          <p:nvPr/>
        </p:nvPicPr>
        <p:blipFill>
          <a:blip r:embed="rId1"/>
          <a:stretch/>
        </p:blipFill>
        <p:spPr>
          <a:xfrm>
            <a:off x="6248520" y="1143000"/>
            <a:ext cx="2590560" cy="1709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11"/>
          <p:cNvSpPr/>
          <p:nvPr/>
        </p:nvSpPr>
        <p:spPr>
          <a:xfrm>
            <a:off x="304920" y="23623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главные члены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304920" y="30481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вьте вопрос к второстепенному члену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1066680" y="36576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Ивы (какие?) прибреж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380880" y="42670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обозначает этот второстепенный член предложения? Как бы вы его подчеркну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1159920" y="5562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ируйте тему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>
            <a:hlinkClick r:id="" action="ppaction://hlinkshowjump?jump=nextslide"/>
          </p:cNvPr>
          <p:cNvSpPr/>
          <p:nvPr/>
        </p:nvSpPr>
        <p:spPr>
          <a:xfrm>
            <a:off x="662940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4267080" y="2133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>
            <a:off x="1143000" y="2133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114300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Блок-схема: альтернативный процесс 8"/>
          <p:cNvSpPr/>
          <p:nvPr/>
        </p:nvSpPr>
        <p:spPr>
          <a:xfrm>
            <a:off x="2438280" y="3886200"/>
            <a:ext cx="2133720" cy="45720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6"/>
          <p:cNvSpPr/>
          <p:nvPr/>
        </p:nvSpPr>
        <p:spPr>
          <a:xfrm>
            <a:off x="457200" y="3733920"/>
            <a:ext cx="8077320" cy="1904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второстепенный член предложения, который обознача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знак предме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отвечает на вопрос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й? ч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609480" y="4572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пределение – второстепенный член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609480" y="160020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йте текст упр. 237.     Поработайте в парах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6477120" y="1523880"/>
            <a:ext cx="2361960" cy="188280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457200" y="2514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ьте на вопросы упражнения. Сформулируйте признаки о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838080" y="5943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 свой вывод с текстом определения (п. 26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914400" y="609480"/>
            <a:ext cx="7848720" cy="65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оизведите замену определений,выраженных прилагательными, определениями,выраженными существительными и наоборо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ыльцо школы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ловая вет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 мор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ставьте предложения с одной из пар. Обозначьте графически опред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Блок-схема: альтернативный процесс 6"/>
          <p:cNvSpPr/>
          <p:nvPr/>
        </p:nvSpPr>
        <p:spPr>
          <a:xfrm>
            <a:off x="3124080" y="4572000"/>
            <a:ext cx="2133720" cy="45720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304920" y="3049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оставьте алгоритм нахождения опреде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предлож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лок-схема: альтернативный процесс 4"/>
          <p:cNvSpPr/>
          <p:nvPr/>
        </p:nvSpPr>
        <p:spPr>
          <a:xfrm>
            <a:off x="228600" y="1295280"/>
            <a:ext cx="8610480" cy="2895840"/>
          </a:xfrm>
          <a:prstGeom prst="flowChartAlternateProcess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Найдите в предложении слова, которые обозначают предмет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Блок-схема: альтернативный процесс 5"/>
          <p:cNvSpPr/>
          <p:nvPr/>
        </p:nvSpPr>
        <p:spPr>
          <a:xfrm>
            <a:off x="152280" y="1295280"/>
            <a:ext cx="8763120" cy="3733920"/>
          </a:xfrm>
          <a:prstGeom prst="flowChartAlternateProcess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Найдите в предложении слова, которые обозначают пред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ставьте от них вопросы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какой? какая? какие? чей?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Определите, есть ли в предложении слова, которые отвечают на эти вопросы и обозначают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признак пред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: значит, эт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преде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Картинка 94 из 164038"/>
          <p:cNvPicPr/>
          <p:nvPr/>
        </p:nvPicPr>
        <p:blipFill>
          <a:blip r:embed="rId1"/>
          <a:stretch/>
        </p:blipFill>
        <p:spPr>
          <a:xfrm>
            <a:off x="304920" y="5105520"/>
            <a:ext cx="18288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Блок-схема: альтернативный процесс 9"/>
          <p:cNvSpPr/>
          <p:nvPr/>
        </p:nvSpPr>
        <p:spPr>
          <a:xfrm>
            <a:off x="3200400" y="5105520"/>
            <a:ext cx="2133720" cy="45720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8"/>
          <p:cNvSpPr/>
          <p:nvPr/>
        </p:nvSpPr>
        <p:spPr>
          <a:xfrm>
            <a:off x="3200400" y="5105520"/>
            <a:ext cx="21337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,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990720" y="304920"/>
            <a:ext cx="7543800" cy="609480"/>
          </a:xfrm>
          <a:prstGeom prst="roundRect">
            <a:avLst>
              <a:gd name="adj" fmla="val 1041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685800" y="1295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е утверждения (запишите их номер в тетрад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5"/>
          <p:cNvSpPr/>
          <p:nvPr/>
        </p:nvSpPr>
        <p:spPr>
          <a:xfrm>
            <a:off x="685800" y="2209680"/>
            <a:ext cx="8001000" cy="2667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отвечает на падежные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я обычно бывают выражены именами прилагате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разборе предложения определения подчеркиваются волнистой лин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7"/>
          <p:cNvSpPr/>
          <p:nvPr/>
        </p:nvSpPr>
        <p:spPr>
          <a:xfrm>
            <a:off x="609480" y="2209680"/>
            <a:ext cx="8077320" cy="2667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отвечает на падежные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Определения обычно бывают выражены именами прилагате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и разборе предложения определения подчёркиваются волнистой лин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http://www.segment.ru/data/images/1post.jpg"/>
          <p:cNvPicPr/>
          <p:nvPr/>
        </p:nvPicPr>
        <p:blipFill>
          <a:blip r:embed="rId1"/>
          <a:stretch/>
        </p:blipFill>
        <p:spPr>
          <a:xfrm>
            <a:off x="7653240" y="5029200"/>
            <a:ext cx="116676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Скругленный прямоугольник 8"/>
          <p:cNvSpPr/>
          <p:nvPr/>
        </p:nvSpPr>
        <p:spPr>
          <a:xfrm>
            <a:off x="2971800" y="5029200"/>
            <a:ext cx="30481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990720" y="304920"/>
            <a:ext cx="7543800" cy="609480"/>
          </a:xfrm>
          <a:prstGeom prst="roundRect">
            <a:avLst>
              <a:gd name="adj" fmla="val 1041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веряем ум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685800" y="1295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шите и графически обозначьте о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5"/>
          <p:cNvSpPr/>
          <p:nvPr/>
        </p:nvSpPr>
        <p:spPr>
          <a:xfrm>
            <a:off x="685800" y="1905120"/>
            <a:ext cx="8077320" cy="2819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здней осенью поля опять зелене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Снежные горы похожи на вол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Над долиной спустились тёмные ту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http://www.segment.ru/data/images/1post.jpg"/>
          <p:cNvPicPr/>
          <p:nvPr/>
        </p:nvPicPr>
        <p:blipFill>
          <a:blip r:embed="rId1"/>
          <a:stretch/>
        </p:blipFill>
        <p:spPr>
          <a:xfrm>
            <a:off x="7620120" y="5029200"/>
            <a:ext cx="1166760" cy="1631880"/>
          </a:xfrm>
          <a:prstGeom prst="rect">
            <a:avLst/>
          </a:prstGeom>
          <a:ln w="0">
            <a:noFill/>
          </a:ln>
        </p:spPr>
      </p:pic>
      <p:sp>
        <p:nvSpPr>
          <p:cNvPr id="83" name="Скругленный прямоугольник 5"/>
          <p:cNvSpPr/>
          <p:nvPr/>
        </p:nvSpPr>
        <p:spPr>
          <a:xfrm>
            <a:off x="685800" y="1905120"/>
            <a:ext cx="8077320" cy="2819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здней осенью поля опять зелене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~~~~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Снежные горы похожи на вол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~~~~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Над долиной спустились тёмные ту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~~~~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4038480" y="21337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 flipH="1">
            <a:off x="4038480" y="21337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2895480" y="205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3962520" y="2057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 flipH="1">
            <a:off x="3885840" y="28195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3886200" y="28195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8"/>
          <p:cNvSpPr/>
          <p:nvPr/>
        </p:nvSpPr>
        <p:spPr>
          <a:xfrm flipH="1">
            <a:off x="73148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9"/>
          <p:cNvSpPr/>
          <p:nvPr/>
        </p:nvSpPr>
        <p:spPr>
          <a:xfrm>
            <a:off x="731520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0"/>
          <p:cNvSpPr/>
          <p:nvPr/>
        </p:nvSpPr>
        <p:spPr>
          <a:xfrm>
            <a:off x="2743200" y="2895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1"/>
          <p:cNvSpPr/>
          <p:nvPr/>
        </p:nvSpPr>
        <p:spPr>
          <a:xfrm>
            <a:off x="617220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2"/>
          <p:cNvSpPr/>
          <p:nvPr/>
        </p:nvSpPr>
        <p:spPr>
          <a:xfrm>
            <a:off x="3809880" y="2895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7238880" y="3581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4"/>
          <p:cNvSpPr/>
          <p:nvPr/>
        </p:nvSpPr>
        <p:spPr>
          <a:xfrm>
            <a:off x="27432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617220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8"/>
          <p:cNvSpPr/>
          <p:nvPr/>
        </p:nvSpPr>
        <p:spPr>
          <a:xfrm>
            <a:off x="1066680" y="5943600"/>
            <a:ext cx="6477120" cy="533520"/>
          </a:xfrm>
          <a:prstGeom prst="roundRect">
            <a:avLst>
              <a:gd name="adj" fmla="val 16667"/>
            </a:avLst>
          </a:prstGeom>
          <a:solidFill>
            <a:srgbClr val="e8aa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 сделал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авиль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олодц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057320" y="727200"/>
            <a:ext cx="782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533520" y="1905120"/>
            <a:ext cx="6324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писать в тетради  план текста (об определении), уметь рассказать по план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Выполнить проверочную работу на сайте ЯКла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1T17:54:58Z</dcterms:created>
  <dc:creator>Нина</dc:creator>
  <dc:description/>
  <dc:language>en-US</dc:language>
  <cp:lastModifiedBy>Экзамен</cp:lastModifiedBy>
  <dcterms:modified xsi:type="dcterms:W3CDTF">2022-05-04T15:35:5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