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20.png" ContentType="image/png"/>
  <Override PartName="/ppt/media/image34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applause.wav" ContentType="audio/x-wav"/>
  <Override PartName="/ppt/media/image5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1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2DBC-72C7-4EFC-965E-0BBE8285D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1EC2-7026-49B4-AB63-8FBBA20BC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C27-D56D-4CF2-AF13-C8175671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FBE-9D97-4E53-94A1-093CA01B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B49-A275-4267-8F6A-C7A6E58E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630-02E9-498B-A60B-9907F114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799-AD76-47FB-87DD-DFDE6E4F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8AB-9039-469D-A826-F3B1C716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994-7D8D-4ECE-A354-93FB79A6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53B-4EC9-4398-8F1A-153EA44F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A65-1FEE-4FB8-A803-99AD27E6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678-17E5-45E3-92A6-8B3BE5F1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CB9-AE68-44DF-8974-C53BFBB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4B9-C1F9-48D0-9A06-D75435B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8082-9FCD-46A0-8ED5-04BE4454A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871560" y="755640"/>
            <a:ext cx="7596000" cy="29624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3"/>
          <a:stretch/>
        </p:blipFill>
        <p:spPr>
          <a:xfrm>
            <a:off x="1298520" y="798480"/>
            <a:ext cx="6765840" cy="387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Neposedi\Desktop\БУСЫ\3.png"/>
          <p:cNvPicPr/>
          <p:nvPr/>
        </p:nvPicPr>
        <p:blipFill>
          <a:blip r:embed="rId4"/>
          <a:stretch/>
        </p:blipFill>
        <p:spPr>
          <a:xfrm>
            <a:off x="28440" y="2276640"/>
            <a:ext cx="3175200" cy="4767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5"/>
          <a:stretch/>
        </p:blipFill>
        <p:spPr>
          <a:xfrm>
            <a:off x="2670120" y="3475080"/>
            <a:ext cx="45165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Neposedi\Desktop\БУСЫ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639720" y="24300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Цель игры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автоматизация звука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38040" y="119700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Ход игры: </a:t>
            </a:r>
            <a:r>
              <a:rPr b="0" i="1" lang="ru-RU" sz="2400" spc="-1" strike="noStrike">
                <a:solidFill>
                  <a:srgbClr val="ff0000"/>
                </a:solidFill>
                <a:latin typeface="Bookman Old Style"/>
              </a:rPr>
              <a:t>(слайд № 4 с изображением дево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бенку предлагается игровая ситуация: «Маша порвала бусы и они рассыпались. Помоги Маше собрать бусы на нитк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82680" y="2459160"/>
            <a:ext cx="859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бенок, «нанизывая» бусы на нитку, проговаривает название картинок, изображенных на бусинках. После того как все бусы будут собраны на нитку, попросите ребенка еще раз назвать все карти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гра проходит под непосредственным руководством взросл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4280" y="4292640"/>
            <a:ext cx="8505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гра-тренажер «Разноцветные бусы» использует макрос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Drang and Drop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«захватить» картинку, нужно щелкнуть по объекту левой  кнопкой мыши, не удерживать, затем переместить объект в заданное место и еще раз щелкнуть левой кнопкой мыши. Объект будет зафиксирован в этом месте. После окончания игры, при закрытии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не сохраняйте из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79280" y="260280"/>
            <a:ext cx="8713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КАК ЗАПУСТИТЬ МАКРОС макрос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Drang and Drop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акрос создан программистом из Германии Хансом Хофманом, русифицированную версию создал  А.Н. Комаров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еред запуском тренажера обязательно следует включить внешнее содержимое. Как его включить показано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D:\МОИ ПАПКИ\МОЕ\АТТЕСТАЦИЯ 17 год\Скрины\Как включить внешнее содержимое.jpg"/>
          <p:cNvPicPr/>
          <p:nvPr/>
        </p:nvPicPr>
        <p:blipFill>
          <a:blip r:embed="rId2"/>
          <a:stretch/>
        </p:blipFill>
        <p:spPr>
          <a:xfrm>
            <a:off x="792000" y="177336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C:\Users\Neposedi\Desktop\БУСЫ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C:\Users\Neposedi\Desktop\БУСЫ\0091.png"/>
          <p:cNvPicPr/>
          <p:nvPr/>
        </p:nvPicPr>
        <p:blipFill>
          <a:blip r:embed="rId2"/>
          <a:stretch/>
        </p:blipFill>
        <p:spPr>
          <a:xfrm>
            <a:off x="3562200" y="4292640"/>
            <a:ext cx="2048040" cy="197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C:\Users\Neposedi\Desktop\БУСЫ\0094.png"/>
          <p:cNvPicPr/>
          <p:nvPr/>
        </p:nvPicPr>
        <p:blipFill>
          <a:blip r:embed="rId3"/>
          <a:stretch/>
        </p:blipFill>
        <p:spPr>
          <a:xfrm>
            <a:off x="2124000" y="469728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C:\Users\Neposedi\Desktop\БУСЫ\0122.png"/>
          <p:cNvPicPr/>
          <p:nvPr/>
        </p:nvPicPr>
        <p:blipFill>
          <a:blip r:embed="rId4"/>
          <a:stretch/>
        </p:blipFill>
        <p:spPr>
          <a:xfrm>
            <a:off x="250920" y="460044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C:\Users\Neposedi\Desktop\БУСЫ\0138.png"/>
          <p:cNvPicPr/>
          <p:nvPr/>
        </p:nvPicPr>
        <p:blipFill>
          <a:blip r:embed="rId5"/>
          <a:stretch/>
        </p:blipFill>
        <p:spPr>
          <a:xfrm>
            <a:off x="4427640" y="458640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C:\Users\Neposedi\Desktop\БУСЫ\0173.png"/>
          <p:cNvPicPr/>
          <p:nvPr/>
        </p:nvPicPr>
        <p:blipFill>
          <a:blip r:embed="rId6"/>
          <a:stretch/>
        </p:blipFill>
        <p:spPr>
          <a:xfrm>
            <a:off x="1100160" y="4879800"/>
            <a:ext cx="204768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C:\Users\Neposedi\Desktop\БУСЫ\0174.png"/>
          <p:cNvPicPr/>
          <p:nvPr/>
        </p:nvPicPr>
        <p:blipFill>
          <a:blip r:embed="rId2"/>
          <a:stretch/>
        </p:blipFill>
        <p:spPr>
          <a:xfrm>
            <a:off x="179280" y="4668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C:\Users\Neposedi\Desktop\БУСЫ\0018.png"/>
          <p:cNvPicPr/>
          <p:nvPr/>
        </p:nvPicPr>
        <p:blipFill>
          <a:blip r:embed="rId3"/>
          <a:stretch/>
        </p:blipFill>
        <p:spPr>
          <a:xfrm>
            <a:off x="2340000" y="464184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C:\Users\Neposedi\Desktop\БУСЫ\0020.png"/>
          <p:cNvPicPr/>
          <p:nvPr/>
        </p:nvPicPr>
        <p:blipFill>
          <a:blip r:embed="rId4"/>
          <a:stretch/>
        </p:blipFill>
        <p:spPr>
          <a:xfrm>
            <a:off x="4859280" y="4641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C:\Users\Neposedi\Desktop\БУСЫ\0179.png"/>
          <p:cNvPicPr/>
          <p:nvPr/>
        </p:nvPicPr>
        <p:blipFill>
          <a:blip r:embed="rId5"/>
          <a:stretch/>
        </p:blipFill>
        <p:spPr>
          <a:xfrm>
            <a:off x="3835440" y="44226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C:\Users\Neposedi\Desktop\БУСЫ\0175.png"/>
          <p:cNvPicPr/>
          <p:nvPr/>
        </p:nvPicPr>
        <p:blipFill>
          <a:blip r:embed="rId6"/>
          <a:stretch/>
        </p:blipFill>
        <p:spPr>
          <a:xfrm>
            <a:off x="1476360" y="4475160"/>
            <a:ext cx="204804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C:\Users\Neposedi\Desktop\БУСЫ\0176.png"/>
          <p:cNvPicPr/>
          <p:nvPr/>
        </p:nvPicPr>
        <p:blipFill>
          <a:blip r:embed="rId2"/>
          <a:stretch/>
        </p:blipFill>
        <p:spPr>
          <a:xfrm>
            <a:off x="2987640" y="362412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C:\Users\Neposedi\Desktop\БУСЫ\0177.png"/>
          <p:cNvPicPr/>
          <p:nvPr/>
        </p:nvPicPr>
        <p:blipFill>
          <a:blip r:embed="rId3"/>
          <a:stretch/>
        </p:blipFill>
        <p:spPr>
          <a:xfrm>
            <a:off x="2124000" y="487980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:\Users\Neposedi\Desktop\БУСЫ\0178.png"/>
          <p:cNvPicPr/>
          <p:nvPr/>
        </p:nvPicPr>
        <p:blipFill>
          <a:blip r:embed="rId4"/>
          <a:stretch/>
        </p:blipFill>
        <p:spPr>
          <a:xfrm>
            <a:off x="179280" y="4641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C:\Users\Neposedi\Desktop\БУСЫ\0182.png"/>
          <p:cNvPicPr/>
          <p:nvPr/>
        </p:nvPicPr>
        <p:blipFill>
          <a:blip r:embed="rId5"/>
          <a:stretch/>
        </p:blipFill>
        <p:spPr>
          <a:xfrm>
            <a:off x="4172040" y="48798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C:\Users\Neposedi\Desktop\БУСЫ\0184.png"/>
          <p:cNvPicPr/>
          <p:nvPr/>
        </p:nvPicPr>
        <p:blipFill>
          <a:blip r:embed="rId6"/>
          <a:stretch/>
        </p:blipFill>
        <p:spPr>
          <a:xfrm>
            <a:off x="1203480" y="4303800"/>
            <a:ext cx="204768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:\Users\Neposedi\Desktop\БУСЫ\0181.png"/>
          <p:cNvPicPr/>
          <p:nvPr/>
        </p:nvPicPr>
        <p:blipFill>
          <a:blip r:embed="rId2"/>
          <a:stretch/>
        </p:blipFill>
        <p:spPr>
          <a:xfrm>
            <a:off x="1192320" y="48798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C:\Users\Neposedi\Desktop\БУСЫ\0192.png"/>
          <p:cNvPicPr/>
          <p:nvPr/>
        </p:nvPicPr>
        <p:blipFill>
          <a:blip r:embed="rId3"/>
          <a:stretch/>
        </p:blipFill>
        <p:spPr>
          <a:xfrm>
            <a:off x="28440" y="4668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C:\Users\Neposedi\Desktop\БУСЫ\0187.png"/>
          <p:cNvPicPr/>
          <p:nvPr/>
        </p:nvPicPr>
        <p:blipFill>
          <a:blip r:embed="rId4"/>
          <a:stretch/>
        </p:blipFill>
        <p:spPr>
          <a:xfrm>
            <a:off x="28440" y="4668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C:\Users\Neposedi\Desktop\БУСЫ\0188.png"/>
          <p:cNvPicPr/>
          <p:nvPr/>
        </p:nvPicPr>
        <p:blipFill>
          <a:blip r:embed="rId5"/>
          <a:stretch/>
        </p:blipFill>
        <p:spPr>
          <a:xfrm>
            <a:off x="3348000" y="487980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C:\Users\Neposedi\Desktop\БУСЫ\0191.png"/>
          <p:cNvPicPr/>
          <p:nvPr/>
        </p:nvPicPr>
        <p:blipFill>
          <a:blip r:embed="rId6"/>
          <a:stretch/>
        </p:blipFill>
        <p:spPr>
          <a:xfrm>
            <a:off x="2195640" y="466884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C:\Users\Neposedi\Desktop\БУСЫ\0189.png"/>
          <p:cNvPicPr/>
          <p:nvPr/>
        </p:nvPicPr>
        <p:blipFill>
          <a:blip r:embed="rId7"/>
          <a:stretch/>
        </p:blipFill>
        <p:spPr>
          <a:xfrm>
            <a:off x="4788000" y="4809960"/>
            <a:ext cx="204768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C:\Users\Neposedi\Desktop\БУСЫ\0197.png"/>
          <p:cNvPicPr/>
          <p:nvPr/>
        </p:nvPicPr>
        <p:blipFill>
          <a:blip r:embed="rId2"/>
          <a:stretch/>
        </p:blipFill>
        <p:spPr>
          <a:xfrm>
            <a:off x="4067280" y="47052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Users\Neposedi\Desktop\БУСЫ\0198.png"/>
          <p:cNvPicPr/>
          <p:nvPr/>
        </p:nvPicPr>
        <p:blipFill>
          <a:blip r:embed="rId3"/>
          <a:stretch/>
        </p:blipFill>
        <p:spPr>
          <a:xfrm>
            <a:off x="1235160" y="484992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C:\Users\Neposedi\Desktop\БУСЫ\0193.png"/>
          <p:cNvPicPr/>
          <p:nvPr/>
        </p:nvPicPr>
        <p:blipFill>
          <a:blip r:embed="rId4"/>
          <a:stretch/>
        </p:blipFill>
        <p:spPr>
          <a:xfrm>
            <a:off x="2411280" y="470520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:\Users\Neposedi\Desktop\БУСЫ\0194.png"/>
          <p:cNvPicPr/>
          <p:nvPr/>
        </p:nvPicPr>
        <p:blipFill>
          <a:blip r:embed="rId5"/>
          <a:stretch/>
        </p:blipFill>
        <p:spPr>
          <a:xfrm>
            <a:off x="-15840" y="483408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C:\Users\Neposedi\Desktop\БУСЫ\0195.png"/>
          <p:cNvPicPr/>
          <p:nvPr/>
        </p:nvPicPr>
        <p:blipFill>
          <a:blip r:embed="rId6"/>
          <a:stretch/>
        </p:blipFill>
        <p:spPr>
          <a:xfrm>
            <a:off x="5091120" y="4834080"/>
            <a:ext cx="2048040" cy="197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acer</cp:lastModifiedBy>
  <dcterms:modified xsi:type="dcterms:W3CDTF">2021-10-11T13:06:27Z</dcterms:modified>
  <cp:revision>66</cp:revision>
  <dc:subject/>
  <dc:title>Слайд 1</dc:title>
</cp:coreProperties>
</file>