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20.png" ContentType="image/png"/>
  <Override PartName="/ppt/media/image34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30.png" ContentType="image/png"/>
  <Override PartName="/ppt/media/applause.wav" ContentType="audio/x-wav"/>
  <Override PartName="/ppt/media/image5.png" ContentType="image/png"/>
  <Override PartName="/ppt/media/image7.jpeg" ContentType="image/jpeg"/>
  <Override PartName="/ppt/media/image28.png" ContentType="image/png"/>
  <Override PartName="/ppt/media/image31.png" ContentType="image/png"/>
  <Override PartName="/ppt/media/image1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4DBC-5B42-4FDD-AE34-9CAEF54559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A5C9-DD02-43BD-8EC4-80FA204BDA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B610-5DB9-45B2-9A23-82897B2D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D57-7263-4EB7-9345-8A667A79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8F76-CFD9-4356-9917-03FB5EBF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12C-B754-49DA-A5EF-4B3B76C3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504-13EC-49AF-877C-BB1CD695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C9C-25EF-44CF-8C49-3D4D32DA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A48-187F-4591-966A-7FD5B352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FD8-E7B8-4A7F-AFEB-BC062275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A66-1FE0-4C97-94E3-2C654E38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6FE-B487-4E4A-90EF-3DC2A375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114-B886-429C-9DE6-F31D3535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8DD-1889-469B-B4FA-A36E7C50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D4A6-A1DD-435F-AF35-56D8D543B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1" descr=""/>
          <p:cNvPicPr/>
          <p:nvPr/>
        </p:nvPicPr>
        <p:blipFill>
          <a:blip r:embed="rId2"/>
          <a:stretch/>
        </p:blipFill>
        <p:spPr>
          <a:xfrm>
            <a:off x="871560" y="755640"/>
            <a:ext cx="7596000" cy="29624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2" descr=""/>
          <p:cNvPicPr/>
          <p:nvPr/>
        </p:nvPicPr>
        <p:blipFill>
          <a:blip r:embed="rId3"/>
          <a:stretch/>
        </p:blipFill>
        <p:spPr>
          <a:xfrm>
            <a:off x="1298520" y="798480"/>
            <a:ext cx="6765840" cy="387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Neposedi\Desktop\БУСЫ\3.png"/>
          <p:cNvPicPr/>
          <p:nvPr/>
        </p:nvPicPr>
        <p:blipFill>
          <a:blip r:embed="rId4"/>
          <a:stretch/>
        </p:blipFill>
        <p:spPr>
          <a:xfrm>
            <a:off x="28440" y="2276640"/>
            <a:ext cx="3175200" cy="47671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5"/>
          <a:stretch/>
        </p:blipFill>
        <p:spPr>
          <a:xfrm>
            <a:off x="2670120" y="3475080"/>
            <a:ext cx="45165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Users\Neposedi\Desktop\БУСЫ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639720" y="243000"/>
            <a:ext cx="799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Bookman Old Style"/>
              </a:rPr>
              <a:t>Цель игры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автоматизация звука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[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Р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в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38040" y="1197000"/>
            <a:ext cx="8642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Bookman Old Style"/>
              </a:rPr>
              <a:t>Ход игры: </a:t>
            </a:r>
            <a:r>
              <a:rPr b="0" i="1" lang="ru-RU" sz="2400" spc="-1" strike="noStrike">
                <a:solidFill>
                  <a:srgbClr val="ff0000"/>
                </a:solidFill>
                <a:latin typeface="Bookman Old Style"/>
              </a:rPr>
              <a:t>(слайд № 4 с изображением девоч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ебенку предлагается игровая ситуация: «Маша порвала бусы и они рассыпались. Помоги Маше собрать бусы на нитк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382680" y="2459160"/>
            <a:ext cx="859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Ребенок, «нанизывая» бусы на нитку, проговаривает название картинок, изображенных на бусинках. После того как все бусы будут собраны на нитку, попросите ребенка еще раз назвать все картин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Игра проходит под непосредственным руководством взросл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14280" y="4292640"/>
            <a:ext cx="8505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гра-тренажер «Разноцветные бусы» использует макрос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Drang and Drop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«захватить» картинку, нужно щелкнуть по объекту левой  кнопкой мыши, не удерживать, затем переместить объект в заданное место и еще раз щелкнуть левой кнопкой мыши. Объект будет зафиксирован в этом месте. После окончания игры, при закрытии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не сохраняйте изме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79280" y="260280"/>
            <a:ext cx="8713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Bookman Old Style"/>
              </a:rPr>
              <a:t>КАК ЗАПУСТИТЬ МАКРОС макрос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Bookman Old Style"/>
              </a:rPr>
              <a:t>Drang and Drop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Bookman Old Styl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Макрос создан программистом из Германии Хансом Хофманом, русифицированную версию создал  А.Н. Комаров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еред запуском тренажера обязательно следует включить внешнее содержимое. Как его включить показано на рису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D:\МОИ ПАПКИ\МОЕ\АТТЕСТАЦИЯ 17 год\Скрины\Как включить внешнее содержимое.jpg"/>
          <p:cNvPicPr/>
          <p:nvPr/>
        </p:nvPicPr>
        <p:blipFill>
          <a:blip r:embed="rId2"/>
          <a:stretch/>
        </p:blipFill>
        <p:spPr>
          <a:xfrm>
            <a:off x="792000" y="1773360"/>
            <a:ext cx="784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C:\Users\Neposedi\Desktop\БУСЫ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5" descr="C:\Users\Neposedi\Desktop\БУСЫ\0091.png"/>
          <p:cNvPicPr/>
          <p:nvPr/>
        </p:nvPicPr>
        <p:blipFill>
          <a:blip r:embed="rId2"/>
          <a:stretch/>
        </p:blipFill>
        <p:spPr>
          <a:xfrm>
            <a:off x="3562200" y="4292640"/>
            <a:ext cx="2048040" cy="197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C:\Users\Neposedi\Desktop\БУСЫ\0094.png"/>
          <p:cNvPicPr/>
          <p:nvPr/>
        </p:nvPicPr>
        <p:blipFill>
          <a:blip r:embed="rId3"/>
          <a:stretch/>
        </p:blipFill>
        <p:spPr>
          <a:xfrm>
            <a:off x="2124000" y="469728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C:\Users\Neposedi\Desktop\БУСЫ\0122.png"/>
          <p:cNvPicPr/>
          <p:nvPr/>
        </p:nvPicPr>
        <p:blipFill>
          <a:blip r:embed="rId4"/>
          <a:stretch/>
        </p:blipFill>
        <p:spPr>
          <a:xfrm>
            <a:off x="250920" y="460044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C:\Users\Neposedi\Desktop\БУСЫ\0138.png"/>
          <p:cNvPicPr/>
          <p:nvPr/>
        </p:nvPicPr>
        <p:blipFill>
          <a:blip r:embed="rId5"/>
          <a:stretch/>
        </p:blipFill>
        <p:spPr>
          <a:xfrm>
            <a:off x="4427640" y="4586400"/>
            <a:ext cx="2047680" cy="1977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C:\Users\Neposedi\Desktop\БУСЫ\0173.png"/>
          <p:cNvPicPr/>
          <p:nvPr/>
        </p:nvPicPr>
        <p:blipFill>
          <a:blip r:embed="rId6"/>
          <a:stretch/>
        </p:blipFill>
        <p:spPr>
          <a:xfrm>
            <a:off x="1100160" y="4879800"/>
            <a:ext cx="204768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C:\Users\Neposedi\Desktop\БУСЫ\0174.png"/>
          <p:cNvPicPr/>
          <p:nvPr/>
        </p:nvPicPr>
        <p:blipFill>
          <a:blip r:embed="rId2"/>
          <a:stretch/>
        </p:blipFill>
        <p:spPr>
          <a:xfrm>
            <a:off x="179280" y="466884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C:\Users\Neposedi\Desktop\БУСЫ\0018.png"/>
          <p:cNvPicPr/>
          <p:nvPr/>
        </p:nvPicPr>
        <p:blipFill>
          <a:blip r:embed="rId3"/>
          <a:stretch/>
        </p:blipFill>
        <p:spPr>
          <a:xfrm>
            <a:off x="2340000" y="464184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C:\Users\Neposedi\Desktop\БУСЫ\0020.png"/>
          <p:cNvPicPr/>
          <p:nvPr/>
        </p:nvPicPr>
        <p:blipFill>
          <a:blip r:embed="rId4"/>
          <a:stretch/>
        </p:blipFill>
        <p:spPr>
          <a:xfrm>
            <a:off x="4859280" y="464184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C:\Users\Neposedi\Desktop\БУСЫ\0179.png"/>
          <p:cNvPicPr/>
          <p:nvPr/>
        </p:nvPicPr>
        <p:blipFill>
          <a:blip r:embed="rId5"/>
          <a:stretch/>
        </p:blipFill>
        <p:spPr>
          <a:xfrm>
            <a:off x="3835440" y="442260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C:\Users\Neposedi\Desktop\БУСЫ\0175.png"/>
          <p:cNvPicPr/>
          <p:nvPr/>
        </p:nvPicPr>
        <p:blipFill>
          <a:blip r:embed="rId6"/>
          <a:stretch/>
        </p:blipFill>
        <p:spPr>
          <a:xfrm>
            <a:off x="1476360" y="4475160"/>
            <a:ext cx="204804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C:\Users\Neposedi\Desktop\БУСЫ\0176.png"/>
          <p:cNvPicPr/>
          <p:nvPr/>
        </p:nvPicPr>
        <p:blipFill>
          <a:blip r:embed="rId2"/>
          <a:stretch/>
        </p:blipFill>
        <p:spPr>
          <a:xfrm>
            <a:off x="2987640" y="362412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C:\Users\Neposedi\Desktop\БУСЫ\0177.png"/>
          <p:cNvPicPr/>
          <p:nvPr/>
        </p:nvPicPr>
        <p:blipFill>
          <a:blip r:embed="rId3"/>
          <a:stretch/>
        </p:blipFill>
        <p:spPr>
          <a:xfrm>
            <a:off x="2124000" y="487980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C:\Users\Neposedi\Desktop\БУСЫ\0178.png"/>
          <p:cNvPicPr/>
          <p:nvPr/>
        </p:nvPicPr>
        <p:blipFill>
          <a:blip r:embed="rId4"/>
          <a:stretch/>
        </p:blipFill>
        <p:spPr>
          <a:xfrm>
            <a:off x="179280" y="464184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C:\Users\Neposedi\Desktop\БУСЫ\0182.png"/>
          <p:cNvPicPr/>
          <p:nvPr/>
        </p:nvPicPr>
        <p:blipFill>
          <a:blip r:embed="rId5"/>
          <a:stretch/>
        </p:blipFill>
        <p:spPr>
          <a:xfrm>
            <a:off x="4172040" y="487980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C:\Users\Neposedi\Desktop\БУСЫ\0184.png"/>
          <p:cNvPicPr/>
          <p:nvPr/>
        </p:nvPicPr>
        <p:blipFill>
          <a:blip r:embed="rId6"/>
          <a:stretch/>
        </p:blipFill>
        <p:spPr>
          <a:xfrm>
            <a:off x="1203480" y="4303800"/>
            <a:ext cx="204768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C:\Users\Neposedi\Desktop\БУСЫ\0181.png"/>
          <p:cNvPicPr/>
          <p:nvPr/>
        </p:nvPicPr>
        <p:blipFill>
          <a:blip r:embed="rId2"/>
          <a:stretch/>
        </p:blipFill>
        <p:spPr>
          <a:xfrm>
            <a:off x="1192320" y="487980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C:\Users\Neposedi\Desktop\БУСЫ\0192.png"/>
          <p:cNvPicPr/>
          <p:nvPr/>
        </p:nvPicPr>
        <p:blipFill>
          <a:blip r:embed="rId3"/>
          <a:stretch/>
        </p:blipFill>
        <p:spPr>
          <a:xfrm>
            <a:off x="28440" y="466884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C:\Users\Neposedi\Desktop\БУСЫ\0187.png"/>
          <p:cNvPicPr/>
          <p:nvPr/>
        </p:nvPicPr>
        <p:blipFill>
          <a:blip r:embed="rId4"/>
          <a:stretch/>
        </p:blipFill>
        <p:spPr>
          <a:xfrm>
            <a:off x="28440" y="466884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C:\Users\Neposedi\Desktop\БУСЫ\0188.png"/>
          <p:cNvPicPr/>
          <p:nvPr/>
        </p:nvPicPr>
        <p:blipFill>
          <a:blip r:embed="rId5"/>
          <a:stretch/>
        </p:blipFill>
        <p:spPr>
          <a:xfrm>
            <a:off x="3348000" y="487980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C:\Users\Neposedi\Desktop\БУСЫ\0191.png"/>
          <p:cNvPicPr/>
          <p:nvPr/>
        </p:nvPicPr>
        <p:blipFill>
          <a:blip r:embed="rId6"/>
          <a:stretch/>
        </p:blipFill>
        <p:spPr>
          <a:xfrm>
            <a:off x="2195640" y="466884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C:\Users\Neposedi\Desktop\БУСЫ\0189.png"/>
          <p:cNvPicPr/>
          <p:nvPr/>
        </p:nvPicPr>
        <p:blipFill>
          <a:blip r:embed="rId7"/>
          <a:stretch/>
        </p:blipFill>
        <p:spPr>
          <a:xfrm>
            <a:off x="4788000" y="4809960"/>
            <a:ext cx="204768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Neposedi\Desktop\БУСЫ\4.jpg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Управляющая кнопка: далее 1">
            <a:hlinkClick r:id="" action="ppaction://hlinkshowjump?jump=nextslide"/>
          </p:cNvPr>
          <p:cNvSpPr/>
          <p:nvPr/>
        </p:nvSpPr>
        <p:spPr>
          <a:xfrm>
            <a:off x="7812000" y="6381720"/>
            <a:ext cx="1332000" cy="476280"/>
          </a:xfrm>
          <a:custGeom>
            <a:avLst/>
            <a:gdLst>
              <a:gd name="textAreaLeft" fmla="*/ 30600 w 1332000"/>
              <a:gd name="textAreaRight" fmla="*/ 1301400 w 133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0379" h="21600">
                <a:moveTo>
                  <a:pt x="0" y="0"/>
                </a:moveTo>
                <a:lnTo>
                  <a:pt x="60379" y="0"/>
                </a:lnTo>
                <a:lnTo>
                  <a:pt x="60379" y="21600"/>
                </a:lnTo>
                <a:lnTo>
                  <a:pt x="0" y="21600"/>
                </a:lnTo>
                <a:close/>
              </a:path>
              <a:path fill="lightenLess" w="60379" h="21600">
                <a:moveTo>
                  <a:pt x="0" y="0"/>
                </a:moveTo>
                <a:lnTo>
                  <a:pt x="60379" y="0"/>
                </a:lnTo>
                <a:lnTo>
                  <a:pt x="58979" y="1400"/>
                </a:lnTo>
                <a:lnTo>
                  <a:pt x="1400" y="1400"/>
                </a:lnTo>
                <a:close/>
              </a:path>
              <a:path fill="darken" w="60379" h="21600">
                <a:moveTo>
                  <a:pt x="60379" y="0"/>
                </a:moveTo>
                <a:lnTo>
                  <a:pt x="60379" y="21600"/>
                </a:lnTo>
                <a:lnTo>
                  <a:pt x="58979" y="20200"/>
                </a:lnTo>
                <a:lnTo>
                  <a:pt x="58979" y="1400"/>
                </a:lnTo>
                <a:close/>
              </a:path>
              <a:path fill="darkenLess" w="60379" h="21600">
                <a:moveTo>
                  <a:pt x="60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79" y="20200"/>
                </a:lnTo>
                <a:close/>
              </a:path>
              <a:path fill="lighten" w="60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79" h="21600">
                <a:moveTo>
                  <a:pt x="23183" y="3794"/>
                </a:moveTo>
                <a:lnTo>
                  <a:pt x="37196" y="10800"/>
                </a:lnTo>
                <a:lnTo>
                  <a:pt x="2318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3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C:\Users\Neposedi\Desktop\БУСЫ\0197.png"/>
          <p:cNvPicPr/>
          <p:nvPr/>
        </p:nvPicPr>
        <p:blipFill>
          <a:blip r:embed="rId2"/>
          <a:stretch/>
        </p:blipFill>
        <p:spPr>
          <a:xfrm>
            <a:off x="4067280" y="4705200"/>
            <a:ext cx="2047680" cy="197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C:\Users\Neposedi\Desktop\БУСЫ\0198.png"/>
          <p:cNvPicPr/>
          <p:nvPr/>
        </p:nvPicPr>
        <p:blipFill>
          <a:blip r:embed="rId3"/>
          <a:stretch/>
        </p:blipFill>
        <p:spPr>
          <a:xfrm>
            <a:off x="1235160" y="4849920"/>
            <a:ext cx="2047680" cy="1977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C:\Users\Neposedi\Desktop\БУСЫ\0193.png"/>
          <p:cNvPicPr/>
          <p:nvPr/>
        </p:nvPicPr>
        <p:blipFill>
          <a:blip r:embed="rId4"/>
          <a:stretch/>
        </p:blipFill>
        <p:spPr>
          <a:xfrm>
            <a:off x="2411280" y="4705200"/>
            <a:ext cx="2048040" cy="1978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C:\Users\Neposedi\Desktop\БУСЫ\0194.png"/>
          <p:cNvPicPr/>
          <p:nvPr/>
        </p:nvPicPr>
        <p:blipFill>
          <a:blip r:embed="rId5"/>
          <a:stretch/>
        </p:blipFill>
        <p:spPr>
          <a:xfrm>
            <a:off x="-15840" y="4834080"/>
            <a:ext cx="2047680" cy="1977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C:\Users\Neposedi\Desktop\БУСЫ\0195.png"/>
          <p:cNvPicPr/>
          <p:nvPr/>
        </p:nvPicPr>
        <p:blipFill>
          <a:blip r:embed="rId6"/>
          <a:stretch/>
        </p:blipFill>
        <p:spPr>
          <a:xfrm>
            <a:off x="5091120" y="4834080"/>
            <a:ext cx="2048040" cy="197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acer</cp:lastModifiedBy>
  <dcterms:modified xsi:type="dcterms:W3CDTF">2021-10-11T13:06:27Z</dcterms:modified>
  <cp:revision>66</cp:revision>
  <dc:subject/>
  <dc:title>Слайд 1</dc:title>
</cp:coreProperties>
</file>