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applause.wav" ContentType="audio/x-wav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149C-A835-4D73-A5F3-BBD40F62D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20BF-676B-411F-A6F0-3BFFE2B11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855-CA53-4BB3-B824-DA8C76DD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E56-C6FC-474B-AF01-18F23F13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B0C-5368-4120-925C-38306AF8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224-E7AE-44CB-A900-106250F5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C83-D7EA-417D-B017-E94AD0CC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862-5596-4A2B-9839-A5F15821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400-2830-4DFE-8035-5B77E615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B4A7-5203-4F96-8D9E-031ACB6F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260-F288-4945-AE63-2D53A26C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80D-D445-47DA-8BD7-96ECDB3C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37D-9B36-4A7B-83AD-66CB3E56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C17-80D7-48DE-85D8-84E2AA57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9986-4001-4065-9B89-B7523FC03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" descr=""/>
          <p:cNvPicPr/>
          <p:nvPr/>
        </p:nvPicPr>
        <p:blipFill>
          <a:blip r:embed="rId2"/>
          <a:stretch/>
        </p:blipFill>
        <p:spPr>
          <a:xfrm>
            <a:off x="871560" y="755640"/>
            <a:ext cx="7596000" cy="29624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/>
          <p:cNvPicPr/>
          <p:nvPr/>
        </p:nvPicPr>
        <p:blipFill>
          <a:blip r:embed="rId3"/>
          <a:stretch/>
        </p:blipFill>
        <p:spPr>
          <a:xfrm>
            <a:off x="1298520" y="798480"/>
            <a:ext cx="6765840" cy="387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Neposedi\Desktop\БУСЫ\3.png"/>
          <p:cNvPicPr/>
          <p:nvPr/>
        </p:nvPicPr>
        <p:blipFill>
          <a:blip r:embed="rId4"/>
          <a:stretch/>
        </p:blipFill>
        <p:spPr>
          <a:xfrm>
            <a:off x="28440" y="2276640"/>
            <a:ext cx="3175200" cy="47671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5"/>
          <a:stretch/>
        </p:blipFill>
        <p:spPr>
          <a:xfrm>
            <a:off x="2670120" y="3475080"/>
            <a:ext cx="45165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Users\Neposedi\Desktop\БУСЫ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639720" y="243000"/>
            <a:ext cx="79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Цель игры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автоматизация звука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З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в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38040" y="1197000"/>
            <a:ext cx="8642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man Old Style"/>
              </a:rPr>
              <a:t>Ход игры: </a:t>
            </a:r>
            <a:r>
              <a:rPr b="0" i="1" lang="ru-RU" sz="2400" spc="-1" strike="noStrike">
                <a:solidFill>
                  <a:srgbClr val="ff0000"/>
                </a:solidFill>
                <a:latin typeface="Bookman Old Style"/>
              </a:rPr>
              <a:t>(слайд № 4 с изображением дево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ебенку предлагается игровая ситуация: «Маша порвала бусы и они рассыпались. Помоги Маше собрать бусы на нитк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382680" y="2459160"/>
            <a:ext cx="859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ебенок, «нанизывая» бусы на нитку, проговаривает название картинок, изображенных на бусинках. После того как все бусы будут собраны на нитку, попросите ребенка еще раз назвать все карти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гра проходит под непосредственным руководством взросл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14280" y="4292640"/>
            <a:ext cx="8505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гра-тренажер «Разноцветные бусы» использует макрос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Drang and Drop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«захватить» картинку, нужно щелкнуть по объекту левой  кнопкой мыши, не удерживать, затем переместить объект в заданное место и еще раз щелкнуть левой кнопкой мыши. Объект будет зафиксирован в этом месте. После окончания игры, при закрытии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не сохраняйте из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79280" y="260280"/>
            <a:ext cx="8713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КАК ЗАПУСТИТЬ МАКРОС макрос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Drang and Drop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Макрос создан программистом из Германии Хансом Хофманом, русифицированную версию создал  А.Н. Комаров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еред запуском тренажера обязательно следует включить внешнее содержимое. Как его включить показано на рису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D:\МОИ ПАПКИ\МОЕ\АТТЕСТАЦИЯ 17 год\Скрины\Как включить внешнее содержимое.jpg"/>
          <p:cNvPicPr/>
          <p:nvPr/>
        </p:nvPicPr>
        <p:blipFill>
          <a:blip r:embed="rId2"/>
          <a:stretch/>
        </p:blipFill>
        <p:spPr>
          <a:xfrm>
            <a:off x="792000" y="177336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C:\Users\Neposedi\Desktop\БУСЫ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C:\Users\Neposedi\Desktop\БУСЫ\0006.png"/>
          <p:cNvPicPr/>
          <p:nvPr/>
        </p:nvPicPr>
        <p:blipFill>
          <a:blip r:embed="rId2"/>
          <a:stretch/>
        </p:blipFill>
        <p:spPr>
          <a:xfrm>
            <a:off x="179280" y="4849920"/>
            <a:ext cx="2048040" cy="197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C:\Users\Neposedi\Desktop\БУСЫ\0014.png"/>
          <p:cNvPicPr/>
          <p:nvPr/>
        </p:nvPicPr>
        <p:blipFill>
          <a:blip r:embed="rId3"/>
          <a:stretch/>
        </p:blipFill>
        <p:spPr>
          <a:xfrm>
            <a:off x="3132000" y="476568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C:\Users\Neposedi\Desktop\БУСЫ\0022.png"/>
          <p:cNvPicPr/>
          <p:nvPr/>
        </p:nvPicPr>
        <p:blipFill>
          <a:blip r:embed="rId4"/>
          <a:stretch/>
        </p:blipFill>
        <p:spPr>
          <a:xfrm>
            <a:off x="1403280" y="4403880"/>
            <a:ext cx="2048040" cy="197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C:\Users\Neposedi\Desktop\БУСЫ\0044.png"/>
          <p:cNvPicPr/>
          <p:nvPr/>
        </p:nvPicPr>
        <p:blipFill>
          <a:blip r:embed="rId5"/>
          <a:stretch/>
        </p:blipFill>
        <p:spPr>
          <a:xfrm>
            <a:off x="4284720" y="4656240"/>
            <a:ext cx="2047680" cy="197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C:\Users\Neposedi\Desktop\БУСЫ\0050.png"/>
          <p:cNvPicPr/>
          <p:nvPr/>
        </p:nvPicPr>
        <p:blipFill>
          <a:blip r:embed="rId6"/>
          <a:stretch/>
        </p:blipFill>
        <p:spPr>
          <a:xfrm>
            <a:off x="2236680" y="4879800"/>
            <a:ext cx="204804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C:\Users\Neposedi\Desktop\БУСЫ\0049.png"/>
          <p:cNvPicPr/>
          <p:nvPr/>
        </p:nvPicPr>
        <p:blipFill>
          <a:blip r:embed="rId2"/>
          <a:stretch/>
        </p:blipFill>
        <p:spPr>
          <a:xfrm>
            <a:off x="324000" y="464184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C:\Users\Neposedi\Desktop\БУСЫ\0029.png"/>
          <p:cNvPicPr/>
          <p:nvPr/>
        </p:nvPicPr>
        <p:blipFill>
          <a:blip r:embed="rId3"/>
          <a:stretch/>
        </p:blipFill>
        <p:spPr>
          <a:xfrm>
            <a:off x="1763640" y="4849920"/>
            <a:ext cx="2048040" cy="197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C:\Users\Neposedi\Desktop\БУСЫ\0052.png"/>
          <p:cNvPicPr/>
          <p:nvPr/>
        </p:nvPicPr>
        <p:blipFill>
          <a:blip r:embed="rId4"/>
          <a:stretch/>
        </p:blipFill>
        <p:spPr>
          <a:xfrm>
            <a:off x="3548160" y="4849920"/>
            <a:ext cx="2047680" cy="19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C:\Users\Neposedi\Desktop\БУСЫ\0080.png"/>
          <p:cNvPicPr/>
          <p:nvPr/>
        </p:nvPicPr>
        <p:blipFill>
          <a:blip r:embed="rId5"/>
          <a:stretch/>
        </p:blipFill>
        <p:spPr>
          <a:xfrm>
            <a:off x="4284720" y="4829040"/>
            <a:ext cx="204768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C:\Users\Neposedi\Desktop\БУСЫ\0051.png"/>
          <p:cNvPicPr/>
          <p:nvPr/>
        </p:nvPicPr>
        <p:blipFill>
          <a:blip r:embed="rId2"/>
          <a:stretch/>
        </p:blipFill>
        <p:spPr>
          <a:xfrm>
            <a:off x="3562200" y="486720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C:\Users\Neposedi\Desktop\БУСЫ\0052.png"/>
          <p:cNvPicPr/>
          <p:nvPr/>
        </p:nvPicPr>
        <p:blipFill>
          <a:blip r:embed="rId3"/>
          <a:stretch/>
        </p:blipFill>
        <p:spPr>
          <a:xfrm>
            <a:off x="250920" y="470520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C:\Users\Neposedi\Desktop\БУСЫ\0053.png"/>
          <p:cNvPicPr/>
          <p:nvPr/>
        </p:nvPicPr>
        <p:blipFill>
          <a:blip r:embed="rId4"/>
          <a:stretch/>
        </p:blipFill>
        <p:spPr>
          <a:xfrm>
            <a:off x="4284720" y="470376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:\Users\Neposedi\Desktop\БУСЫ\0173.png"/>
          <p:cNvPicPr/>
          <p:nvPr/>
        </p:nvPicPr>
        <p:blipFill>
          <a:blip r:embed="rId5"/>
          <a:stretch/>
        </p:blipFill>
        <p:spPr>
          <a:xfrm>
            <a:off x="1979640" y="4707000"/>
            <a:ext cx="204768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acer</cp:lastModifiedBy>
  <dcterms:modified xsi:type="dcterms:W3CDTF">2021-10-11T13:12:44Z</dcterms:modified>
  <cp:revision>63</cp:revision>
  <dc:subject/>
  <dc:title>Слайд 1</dc:title>
</cp:coreProperties>
</file>