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646-F5B8-40D5-BA08-758EB5C62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0A40-29E6-4846-B13E-CAAB91752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8BE-95CC-4B1D-AAD2-0A9D9C36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85A-4EEB-4869-B636-D7C92E0D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9AB-A0AA-430E-B957-2C24B59A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504-F604-461B-A47D-8760F4F0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CB7-8807-438D-B754-C615956C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D68-08AC-4F46-9ABF-AA15C6F2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8C2-75E6-44E8-ADC9-92501F15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E5F-B08C-43E0-9F28-93E871CE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741-7E25-4197-A539-BA825D13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1D8-7FAA-4070-A298-274172DB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8D1-751D-4E7E-95CE-F5F3390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40A-681C-4299-9F1A-919B59D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EF10-1CA3-47D8-9418-37B4EB1F5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871560" y="755640"/>
            <a:ext cx="7596000" cy="29624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3"/>
          <a:stretch/>
        </p:blipFill>
        <p:spPr>
          <a:xfrm>
            <a:off x="1298520" y="798480"/>
            <a:ext cx="6765840" cy="387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Neposedi\Desktop\БУСЫ\3.png"/>
          <p:cNvPicPr/>
          <p:nvPr/>
        </p:nvPicPr>
        <p:blipFill>
          <a:blip r:embed="rId4"/>
          <a:stretch/>
        </p:blipFill>
        <p:spPr>
          <a:xfrm>
            <a:off x="28440" y="2276640"/>
            <a:ext cx="3175200" cy="4767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5"/>
          <a:stretch/>
        </p:blipFill>
        <p:spPr>
          <a:xfrm>
            <a:off x="2670120" y="3475080"/>
            <a:ext cx="45165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Neposedi\Desktop\БУСЫ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639720" y="24300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Цель игры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автоматизация звука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38040" y="119700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Ход игры: </a:t>
            </a:r>
            <a:r>
              <a:rPr b="0" i="1" lang="ru-RU" sz="2400" spc="-1" strike="noStrike">
                <a:solidFill>
                  <a:srgbClr val="ff0000"/>
                </a:solidFill>
                <a:latin typeface="Bookman Old Style"/>
              </a:rPr>
              <a:t>(слайд № 4 с изображением дев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енку предлагается игровая ситуация: «Маша порвала бусы и они рассыпались. Помоги Маше собрать бусы на нитк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82680" y="2459160"/>
            <a:ext cx="859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енок, «нанизывая» бусы на нитку, проговаривает название картинок, изображенных на бусинках. После того как все бусы будут собраны на нитку, попросите ребенка еще раз назвать все карти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гра проходит под непосредственным руководством взросл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4280" y="4292640"/>
            <a:ext cx="8505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гра-тренажер «Разноцветные бусы» использует макрос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Drang and Drop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«захватить» картинку, нужно щелкнуть по объекту левой  кнопкой мыши, не удерживать, затем переместить объект в заданное место и еще раз щелкнуть левой кнопкой мыши. Объект будет зафиксирован в этом месте. После окончания игры, при закрытии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не сохраняйте из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79280" y="260280"/>
            <a:ext cx="8713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КАК ЗАПУСТИТЬ МАКРОС макрос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Drang and Drop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акрос создан программистом из Германии Хансом Хофманом, русифицированную версию создал  А.Н. Комаров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еред запуском тренажера обязательно следует включить внешнее содержимое. Как его включить показано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:\МОИ ПАПКИ\МОЕ\АТТЕСТАЦИЯ 17 год\Скрины\Как включить внешнее содержимое.jpg"/>
          <p:cNvPicPr/>
          <p:nvPr/>
        </p:nvPicPr>
        <p:blipFill>
          <a:blip r:embed="rId2"/>
          <a:stretch/>
        </p:blipFill>
        <p:spPr>
          <a:xfrm>
            <a:off x="792000" y="177336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C:\Users\Neposedi\Desktop\БУСЫ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C:\Users\Neposedi\Desktop\БУСЫ\0006.png"/>
          <p:cNvPicPr/>
          <p:nvPr/>
        </p:nvPicPr>
        <p:blipFill>
          <a:blip r:embed="rId2"/>
          <a:stretch/>
        </p:blipFill>
        <p:spPr>
          <a:xfrm>
            <a:off x="179280" y="4849920"/>
            <a:ext cx="2048040" cy="19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C:\Users\Neposedi\Desktop\БУСЫ\0014.png"/>
          <p:cNvPicPr/>
          <p:nvPr/>
        </p:nvPicPr>
        <p:blipFill>
          <a:blip r:embed="rId3"/>
          <a:stretch/>
        </p:blipFill>
        <p:spPr>
          <a:xfrm>
            <a:off x="3132000" y="476568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C:\Users\Neposedi\Desktop\БУСЫ\0022.png"/>
          <p:cNvPicPr/>
          <p:nvPr/>
        </p:nvPicPr>
        <p:blipFill>
          <a:blip r:embed="rId4"/>
          <a:stretch/>
        </p:blipFill>
        <p:spPr>
          <a:xfrm>
            <a:off x="1403280" y="4403880"/>
            <a:ext cx="2048040" cy="197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C:\Users\Neposedi\Desktop\БУСЫ\0044.png"/>
          <p:cNvPicPr/>
          <p:nvPr/>
        </p:nvPicPr>
        <p:blipFill>
          <a:blip r:embed="rId5"/>
          <a:stretch/>
        </p:blipFill>
        <p:spPr>
          <a:xfrm>
            <a:off x="4284720" y="465624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C:\Users\Neposedi\Desktop\БУСЫ\0050.png"/>
          <p:cNvPicPr/>
          <p:nvPr/>
        </p:nvPicPr>
        <p:blipFill>
          <a:blip r:embed="rId6"/>
          <a:stretch/>
        </p:blipFill>
        <p:spPr>
          <a:xfrm>
            <a:off x="2236680" y="4879800"/>
            <a:ext cx="204804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:\Users\Neposedi\Desktop\БУСЫ\0049.png"/>
          <p:cNvPicPr/>
          <p:nvPr/>
        </p:nvPicPr>
        <p:blipFill>
          <a:blip r:embed="rId2"/>
          <a:stretch/>
        </p:blipFill>
        <p:spPr>
          <a:xfrm>
            <a:off x="324000" y="464184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C:\Users\Neposedi\Desktop\БУСЫ\0029.png"/>
          <p:cNvPicPr/>
          <p:nvPr/>
        </p:nvPicPr>
        <p:blipFill>
          <a:blip r:embed="rId3"/>
          <a:stretch/>
        </p:blipFill>
        <p:spPr>
          <a:xfrm>
            <a:off x="1763640" y="4849920"/>
            <a:ext cx="2048040" cy="197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:\Users\Neposedi\Desktop\БУСЫ\0052.png"/>
          <p:cNvPicPr/>
          <p:nvPr/>
        </p:nvPicPr>
        <p:blipFill>
          <a:blip r:embed="rId4"/>
          <a:stretch/>
        </p:blipFill>
        <p:spPr>
          <a:xfrm>
            <a:off x="3548160" y="484992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C:\Users\Neposedi\Desktop\БУСЫ\0080.png"/>
          <p:cNvPicPr/>
          <p:nvPr/>
        </p:nvPicPr>
        <p:blipFill>
          <a:blip r:embed="rId5"/>
          <a:stretch/>
        </p:blipFill>
        <p:spPr>
          <a:xfrm>
            <a:off x="4284720" y="4829040"/>
            <a:ext cx="204768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C:\Users\Neposedi\Desktop\БУСЫ\0051.png"/>
          <p:cNvPicPr/>
          <p:nvPr/>
        </p:nvPicPr>
        <p:blipFill>
          <a:blip r:embed="rId2"/>
          <a:stretch/>
        </p:blipFill>
        <p:spPr>
          <a:xfrm>
            <a:off x="3562200" y="486720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Neposedi\Desktop\БУСЫ\0052.png"/>
          <p:cNvPicPr/>
          <p:nvPr/>
        </p:nvPicPr>
        <p:blipFill>
          <a:blip r:embed="rId3"/>
          <a:stretch/>
        </p:blipFill>
        <p:spPr>
          <a:xfrm>
            <a:off x="250920" y="47052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C:\Users\Neposedi\Desktop\БУСЫ\0053.png"/>
          <p:cNvPicPr/>
          <p:nvPr/>
        </p:nvPicPr>
        <p:blipFill>
          <a:blip r:embed="rId4"/>
          <a:stretch/>
        </p:blipFill>
        <p:spPr>
          <a:xfrm>
            <a:off x="4284720" y="470376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Users\Neposedi\Desktop\БУСЫ\0173.png"/>
          <p:cNvPicPr/>
          <p:nvPr/>
        </p:nvPicPr>
        <p:blipFill>
          <a:blip r:embed="rId5"/>
          <a:stretch/>
        </p:blipFill>
        <p:spPr>
          <a:xfrm>
            <a:off x="1979640" y="4707000"/>
            <a:ext cx="204768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acer</cp:lastModifiedBy>
  <dcterms:modified xsi:type="dcterms:W3CDTF">2021-10-11T13:12:44Z</dcterms:modified>
  <cp:revision>63</cp:revision>
  <dc:subject/>
  <dc:title>Слайд 1</dc:title>
</cp:coreProperties>
</file>