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2.gif" ContentType="image/gif"/>
  <Override PartName="/ppt/media/image10.png" ContentType="image/png"/>
  <Override PartName="/ppt/media/image28.wmf" ContentType="image/x-wm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png" ContentType="image/png"/>
  <Override PartName="/ppt/media/image11.gif" ContentType="image/gif"/>
  <Override PartName="/ppt/media/image5.jpeg" ContentType="image/jpeg"/>
  <Override PartName="/ppt/media/image26.jpeg" ContentType="image/jpeg"/>
  <Override PartName="/ppt/media/image4.png" ContentType="image/png"/>
  <Override PartName="/ppt/media/image24.gif" ContentType="image/gif"/>
  <Override PartName="/ppt/media/image27.wmf" ContentType="image/x-wmf"/>
  <Override PartName="/ppt/media/image17.gif" ContentType="image/gif"/>
  <Override PartName="/ppt/media/image2.jpeg" ContentType="image/jpeg"/>
  <Override PartName="/ppt/media/image25.jpeg" ContentType="image/jpeg"/>
  <Override PartName="/ppt/media/image22.gif" ContentType="image/gif"/>
  <Override PartName="/ppt/media/image18.jpeg" ContentType="image/jpeg"/>
  <Override PartName="/ppt/media/image16.gif" ContentType="image/gif"/>
  <Override PartName="/ppt/media/image20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3.png" ContentType="image/png"/>
  <Override PartName="/ppt/media/image23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0E9-0FE6-4461-B0BB-1EBDE1AE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209-CA15-4A2F-9FF3-156E95D3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213BA-62A3-47DC-A2F9-D5735AA9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AF165-A0AF-47E1-BA26-81C0D32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7C07A-5C08-4505-9F6A-5E655D3F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8F828-F8CC-4FC9-A62D-C5CE9A5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6BFA1-0BF7-4D6C-A3BE-8497580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FC124-9134-4EBA-A492-572B4EED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09343-E0FF-4A91-9B67-5FFA643D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D9CB4-3F01-42F7-BBD0-AE0E0D6F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D92F3-6266-4A38-89E6-397CF754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DA4FB-24E0-4F26-9B7B-1F1B5BEE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A225-B8BC-46DA-8724-CCEDFBAA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84061-C7E4-438C-8DBA-94576CCF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E3E5C-32CB-4A79-8F9C-5B330A4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05835-7857-48E0-B9C4-A925E624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89486-A40E-4B10-834E-4F3C455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60DD7-18B7-4A95-AA5F-DCD7F8D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5B33F-8935-48F8-A68A-1F379BD9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3DD5-FEE1-47F4-B02A-D47EF1E9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DBB3A-8B67-4110-991C-2CF6459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0D5CB-CDAF-4C84-95DB-02DD3165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E7AF4-5562-400A-8436-0C2F944E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0C22-40D6-49FA-B0C3-8AB954B2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DD6D9-AB3E-444A-9D3E-A7A9CAB5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33950-FDA1-45A7-A2DE-EC70227C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0CE1C-3453-4CC2-8A22-07FE3B04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71953-906B-4702-AA31-DEEA5381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43428-3863-4A5A-B338-15BF3FD5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4D1D7-4A73-49F8-BA4C-CE189E20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D73CC-7F14-479A-999E-D3378047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8C7E-612E-4614-92E9-87B2461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06FB8-3C88-4448-8186-6209DDD8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AE261-3B2F-4DB5-AD39-617EE139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5899-7679-402A-A747-9AB75F3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24121-8106-425C-BB39-92425F92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B7081-DF0A-4E13-A41F-47E14FAD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71CFC-E629-4A71-95BA-B24A1537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310E0-271D-4F40-B9C8-39893982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DBCA8-E948-4D2A-BDFD-2744060D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42597-7C05-4ED6-B78E-0975E97A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C7C02-8429-4DE6-824E-D8D15AAE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71545-BBFB-47D0-9CFD-A4CEFFD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695D2-46C3-4333-A37D-D9D4D479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A5896-CC15-4C4B-889D-79955F3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65D2-8DCD-4D43-A19A-E8BDDB0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E59C5-520E-4870-AD6C-2E0DAF7E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CAD5D-C1D3-4E73-A677-B5D422F3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E2A59-554C-4D6F-81A5-42CA5B8A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EA43C-43FB-4D17-A41A-8C851783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BA93C-5D1E-4725-A13A-BF06B79E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4D2E4-858E-469B-A3D8-C7141544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B195C-8749-4EF0-AA42-91162630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0526C-7F99-48DC-A8B1-712B415F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256FB-9FBB-4587-9DC0-4439758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C9DA6-41EC-47E1-8789-D0DA561B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B22C-08AA-4B5A-A182-1EF711E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0B41B-BC0B-46AA-984E-A921575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F427F-9EA1-4DDC-9634-CB956CFE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ACE80-9C53-4F44-B865-7FA92C2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653AB-CC56-4B06-9A8B-186F5C7E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68759-F339-4071-89D0-8E61ABD1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5BE51-77CF-4E16-AA71-C2829330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C00D9-44D3-468D-A0FC-A4157EB1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189E4-FACE-452D-999B-DCCE3065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F55B8-0DA8-4DE6-A6CD-6453799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B3E12-7FC5-42B4-9356-57E2DB61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DA94-8436-4594-B5C7-EA215C8C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29CEE-FD58-47D4-9461-5FE2F32D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84F616-637F-472D-B6C8-14BBDFC1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3E1381-734B-46D1-84C0-7E87B80B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AF41F-9B42-4A07-A478-C04C57E8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7E5D2-69F5-426B-B033-B71CFA8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33E51-DF48-41DC-B122-11A8A41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9BEF1-C938-4CDA-AEBE-0CC3BB86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E62BC-19B3-4BA4-904A-E1D314FA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3B010-8BC6-491F-9BBD-927297BA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9981A-6C3D-45EE-8F36-48C1B09C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9DF-E18E-49AD-8756-A2F197E7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7092F-9040-45BE-837C-C9ECF24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7730A-5B14-43F7-97CB-E9E43BC6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1EF537-B9DF-4222-B1C2-1B108AB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A122E-7D50-4A96-B963-23EF30FE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D60C6-6A02-4F0F-A003-CE1E24C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CC921-C595-428A-965A-940FCAB8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12632-5F24-4F70-AFE6-9E711EB3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F7732-D607-4F09-AF8F-6585E24D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41BDD-8A56-484F-8156-B993838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F66D51-3D15-4524-AE80-3733B79F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9953-4189-48C5-8F6E-73358BD0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BB179-D75D-4883-873B-5DC2BD81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71A5-D579-4557-80F1-E92BF86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E39-12A8-409C-976D-B4AEA4BD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7C9E-66BA-480C-A7ED-58D05E17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6C32-3924-4A14-9193-DAC5DDF6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8FE-3B83-4991-B6CA-1370286D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08B9-E689-4A03-8E03-ADE0545E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AC0E-EFB0-4FAE-8F93-AA2BA6C4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DFB3F-0670-44EB-BA70-7C7B1ADA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CA7B-6B03-453C-ADE8-0D541403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6FF3-5C40-4E77-8245-4C2F48F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509B-48D0-48E2-AD15-490409C6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CE43-E992-425D-8B9B-0DD91913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D5E-857F-4016-93C0-DE682954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8DF16-9822-4280-99FB-21E0BEF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F0A7-B490-4593-819B-36E4561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6E9A4-5DE3-4DD6-B378-3639A8FB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2ED1-2199-483B-B91E-CFF1CE6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F5B19-8E0E-45C5-94CD-A25206D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05C1-BBB7-4842-B9AB-BAE794A9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5AF6-EF9C-40B2-978B-F1E1C321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4377-5852-450D-98B0-F348CE54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D78F-1C70-496E-90EE-AE1021F7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E7E37-2EC4-4B9C-9082-ECAE423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802-47E9-441A-8BC4-450934E4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9018-08E9-4EB2-8317-1E35BDA5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EF96-BAB9-4D65-8340-2ADFAD3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98DE-9D67-484D-850A-14E47F84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C283-8BD9-4B59-9237-B7AFCE30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605AC-5EBF-4999-8BF5-8A63939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0491-96C8-42C5-BE76-B5A2A58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43AC8-9BCB-40FF-B60A-013899EF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844E-7146-49DB-9DB8-88ED6F36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8DFB-5422-4387-B350-103BC203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16EC5-5C2D-4CB5-889F-AED1BB82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B21-242D-4984-B088-13E13488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3F487-C2A7-494F-9867-4FA69B70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02A65-DC88-4ABD-BC27-376347E7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E0FED-474E-4212-A47E-3B79A8E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7B2C-D6B9-4CCD-A198-4E9D965E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55778-EF5A-4D2F-8229-0159FE6D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6B036-4D13-4582-82B7-8D81A24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70DF-F870-40E3-9583-93FBAA6D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F352A-6974-4972-9635-DC63FBBC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ABA9C-CBF0-4DE2-8691-B40F445D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9A0B4-0B7E-4014-8574-23A42690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E9D-61AD-4D2E-94CC-A5FA2408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E7A8-7D33-4053-B6E6-8E6EB02E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7FF59-A34F-4563-B4C1-7D665FD2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3C4A-C08C-4A40-B057-EF6323D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37702-25AF-4B61-B4C9-4CEA3FA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21625-79C9-4703-9742-B3F7918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E1D7-D09C-42E8-85D1-C6377C44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AA29-1862-4490-A5CF-A594534E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AAF77-5E08-49F5-BA70-7651C055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85DD9-448B-45FC-AB21-FFBA4B56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B5D2-C240-41EB-9341-9FB4EB39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68B-9A42-4710-A7B1-F657332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C68A-B837-46D4-BBE5-0C4CBE90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A788-C75E-4ED1-BB8F-1B63B0A4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CBC73-FD79-4996-B4E9-A6E9D364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42316-33CD-4155-A5CA-30526D83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2ECE-C4B7-4440-B136-8D00D715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F51BB-B985-4422-9186-12EA30BB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753F1-F351-46EA-BA6A-D358F8AC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BD291-ECF7-4B8F-B0BA-12865804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F9554-5458-4DB8-9B3F-39ACCFA1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44C42-DE20-4F1D-8C12-1D28980F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15E9-0961-427D-8EE5-BC4E3250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BCD61-A6CE-4E65-BC2D-E83B8C8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3075B-C22D-4DA6-A5E3-188E9F88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2589C-EEC4-4B0E-9142-7E84604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81EEA-B682-44E8-9B2E-40950D9A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31BF-317D-411C-B631-0622FC57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BD7F1-BEA7-45DC-93E1-6A82E2F5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2B61B-9B4A-4DB7-B0A3-026DF24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650F3-8B36-4F53-9BDA-65A13836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7DB4-11EA-408D-822F-FAC4B400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6F313-BA69-4C9D-887E-E90F1D5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961-F705-427D-8ABF-846B856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325D0-F1DA-4A46-90AC-59C19234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6678D-0210-4679-A2C6-2719C1B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1320-4993-4CB5-8A97-62157C4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6626-F1D1-4BB5-8190-44EFE5EA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239FC-5353-49A2-AAC7-56EC7AC8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F9083-947B-4EAB-9931-B3190AFA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09759-A7F4-435D-899F-D7A697AE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10FEC-D934-417D-AD48-0EF32538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85B6A-84FE-4246-A490-82C085C4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F84A2-450D-4D30-AE6A-C8E2662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02DC-6A70-4E29-95A7-D8ADC26BC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0DDC-E128-457E-B786-6B5DB2CA4E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51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4025-556F-41BE-8B0C-9D272078D3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9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CF8-7B74-44B7-9740-5E6D570644A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54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C19C-75A3-4321-B8B7-6098FFBB821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C5F7-9A18-45ED-BAD1-935ADB0274E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9113-3358-42A3-AACD-B984814D74C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1170-84E0-45A8-9AF1-06CCF43001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CAFF-2209-4991-B2E4-FC754794ECD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139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10F8-CA38-44F0-8062-CBFE8B2837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9BD-79D3-413F-B1EF-BB0C5FD57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2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34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81B0-C754-43C6-B214-D2884F37493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8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75B-5392-4D89-B2A1-CE2D7ECAEE6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C623-C2AE-4084-A924-EEAFBAC3DB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DA3-8F43-42BF-9C1B-4D61E357AB1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2210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Родительско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собрание </a:t>
            </a:r>
            <a:br>
              <a:rPr sz="4500"/>
            </a:b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о 2 классе 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00"/>
                </a:solidFill>
                <a:latin typeface="Verdana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«Критерии оценки.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70c0"/>
                </a:solidFill>
                <a:latin typeface="Verdana"/>
              </a:rPr>
              <a:t>Как к ней относиться»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исьменная работа, содержащая только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е задачи решены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ет ошибок в ходе решения задач, но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хотя бы одна ошибка в ходе решения задачи и 1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числительных ошибок нет, но не решена 1 задач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2-х задач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опущена ошибка в ходе решения задачи и 2 вычислитель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858000" y="502920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(1 задача, примеры и задание другого ви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Arial"/>
              </a:rPr>
              <a:t>«3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ы ошибки в ходе решения задачи при правильном выполнении всех заданий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допущена ошибка в ходе решения задачи и хотя бы одна вычислительная ошиб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Рисунок 3" descr="учитель.gif"/>
          <p:cNvPicPr/>
          <p:nvPr/>
        </p:nvPicPr>
        <p:blipFill>
          <a:blip r:embed="rId1"/>
          <a:stretch/>
        </p:blipFill>
        <p:spPr>
          <a:xfrm>
            <a:off x="7162920" y="51814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5d135"/>
                </a:solidFill>
                <a:latin typeface="Arial"/>
              </a:rPr>
              <a:t>«3» 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«2» 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00800" y="4876920"/>
            <a:ext cx="169380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Arial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Arial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4" descr="j0282745"/>
          <p:cNvPicPr/>
          <p:nvPr/>
        </p:nvPicPr>
        <p:blipFill>
          <a:blip r:embed="rId1"/>
          <a:stretch/>
        </p:blipFill>
        <p:spPr>
          <a:xfrm>
            <a:off x="4267080" y="236232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чувствуйте своему ребёнку, если он долго трудился, но результат его труда не вы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на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, которые он сможет                       приобрести в результате                    ежедневного, упорного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4" descr="Копия (5) AG00315_"/>
          <p:cNvPicPr/>
          <p:nvPr/>
        </p:nvPicPr>
        <p:blipFill>
          <a:blip r:embed="rId1"/>
          <a:stretch/>
        </p:blipFill>
        <p:spPr>
          <a:xfrm>
            <a:off x="5943600" y="3352680"/>
            <a:ext cx="288144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заставляйте своего ребёнка вымаливать себе оценку в конце четверти ради вашего душевного споко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5" descr="AG00319_"/>
          <p:cNvPicPr/>
          <p:nvPr/>
        </p:nvPicPr>
        <p:blipFill>
          <a:blip r:embed="rId1"/>
          <a:stretch/>
        </p:blipFill>
        <p:spPr>
          <a:xfrm>
            <a:off x="4464000" y="3544920"/>
            <a:ext cx="4680000" cy="3313080"/>
          </a:xfrm>
          <a:prstGeom prst="rect">
            <a:avLst/>
          </a:prstGeom>
          <a:ln w="0">
            <a:noFill/>
          </a:ln>
        </p:spPr>
      </p:pic>
      <p:pic>
        <p:nvPicPr>
          <p:cNvPr id="717" name="Рисунок 4" descr="24.jpg"/>
          <p:cNvPicPr/>
          <p:nvPr/>
        </p:nvPicPr>
        <p:blipFill>
          <a:blip r:embed="rId2"/>
          <a:stretch/>
        </p:blipFill>
        <p:spPr>
          <a:xfrm>
            <a:off x="533520" y="4572000"/>
            <a:ext cx="184788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гда не выражайте сомнений по поводу объективности выставленной вашему                  ребёнку оценки всл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Arial"/>
              </a:rPr>
              <a:t>Есть сомнения - идите в школу (к учителю) и попытайтесь объективно разобраться в ситу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обвиняйте беспричинно других              взрослых и  одноклассников в                   проблемах собственного ребё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" descr="j0336396"/>
          <p:cNvPicPr/>
          <p:nvPr/>
        </p:nvPicPr>
        <p:blipFill>
          <a:blip r:embed="rId1"/>
          <a:stretch/>
        </p:blipFill>
        <p:spPr>
          <a:xfrm>
            <a:off x="7391520" y="1752480"/>
            <a:ext cx="1536480" cy="14223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4" descr="Рисунок16"/>
          <p:cNvPicPr/>
          <p:nvPr/>
        </p:nvPicPr>
        <p:blipFill>
          <a:blip r:embed="rId2"/>
          <a:stretch/>
        </p:blipFill>
        <p:spPr>
          <a:xfrm>
            <a:off x="7543800" y="3581280"/>
            <a:ext cx="1219320" cy="30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ируйте положительные результаты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воего труд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чтобы ребёнку хотелось вам подра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J0076204"/>
          <p:cNvPicPr/>
          <p:nvPr/>
        </p:nvPicPr>
        <p:blipFill>
          <a:blip r:embed="rId1"/>
          <a:stretch/>
        </p:blipFill>
        <p:spPr>
          <a:xfrm>
            <a:off x="3048120" y="4114800"/>
            <a:ext cx="5616360" cy="22096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8" descr="Учитель"/>
          <p:cNvPicPr/>
          <p:nvPr/>
        </p:nvPicPr>
        <p:blipFill>
          <a:blip r:embed="rId2"/>
          <a:stretch/>
        </p:blipFill>
        <p:spPr>
          <a:xfrm>
            <a:off x="762120" y="4724280"/>
            <a:ext cx="186840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олучения отличной отме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Arial"/>
              </a:rPr>
              <a:t>Хорошее, как и плохое, запоминается ребёнком надолго и его хочется    повтор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a0a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a0aff"/>
                </a:solidFill>
                <a:latin typeface="Arial"/>
              </a:rPr>
              <a:t>Пусть ребёнок получает хорошую  отметку ради того, чтобы его             отметили. Вскоре это                                   станет привыч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BD13647_"/>
          <p:cNvPicPr/>
          <p:nvPr/>
        </p:nvPicPr>
        <p:blipFill>
          <a:blip r:embed="rId1"/>
          <a:stretch/>
        </p:blipFill>
        <p:spPr>
          <a:xfrm>
            <a:off x="5694480" y="4419720"/>
            <a:ext cx="2489040" cy="18889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4" descr="j0178301"/>
          <p:cNvPicPr/>
          <p:nvPr/>
        </p:nvPicPr>
        <p:blipFill>
          <a:blip r:embed="rId2"/>
          <a:stretch/>
        </p:blipFill>
        <p:spPr>
          <a:xfrm rot="813000">
            <a:off x="7315200" y="1066680"/>
            <a:ext cx="1676520" cy="1582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" descr="Карандаш"/>
          <p:cNvPicPr/>
          <p:nvPr/>
        </p:nvPicPr>
        <p:blipFill>
          <a:blip r:embed="rId3"/>
          <a:stretch/>
        </p:blipFill>
        <p:spPr>
          <a:xfrm>
            <a:off x="7543800" y="2438280"/>
            <a:ext cx="190512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964305"/>
                </a:solidFill>
                <a:latin typeface="Corbel"/>
              </a:rPr>
              <a:t>Родительское собрание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70c0"/>
                </a:solidFill>
                <a:uFillTx/>
                <a:latin typeface="Corbe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Результаты учебно – воспитательного процесса за 2 четверть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Оценка. Отмет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 оценки .Как к ней относиться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Разно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36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8" descr="Учитель"/>
          <p:cNvPicPr/>
          <p:nvPr/>
        </p:nvPicPr>
        <p:blipFill>
          <a:blip r:embed="rId1"/>
          <a:stretch/>
        </p:blipFill>
        <p:spPr>
          <a:xfrm>
            <a:off x="3809880" y="304920"/>
            <a:ext cx="18687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5" name="Group 3"/>
          <p:cNvGrpSpPr/>
          <p:nvPr/>
        </p:nvGrpSpPr>
        <p:grpSpPr>
          <a:xfrm>
            <a:off x="228600" y="1832040"/>
            <a:ext cx="2971080" cy="3730320"/>
            <a:chOff x="228600" y="1832040"/>
            <a:chExt cx="2971080" cy="3730320"/>
          </a:xfrm>
        </p:grpSpPr>
        <p:sp>
          <p:nvSpPr>
            <p:cNvPr id="736" name="AutoShape 4"/>
            <p:cNvSpPr/>
            <p:nvPr/>
          </p:nvSpPr>
          <p:spPr>
            <a:xfrm>
              <a:off x="228600" y="211644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AutoShape 5"/>
            <p:cNvSpPr/>
            <p:nvPr/>
          </p:nvSpPr>
          <p:spPr>
            <a:xfrm>
              <a:off x="274320" y="212400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AutoShape 6"/>
            <p:cNvSpPr/>
            <p:nvPr/>
          </p:nvSpPr>
          <p:spPr>
            <a:xfrm>
              <a:off x="298080" y="403164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AutoShape 7"/>
            <p:cNvSpPr/>
            <p:nvPr/>
          </p:nvSpPr>
          <p:spPr>
            <a:xfrm>
              <a:off x="298080" y="214452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AutoShape 8"/>
            <p:cNvSpPr/>
            <p:nvPr/>
          </p:nvSpPr>
          <p:spPr>
            <a:xfrm>
              <a:off x="237240" y="475812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AutoShape 9"/>
            <p:cNvSpPr/>
            <p:nvPr/>
          </p:nvSpPr>
          <p:spPr>
            <a:xfrm>
              <a:off x="298080" y="492696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2" name="Group 10"/>
            <p:cNvGrpSpPr/>
            <p:nvPr/>
          </p:nvGrpSpPr>
          <p:grpSpPr>
            <a:xfrm>
              <a:off x="1247760" y="1832040"/>
              <a:ext cx="880200" cy="594360"/>
              <a:chOff x="1247760" y="1832040"/>
              <a:chExt cx="880200" cy="594360"/>
            </a:xfrm>
          </p:grpSpPr>
          <p:sp>
            <p:nvSpPr>
              <p:cNvPr id="743" name="Oval 11"/>
              <p:cNvSpPr/>
              <p:nvPr/>
            </p:nvSpPr>
            <p:spPr>
              <a:xfrm>
                <a:off x="1247760" y="183204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Oval 12"/>
              <p:cNvSpPr/>
              <p:nvPr/>
            </p:nvSpPr>
            <p:spPr>
              <a:xfrm>
                <a:off x="1256760" y="183636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3"/>
              <p:cNvSpPr/>
              <p:nvPr/>
            </p:nvSpPr>
            <p:spPr>
              <a:xfrm>
                <a:off x="1267200" y="183996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4"/>
              <p:cNvSpPr/>
              <p:nvPr/>
            </p:nvSpPr>
            <p:spPr>
              <a:xfrm>
                <a:off x="1276560" y="184536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5"/>
              <p:cNvSpPr/>
              <p:nvPr/>
            </p:nvSpPr>
            <p:spPr>
              <a:xfrm>
                <a:off x="1322640" y="185940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Text Box 16"/>
            <p:cNvSpPr/>
            <p:nvPr/>
          </p:nvSpPr>
          <p:spPr>
            <a:xfrm>
              <a:off x="1504440" y="191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Text Box 17"/>
            <p:cNvSpPr/>
            <p:nvPr/>
          </p:nvSpPr>
          <p:spPr>
            <a:xfrm>
              <a:off x="333000" y="253656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8"/>
          <p:cNvGrpSpPr/>
          <p:nvPr/>
        </p:nvGrpSpPr>
        <p:grpSpPr>
          <a:xfrm>
            <a:off x="3352680" y="1832040"/>
            <a:ext cx="2590560" cy="3806280"/>
            <a:chOff x="3352680" y="1832040"/>
            <a:chExt cx="2590560" cy="3806280"/>
          </a:xfrm>
        </p:grpSpPr>
        <p:sp>
          <p:nvSpPr>
            <p:cNvPr id="751" name="AutoShape 19"/>
            <p:cNvSpPr/>
            <p:nvPr/>
          </p:nvSpPr>
          <p:spPr>
            <a:xfrm>
              <a:off x="3352680" y="212220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AutoShape 20"/>
            <p:cNvSpPr/>
            <p:nvPr/>
          </p:nvSpPr>
          <p:spPr>
            <a:xfrm>
              <a:off x="3392280" y="213012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AutoShape 21"/>
            <p:cNvSpPr/>
            <p:nvPr/>
          </p:nvSpPr>
          <p:spPr>
            <a:xfrm>
              <a:off x="3413160" y="407664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22"/>
            <p:cNvSpPr/>
            <p:nvPr/>
          </p:nvSpPr>
          <p:spPr>
            <a:xfrm>
              <a:off x="3413160" y="215064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3"/>
            <p:cNvSpPr/>
            <p:nvPr/>
          </p:nvSpPr>
          <p:spPr>
            <a:xfrm>
              <a:off x="4242600" y="183204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4"/>
            <p:cNvSpPr/>
            <p:nvPr/>
          </p:nvSpPr>
          <p:spPr>
            <a:xfrm>
              <a:off x="4249800" y="183636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5"/>
            <p:cNvSpPr/>
            <p:nvPr/>
          </p:nvSpPr>
          <p:spPr>
            <a:xfrm>
              <a:off x="4259880" y="183924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6"/>
            <p:cNvSpPr/>
            <p:nvPr/>
          </p:nvSpPr>
          <p:spPr>
            <a:xfrm>
              <a:off x="4267080" y="184536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7"/>
            <p:cNvSpPr/>
            <p:nvPr/>
          </p:nvSpPr>
          <p:spPr>
            <a:xfrm>
              <a:off x="4308840" y="186048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Text Box 28"/>
            <p:cNvSpPr/>
            <p:nvPr/>
          </p:nvSpPr>
          <p:spPr>
            <a:xfrm>
              <a:off x="4444200" y="1918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Text Box 29"/>
            <p:cNvSpPr/>
            <p:nvPr/>
          </p:nvSpPr>
          <p:spPr>
            <a:xfrm>
              <a:off x="3443400" y="255060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30"/>
            <p:cNvSpPr/>
            <p:nvPr/>
          </p:nvSpPr>
          <p:spPr>
            <a:xfrm>
              <a:off x="3355920" y="481788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31"/>
            <p:cNvSpPr/>
            <p:nvPr/>
          </p:nvSpPr>
          <p:spPr>
            <a:xfrm>
              <a:off x="3409200" y="484020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32"/>
          <p:cNvGrpSpPr/>
          <p:nvPr/>
        </p:nvGrpSpPr>
        <p:grpSpPr>
          <a:xfrm>
            <a:off x="6019920" y="1828800"/>
            <a:ext cx="2742840" cy="4035600"/>
            <a:chOff x="6019920" y="1828800"/>
            <a:chExt cx="2742840" cy="4035600"/>
          </a:xfrm>
        </p:grpSpPr>
        <p:sp>
          <p:nvSpPr>
            <p:cNvPr id="765" name="AutoShape 33"/>
            <p:cNvSpPr/>
            <p:nvPr/>
          </p:nvSpPr>
          <p:spPr>
            <a:xfrm>
              <a:off x="6027480" y="213660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34"/>
            <p:cNvSpPr/>
            <p:nvPr/>
          </p:nvSpPr>
          <p:spPr>
            <a:xfrm>
              <a:off x="6069960" y="205740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utoShape 35"/>
            <p:cNvSpPr/>
            <p:nvPr/>
          </p:nvSpPr>
          <p:spPr>
            <a:xfrm>
              <a:off x="6091560" y="420840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utoShape 36"/>
            <p:cNvSpPr/>
            <p:nvPr/>
          </p:nvSpPr>
          <p:spPr>
            <a:xfrm>
              <a:off x="6091560" y="216684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37"/>
            <p:cNvGrpSpPr/>
            <p:nvPr/>
          </p:nvGrpSpPr>
          <p:grpSpPr>
            <a:xfrm>
              <a:off x="6968520" y="1828800"/>
              <a:ext cx="812520" cy="642960"/>
              <a:chOff x="6968520" y="1828800"/>
              <a:chExt cx="812520" cy="642960"/>
            </a:xfrm>
          </p:grpSpPr>
          <p:sp>
            <p:nvSpPr>
              <p:cNvPr id="770" name="Oval 38"/>
              <p:cNvSpPr/>
              <p:nvPr/>
            </p:nvSpPr>
            <p:spPr>
              <a:xfrm>
                <a:off x="6968520" y="182880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Oval 39"/>
              <p:cNvSpPr/>
              <p:nvPr/>
            </p:nvSpPr>
            <p:spPr>
              <a:xfrm>
                <a:off x="6976800" y="183348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0"/>
              <p:cNvSpPr/>
              <p:nvPr/>
            </p:nvSpPr>
            <p:spPr>
              <a:xfrm>
                <a:off x="6986520" y="183744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41"/>
              <p:cNvSpPr/>
              <p:nvPr/>
            </p:nvSpPr>
            <p:spPr>
              <a:xfrm>
                <a:off x="6995160" y="184320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Oval 42"/>
              <p:cNvSpPr/>
              <p:nvPr/>
            </p:nvSpPr>
            <p:spPr>
              <a:xfrm>
                <a:off x="7037640" y="185868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Text Box 43"/>
            <p:cNvSpPr/>
            <p:nvPr/>
          </p:nvSpPr>
          <p:spPr>
            <a:xfrm>
              <a:off x="7191720" y="192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44"/>
            <p:cNvSpPr/>
            <p:nvPr/>
          </p:nvSpPr>
          <p:spPr>
            <a:xfrm>
              <a:off x="6123960" y="259092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AutoShape 45"/>
            <p:cNvSpPr/>
            <p:nvPr/>
          </p:nvSpPr>
          <p:spPr>
            <a:xfrm>
              <a:off x="6019920" y="499428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AutoShape 46"/>
            <p:cNvSpPr/>
            <p:nvPr/>
          </p:nvSpPr>
          <p:spPr>
            <a:xfrm>
              <a:off x="6075720" y="501804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Прямоугольник 46"/>
          <p:cNvSpPr/>
          <p:nvPr/>
        </p:nvSpPr>
        <p:spPr>
          <a:xfrm>
            <a:off x="228600" y="22096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вмешивайтесь в выполнение домашнего 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проси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ощ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оугольник 47"/>
          <p:cNvSpPr/>
          <p:nvPr/>
        </p:nvSpPr>
        <p:spPr>
          <a:xfrm>
            <a:off x="3657600" y="24382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оугольник 48"/>
          <p:cNvSpPr/>
          <p:nvPr/>
        </p:nvSpPr>
        <p:spPr>
          <a:xfrm>
            <a:off x="6019920" y="2362320"/>
            <a:ext cx="2895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мере освоения 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ействий, постепенно передавайте 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8" descr="Учитель"/>
          <p:cNvPicPr/>
          <p:nvPr/>
        </p:nvPicPr>
        <p:blipFill>
          <a:blip r:embed="rId1"/>
          <a:stretch/>
        </p:blipFill>
        <p:spPr>
          <a:xfrm>
            <a:off x="762120" y="48769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бенок должен готовить домашнее зад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ыяс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строй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тм выполнения домашнего задания               индивидуален для каждого ребенка                 Не Следует ни торопиться, и ни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5" descr="р19"/>
          <p:cNvPicPr/>
          <p:nvPr/>
        </p:nvPicPr>
        <p:blipFill>
          <a:blip r:embed="rId1"/>
          <a:stretch/>
        </p:blipFill>
        <p:spPr>
          <a:xfrm>
            <a:off x="6583320" y="3886200"/>
            <a:ext cx="2560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Рисунок 4" descr="1september.jpg"/>
          <p:cNvPicPr/>
          <p:nvPr/>
        </p:nvPicPr>
        <p:blipFill>
          <a:blip r:embed="rId1"/>
          <a:stretch/>
        </p:blipFill>
        <p:spPr>
          <a:xfrm>
            <a:off x="7620120" y="152280"/>
            <a:ext cx="1333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228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рё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учитьс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a0aff"/>
                </a:solidFill>
                <a:latin typeface="Arial"/>
              </a:rPr>
              <a:t>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Статья 52                                «Закон «Закон об образован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5" descr="j0088510"/>
          <p:cNvPicPr/>
          <p:nvPr/>
        </p:nvPicPr>
        <p:blipFill>
          <a:blip r:embed="rId1"/>
          <a:stretch/>
        </p:blipFill>
        <p:spPr>
          <a:xfrm>
            <a:off x="5943600" y="3200400"/>
            <a:ext cx="30052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WordArt 2"/>
          <p:cNvSpPr txBox="1"/>
          <p:nvPr/>
        </p:nvSpPr>
        <p:spPr>
          <a:xfrm rot="20901000">
            <a:off x="831960" y="1698120"/>
            <a:ext cx="7418160" cy="271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99" name="Picture 3" descr="j0305589[1]"/>
          <p:cNvPicPr/>
          <p:nvPr/>
        </p:nvPicPr>
        <p:blipFill>
          <a:blip r:embed="rId1"/>
          <a:stretch/>
        </p:blipFill>
        <p:spPr>
          <a:xfrm>
            <a:off x="6556320" y="4549680"/>
            <a:ext cx="1647720" cy="139392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8" descr="Учитель"/>
          <p:cNvPicPr/>
          <p:nvPr/>
        </p:nvPicPr>
        <p:blipFill>
          <a:blip r:embed="rId2"/>
          <a:stretch/>
        </p:blipFill>
        <p:spPr>
          <a:xfrm>
            <a:off x="457200" y="990720"/>
            <a:ext cx="1868400" cy="162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2" descr=""/>
          <p:cNvPicPr/>
          <p:nvPr/>
        </p:nvPicPr>
        <p:blipFill>
          <a:blip r:embed="rId1"/>
          <a:stretch/>
        </p:blipFill>
        <p:spPr>
          <a:xfrm>
            <a:off x="1214280" y="142920"/>
            <a:ext cx="7429680" cy="6429240"/>
          </a:xfrm>
          <a:prstGeom prst="rect">
            <a:avLst/>
          </a:prstGeom>
          <a:ln w="0">
            <a:noFill/>
          </a:ln>
        </p:spPr>
      </p:pic>
      <p:sp>
        <p:nvSpPr>
          <p:cNvPr id="676" name="Прямоугольник 4"/>
          <p:cNvSpPr/>
          <p:nvPr/>
        </p:nvSpPr>
        <p:spPr>
          <a:xfrm>
            <a:off x="2500200" y="5857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436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5436a"/>
                </a:solidFill>
                <a:latin typeface="Arial"/>
              </a:rPr>
              <a:t>Р. Кипл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Карандаш"/>
          <p:cNvPicPr/>
          <p:nvPr/>
        </p:nvPicPr>
        <p:blipFill>
          <a:blip r:embed="rId2"/>
          <a:stretch/>
        </p:blipFill>
        <p:spPr>
          <a:xfrm>
            <a:off x="7929720" y="3929040"/>
            <a:ext cx="1684080" cy="24606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Глобус"/>
          <p:cNvPicPr/>
          <p:nvPr/>
        </p:nvPicPr>
        <p:blipFill>
          <a:blip r:embed="rId3"/>
          <a:stretch/>
        </p:blipFill>
        <p:spPr>
          <a:xfrm>
            <a:off x="142920" y="1429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ритерии оц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3» 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Arial"/>
              </a:rPr>
              <a:t>«2» 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781680" y="137160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 4" descr="335ohp.jpg"/>
          <p:cNvPicPr/>
          <p:nvPr/>
        </p:nvPicPr>
        <p:blipFill>
          <a:blip r:embed="rId2"/>
          <a:stretch/>
        </p:blipFill>
        <p:spPr>
          <a:xfrm>
            <a:off x="228600" y="1143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рфографическ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«2»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5720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работа без ошиб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«3»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2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«2»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- 3-5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411480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онтрольн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безошибочно выполнены все зад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- выполнено правильно не менее 3/4 всех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3» - выполнено не менее ½ зад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0aff"/>
                </a:solidFill>
                <a:latin typeface="Arial"/>
              </a:rPr>
              <a:t>«2» - ученик не справился с большинством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477120" y="495288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исьменная рабо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держащая только 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5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вся работа выполнена безошибочно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4»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3» - допущены 3-4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«2» - допущены 5 и более вычислительных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Рисунок 3" descr="учитель.gif"/>
          <p:cNvPicPr/>
          <p:nvPr/>
        </p:nvPicPr>
        <p:blipFill>
          <a:blip r:embed="rId1"/>
          <a:stretch/>
        </p:blipFill>
        <p:spPr>
          <a:xfrm>
            <a:off x="6553080" y="5029200"/>
            <a:ext cx="1694160" cy="14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mama</cp:lastModifiedBy>
  <dcterms:modified xsi:type="dcterms:W3CDTF">2022-05-04T13:01:43Z</dcterms:modified>
  <cp:revision>86</cp:revision>
  <dc:subject/>
  <dc:title>PowerPoint Template</dc:title>
</cp:coreProperties>
</file>