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0.png" ContentType="image/png"/>
  <Override PartName="/ppt/media/image28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wmf" ContentType="image/x-wmf"/>
  <Override PartName="/ppt/media/image17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33B-963B-47DE-8080-9BEFB0E8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789-8F5B-4089-8A87-5824A668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315EE-C404-4672-B29D-4F45359F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98E6D-9E5C-49DA-B0FA-BDF7FE37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AE528-7C89-4F95-8083-79D6C2D5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16B88-3CBD-4209-B757-C5B5D1FC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3EE1B-0CE5-4729-AD4E-7429F77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88362-C080-4CF4-9993-FAF97980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C8F65-173B-4C87-8DDC-A70F1F3D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D129A-48BE-4854-9B64-72346970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94822-0FA9-41C4-B1E7-E1F476E8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4702F-E7D7-42A7-B85A-B6E6EA24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875-8854-4885-BE60-E0AC0A8D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46494-72D6-4221-B3C2-133B5C93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999C6-C596-4816-94BA-DB48706B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F25B7-81FE-49CF-83E5-13FDAF99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12AFF-27CA-4702-AB31-0F422B64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A7AEE-1B39-43FE-8521-4398DAD0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2FAE7-150A-41E1-9AB0-222C7040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A8323-677C-48C3-801A-422291A9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A6AF7-AA2B-4645-925D-2300A6E1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CF0B7-8455-4D8D-8FAB-30E22543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5CB1F-28D2-4993-9F46-36F9DE63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999-249A-40AF-A6B8-8FB9205D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55882-A60F-4F76-9975-4D1511FF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54226-F567-4D69-8059-69233B77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88029-7847-4740-8DFA-4826AE94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DD4F5-8524-4441-A868-B3DF9578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1CB66-AE8A-4F62-8E6C-BCBAD454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02059-3D17-4083-98ED-0B609097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92FDC-5816-418D-8805-E2144C6B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9842D-5EF1-4C85-82CA-22360EE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42F09-5437-47FB-BCED-A8DD7B0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C5125-972E-4044-A8D8-E9614197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7533-204A-4F7A-A65D-5973634E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AACE9-F1C0-49F0-A2E1-D86C38EC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1840B-4175-41E6-AFEF-2C98B373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807FD-AB7E-4828-831A-B9FC1927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07BE3-3934-46B1-9538-91A56384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9BCFA-A8A5-49B7-83F8-2288D7BC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30392-2378-466A-85C1-371390D4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01107-C784-442E-B078-71615D47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01AAC-812B-4652-9A5A-A7B29C88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D7E90-0BCA-4A14-BBAA-FE9AB524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66C8C-FA34-4A0A-9B99-1549E05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CA7F-355C-465E-9654-23F0C6F6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8E835-2B92-4CB7-9ED4-03A52833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8C3E9-4D28-4A55-B6D8-FB790EED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F8033-BAF4-4C59-84DB-2B555D27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41E7A-18BE-4A90-9068-CA538E53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86BBF-F5ED-41DE-AAB7-2CA41619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B2499-2EBB-4296-A4BA-671F0868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E8FEE-27EC-4EBC-9629-2F1BDA8F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6EE95-A985-433D-9841-57E1205B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9DDC3-ECAA-459F-A2E6-0A96C7F6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16C19-C3EE-4232-AFC7-B883E5B4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8EED-59A7-4BB9-A7D1-9C5B0EB0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8FE45-0672-47C3-9F37-2CF001A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6E3AD-2F85-4D12-B762-73B62FF3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C6D7D-4CFF-4C58-BFED-5BDD905D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F931B-4B4B-4258-A56D-822C6664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5FEC1-0540-45EE-8C6E-10D75FA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8485F-E7AE-4E24-ADF3-B5D6A474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8E85B-EA96-455B-9AB3-9DB73FCF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767CA-C963-45C3-8250-3DA4DD53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7143E-9156-4DD1-AD4B-05BDBA84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9DBD7-B13D-4231-BD69-1F0488BB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F35D-D9B2-498C-9464-7999E1C7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08BD2-920F-4303-AC73-9B7512FF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A8DA0-6357-4F06-AC27-05564D57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392D8-E5DC-4712-B996-D5AF4E5F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6EE6B-DD65-403C-BBF6-7F3CC2E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85343-59B6-407A-AAE9-9A455D4E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5C869-F8E8-48EF-93EC-A01B3F90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FAB47-B86D-4D1E-A70B-2C816D27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40C1E-0E0B-4243-B7CF-D14B520C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FE367-9FF2-48EB-A595-8F10E9E7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AAD57-FC59-4A2A-B0B7-8723C70A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2B3A-EC0A-425B-84E6-AF5FC3A5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BE46F-FD31-44A9-822B-199C633D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AE167-DD9E-4874-9DFC-445D71FC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5520B-D123-4A5F-9C7A-A3118868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62E2B-8D72-4A85-8056-F2F46B42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7DE1E-A36F-438B-B5F9-9327F2F7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B1915-7764-4743-B8AF-E495B971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C068E0-03E0-41D1-B15D-9C8BD807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B3A3B-019A-4185-B76E-4B1F9129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68F30-A6DE-4591-9CBD-4FC66A5B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87156-03D9-40CA-9898-91EE9324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DD78-B81A-416F-A36F-5E44CB7D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D7458-489A-4B69-A7C0-C9B50A48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9FAA-9B6A-420F-B334-AD5153DD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B88-555B-4A2C-9767-B0CD9129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4B0B-F6D0-4D5E-82A2-BD52DBA6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88CF-3A0E-47A9-8BEB-FE78B101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0D3B-2AC1-4D21-B97E-25860D15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BEC4-CAE0-4A00-8AF5-4758EF88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87D3-AF0F-4481-A179-1A8EAACD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09F24-5345-4476-9AE2-482F00C9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78FD-4E82-4F92-B6DE-6E96F138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F779-C3F2-45BA-BE67-8F71A9E6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B21B-20C3-4CE0-8419-7641F184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7AD0-249F-4624-AABB-DEA72D38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257-28AC-4E04-B4D9-BF24B7A8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B642F-A345-4ADA-8A7D-F62E76F7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A87FE-3B7E-4F14-8FA6-16E84FDC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BD06-AD6D-44CF-B98E-BE67A1CE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C2B1-CFE7-40BE-99D0-6D28738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57BA-A7C9-4CC2-AA1D-749533D7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0E09-2B9F-432D-A6A0-C39AE604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F7CA-2C48-4FB3-A8B4-4F4B69CD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3150-6ECC-4E2F-B43C-C51FC7FA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8AC3-4A1E-4F55-8746-816F6FBD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2F391-26F0-417B-805C-B044A616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4C8-AB5E-4F7C-AD38-0D9025B8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00BB-8689-451A-963C-77A94E9C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BCB5-CFEA-448C-AE06-C2A76FFF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31EB4-C744-4081-8D67-14A1DE0D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8377-75E8-4765-9292-63699BF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D07A-E64A-410B-BBAA-759473CF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3467-9048-4FEB-A4DC-A16A07EA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2BB2B-769F-4111-A9FC-5C923445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FB227-7D64-449D-B4AD-ABFF4CA3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7711-166A-4CEB-B932-31577118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C8375-0B62-473B-99E6-AF80D3EA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A55-DF27-46B5-A359-D220703C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A5FF8-9EA4-4BDC-AB2F-D945FFB2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BE63E-7D23-4417-B7B3-D3C9A808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1D56C-2946-4092-8836-8E59C9BA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C23E-2DC6-432F-B1B2-9C633434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8CE98-8CB6-44B5-8D81-1FF669F6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3E1D1-FFC1-48A4-8DBD-E2551A53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5EE10-653D-4773-8279-6D50360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E873E-C03F-4403-9564-6F601232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70A76-2B67-4651-A246-4573A15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E0CBF-ABC1-45DE-BE96-D0F151CA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31E-842A-43D3-B23A-3B6F3746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4F76-DCE5-4D0A-82E1-D5D5387B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737B4-BE14-4F70-8AC2-6B5AB68B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0273C-F8B6-496A-A847-468D0A0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3E4DD-B3C7-461D-9CA1-2F928D7A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DB6E3-6A63-4C95-B1A5-4CE2289D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9EAC9-34AB-4C6E-BA16-0C8DABC6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EF7E-69C6-4FFD-8D3A-8D987586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D7638-100A-4176-833C-55A6BBA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5354E-2F8C-4234-8C62-326AB37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DE901-A3CC-434A-B20B-425C7062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97D-A4E3-4073-A47C-FFEB3213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D365-2BA7-4BEC-830D-040EDCD1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A14BC-D3A4-48C1-A7EA-E2D4B75A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18F52-0C75-4432-8538-AEF59F7A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C7F8F-6E88-44AB-989F-1BC021F7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5781C-35D4-41C5-89DE-C12FE2BC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DA5F2-89CB-4347-9652-C04914A5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BFD60-54FD-4B8D-ABB9-59217042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24765-F981-42E5-AB13-E705EE48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7203A-842A-412F-9ADE-52EF9E65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9BBCB-39D8-408C-B883-BD8750F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2BB-2CF0-4C61-A067-5E3912A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6A002-D566-4EA4-9A26-FAC15D9C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82061-3D77-4C41-A193-63F3594D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6F566-4779-462E-95BC-F8DC3022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9EB86-61EF-4754-9AA7-C47E21ED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2E1B6-21DE-499D-987B-2D772E3B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539B3-77AF-402C-8F6B-CA50F023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E6FC8-0D44-41C9-8B88-1F7AA232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CF346-ECCE-474D-998A-3EF7D4E9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4B6C4-670D-444E-A540-0DCF89E7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79108-5ACF-44BB-A9AF-38B2332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0F1-AF78-4725-9C62-3F8AA8AF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DABDE-E9DD-4CEA-B2B4-62ED19AB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AF033-0CDD-4898-8511-BEF56D0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7C1DB-FFAF-4907-ACA1-0ADE89E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4CB3D-5D29-413C-989C-8D130D32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BAFC4-FAD7-43C7-BF7A-E0E92C39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F77A2-AA2C-4D60-AB1B-2A4C368E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FF6D6-9AD8-4802-8C01-6EE50724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C4900-7A06-4FCB-9498-0B7A0886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8B92E-E416-4900-A723-1E0F2C9C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68ECC-44E4-4986-B935-A64EBCF7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A8FB-8706-473B-B6A3-267EF8D64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3693-7CEC-46D0-88B4-D9277697ED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BE26-2360-45C9-8ABA-EBB1883A9D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92C9-FECA-433D-86F2-33676E6EFF7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D5CD-1076-47A8-AA45-6FD8B89E28E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72BE-443A-4187-B8CB-39E616A85DD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68FD-75F6-47EE-B3ED-42533300184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7677-F35C-4664-9952-1097DAB5AD6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0880-7B07-4B54-BAFC-F3EB26AF232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1DDF-8B9C-4039-A987-3FF146B3B2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F80D-CA1B-4C82-917D-B6DAFD8447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650D-1396-4430-9089-A534CD54BC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2F0D-8A70-410F-85AC-E388F3C75B3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2AC7-EEC9-4FD1-AB0B-8A0059380D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EE89-7178-45A6-A1CB-8D10EB5AAC3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ки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717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64305"/>
                </a:solidFill>
                <a:latin typeface="Corbel"/>
              </a:rPr>
              <a:t>Родительское собрание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Corbel"/>
              </a:rPr>
              <a:t>Повестка дня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Результаты учебно – воспитательного процесса за 2 четверть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Оценка. Отмет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 оценки .Как к ней относиться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Разно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36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43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51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65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70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99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2" descr=""/>
          <p:cNvPicPr/>
          <p:nvPr/>
        </p:nvPicPr>
        <p:blipFill>
          <a:blip r:embed="rId1"/>
          <a:stretch/>
        </p:blipFill>
        <p:spPr>
          <a:xfrm>
            <a:off x="1214280" y="142920"/>
            <a:ext cx="7429680" cy="642924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4"/>
          <p:cNvSpPr/>
          <p:nvPr/>
        </p:nvSpPr>
        <p:spPr>
          <a:xfrm>
            <a:off x="2500200" y="5857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5436a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Карандаш"/>
          <p:cNvPicPr/>
          <p:nvPr/>
        </p:nvPicPr>
        <p:blipFill>
          <a:blip r:embed="rId2"/>
          <a:stretch/>
        </p:blipFill>
        <p:spPr>
          <a:xfrm>
            <a:off x="7929720" y="3929040"/>
            <a:ext cx="1684080" cy="24606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Глобус"/>
          <p:cNvPicPr/>
          <p:nvPr/>
        </p:nvPicPr>
        <p:blipFill>
          <a:blip r:embed="rId3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82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mama</cp:lastModifiedBy>
  <dcterms:modified xsi:type="dcterms:W3CDTF">2022-05-04T13:01:43Z</dcterms:modified>
  <cp:revision>86</cp:revision>
  <dc:subject/>
  <dc:title>PowerPoint Template</dc:title>
</cp:coreProperties>
</file>