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94D-44C5-4220-BED9-6BC7DFFB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F4E2-D3C4-4AFA-9645-CC6DFAC5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1FBE-083F-4C8C-8116-C4621C14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9DE-6FB0-4A8B-A530-972A2866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BEF3-9D0C-4F10-851A-69E39D44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100E-04D5-4156-80C5-34E76125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A99E-82B8-400E-8166-7716D942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23CC-00E7-4F57-BB7D-5948154D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C8B9-EFAA-4244-B3AA-B947DE04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F098-FF18-4B92-B92D-A1900E76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3057-76D2-4E0C-B86C-F4558C96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235-7EAC-4086-B68E-4828FC5F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D555-C7D2-4D47-82FD-7FF0D786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C3B7-F1F9-49D3-BA8B-CC874257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7A7A-7D34-49F4-9FA1-CBF8C277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1BF0-6C26-4F4F-99FE-26A719C5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7CCB-DE3A-4EAC-B637-899CDDE2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C644-9E6C-4F35-8AF9-5115BE15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5EF-CF04-496A-9EB6-538A7A33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9B4-7E76-4A9B-A04E-BE78F872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CD4-885C-4EBA-98FD-A5A29DC0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790-0259-4552-B470-6043AA18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FD3-7267-40C2-B88E-FB16B0A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A10-A9AA-4868-8BFE-B7A3D0B0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24B9-94BF-44C0-912D-CC04055E48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d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d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dd8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F81-70CC-472C-8F45-6D5B9E5090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d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dd89"/>
                </a:solidFill>
                <a:latin typeface="Garamond"/>
              </a:rPr>
              <a:t>Ручная художественная гладь</a:t>
            </a:r>
            <a:endParaRPr b="0" lang="en-US" sz="52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724000" y="4508640"/>
            <a:ext cx="204804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8 класс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89308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223920"/>
            <a:ext cx="889308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89308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00"/>
                </a:solidFill>
                <a:latin typeface="Garamond"/>
              </a:rPr>
              <a:t>Вышивка</a:t>
            </a: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Это украшение изделий из различных материалов орнаментальными  узорами или сюжетным изображением, выполненным нитками и другими материалами вручную с помощью иглы или машинным способо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Garamond"/>
              </a:rPr>
              <a:t>Материалы:</a:t>
            </a: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Жилы животны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Натуральные или окрашенные нити льна, хлопка, шел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Воло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Жемчу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Драгоценные камн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Бу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Бисе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Монет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ракушк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ревняя вышивка относится к 4-5 вв. до н.э. в Др.Китае на шелковых тканях шелком-сырцом, волосом, золотой и серебряной нитя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Др.Индия и Иран- характерно множеством растительных мотивов, изображением животных и жанровых сцен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изантия-роскошь шелкового и золотого шитья, разнообразие растительных узор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глия , 13 в.- богатая вышивка золотом, серебром, шелком, разнообразие цветов и переплетающиеся завитки растен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Франция, Германия, Италия и др. страны Европы, 16-17 вв.- вышитые портреты, панно с изображением людей, животных на фоне пейзажа с замк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 кнца13в. Начала 14в. Во Франции, Германии, Швеции, Англии, Дании, Норвегии- вышивка в народном костюме и для украшения бытовых предметов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России вышивкой украшали одежду, обувь, конскую сбрую, жилище, предметы бы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96840"/>
            <a:ext cx="889308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0920" y="458640"/>
            <a:ext cx="8893080" cy="61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223920"/>
            <a:ext cx="8893080" cy="63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326880"/>
            <a:ext cx="889308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1T14:36:29Z</dcterms:created>
  <dc:creator>ыва</dc:creator>
  <dc:description/>
  <dc:language>en-US</dc:language>
  <cp:lastModifiedBy>ыва</cp:lastModifiedBy>
  <dcterms:modified xsi:type="dcterms:W3CDTF">2016-01-21T15:02:30Z</dcterms:modified>
  <cp:revision>2</cp:revision>
  <dc:subject/>
  <dc:title>Ручная художественная гладь</dc:title>
</cp:coreProperties>
</file>