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2B1-B7AA-4AB2-8FD0-6BC9E04A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DB0-6864-4544-BF37-3D448FC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C00-A3A6-4D31-8751-BD88051A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164-A36D-49F1-AE66-F4A84045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4C20-F4D2-4B47-B98A-51AA930C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B39E-8B3D-4E3C-A3B9-CB8FC3C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B88-D4BC-49EA-AC80-2515F5F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A32C-5545-43D1-9342-99F5563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408-D5EA-469B-9A08-5FCA4499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31A1-9C16-4CD7-B347-525AAC6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E95E-4656-437A-BA9C-B0DE321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97D-12FA-45DA-865F-99E0332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660-DD0F-44FF-84CC-87146B2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1E4-A89E-4BEA-A703-ED71C1A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0DF-5E0F-4414-AFF9-A979300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F64E-80EC-4479-8824-2F862C25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0C5-9CF0-4060-94C6-216F8D06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C71-E015-4BE2-A59B-0DEFBAA6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7CC-FC5F-4EF9-AB96-64CC92D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B19-32EA-425C-9322-07F48DC5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3F1-8E2E-4877-AC95-C946ECB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F4D-6C82-4259-A591-13647DE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C42-05F9-47B5-8A12-2FA14F9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734-6887-465B-BC7D-39C67B2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6B78-A007-4736-9774-90591534CF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dd8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BDE-7C39-4290-A9AC-1854008B4A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dd89"/>
                </a:solidFill>
                <a:latin typeface="Garamond"/>
              </a:rPr>
              <a:t>Ручная художественная гладь</a:t>
            </a:r>
            <a:endParaRPr b="0" lang="en-US" sz="52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24000" y="4508640"/>
            <a:ext cx="204804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8 класс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8930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223920"/>
            <a:ext cx="88930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Garamond"/>
              </a:rPr>
              <a:t>Вышивка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Это украшение изделий из различных материалов орнаментальными  узорами или сюжетным изображением, выполненным нитками и другими материалами вручную с помощью иглы или машинным способ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Garamond"/>
              </a:rPr>
              <a:t>Материалы: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Жилы животны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Натуральные или окрашенные нити льна, хлопка, шел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Воло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Жемч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Драгоценные кам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Бу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Бис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Монет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ракуш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ревняя вышивка относится к 4-5 вв. до н.э. в Др.Китае на шелковых тканях шелком-сырцом, волосом, золотой и серебряной нитя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р.Индия и Иран- характерно множеством растительных мотивов, изображением животных и жанровых сце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изантия-роскошь шелкового и золотого шитья, разнообразие растительных узор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глия , 13 в.- богатая вышивка золотом, серебром, шелком, разнообразие цветов и переплетающиеся завитки раст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ранция, Германия, Италия и др. страны Европы, 16-17 вв.- вышитые портреты, панно с изображением людей, животных на фоне пейзажа с замк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кнца13в. Начала 14в. Во Франции, Германии, Швеции, Англии, Дании, Норвегии- вышивка в народном костюме и для украшения бытовых предме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России вышивкой украшали одежду, обувь, конскую сбрую, жилище, предметы бы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96840"/>
            <a:ext cx="889308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458640"/>
            <a:ext cx="88930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23920"/>
            <a:ext cx="88930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326880"/>
            <a:ext cx="889308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4:36:29Z</dcterms:created>
  <dc:creator>ыва</dc:creator>
  <dc:description/>
  <dc:language>en-US</dc:language>
  <cp:lastModifiedBy>ыва</cp:lastModifiedBy>
  <dcterms:modified xsi:type="dcterms:W3CDTF">2016-01-21T15:02:30Z</dcterms:modified>
  <cp:revision>2</cp:revision>
  <dc:subject/>
  <dc:title>Ручная художественная гладь</dc:title>
</cp:coreProperties>
</file>