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203-5FFE-48B5-96D3-3A23697D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681-8D61-41A9-83E1-C80A290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C95-31A0-427D-B554-FF7513CD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468-0716-4464-8FAE-DA2546D5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E848-2CF6-474F-BFFB-FB420C4E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7A4-5F4E-4D7D-B823-DF2E1B49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C257-0D71-4762-AD92-26C62861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4C62-533B-481E-A606-DEFBD9C9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83C1-A096-4FB1-B154-FB2A1EE8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4AF9-D8DD-4C60-A762-0CF93CE0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9F8B-44E4-4396-A65E-4F68B01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A35-1277-43A8-AA8D-DDB3E2E6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198-A30E-44BC-906C-E3B930F7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2A0A-E34E-4580-9694-265D482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08C3-E76F-40C5-8E85-01223E59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D7F4-DE71-40EA-9875-BCBBA300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6462-4A74-46FB-872B-1FC85036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37C-7968-4094-B859-4EBF708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B16-A303-4FD7-A393-0657963E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A8E-6CA4-4892-96CF-0B2D9D7C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33F-A97B-4258-9963-6B42326E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8F7-4D56-4624-A611-9B6F0536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9E1-3CE4-4681-84D5-28C839E3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64A-7411-4F04-9749-32A3B233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D870-0A61-4E06-A7DD-5FBD641B18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222B-0F53-4AC2-B43B-513861ECD2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itchmaker.ucoz.ua/_fr/0/0590309.gif" TargetMode="External"/><Relationship Id="rId2" Type="http://schemas.openxmlformats.org/officeDocument/2006/relationships/hyperlink" Target="http://stitchmaker.ucoz.ua/_fr/0/0590309.gif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Arial"/>
              </a:rPr>
              <a:t>Технология выполнения простейших ручных шв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бочее мес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Стол со всеми инструментами и приспособ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струменты и приспособл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ожницы (маленькие с загнутыми концами, и больш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ышивальные иглы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1-для вышивки на тонких тканя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-5-для работы на льняных тканя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6-12-для работы на тканях с шерстяными, синтетическими нит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066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яльцы- бывают круглой и овальной формы, пластмассовые и деревянн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персто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гольниц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арандаш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кани- однотонные х/б, льняные, шелковые, шерстяные и смешан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итки- МУЛИН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алька или копировальная бума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Крес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701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Ряд крестиков вышивается вперед-назад. Нижние стежки вышивают слева направо над нитями ткани накрест, а верхние с наклоном справа налево над нижними стежками. Между крестиками с изнаночной стороны работы оказываются вертикальные двойные стежки. В основе правильного крестика — квадрат.</a:t>
            </a:r>
            <a:br>
              <a:rPr sz="2200"/>
            </a:br>
            <a:r>
              <a:rPr b="0" lang="ru-RU" sz="2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stitchmaker.ucoz.ua/_fr/0/s05903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95720" y="620640"/>
            <a:ext cx="3969000" cy="5761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6840" y="192348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969"/>
                </a:solidFill>
                <a:latin typeface="Verdana"/>
                <a:ea typeface="Times New Roman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олукрес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280" y="907920"/>
            <a:ext cx="3961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Используется при тонкой основе или толстой вышивальной нити. Для этого прокладывают на ткани по длине целого ряда стежков вышивальную нить, над которой вышивают нижние стежки крестика по направлению слева направо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4995765"/>
          <p:cNvPicPr/>
          <p:nvPr/>
        </p:nvPicPr>
        <p:blipFill>
          <a:blip r:embed="rId1"/>
          <a:stretch/>
        </p:blipFill>
        <p:spPr>
          <a:xfrm>
            <a:off x="611280" y="1700280"/>
            <a:ext cx="431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ЯМОЕ ГОБЕЛЕНОВОЕ ШИТЬЕ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44132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ышивают горизонтальными рядами слева направо или справа налево. Высота стежка – 2-3-4 нити ткани. Между стежками — нить ткани. В основе группы стежков — квадра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s8861404"/>
          <p:cNvPicPr/>
          <p:nvPr/>
        </p:nvPicPr>
        <p:blipFill>
          <a:blip r:embed="rId1"/>
          <a:stretch/>
        </p:blipFill>
        <p:spPr>
          <a:xfrm>
            <a:off x="4932360" y="1628640"/>
            <a:ext cx="3983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ОЕ ГОБЕЛЕНОВОЕ ШИТЬЕ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905120"/>
            <a:ext cx="395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ышивают обычно через две нити ткани в высоту и через одну нить ткани в ширину с направлением слева напра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s7029938"/>
          <p:cNvPicPr/>
          <p:nvPr/>
        </p:nvPicPr>
        <p:blipFill>
          <a:blip r:embed="rId1"/>
          <a:stretch/>
        </p:blipFill>
        <p:spPr>
          <a:xfrm>
            <a:off x="5003640" y="1268280"/>
            <a:ext cx="3897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РЕПСОВЫЙ ШОВ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 отличие от гобеленового шитья выполняют вертикальными рядами. Высота стежка - одна и ширина стежка - две нити ткани.</a:t>
            </a:r>
            <a:br>
              <a:rPr sz="2600"/>
            </a:br>
            <a:br>
              <a:rPr sz="2600"/>
            </a:b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s3503952"/>
          <p:cNvPicPr/>
          <p:nvPr/>
        </p:nvPicPr>
        <p:blipFill>
          <a:blip r:embed="rId1"/>
          <a:stretch/>
        </p:blipFill>
        <p:spPr>
          <a:xfrm>
            <a:off x="539640" y="1844640"/>
            <a:ext cx="4278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ТАМБУРНЫЙ ШОВ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62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Направление вышивки — сверху вниз. Выведенную на лицевую сторону иглу вкалывают снова в место прокола. Из вышивальной нити образуется петля, придерживая которую большим пальцем левой руки, делают стежок желаемой длины, новый прокол на лицевую сторону делают в середине петли. Шов используется для вышивания отдельных линий, оконтуривания больших фигур и покрытия больших поверхностей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s2420773"/>
          <p:cNvPicPr/>
          <p:nvPr/>
        </p:nvPicPr>
        <p:blipFill>
          <a:blip r:embed="rId1"/>
          <a:stretch/>
        </p:blipFill>
        <p:spPr>
          <a:xfrm>
            <a:off x="5003640" y="1706400"/>
            <a:ext cx="39610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12:49:34Z</dcterms:created>
  <dc:creator>ыва</dc:creator>
  <dc:description/>
  <dc:language>en-US</dc:language>
  <cp:lastModifiedBy>ПК</cp:lastModifiedBy>
  <dcterms:modified xsi:type="dcterms:W3CDTF">2022-05-04T10:07:19Z</dcterms:modified>
  <cp:revision>3</cp:revision>
  <dc:subject/>
  <dc:title>Технология выполнения простейших ручных швов</dc:title>
</cp:coreProperties>
</file>