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DE2-083F-4150-A903-2F3BDFE9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535-529A-427F-B3A5-A5738F1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7199-ECCB-4DA6-8621-01982EB6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6B3-D6EE-4ECC-A221-1216D0A1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09E3-5F98-48BE-A8F9-BEACB821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E8B-6D7E-4AB7-93D8-6BC4B029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D77F-5106-4338-B699-8C8F576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DA0-1808-47C9-A721-5C122024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D8C6-8897-461C-9BCC-35B95838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891B-5645-4BAD-A311-D2C920C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518-9051-442A-A40C-8A7E531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47F-83E0-456B-AFE2-ED1A14B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8F2E-D24A-474D-9B74-7F3B252C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B7E8-33CC-4CAD-97F1-0193F35E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DAD2-D9DD-46F1-AF88-8C29BD2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54B-1767-4EAC-BBA4-8763AF58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2014-0A32-445D-8D8F-E64EBD1C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8DB-A70F-4332-B8D4-95FB47A2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A1E-D612-4BE4-8FE9-36C10CD3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D3B-E27E-4B19-A7C2-78F5A712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71F-1622-4831-9AE9-CF57FE04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3C0-5567-4D70-873C-F27725FA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BB8-C6C3-4410-91CA-FCA5C33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603-0D7A-4426-9B1B-EF20C55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4EC-03A6-4373-83D7-46884D3553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B42-D359-4784-BB9F-ACFB05409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itchmaker.ucoz.ua/_fr/0/0590309.gif" TargetMode="External"/><Relationship Id="rId2" Type="http://schemas.openxmlformats.org/officeDocument/2006/relationships/hyperlink" Target="http://stitchmaker.ucoz.ua/_fr/0/0590309.gif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99"/>
                </a:solidFill>
                <a:latin typeface="Arial"/>
              </a:rPr>
              <a:t>Технология выполнения простейших ручных шв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бочее мест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Стол со всеми инструментами и приспособ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нструменты и приспособл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ожницы (маленькие с загнутыми концами, и больши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ышивальные иглы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1-для вышивки на тонких ткан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2-5-для работы на льняных тканях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6-12-для работы на тканях с шерстяными, синтетическими нит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066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яльцы- бывают круглой и овальной формы, пластмассовые и деревян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аперсток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гольниц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арандаш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кани- однотонные х/б, льняные, шелковые, шерстяные и смешан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итки- МУЛИН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алька или копировальная бума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Кр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701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яд крестиков вышивается вперед-назад. Нижние стежки вышивают слева направо над нитями ткани накрест, а верхние с наклоном справа налево над нижними стежками. Между крестиками с изнаночной стороны работы оказываются вертикальные двойные стежки. В основе правильного крестика — квадрат.</a:t>
            </a:r>
            <a:br>
              <a:rPr sz="2200"/>
            </a:br>
            <a:r>
              <a:rPr b="0" lang="ru-RU" sz="2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stitchmaker.ucoz.ua/_fr/0/s0590309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95720" y="620640"/>
            <a:ext cx="3969000" cy="5761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6840" y="192348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96969"/>
                </a:solidFill>
                <a:latin typeface="Verdana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Полукр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280" y="907920"/>
            <a:ext cx="3961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Используется при тонкой основе или толстой вышивальной нити. Для этого прокладывают на ткани по длине целого ряда стежков вышивальную нить, над которой вышивают нижние стежки крестика по направлению слева направо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4995765"/>
          <p:cNvPicPr/>
          <p:nvPr/>
        </p:nvPicPr>
        <p:blipFill>
          <a:blip r:embed="rId1"/>
          <a:stretch/>
        </p:blipFill>
        <p:spPr>
          <a:xfrm>
            <a:off x="611280" y="1700280"/>
            <a:ext cx="4316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ЯМОЕ ГОБЕЛЕНОВОЕ ШИТЬ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4132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ышивают горизонтальными рядами слева направо или справа налево. Высота стежка – 2-3-4 нити ткани. Между стежками — нить ткани. В основе группы стежков — квадра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s8861404"/>
          <p:cNvPicPr/>
          <p:nvPr/>
        </p:nvPicPr>
        <p:blipFill>
          <a:blip r:embed="rId1"/>
          <a:stretch/>
        </p:blipFill>
        <p:spPr>
          <a:xfrm>
            <a:off x="4932360" y="1628640"/>
            <a:ext cx="3983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ОЕ ГОБЕЛЕНОВОЕ ШИТЬЕ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905120"/>
            <a:ext cx="395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ышивают обычно через две нити ткани в высоту и через одну нить ткани в ширину с направлением слева напра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s7029938"/>
          <p:cNvPicPr/>
          <p:nvPr/>
        </p:nvPicPr>
        <p:blipFill>
          <a:blip r:embed="rId1"/>
          <a:stretch/>
        </p:blipFill>
        <p:spPr>
          <a:xfrm>
            <a:off x="5003640" y="1268280"/>
            <a:ext cx="3897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ЕПСОВЫЙ ШОВ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В отличие от гобеленового шитья выполняют вертикальными рядами. Высота стежка - одна и ширина стежка - две нити ткани.</a:t>
            </a:r>
            <a:br>
              <a:rPr sz="2600"/>
            </a:br>
            <a:br>
              <a:rPr sz="2600"/>
            </a:br>
            <a:r>
              <a:rPr b="1" i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s3503952"/>
          <p:cNvPicPr/>
          <p:nvPr/>
        </p:nvPicPr>
        <p:blipFill>
          <a:blip r:embed="rId1"/>
          <a:stretch/>
        </p:blipFill>
        <p:spPr>
          <a:xfrm>
            <a:off x="539640" y="1844640"/>
            <a:ext cx="4278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ТАМБУРНЫЙ ШОВ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4628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Направление вышивки — сверху вниз. Выведенную на лицевую сторону иглу вкалывают снова в место прокола. Из вышивальной нити образуется петля, придерживая которую большим пальцем левой руки, делают стежок желаемой длины, новый прокол на лицевую сторону делают в середине петли. Шов используется для вышивания отдельных линий, оконтуривания больших фигур и покрытия больших поверхностей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s2420773"/>
          <p:cNvPicPr/>
          <p:nvPr/>
        </p:nvPicPr>
        <p:blipFill>
          <a:blip r:embed="rId1"/>
          <a:stretch/>
        </p:blipFill>
        <p:spPr>
          <a:xfrm>
            <a:off x="5003640" y="1706400"/>
            <a:ext cx="39610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2:49:34Z</dcterms:created>
  <dc:creator>ыва</dc:creator>
  <dc:description/>
  <dc:language>en-US</dc:language>
  <cp:lastModifiedBy>ПК</cp:lastModifiedBy>
  <dcterms:modified xsi:type="dcterms:W3CDTF">2022-05-04T10:07:19Z</dcterms:modified>
  <cp:revision>3</cp:revision>
  <dc:subject/>
  <dc:title>Технология выполнения простейших ручных швов</dc:title>
</cp:coreProperties>
</file>