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E18-C432-4F49-894A-FEC18EE0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DBF-AD8B-48A0-84D0-A1334247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037-919E-4A05-A0D9-78EA3C7F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8F7-B703-48AA-B34A-0EB43BB9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3EA-1FB7-4B02-A617-C2AB71F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15E-7A05-4CB1-964F-BFA1D6D3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867-E712-4BD6-9729-D51EE25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39A-9FF4-4897-A95A-A72A06B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764-079D-42BE-BC68-88A0A9A1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E4EC-CEC0-4289-88D4-8F67A849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D18-7328-4590-B0FB-B435244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22D-1304-4068-A2D1-D48AAA1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8F13-1FBF-4C16-A576-56D70D898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 по чтению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Веселый хоровод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авчук Е.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 начальной школ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НО СПбМ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 Санкт-Петербур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 жанр произве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сон у ок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дит к дрёме на покл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входи-ка дрёма в д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усти нам угомо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част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лыб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скорогово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зага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пословицу о труд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Близок локоток, да не укуси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Всяк паучок знай св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го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Чтоб из ручья напиться, надо наклон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Своя земля и в горсти м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те скороговорку среди четверостиш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, два, три, четыре, пять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)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гат Ермошка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шел месяц погулять                             У него собака да кош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за месяцем луна,                                    Петушок да куро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тавайся ты одна.                                   Селезень да уточ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дворе трава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)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бочка-коробоч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траве дрова,                                         Полети на облач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 дрова, два дрова,                              Там твои детки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и дрова.                                                   На берёзовой вет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каких народных сказках один из персонажей – лис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уси - 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л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У страха глаза вел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Каша из топ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те героя сказки «Зимовье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Гуси – леб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петушок – Золотой гребеш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курочка Ря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 мышка- нор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то помог сестре спасти братца в сказке «Гуси – лебеди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мы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ко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соба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ляг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из сказок не является народ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«Два мороз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«Лиса и Журав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«Петушок и бобов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06:05:07Z</dcterms:created>
  <dc:creator>Note_02</dc:creator>
  <dc:description/>
  <dc:language>en-US</dc:language>
  <cp:lastModifiedBy>user</cp:lastModifiedBy>
  <dcterms:modified xsi:type="dcterms:W3CDTF">2022-05-04T18:28:16Z</dcterms:modified>
  <cp:revision>6</cp:revision>
  <dc:subject/>
  <dc:title>Тест по чтению «Веселый хоровод»</dc:title>
</cp:coreProperties>
</file>