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37A-6349-4192-B5A2-D8772502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151-014A-468A-AB84-CCFDB1E1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4C0-3239-4C62-8CB5-67C5D27F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307-024C-4AD1-82BD-E4957428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F10-60F4-42D4-A6E4-C4815C6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BD1-CB74-4A4B-83D4-B2AA23EE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E7-379C-482F-A0D1-33691BE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38D-D8FB-417F-A9EA-AB07965A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B45-05DB-4FF8-AF15-430AA03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999-DB3A-4C11-874F-86DA6BB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9DA-2824-41DA-BE1C-0A58572D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7A8-787D-4635-8DF2-A8D3E7A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EBA-6F94-4CC6-B59A-5BD48C802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по чтению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еселый хоровод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вчук Е.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 начальной школ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О СПбМ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 Санкт-Петербур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 жанр произве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сон у ок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к дрёме на по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входи-ка дрёма в д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усти нам угом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част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лыб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скорогово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зага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пословицу о тру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Близок локоток, да не укус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сяк паучок знай св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тоб из ручья напиться, надо наклон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воя земля и в горсти м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те скороговорку среди четверостиш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, два, три, четыре, пять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)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гат Ермошка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шел месяц погулять                             У него собака да ко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а месяцем луна,                                    Петушок да куро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вайся ты одна.                                   Селезень да уточ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дворе трава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)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очка-коробо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траве дрова,                                         Полети на облач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 дрова, два дрова,                              Там твои детки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 дрова.                                                   На берёзовой вет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аких народных сказках один из персонажей – лис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уси - 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У страха глаза вел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аша из топ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героя сказки «Зимовь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уси – 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тушок – Золотой гребе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курочка Ря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мышка- нор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помог сестре спасти братца в сказке «Гуси – лебеди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ы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соб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ляг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из сказок не является народ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Два мороз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«Лиса и Журав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«Петушок и бобов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6:05:07Z</dcterms:created>
  <dc:creator>Note_02</dc:creator>
  <dc:description/>
  <dc:language>en-US</dc:language>
  <cp:lastModifiedBy>user</cp:lastModifiedBy>
  <dcterms:modified xsi:type="dcterms:W3CDTF">2022-05-04T18:28:16Z</dcterms:modified>
  <cp:revision>6</cp:revision>
  <dc:subject/>
  <dc:title>Тест по чтению «Веселый хоровод»</dc:title>
</cp:coreProperties>
</file>