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84A-AE71-424E-82BE-1F94326D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2FB-7754-4E74-B34E-7E277B9E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D462C-48EE-4A78-A804-22A906B7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F65D0-E135-477E-A0BF-79BB987B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BFB4C-BD36-4D23-AAE4-141D0FB4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3F3AA-9AEF-4816-88FA-5BF5031C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19CC0-CFB8-490D-8AA4-087BA48B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7F9F8-7203-40EE-9853-AF62E23C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2975B-BB33-42F9-8440-C5F01485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5F509-A283-4C9E-A0F7-F72AC397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D1E4B-FA2C-4176-BA50-B84BDED7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B9351-4260-48DE-9569-7B31E150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497-EFA9-44A3-8EAA-8F8790D3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BFECE-08B0-443C-B090-7080FBCF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04E59-75B5-4AC5-A2D3-410A097F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B3DD8-2E38-41B4-842C-3D696C6A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DAD7C-123C-4BA1-B000-2C44485F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5DB21-52B0-47BA-AA0B-537D32AA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A6435-2302-4868-8C18-DD734FAA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5181D-FD88-4D15-BB81-0BEF2607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88CD7-E203-46E3-BA38-B5D20754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AAFF2-73B5-4F3B-9B2B-E9BDB6B3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28536-C23A-44FC-8F3D-49AC6F24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CB6F-869E-4679-803C-12A0CE62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BCE82-E044-415C-B4D5-325901FF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E399B-81E8-46E3-9126-13A99AF7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9165B-4C81-4E06-A632-BEE46396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4F5E6-9161-4A05-A65B-2C5B7C3B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984FC-65C4-479D-B44E-12FF7B16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6AA31-3FF3-4F48-9395-935791D8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35DBA-3278-46F2-8FDF-16D3947B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97E12-989F-4E67-BE31-E7D941B9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1F74E-2483-4550-9B19-7EED589F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9DD32-31B9-4879-9D7F-91EF036C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5B3E-F4BD-4C26-974F-1F7D637A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52E58-B1A2-4F44-A1F7-9B8A5299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B8104-C8EA-4AD0-A4C3-46EA0479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F7729-1AC1-432B-96F8-186CF318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0C3E4-F1F1-4583-92DD-ED4773E1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595A8-18EB-40DB-AFE9-206A1415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4C185-C92D-450D-8F72-686A599D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01BF8-370A-4EB3-A032-49EBF11A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2906D-DDFA-404A-8A1F-332C195F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67596-0E0E-416B-AAA1-EE76DC6A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98CD8-747A-459B-BE53-68779C93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51ED-C1F8-4902-B7C2-567DA96E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ADADB-AA87-40EA-9E16-FCAC349F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ADCE9-772F-4A71-81C2-9FEC2A11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D054A-116A-4BA4-9E9B-6E904A74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A1D7E-F665-44ED-8AF1-80F307D3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C82F4-F3CC-4844-B6F3-313C00D6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53F5B-4F9B-4E55-8F8A-F2B012FB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60515-EBBC-47A7-BB16-E5674605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58AAB-93D6-416B-9803-8D3AAE9B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6CE63-3535-4497-B952-336E7A43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DFA87-2B80-4BF4-8673-B619EE17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34CB-6999-40DA-BB5B-02A5AF36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F604C-CA81-467F-9CFD-965EA93C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50C44-A7F1-439D-802B-D5B2D787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45079-ACC1-4691-B513-ABA9AD0F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4BEC5-E858-4513-B365-BAC53A58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F218D-3DA4-4C21-82E2-041D84BB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644E4-980F-4F4F-9CF0-1F0D69AC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FC9B5-BE27-4FE6-AE6D-E32C4650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398C2-9312-4446-A34C-CE740D28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94388-4715-4AF7-9680-A36F08A9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B7F13-89F3-4340-841E-731D9DA7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446C-1136-4EFF-B687-FCE3F9AC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8B648-865B-4E1C-91A4-8F2F4265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3BC78B-ECB6-44D7-957E-445FAE30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F4C09-D709-4C36-9C84-09A9C849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421C4-59CE-46DD-B45D-EBCC18D3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6C6CCC-2AC1-4B64-AC98-9641F95A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3B298-1EE3-46D1-85FF-BFC0ADDE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B23A31-D037-430C-AF22-68EA353C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D9178D-8B40-41E2-B407-9A7AA3A5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84CE8-74F4-43C1-925A-14829793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5B56A-811B-482E-8032-8D645B69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47E5-EF76-4F39-97E4-C802C6FE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AD3E72-EAEA-4955-A516-D7837128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766054-AC47-4B87-A548-6A47A927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BCA845-1B85-4424-8A07-1E2029A6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428139-E109-4BBB-9053-F3361B61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3B3A47-692A-482B-B76E-790C3617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6A373-A219-494F-8514-32046D38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52893D-FA58-420B-9CF3-ECA2D55D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C1152-5A2C-4BB9-BD95-0BEA361E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A9FAD2-52AE-45D1-BC29-3C616D23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11E0BC-3CC8-4D0F-A358-F50C3004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3F4B-2D9E-430E-9D0E-EADF8E6D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B40444-94AA-4B07-9D18-FB5FE9A0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754D2F-D50F-48D7-A6A2-16AD402E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EBCF6D-3E87-4A0D-B982-38BADA43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60C2CD-2987-43F1-974B-EE900BAD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D65834-842E-40BD-82CE-8517540D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682312-2326-4082-A4D5-7A3584BD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36FCF0-8FA1-46CE-BA91-E078313B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96D56D-2364-47CF-A480-7CCCF3D1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775AB0-D704-449B-95A1-BF8ECB05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2EE2B2-FC7C-45F0-BA72-29A59C0D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EDF6-B409-4854-85E1-88BDDD2B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62866A-DF5E-4DBB-BADB-C8CCD552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0EBFD1-C114-445E-9A80-26276C29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7C5198-8F18-49AB-B335-E11427D8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BF4A31-9670-4568-9FAF-F25B0014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43530C-99C1-4E7E-BACB-26C08B3D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6DF69E-ADF0-4D82-B6AA-56E27957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D11DC1-7F57-467B-8915-D6DC6A45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392B6A-000C-4624-B8C4-E4D2F749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BDAF14-3A0B-455F-9EC4-66E6D3A7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612BA-9CAC-43E4-829C-B3FAC2AB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C919-B49F-4BB5-8260-BD59AB22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3F04-1BF1-4F62-9D26-15607EE5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4520D7-FBE7-46F8-8D73-609C3681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09E072-529B-4D79-9012-587C6B09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77F202-84EC-4423-9A24-54B37677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CFBA30-3D4E-4FAC-9916-716EEAEB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FC0609-9845-4A1D-A81D-AEF4ED7C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B03152-8D26-49F5-9F4E-9B6A2C60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ACB781-B284-4B1D-9410-4CABBDC9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1614BA-8C52-4587-AE5B-2C12D75E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ADF37D-80F2-45DC-B181-C93FB35F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D23F73-511A-4EBC-A540-593EB15A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B4F6-DCE0-43F3-83D8-CDD6E7BD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F7B5FE-36FB-4F55-A513-9002689A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D7F81D-D311-4C8A-A33C-03E20751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C72C62-777C-415D-BCE4-34AD0C1F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E7696-251B-4D49-8D07-45EE53CC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835D98-0757-4D60-B40B-E4851928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EC5108-421E-452C-9559-B4FD5498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A24AA4-D7BA-48D2-917F-3BAEA1B4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54CE-665C-4328-8BEF-978D4EDF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0A5A-2282-437E-AB25-1448F124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C49B-5C97-4B47-A604-842F2B5A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A41D6-97EC-4E3A-8D0F-9D0A39CE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23105-1F56-4E3B-BFCE-E961A5D5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68933-0421-4AF7-AAD8-EF501D83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78A42-22DF-4BB9-AF53-90DEA195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66937-FE4D-4089-A3AD-1B20938C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F0B-3F72-43DA-873C-18154550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0F14F-7517-4597-A01C-F4693F6C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7FE77-AFA6-43EC-8FEC-E7A3EC7C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BAB87-9270-492F-AB56-71A72740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C5EEC-A92B-44D7-859F-C064CFFC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0E85D-E72C-460A-A3B5-50568CF0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AC69F-FD78-4B48-93E8-8EF5C6DD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B8852-B648-4333-8327-80F85551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12CA2-CBC8-4CA3-B3FF-235E8174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C377A-95D5-4EC9-AB7B-7B978D82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C41F8-DA9D-487F-82FF-A725CBD9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6E37-EFC9-47BD-AFA3-922FD06D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5D882-9100-4978-8E90-E728854B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5E58A-40DA-4159-B9AF-D8179C18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CFB6F-55E2-4B78-8744-E0B023B3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E83C3-2162-43E3-A4E6-22AFC960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9987C-212C-4C8B-819E-61FE6FD6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7A4C6-B6B2-4FF8-B493-2A81CA19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44AC3-7D4B-48D3-995F-6396BECA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30EC0-A8F9-4054-AEE5-E10AB7D0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B613E-5F38-4279-855E-4DC5E311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55F56-F54D-4E15-B34B-3985049D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8C4-EA7F-4FAD-9B48-D091FC9D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85051-A036-48D2-B951-ED0EF625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47077-916A-4E0B-B82B-FA593FC5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E69EB-92CE-4A11-B069-130F7359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BE976-24E1-492D-90EA-6373DE55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14DC2-98BE-41F2-84F9-AD1D9850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2A291-8100-4C16-848F-2C08A16F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E5069-8450-4DEB-A20A-04F7F2C0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B5516-BCF6-400E-A815-4E6EE109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4DCC6-62BF-41A7-9371-5B1B104F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7B1A9-BAD7-4D9E-A354-EF6C28C0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67D-5FB8-4666-9D3D-6919C389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68D42-4CC2-4B6B-A30A-5BE7D64A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7F87A-D167-4359-90D4-39A5BDD6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A84B6-0C94-4F15-87C8-598D88DC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2AFE6-A8D8-4A54-9360-9F2C7CDF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34B08-4A6E-4522-A01A-04062727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D7793-94BA-4DDD-BF95-4BF2A6A8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E1C92-0581-4732-B2CA-5FF6A5D4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98156-E8F4-4017-9230-2B456CAC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8062C-6AA7-4ABF-A9A0-3BBE6B05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6710F-6094-4203-8191-D432771B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960-07F6-44F3-A874-1ACF0F90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DDFF8-F61A-4082-A912-117572F1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9C455-54ED-44D3-963C-9A25B8C1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2044E-C910-4B65-9F08-0AA74427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21FA8-561A-461C-926B-AAC92C28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77678-F347-472E-9C65-183B32FB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AAF79-F480-4D0B-A91E-BB6E2A4A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AE59B-BF04-41D0-96AE-D8490FEE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E7EBE-03B9-4CF9-A631-BDD5F8D6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C403D-AACD-4301-B810-E3D5ED5D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AE41F-E896-452E-9D84-D6E495C1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DBD-64EE-4189-9869-C0433D92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1E5F3-42B5-468A-A7F9-BABABBA6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BF9A5-F45C-47EE-A169-998A1B9F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C311B-521C-43C4-A272-F6DABFCF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2C5C9-AA33-4F69-87CA-E8F95669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AC773-02A1-48F7-B1A4-061C81E2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F6CC6-DF5C-46B0-8D89-3B4EB2B8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4146E-9646-42B6-A267-DACBB53D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5DA44-FEC4-436D-88D2-7503B057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90AC6-3134-4B67-8A76-2A6B8838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10264-84F0-4759-B502-A2AA3E5C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9696-5BDE-4312-92A3-C07D5441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BB0B4-71A5-45DF-864E-6AD11A37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DA7DE-32EE-42C4-96F6-C9074911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17F38-5794-4760-A894-FAB7E060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2C49E-3869-4ADA-A0A2-466B0F9C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1EE11-79FB-444C-ADEF-6B0AEB2B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420AE-96C6-48C3-ACA2-A032F994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1BD0C-4BA6-4AC2-B779-71CCBD23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4B889-6FE1-4984-99B6-0B7B824B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282FF-8A5B-45C3-AFE5-A3BA5619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E451F-D7B2-46AD-87F5-C20142E1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5B59-8322-4EA8-94C1-9DD7495A183C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425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26" name="Picture 17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18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CAB3-D045-48FF-A001-350E8CE1C637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473" name="Group 19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74" name="Picture 23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24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Rectangle 25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Rectangle 26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BB81-940D-4067-888F-48D851FE4980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521" name="Group 20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22" name="Picture 21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22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Rectangle 23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4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AD86-0A84-46DC-87B4-7D9BAB3A396D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569" name="Group 28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70" name="Picture 29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30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Rectangle 31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Rectangle 32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4" name="TextBox 13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Box 14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2853-FCBC-455B-B032-D71F817A262D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21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20" name="Picture 22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23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Rectangle 24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25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BCB4-D657-4AA2-80C2-BF6FE0BC96B0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6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667" name="Group 22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68" name="Picture 23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Picture 24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Rectangle 25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26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034E-BBB2-437D-B712-D0DB0E7D00E2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4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715" name="Group 33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16" name="Picture 34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35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Rectangle 36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Rectangle 37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1CB2-3543-45D6-9533-93C3851C4883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2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763" name="Group 15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64" name="Picture 16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Picture 17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Rectangle 18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Rectangle 19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E8AB-63D8-4C09-A41B-6E64DB7A2F55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0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811" name="Group 13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812" name="Rectangle 11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12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9A17-382A-4A51-B8E9-B99166B043E9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6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D-ShadowLong.png"/>
          <p:cNvPicPr/>
          <p:nvPr/>
        </p:nvPicPr>
        <p:blipFill>
          <a:blip r:embed="rId4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D-ShadowShort.png"/>
          <p:cNvPicPr/>
          <p:nvPr/>
        </p:nvPicPr>
        <p:blipFill>
          <a:blip r:embed="rId5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53DB-EF46-45C5-B35B-693623A10215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2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3" name="Picture 27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8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2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3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4781-CCCD-4746-A135-B19EE236F6AA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41" name="Picture 18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9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2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2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47B1-5328-4AFE-AC8C-8A85FABB5A41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9" name="Picture 17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8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3B78-35F2-416B-B9A5-C70EA30BFE15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2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7" name="Picture 28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29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Rectangle 3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BA82-F486-4A10-B079-8A0FA5372A90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14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85" name="Picture 15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6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17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18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6002-F452-4C19-8469-9202E1D9A142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1" descr="HD-ShadowShort.png"/>
          <p:cNvPicPr/>
          <p:nvPr/>
        </p:nvPicPr>
        <p:blipFill>
          <a:blip r:embed="rId4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3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AB41-D98A-44C3-9A9D-BEAD5648CBF3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6" descr="ладонь.png"/>
          <p:cNvPicPr/>
          <p:nvPr/>
        </p:nvPicPr>
        <p:blipFill>
          <a:blip r:embed="rId3"/>
          <a:stretch/>
        </p:blipFill>
        <p:spPr>
          <a:xfrm>
            <a:off x="0" y="214200"/>
            <a:ext cx="14000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377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78" name="Picture 17" descr="HD-ShadowLong.png"/>
            <p:cNvPicPr/>
            <p:nvPr/>
          </p:nvPicPr>
          <p:blipFill>
            <a:blip r:embed="rId4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18" descr="HD-ShadowShort.png"/>
            <p:cNvPicPr/>
            <p:nvPr/>
          </p:nvPicPr>
          <p:blipFill>
            <a:blip r:embed="rId5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D68D-69E7-4A72-8381-54ECE3210C12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0" y="3021120"/>
            <a:ext cx="6068880" cy="13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rebuchet MS"/>
              </a:rPr>
              <a:t>Внеурочная деятельность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rebuchet MS"/>
              </a:rPr>
              <a:t>в начальной школе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509760" y="4393800"/>
            <a:ext cx="6108480" cy="11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Прямоугольник 1"/>
          <p:cNvSpPr/>
          <p:nvPr/>
        </p:nvSpPr>
        <p:spPr>
          <a:xfrm>
            <a:off x="2071800" y="2142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ховно-нравствен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0" name="Прямоугольник 6" descr=""/>
          <p:cNvPicPr/>
          <p:nvPr/>
        </p:nvPicPr>
        <p:blipFill>
          <a:blip r:embed="rId1"/>
          <a:stretch/>
        </p:blipFill>
        <p:spPr>
          <a:xfrm>
            <a:off x="-182520" y="858960"/>
            <a:ext cx="9296280" cy="1828800"/>
          </a:xfrm>
          <a:prstGeom prst="rect">
            <a:avLst/>
          </a:prstGeom>
          <a:ln w="0">
            <a:noFill/>
          </a:ln>
        </p:spPr>
      </p:pic>
      <p:sp>
        <p:nvSpPr>
          <p:cNvPr id="921" name="TextBox 1"/>
          <p:cNvSpPr/>
          <p:nvPr/>
        </p:nvSpPr>
        <p:spPr>
          <a:xfrm>
            <a:off x="1258920" y="3284640"/>
            <a:ext cx="75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Фото…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TextBox 1" descr=""/>
          <p:cNvPicPr/>
          <p:nvPr/>
        </p:nvPicPr>
        <p:blipFill>
          <a:blip r:embed="rId1"/>
          <a:stretch/>
        </p:blipFill>
        <p:spPr>
          <a:xfrm>
            <a:off x="1719360" y="189000"/>
            <a:ext cx="7315200" cy="834840"/>
          </a:xfrm>
          <a:prstGeom prst="rect">
            <a:avLst/>
          </a:prstGeom>
          <a:ln w="0">
            <a:noFill/>
          </a:ln>
        </p:spPr>
      </p:pic>
      <p:sp>
        <p:nvSpPr>
          <p:cNvPr id="923" name="TextBox 2"/>
          <p:cNvSpPr/>
          <p:nvPr/>
        </p:nvSpPr>
        <p:spPr>
          <a:xfrm>
            <a:off x="1116000" y="2852640"/>
            <a:ext cx="71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Фото…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Прямоугольник 5" descr=""/>
          <p:cNvPicPr/>
          <p:nvPr/>
        </p:nvPicPr>
        <p:blipFill>
          <a:blip r:embed="rId1"/>
          <a:stretch/>
        </p:blipFill>
        <p:spPr>
          <a:xfrm>
            <a:off x="12600" y="907920"/>
            <a:ext cx="8955360" cy="2311560"/>
          </a:xfrm>
          <a:prstGeom prst="rect">
            <a:avLst/>
          </a:prstGeom>
          <a:ln w="0">
            <a:noFill/>
          </a:ln>
        </p:spPr>
      </p:pic>
      <p:pic>
        <p:nvPicPr>
          <p:cNvPr id="925" name="Рисунок 1" descr=""/>
          <p:cNvPicPr/>
          <p:nvPr/>
        </p:nvPicPr>
        <p:blipFill>
          <a:blip r:embed="rId2"/>
          <a:stretch/>
        </p:blipFill>
        <p:spPr>
          <a:xfrm>
            <a:off x="523800" y="2637000"/>
            <a:ext cx="523728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Прямоугольник 2"/>
          <p:cNvSpPr/>
          <p:nvPr/>
        </p:nvSpPr>
        <p:spPr>
          <a:xfrm>
            <a:off x="1857240" y="214200"/>
            <a:ext cx="609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интеллектуально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ав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7" name="Прямоугольник 5" descr=""/>
          <p:cNvPicPr/>
          <p:nvPr/>
        </p:nvPicPr>
        <p:blipFill>
          <a:blip r:embed="rId1"/>
          <a:stretch/>
        </p:blipFill>
        <p:spPr>
          <a:xfrm>
            <a:off x="176040" y="1414440"/>
            <a:ext cx="9279000" cy="914400"/>
          </a:xfrm>
          <a:prstGeom prst="rect">
            <a:avLst/>
          </a:prstGeom>
          <a:ln w="0">
            <a:noFill/>
          </a:ln>
        </p:spPr>
      </p:pic>
      <p:pic>
        <p:nvPicPr>
          <p:cNvPr id="928" name="Рисунок 1" descr=""/>
          <p:cNvPicPr/>
          <p:nvPr/>
        </p:nvPicPr>
        <p:blipFill>
          <a:blip r:embed="rId2"/>
          <a:stretch/>
        </p:blipFill>
        <p:spPr>
          <a:xfrm>
            <a:off x="184320" y="2041560"/>
            <a:ext cx="2089080" cy="2108160"/>
          </a:xfrm>
          <a:prstGeom prst="rect">
            <a:avLst/>
          </a:prstGeom>
          <a:ln w="0">
            <a:noFill/>
          </a:ln>
        </p:spPr>
      </p:pic>
      <p:pic>
        <p:nvPicPr>
          <p:cNvPr id="929" name="Рисунок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3065400" cy="3384360"/>
          </a:xfrm>
          <a:prstGeom prst="rect">
            <a:avLst/>
          </a:prstGeom>
          <a:ln w="0">
            <a:noFill/>
          </a:ln>
        </p:spPr>
      </p:pic>
      <p:pic>
        <p:nvPicPr>
          <p:cNvPr id="930" name="Рисунок 1" descr=""/>
          <p:cNvPicPr/>
          <p:nvPr/>
        </p:nvPicPr>
        <p:blipFill>
          <a:blip r:embed="rId4"/>
          <a:stretch/>
        </p:blipFill>
        <p:spPr>
          <a:xfrm>
            <a:off x="2627280" y="2230560"/>
            <a:ext cx="286380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Прямоугольник 2"/>
          <p:cNvSpPr/>
          <p:nvPr/>
        </p:nvSpPr>
        <p:spPr>
          <a:xfrm>
            <a:off x="1258920" y="21420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интеллектуальное напр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2" name="Прямоугольник 5" descr=""/>
          <p:cNvPicPr/>
          <p:nvPr/>
        </p:nvPicPr>
        <p:blipFill>
          <a:blip r:embed="rId1"/>
          <a:stretch/>
        </p:blipFill>
        <p:spPr>
          <a:xfrm>
            <a:off x="901800" y="781200"/>
            <a:ext cx="9272520" cy="2273040"/>
          </a:xfrm>
          <a:prstGeom prst="rect">
            <a:avLst/>
          </a:prstGeom>
          <a:ln w="0">
            <a:noFill/>
          </a:ln>
        </p:spPr>
      </p:pic>
      <p:pic>
        <p:nvPicPr>
          <p:cNvPr id="933" name="Рисунок 1" descr=""/>
          <p:cNvPicPr/>
          <p:nvPr/>
        </p:nvPicPr>
        <p:blipFill>
          <a:blip r:embed="rId2"/>
          <a:stretch/>
        </p:blipFill>
        <p:spPr>
          <a:xfrm>
            <a:off x="887400" y="2492280"/>
            <a:ext cx="3887640" cy="2800440"/>
          </a:xfrm>
          <a:prstGeom prst="rect">
            <a:avLst/>
          </a:prstGeom>
          <a:ln w="0">
            <a:noFill/>
          </a:ln>
        </p:spPr>
      </p:pic>
      <p:pic>
        <p:nvPicPr>
          <p:cNvPr id="934" name="Рисунок 1" descr=""/>
          <p:cNvPicPr/>
          <p:nvPr/>
        </p:nvPicPr>
        <p:blipFill>
          <a:blip r:embed="rId3"/>
          <a:stretch/>
        </p:blipFill>
        <p:spPr>
          <a:xfrm>
            <a:off x="5003640" y="2133720"/>
            <a:ext cx="331344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Прямоугольник 2"/>
          <p:cNvSpPr/>
          <p:nvPr/>
        </p:nvSpPr>
        <p:spPr>
          <a:xfrm>
            <a:off x="1116000" y="21420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интеллектуальное напра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6" name="Прямоугольник 5" descr=""/>
          <p:cNvPicPr/>
          <p:nvPr/>
        </p:nvPicPr>
        <p:blipFill>
          <a:blip r:embed="rId1"/>
          <a:stretch/>
        </p:blipFill>
        <p:spPr>
          <a:xfrm>
            <a:off x="609480" y="738360"/>
            <a:ext cx="9156960" cy="1755720"/>
          </a:xfrm>
          <a:prstGeom prst="rect">
            <a:avLst/>
          </a:prstGeom>
          <a:ln w="0">
            <a:noFill/>
          </a:ln>
        </p:spPr>
      </p:pic>
      <p:pic>
        <p:nvPicPr>
          <p:cNvPr id="937" name="Рисунок 2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810108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Прямоугольник 1"/>
          <p:cNvSpPr/>
          <p:nvPr/>
        </p:nvSpPr>
        <p:spPr>
          <a:xfrm>
            <a:off x="2071800" y="2142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культур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Прямоугольник 6" descr=""/>
          <p:cNvPicPr/>
          <p:nvPr/>
        </p:nvPicPr>
        <p:blipFill>
          <a:blip r:embed="rId1"/>
          <a:stretch/>
        </p:blipFill>
        <p:spPr>
          <a:xfrm>
            <a:off x="0" y="858960"/>
            <a:ext cx="9468000" cy="1828800"/>
          </a:xfrm>
          <a:prstGeom prst="rect">
            <a:avLst/>
          </a:prstGeom>
          <a:ln w="0">
            <a:noFill/>
          </a:ln>
        </p:spPr>
      </p:pic>
      <p:pic>
        <p:nvPicPr>
          <p:cNvPr id="940" name="TextBox 1" descr=""/>
          <p:cNvPicPr/>
          <p:nvPr/>
        </p:nvPicPr>
        <p:blipFill>
          <a:blip r:embed="rId2"/>
          <a:stretch/>
        </p:blipFill>
        <p:spPr>
          <a:xfrm>
            <a:off x="274680" y="2932200"/>
            <a:ext cx="3863880" cy="1834920"/>
          </a:xfrm>
          <a:prstGeom prst="rect">
            <a:avLst/>
          </a:prstGeom>
          <a:ln w="0">
            <a:noFill/>
          </a:ln>
        </p:spPr>
      </p:pic>
      <p:pic>
        <p:nvPicPr>
          <p:cNvPr id="941" name="TextBox 7" descr=""/>
          <p:cNvPicPr/>
          <p:nvPr/>
        </p:nvPicPr>
        <p:blipFill>
          <a:blip r:embed="rId3"/>
          <a:stretch/>
        </p:blipFill>
        <p:spPr>
          <a:xfrm>
            <a:off x="5168880" y="2852640"/>
            <a:ext cx="38656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38188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Лицейская газета «НЕПОСЕДЫ»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19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ФОТО…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 advTm="1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Прямоугольник 1"/>
          <p:cNvSpPr/>
          <p:nvPr/>
        </p:nvSpPr>
        <p:spPr>
          <a:xfrm>
            <a:off x="1763640" y="126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культурное  напр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5" name="Прямоугольник 6" descr=""/>
          <p:cNvPicPr/>
          <p:nvPr/>
        </p:nvPicPr>
        <p:blipFill>
          <a:blip r:embed="rId1"/>
          <a:stretch/>
        </p:blipFill>
        <p:spPr>
          <a:xfrm>
            <a:off x="1116000" y="304920"/>
            <a:ext cx="7461360" cy="1231920"/>
          </a:xfrm>
          <a:prstGeom prst="rect">
            <a:avLst/>
          </a:prstGeom>
          <a:ln w="0">
            <a:noFill/>
          </a:ln>
        </p:spPr>
      </p:pic>
      <p:pic>
        <p:nvPicPr>
          <p:cNvPr id="946" name="Рисунок 1" descr=""/>
          <p:cNvPicPr/>
          <p:nvPr/>
        </p:nvPicPr>
        <p:blipFill>
          <a:blip r:embed="rId2"/>
          <a:stretch/>
        </p:blipFill>
        <p:spPr>
          <a:xfrm>
            <a:off x="965160" y="1125360"/>
            <a:ext cx="3325680" cy="2775240"/>
          </a:xfrm>
          <a:prstGeom prst="rect">
            <a:avLst/>
          </a:prstGeom>
          <a:ln w="0">
            <a:noFill/>
          </a:ln>
        </p:spPr>
      </p:pic>
      <p:pic>
        <p:nvPicPr>
          <p:cNvPr id="947" name="Рисунок 3" descr=""/>
          <p:cNvPicPr/>
          <p:nvPr/>
        </p:nvPicPr>
        <p:blipFill>
          <a:blip r:embed="rId3"/>
          <a:stretch/>
        </p:blipFill>
        <p:spPr>
          <a:xfrm>
            <a:off x="1332000" y="4076640"/>
            <a:ext cx="2303280" cy="25862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5" descr="https://1.bp.blogspot.com/-EKBktE5bVMA/YBBdlmj1-BI/AAAAAAAABJE/WUXeIXMbvzkaJprSzpoZwn5N4X42Wzz1QCLcBGAsYHQ/s2048/%25D0%259F%25D0%25B0%25D0%25BB%25D1%258C%25D1%2586%25D1%258B%2B1.jpg"/>
          <p:cNvPicPr/>
          <p:nvPr/>
        </p:nvPicPr>
        <p:blipFill>
          <a:blip r:embed="rId4"/>
          <a:stretch/>
        </p:blipFill>
        <p:spPr>
          <a:xfrm>
            <a:off x="4572000" y="246060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Формы внеурочной деятельности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178920" y="1267920"/>
            <a:ext cx="4722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глые столы;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кторины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мпиады;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ревнования;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исковые и научные исследования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тречи с известными людьми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…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Прямоугольник 1"/>
          <p:cNvSpPr/>
          <p:nvPr/>
        </p:nvSpPr>
        <p:spPr>
          <a:xfrm>
            <a:off x="571680" y="928800"/>
            <a:ext cx="857232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неурочная деятельность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 образовательная деятельность, осуществляемая в формах, отличных от классно-урочной, направленная на достижение планируемых результатов освоения основной образовательной программы начального общего образования.</a:t>
            </a:r>
            <a:br>
              <a:rPr sz="1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Схема 9" descr=""/>
          <p:cNvPicPr/>
          <p:nvPr/>
        </p:nvPicPr>
        <p:blipFill>
          <a:blip r:embed="rId1"/>
          <a:stretch/>
        </p:blipFill>
        <p:spPr>
          <a:xfrm>
            <a:off x="1042920" y="1000080"/>
            <a:ext cx="7418520" cy="590760"/>
          </a:xfrm>
          <a:prstGeom prst="rect">
            <a:avLst/>
          </a:prstGeom>
          <a:ln w="0">
            <a:noFill/>
          </a:ln>
        </p:spPr>
      </p:pic>
      <p:sp>
        <p:nvSpPr>
          <p:cNvPr id="952" name="Прямоугольник 2"/>
          <p:cNvSpPr/>
          <p:nvPr/>
        </p:nvSpPr>
        <p:spPr>
          <a:xfrm>
            <a:off x="538200" y="1685880"/>
            <a:ext cx="420372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атрализованные постановк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скурс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Прямоугольник 2"/>
          <p:cNvSpPr/>
          <p:nvPr/>
        </p:nvSpPr>
        <p:spPr>
          <a:xfrm>
            <a:off x="5003640" y="2276640"/>
            <a:ext cx="420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ход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Box 1"/>
          <p:cNvSpPr/>
          <p:nvPr/>
        </p:nvSpPr>
        <p:spPr>
          <a:xfrm>
            <a:off x="755640" y="407664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ФОТО…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6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"/>
          <p:cNvSpPr/>
          <p:nvPr/>
        </p:nvSpPr>
        <p:spPr>
          <a:xfrm>
            <a:off x="1071720" y="2510280"/>
            <a:ext cx="750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а после урок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о мир творчества, проявления и раскрытия каждым ребенком своих интересов, своих увлечений, своег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Прямоугольник 1"/>
          <p:cNvSpPr/>
          <p:nvPr/>
        </p:nvSpPr>
        <p:spPr>
          <a:xfrm>
            <a:off x="684360" y="836640"/>
            <a:ext cx="8072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"Детство  -  важнейший  период человеческой  жизни, не  подготовка  к будущей жизни, а настоящая,  яркая, неповторимая  жизнь. И  от того, как прошло детство, кто вел ребенка за руку в  детские годы, что вошло в  его  разум и  сердце из  окружающего мира,-  от  этого в решающей степени зависит, каким человеком станет сегодняшний малыш". (педагог Василий Александрович Сухомлинский)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132000" y="266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енок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899" name="Прямая со стрелкой 3"/>
          <p:cNvCxnSpPr/>
          <p:nvPr/>
        </p:nvCxnSpPr>
        <p:spPr>
          <a:xfrm flipH="1">
            <a:off x="2548800" y="525600"/>
            <a:ext cx="1166040" cy="489600"/>
          </a:xfrm>
          <a:prstGeom prst="straightConnector1">
            <a:avLst/>
          </a:prstGeom>
          <a:ln w="9360">
            <a:solidFill>
              <a:srgbClr val="f09415"/>
            </a:solidFill>
            <a:miter/>
            <a:tailEnd len="med" type="triangle" w="med"/>
          </a:ln>
        </p:spPr>
      </p:cxnSp>
      <p:cxnSp>
        <p:nvCxnSpPr>
          <p:cNvPr id="900" name="Прямая со стрелкой 5"/>
          <p:cNvCxnSpPr/>
          <p:nvPr/>
        </p:nvCxnSpPr>
        <p:spPr>
          <a:xfrm>
            <a:off x="4642920" y="522360"/>
            <a:ext cx="939240" cy="513360"/>
          </a:xfrm>
          <a:prstGeom prst="straightConnector1">
            <a:avLst/>
          </a:prstGeom>
          <a:ln w="9360">
            <a:solidFill>
              <a:srgbClr val="f09415"/>
            </a:solidFill>
            <a:miter/>
            <a:tailEnd len="med" type="triangle" w="med"/>
          </a:ln>
        </p:spPr>
      </p:cxnSp>
      <p:sp>
        <p:nvSpPr>
          <p:cNvPr id="901" name="Прямоугольник 8"/>
          <p:cNvSpPr/>
          <p:nvPr/>
        </p:nvSpPr>
        <p:spPr>
          <a:xfrm>
            <a:off x="500040" y="1108080"/>
            <a:ext cx="3214800" cy="1654200"/>
          </a:xfrm>
          <a:prstGeom prst="rect">
            <a:avLst/>
          </a:prstGeom>
          <a:solidFill>
            <a:srgbClr val="f09415"/>
          </a:solidFill>
          <a:ln w="12600">
            <a:solidFill>
              <a:srgbClr val="b06b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чностный результ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Прямоугольник 9"/>
          <p:cNvSpPr/>
          <p:nvPr/>
        </p:nvSpPr>
        <p:spPr>
          <a:xfrm>
            <a:off x="4473720" y="1127160"/>
            <a:ext cx="3929040" cy="1654200"/>
          </a:xfrm>
          <a:prstGeom prst="rect">
            <a:avLst/>
          </a:prstGeom>
          <a:solidFill>
            <a:srgbClr val="f09415"/>
          </a:solidFill>
          <a:ln w="12600">
            <a:solidFill>
              <a:srgbClr val="b06b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апредметный результ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Овал 10"/>
          <p:cNvSpPr/>
          <p:nvPr/>
        </p:nvSpPr>
        <p:spPr>
          <a:xfrm>
            <a:off x="500040" y="3068640"/>
            <a:ext cx="7559640" cy="2997360"/>
          </a:xfrm>
          <a:prstGeom prst="ellipse">
            <a:avLst/>
          </a:prstGeom>
          <a:solidFill>
            <a:srgbClr val="f09415"/>
          </a:solidFill>
          <a:ln w="12600">
            <a:solidFill>
              <a:srgbClr val="b06b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столько узнать, сколько научиться самостоятельно мыслить, принимать решения и развивать творческие  способ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Box 1"/>
          <p:cNvSpPr/>
          <p:nvPr/>
        </p:nvSpPr>
        <p:spPr>
          <a:xfrm>
            <a:off x="1199520" y="922320"/>
            <a:ext cx="578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неурочной деятель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1"/>
          <p:cNvSpPr/>
          <p:nvPr/>
        </p:nvSpPr>
        <p:spPr>
          <a:xfrm>
            <a:off x="285840" y="2155680"/>
            <a:ext cx="885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ствовать адаптации ребёнка в школ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оптимизировать учебную нагрузку обучающихся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стороннее развития ребён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Скругленный прямоугольник 1"/>
          <p:cNvSpPr/>
          <p:nvPr/>
        </p:nvSpPr>
        <p:spPr>
          <a:xfrm>
            <a:off x="2817720" y="701640"/>
            <a:ext cx="3637080" cy="1703520"/>
          </a:xfrm>
          <a:prstGeom prst="roundRect">
            <a:avLst>
              <a:gd name="adj" fmla="val 16667"/>
            </a:avLst>
          </a:prstGeom>
          <a:solidFill>
            <a:srgbClr val="f09415"/>
          </a:solidFill>
          <a:ln w="12600">
            <a:solidFill>
              <a:srgbClr val="b06b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имущество ВД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Стрелка вниз 2"/>
          <p:cNvSpPr/>
          <p:nvPr/>
        </p:nvSpPr>
        <p:spPr>
          <a:xfrm>
            <a:off x="4546440" y="2549520"/>
            <a:ext cx="363600" cy="97776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f09415"/>
          </a:solidFill>
          <a:ln w="12600">
            <a:solidFill>
              <a:srgbClr val="b06b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Прямоугольник 3"/>
          <p:cNvSpPr/>
          <p:nvPr/>
        </p:nvSpPr>
        <p:spPr>
          <a:xfrm>
            <a:off x="2254320" y="3672000"/>
            <a:ext cx="4763880" cy="1901880"/>
          </a:xfrm>
          <a:prstGeom prst="rect">
            <a:avLst/>
          </a:prstGeom>
          <a:solidFill>
            <a:srgbClr val="f09415"/>
          </a:solidFill>
          <a:ln w="12600">
            <a:solidFill>
              <a:srgbClr val="b06b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окий спектр занятий, направленных на развитие ребенка как ли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неурочная деятельность организуется </a:t>
            </a:r>
            <a:br>
              <a:rPr sz="3200"/>
            </a:b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направлениям развития личности: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0" name="Прямоугольник 2"/>
          <p:cNvSpPr/>
          <p:nvPr/>
        </p:nvSpPr>
        <p:spPr>
          <a:xfrm>
            <a:off x="257040" y="4005360"/>
            <a:ext cx="70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о-нравственно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интеллектуально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культурно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ртивно- оздоровительно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Прямоугольник 1"/>
          <p:cNvSpPr/>
          <p:nvPr/>
        </p:nvSpPr>
        <p:spPr>
          <a:xfrm>
            <a:off x="1928880" y="142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ивно-оздоровите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2" name="TextBox 1" descr=""/>
          <p:cNvPicPr/>
          <p:nvPr/>
        </p:nvPicPr>
        <p:blipFill>
          <a:blip r:embed="rId1"/>
          <a:stretch/>
        </p:blipFill>
        <p:spPr>
          <a:xfrm>
            <a:off x="1116000" y="1127160"/>
            <a:ext cx="662616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Прямоугольник 1"/>
          <p:cNvSpPr/>
          <p:nvPr/>
        </p:nvSpPr>
        <p:spPr>
          <a:xfrm>
            <a:off x="1928880" y="142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ивно-оздоровите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4" name="Прямоугольник 6" descr=""/>
          <p:cNvPicPr/>
          <p:nvPr/>
        </p:nvPicPr>
        <p:blipFill>
          <a:blip r:embed="rId1"/>
          <a:stretch/>
        </p:blipFill>
        <p:spPr>
          <a:xfrm>
            <a:off x="176040" y="725400"/>
            <a:ext cx="8967960" cy="927360"/>
          </a:xfrm>
          <a:prstGeom prst="rect">
            <a:avLst/>
          </a:prstGeom>
          <a:ln w="0">
            <a:noFill/>
          </a:ln>
        </p:spPr>
      </p:pic>
      <p:sp>
        <p:nvSpPr>
          <p:cNvPr id="915" name="TextBox 1"/>
          <p:cNvSpPr/>
          <p:nvPr/>
        </p:nvSpPr>
        <p:spPr>
          <a:xfrm>
            <a:off x="1332000" y="2565360"/>
            <a:ext cx="56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ФОТО…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Прямоугольник 1"/>
          <p:cNvSpPr/>
          <p:nvPr/>
        </p:nvSpPr>
        <p:spPr>
          <a:xfrm>
            <a:off x="1928880" y="142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ивно-оздоровите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7" name="TextBox 1" descr=""/>
          <p:cNvPicPr/>
          <p:nvPr/>
        </p:nvPicPr>
        <p:blipFill>
          <a:blip r:embed="rId1"/>
          <a:stretch/>
        </p:blipFill>
        <p:spPr>
          <a:xfrm>
            <a:off x="1328760" y="762120"/>
            <a:ext cx="6553080" cy="1199880"/>
          </a:xfrm>
          <a:prstGeom prst="rect">
            <a:avLst/>
          </a:prstGeom>
          <a:ln w="0">
            <a:noFill/>
          </a:ln>
        </p:spPr>
      </p:pic>
      <p:sp>
        <p:nvSpPr>
          <p:cNvPr id="918" name="TextBox 2"/>
          <p:cNvSpPr/>
          <p:nvPr/>
        </p:nvSpPr>
        <p:spPr>
          <a:xfrm>
            <a:off x="1042920" y="227664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Фото…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Артур Щетинин</cp:lastModifiedBy>
  <dcterms:modified xsi:type="dcterms:W3CDTF">2022-05-04T16:17:58Z</dcterms:modified>
  <cp:revision>56</cp:revision>
  <dc:subject/>
  <dc:title>Слайд 1</dc:title>
</cp:coreProperties>
</file>