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659-71D6-4DEC-8874-A1D9EAF4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342-1F48-4217-960A-71F6D43F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E52C7-1AAF-4F50-BD9A-97C97BB2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265DC-6C4F-4BA8-82D1-F1A7F31C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F44E-55F8-407A-B889-F26092EF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E718-C415-4831-9ECC-EB7DE08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73823-408B-469C-A49B-540C7EA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2BF83-4D80-4C82-820B-EB8D2979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6742-5CFD-455C-9D0F-B921003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59C57-6FEA-438E-92CF-C9C4E38C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FD1C-4DFA-4C7E-AEC4-6AC0AA58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D949B-488D-4BFE-8FFF-7F95B7F9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295-7CAF-4587-A42D-D871E835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C4EB-584F-4F30-9489-F5F6DF75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64E5E-87F2-42D0-BBC1-8EDF4C3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A4003-27E7-49AA-9E6B-05751407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4C17-1F01-4BDF-AA9F-DF83252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469C8-1C1D-4792-8949-20957E6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58692-365F-45FC-BAE3-D0C3D233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721EF-B840-4965-9F86-F5BB953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DD710-0699-47FB-896F-25D2580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A426-6162-47A4-BBAC-62B694C0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35D6E-EECF-4A8B-8DF9-42F2F242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CB1-2316-4C13-9BBB-34AEFD0C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CE016-910D-4EAC-B2F6-87CD303D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B646C-1C5B-4036-AA83-CA31BF23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D0BF5-CE85-438B-9F16-83A04E5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83AB-8029-4952-9895-DDF0195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6DBC-DDF4-443C-A9AD-3DC064F6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8C1D2-5A57-4FF9-A028-097F7CED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B4E9-DFB8-4457-A27D-8D1ECCF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8BBC-D55B-4CF9-BAB4-04BAEFCE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1CD52-2F30-4D24-AB02-0123191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FD3E5-4071-4A44-8211-370FA428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8DE-2A61-4E99-B05E-B5358079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7F827-004E-4DE2-8446-39ADA67C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5919C-6B9C-48AB-845F-CDBB564C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A1BD9-DA30-48D8-B2DA-9172CF21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F1101-B5DA-451B-89D6-68B31B42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5E645-0F14-4BAB-AA97-6EBF097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8E6B6-69F4-45E2-AB69-942D4BB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DFB98-2E9A-4D09-B13C-2ADF97D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351BA-CB03-4C8A-A5F3-8A9E65F9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7344E-4927-4AA5-B3A1-FDCAA01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E0DFB-8942-4815-974D-9AF59A1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FB96-FDA0-4CDC-8979-ED94664E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870E9-E0D3-48C6-BD10-597E649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95AF0-86AC-4802-B122-A059E6C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595A3-E9F8-4DF6-B65A-A77D131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0F3D0-6785-4A95-8A8B-F5B85ED1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1187-41A9-462A-9E29-A9FC2CF3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793F7-4A29-4FC6-8E6E-AA6E62BA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DD81E-7D9D-405A-9A45-91E1364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4AF6E-EFBD-4D82-8B25-D442B27F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31B30-5A2B-4C0C-A8E5-EC2D822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D5464-24EF-4C23-86CB-F68AE8B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89CE-907E-45DA-9D6F-5F18E215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6B0BA-B560-40F9-B98E-F3F279A5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F3BCE-FC4E-4E62-8AB9-FF719E4F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0E24E-8170-4340-93C1-FD0F36C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A184C-32F8-4706-B150-FB9BE4B4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1D53F-8BEA-4E3A-8828-90EEC2E2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48E22-8EED-4426-93F4-0BDF5E18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F9EE7-E4F1-4C94-9607-B7ACEBA5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2CE84-5B7E-4CFB-B562-618CE472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E0B96-0756-45EE-AC94-F3A3633B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E71BE-B0F5-4548-8206-F6A4907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1B0C-9747-491A-89F9-5D2857E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26460-97BC-44F8-9C0C-3FBEE01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F8625-F6D8-4FEE-9CC1-6BB580BA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2F42B-BD1F-4890-8917-E9705E73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A7178-67DB-41E9-ADD9-FAD2072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A7EA4-B193-45C2-98D0-C7C4AD0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19863-1B9A-4C94-BBE6-B5D8F94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99DCF-02AD-4B3F-A984-FF2362E8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EFE9F-0E1E-4337-B3C0-1A5A4C30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6CF7D-0BD0-4C4B-937B-E8C873D1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32CEB-193A-472F-B1FA-D0E03AA1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3D5-0214-4A9D-9656-74B90B8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A5FF7-D417-4AF9-91A1-7B9094B8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6287F-D9ED-4C22-BB7F-0D20BFE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33521-8214-4DE9-9D22-2C2C6DC6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C7791-14DE-43F9-8DBF-5493853F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1E418-1344-4DB6-9ED4-CFF6AD7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52EAA-DC49-459D-AEEF-1F40FD12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731C5-3AEA-4A97-AC7F-BBC21C6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C89F1-1E2E-4059-B25A-766B173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C8E45-CF9C-4AFF-B696-97794886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F2137-FB78-4CBA-B476-C6712D4E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7850-EE3D-4F0F-B12E-32C47175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A3646-D4F3-4171-A9C5-61179D38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66AB5-715F-44C3-8BE1-9059127E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18660-6F60-497A-ACCE-36D74FA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C39B1-90FE-430D-8A7B-83899DC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6A1A9-D120-4C63-8479-EB392B8B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6B945-A863-41C1-81B2-A711F93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0092C-1BC8-4A85-BEC5-22C8B0E2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7D5A8-76F7-4217-8227-CAC0D494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5D064-CD55-4F87-B37C-E90481B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C13F8-DFD7-4D92-B14A-0D64DD0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21B1-A0AE-4A2C-82F6-7C76289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7BB92-211C-400D-BFD4-9209CDF4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892E7-FC60-4EDE-A1D1-E1162BBF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9F68-834F-49EF-9E25-BF645B10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39B33-523D-4A20-9339-3A956E71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41DA4-FFB5-4AB5-9A30-CB300DA0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69334-7487-4F56-839B-136658F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B3310-DE61-462A-9616-E4E50AFC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5A4E3-34EE-44C8-8B18-1F8D1E0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B532A-4856-4B0E-AD91-38A9C7D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CA643-3DED-451C-9F5B-8A91609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719-1EB6-410B-BC36-8739B66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3822-9261-4B51-B815-9697F13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F41F0-20F9-41DE-BDC3-5AB7BBC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A201E-B6B7-43DF-ACE2-D9D6917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7BA81-8025-45FE-BC00-92406E1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5F818-533E-4B63-A0CF-BDBA4AB8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ED364-6918-4F61-B976-9447C952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04176-CC57-40B2-9E2B-C2113159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BBB41-3C5D-417A-BDCF-EFA3990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33CD6-9EC6-4F1D-9FF9-344CF1E5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5A372-343B-4714-88F0-F0CBE2D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2CBCF-BC54-4CF6-8F33-C4BFAE2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19DE-2DB6-4038-A517-13AB7A8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EEEE5-1F10-469A-A66A-3035650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48FEE-7DA9-45BC-8ACE-F010F52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9D6F8-889D-41D0-B246-32DEA24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9BA34-1A70-4C26-886C-C956F1D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B37C3-8076-4F3A-8780-662CAFB4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E47AA-CE89-4B75-B3AB-B0E1327A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486F8-7135-4BEC-A058-C353102D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C379-36C7-409A-812E-2D87E83D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68CA-94B4-4DF5-B101-C883BD63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BBB6-42E1-4CB8-80C7-EC642E0E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6FCD-D7AF-49A2-8924-1AB42A3B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996F-DF4F-4ABD-9FC3-882074B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A4EA-4E28-4184-8976-93D1694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1318-BA6D-4833-BE07-B449E376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CDD7-482C-4F1E-84A0-1D933C2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3EE-6423-4A52-95E9-977E274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E3BF-3BC4-4221-BFA5-269BEE9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0DD8-AFE2-4285-A66E-1316456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BE2D-E792-4439-B589-10E1634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BA1E-5326-4E6D-9084-DC93748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1FB6-26A2-454C-B392-F3A692C1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3233-732C-47B2-98CE-E399D053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B957-E0CA-42B6-B371-D94F4FDD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839C-6FA6-437A-8EA5-0D784BC1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20D7-2EBE-44B2-9EBB-4EF9B07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109C-E1AB-4899-9F13-5BFE3F09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F0A-AB1A-4106-8984-E68091F2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5580-AC80-4887-8821-C0C5DF5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2CBC-10C7-4CAE-A67D-A712DA81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AAB0-029C-4A96-9BAC-C622971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F624-0938-4669-9943-5E12F1D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F9E5-B7BE-4B5A-B2BB-6892225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71E1-DC13-4CB6-B2CF-081A6F3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9821-9F06-481E-B16B-5F68CFC8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FE74-A4BF-4141-B110-184EC77B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8964-7581-4DB0-9071-6CF993EB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D0FB-5490-4053-82B8-C0B0F08B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CEE-669F-49FA-A4D6-F576F8C8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2615-6D08-4435-BEA5-269320F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BB5E-A79F-4097-A1C0-D338BFC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3C51B-C3E2-4661-97C8-78F189A7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6AF3D-11DA-43BB-A190-4B8D69F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B104-2D41-4E05-A0BA-E70396D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1E524-BF1C-4A79-BD56-4264A73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3BCAA-94C2-4CD6-9A8B-8B5DBD36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141CA-C6C2-4D7A-9A5A-46DC180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8F68-EFB8-4EB8-AFD6-978EFD7B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EF05-281F-4C27-BDC9-55EE3762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77C-DDB5-4B48-AAD7-D330690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714DE-0232-430B-B0D4-5825700C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2B8FF-D0FF-4E85-BEB3-9524485E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56C6-5D5D-49DF-BD5B-3E4786D5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BD9F-BC42-45C6-8E14-55EB956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E198-5678-4AA2-A207-75F9C29E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C238-77AF-4FBF-BD05-BF87AA8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22B11-804A-4CCF-8379-B640ED6F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EE42-A36A-4292-96F7-0933075C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1F6A-F66B-43DF-B846-0A3DC70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C7D8-723E-46FB-8FF8-E774F31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190-19D7-4905-8E46-F036B02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6CF7-A95B-430E-9EC1-AFE6A1DD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CDD5-3529-4DE3-98B8-8BAF88D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6BC0-1A99-49E3-A2C1-8F0B4278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D198-6906-4C65-82F8-98C4E01B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1B17-9BF5-49B4-A459-18D6515B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22E7-8F1F-4426-9E1A-A142F4CF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A75A-8FE0-4E6D-9911-B6D47C80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66D6-2D01-44E1-A0FD-EDE7518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1639D-7FEB-438F-9B54-9FC1BBFE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1554-21E1-4484-B04D-7D12451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FAD-FE91-4704-9CF2-F6B7D3D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36392-33FF-4B0A-A159-8E35012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892D2-4E20-4A31-8163-6169A53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E4191-0FEE-45E8-90B0-33C27C8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D978-3694-4BEC-938E-7614AEDF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D941-B7A0-4D4F-BF8F-13D63B36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4D88-E5D9-47B3-B52A-02ADD5FE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2CF1-F23D-4EFE-9C5C-6C3BC774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8C37-DB64-4642-8E82-D7E73DB6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BAC3B-50C6-41F5-B946-E4B586D7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A5B5-2F36-4CE2-809D-860C08BF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EDF-90DF-4E0E-B304-DC678DF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21C7-1490-4EB4-AD55-A032137D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7AC54-CBAA-443B-9777-E6FFF4B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49AB4-4AAC-49E2-81C0-A4FD1E1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AD75-3520-4458-9F1B-7634EC5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23828-61D6-451E-99D3-F9255D96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BB61-C38C-4DFC-A9FA-B5FA9445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596E-96E1-4F4F-B0D7-F22739F2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36E33-A689-43E3-BF0E-27F7002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54E26-AA92-4775-B8E9-8F5D2E62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8723E-FBEB-434A-9BF4-66728F70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6B8-D358-4269-96BE-C63BFAE0020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26" name="Picture 1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D9EC-6D1F-46FC-B903-6863BEC46D3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74" name="Picture 23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4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DDB-1061-418C-AAFA-9B4750BEE02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22" name="Picture 21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2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3377-9F98-4B64-B770-E5822F8989F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70" name="Picture 29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0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TextBox 13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14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E61-758C-480C-98E7-BD70CD9D012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20" name="Picture 22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23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DAB-F3F6-4C48-89F9-4D72A6D0FF7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68" name="Picture 23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24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C91-D0EC-44D1-90C0-75BA58EB07B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4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715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16" name="Picture 34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35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F1B-80C4-4D6A-87AF-16889ADADB4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64" name="Picture 16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17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BC27-66D9-4E88-8FEC-307C4092048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0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812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6543-0C56-4764-8E2C-00DBFA6BE2E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D-ShadowLong.png"/>
          <p:cNvPicPr/>
          <p:nvPr/>
        </p:nvPicPr>
        <p:blipFill>
          <a:blip r:embed="rId4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D-ShadowShort.png"/>
          <p:cNvPicPr/>
          <p:nvPr/>
        </p:nvPicPr>
        <p:blipFill>
          <a:blip r:embed="rId5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107-0BA3-4575-BD94-8881311614D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3" name="Picture 2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277-0BA4-48BC-98EF-FCBF0B3A727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41" name="Picture 18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9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BDA7-8E6E-4C4B-B127-E139F60153E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9" name="Picture 1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025-C18D-49C1-9E07-5F123377CC5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7" name="Picture 28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9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F3F1-593B-4A78-9F16-8A34438D719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85" name="Picture 15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6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C13-0570-41F3-819D-2E2F782ECE6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HD-ShadowShort.png"/>
          <p:cNvPicPr/>
          <p:nvPr/>
        </p:nvPicPr>
        <p:blipFill>
          <a:blip r:embed="rId4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33AD-2305-4871-BF78-296E2D6D616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78" name="Picture 1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69B-DE3D-4CCD-AD96-0B38F667B4A8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3021120"/>
            <a:ext cx="606888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Внеурочная деятельность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в начальной школе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509760" y="4393800"/>
            <a:ext cx="610848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1"/>
          <p:cNvSpPr/>
          <p:nvPr/>
        </p:nvSpPr>
        <p:spPr>
          <a:xfrm>
            <a:off x="2071800" y="2142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овно-нравств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0" name="Прямоугольник 6" descr=""/>
          <p:cNvPicPr/>
          <p:nvPr/>
        </p:nvPicPr>
        <p:blipFill>
          <a:blip r:embed="rId1"/>
          <a:stretch/>
        </p:blipFill>
        <p:spPr>
          <a:xfrm>
            <a:off x="-182520" y="858960"/>
            <a:ext cx="9296280" cy="1828800"/>
          </a:xfrm>
          <a:prstGeom prst="rect">
            <a:avLst/>
          </a:prstGeom>
          <a:ln w="0">
            <a:noFill/>
          </a:ln>
        </p:spPr>
      </p:pic>
      <p:sp>
        <p:nvSpPr>
          <p:cNvPr id="921" name="TextBox 1"/>
          <p:cNvSpPr/>
          <p:nvPr/>
        </p:nvSpPr>
        <p:spPr>
          <a:xfrm>
            <a:off x="1258920" y="328464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TextBox 1" descr=""/>
          <p:cNvPicPr/>
          <p:nvPr/>
        </p:nvPicPr>
        <p:blipFill>
          <a:blip r:embed="rId1"/>
          <a:stretch/>
        </p:blipFill>
        <p:spPr>
          <a:xfrm>
            <a:off x="1719360" y="189000"/>
            <a:ext cx="7315200" cy="834840"/>
          </a:xfrm>
          <a:prstGeom prst="rect">
            <a:avLst/>
          </a:prstGeom>
          <a:ln w="0">
            <a:noFill/>
          </a:ln>
        </p:spPr>
      </p:pic>
      <p:sp>
        <p:nvSpPr>
          <p:cNvPr id="923" name="TextBox 2"/>
          <p:cNvSpPr/>
          <p:nvPr/>
        </p:nvSpPr>
        <p:spPr>
          <a:xfrm>
            <a:off x="1116000" y="285264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Прямоугольник 5" descr=""/>
          <p:cNvPicPr/>
          <p:nvPr/>
        </p:nvPicPr>
        <p:blipFill>
          <a:blip r:embed="rId1"/>
          <a:stretch/>
        </p:blipFill>
        <p:spPr>
          <a:xfrm>
            <a:off x="12600" y="907920"/>
            <a:ext cx="8955360" cy="2311560"/>
          </a:xfrm>
          <a:prstGeom prst="rect">
            <a:avLst/>
          </a:prstGeom>
          <a:ln w="0">
            <a:noFill/>
          </a:ln>
        </p:spPr>
      </p:pic>
      <p:pic>
        <p:nvPicPr>
          <p:cNvPr id="925" name="Рисунок 1" descr=""/>
          <p:cNvPicPr/>
          <p:nvPr/>
        </p:nvPicPr>
        <p:blipFill>
          <a:blip r:embed="rId2"/>
          <a:stretch/>
        </p:blipFill>
        <p:spPr>
          <a:xfrm>
            <a:off x="523800" y="2637000"/>
            <a:ext cx="52372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Прямоугольник 2"/>
          <p:cNvSpPr/>
          <p:nvPr/>
        </p:nvSpPr>
        <p:spPr>
          <a:xfrm>
            <a:off x="1857240" y="214200"/>
            <a:ext cx="60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интеллектуально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Прямоугольник 5" descr=""/>
          <p:cNvPicPr/>
          <p:nvPr/>
        </p:nvPicPr>
        <p:blipFill>
          <a:blip r:embed="rId1"/>
          <a:stretch/>
        </p:blipFill>
        <p:spPr>
          <a:xfrm>
            <a:off x="176040" y="1414440"/>
            <a:ext cx="9279000" cy="914400"/>
          </a:xfrm>
          <a:prstGeom prst="rect">
            <a:avLst/>
          </a:prstGeom>
          <a:ln w="0">
            <a:noFill/>
          </a:ln>
        </p:spPr>
      </p:pic>
      <p:pic>
        <p:nvPicPr>
          <p:cNvPr id="928" name="Рисунок 1" descr=""/>
          <p:cNvPicPr/>
          <p:nvPr/>
        </p:nvPicPr>
        <p:blipFill>
          <a:blip r:embed="rId2"/>
          <a:stretch/>
        </p:blipFill>
        <p:spPr>
          <a:xfrm>
            <a:off x="184320" y="2041560"/>
            <a:ext cx="2089080" cy="2108160"/>
          </a:xfrm>
          <a:prstGeom prst="rect">
            <a:avLst/>
          </a:prstGeom>
          <a:ln w="0">
            <a:noFill/>
          </a:ln>
        </p:spPr>
      </p:pic>
      <p:pic>
        <p:nvPicPr>
          <p:cNvPr id="929" name="Рисунок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3065400" cy="3384360"/>
          </a:xfrm>
          <a:prstGeom prst="rect">
            <a:avLst/>
          </a:prstGeom>
          <a:ln w="0">
            <a:noFill/>
          </a:ln>
        </p:spPr>
      </p:pic>
      <p:pic>
        <p:nvPicPr>
          <p:cNvPr id="930" name="Рисунок 1" descr=""/>
          <p:cNvPicPr/>
          <p:nvPr/>
        </p:nvPicPr>
        <p:blipFill>
          <a:blip r:embed="rId4"/>
          <a:stretch/>
        </p:blipFill>
        <p:spPr>
          <a:xfrm>
            <a:off x="2627280" y="2230560"/>
            <a:ext cx="2863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рямоугольник 2"/>
          <p:cNvSpPr/>
          <p:nvPr/>
        </p:nvSpPr>
        <p:spPr>
          <a:xfrm>
            <a:off x="1258920" y="2142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интеллектуальное на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Прямоугольник 5" descr=""/>
          <p:cNvPicPr/>
          <p:nvPr/>
        </p:nvPicPr>
        <p:blipFill>
          <a:blip r:embed="rId1"/>
          <a:stretch/>
        </p:blipFill>
        <p:spPr>
          <a:xfrm>
            <a:off x="901800" y="781200"/>
            <a:ext cx="9272520" cy="2273040"/>
          </a:xfrm>
          <a:prstGeom prst="rect">
            <a:avLst/>
          </a:prstGeom>
          <a:ln w="0">
            <a:noFill/>
          </a:ln>
        </p:spPr>
      </p:pic>
      <p:pic>
        <p:nvPicPr>
          <p:cNvPr id="933" name="Рисунок 1" descr=""/>
          <p:cNvPicPr/>
          <p:nvPr/>
        </p:nvPicPr>
        <p:blipFill>
          <a:blip r:embed="rId2"/>
          <a:stretch/>
        </p:blipFill>
        <p:spPr>
          <a:xfrm>
            <a:off x="887400" y="2492280"/>
            <a:ext cx="3887640" cy="2800440"/>
          </a:xfrm>
          <a:prstGeom prst="rect">
            <a:avLst/>
          </a:prstGeom>
          <a:ln w="0">
            <a:noFill/>
          </a:ln>
        </p:spPr>
      </p:pic>
      <p:pic>
        <p:nvPicPr>
          <p:cNvPr id="934" name="Рисунок 1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33134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оугольник 2"/>
          <p:cNvSpPr/>
          <p:nvPr/>
        </p:nvSpPr>
        <p:spPr>
          <a:xfrm>
            <a:off x="1116000" y="214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интеллектуальное на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Прямоугольник 5" descr=""/>
          <p:cNvPicPr/>
          <p:nvPr/>
        </p:nvPicPr>
        <p:blipFill>
          <a:blip r:embed="rId1"/>
          <a:stretch/>
        </p:blipFill>
        <p:spPr>
          <a:xfrm>
            <a:off x="609480" y="738360"/>
            <a:ext cx="9156960" cy="1755720"/>
          </a:xfrm>
          <a:prstGeom prst="rect">
            <a:avLst/>
          </a:prstGeom>
          <a:ln w="0">
            <a:noFill/>
          </a:ln>
        </p:spPr>
      </p:pic>
      <p:pic>
        <p:nvPicPr>
          <p:cNvPr id="937" name="Рисунок 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1010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Прямоугольник 1"/>
          <p:cNvSpPr/>
          <p:nvPr/>
        </p:nvSpPr>
        <p:spPr>
          <a:xfrm>
            <a:off x="2071800" y="2142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культур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Прямоугольник 6" descr=""/>
          <p:cNvPicPr/>
          <p:nvPr/>
        </p:nvPicPr>
        <p:blipFill>
          <a:blip r:embed="rId1"/>
          <a:stretch/>
        </p:blipFill>
        <p:spPr>
          <a:xfrm>
            <a:off x="0" y="858960"/>
            <a:ext cx="9468000" cy="1828800"/>
          </a:xfrm>
          <a:prstGeom prst="rect">
            <a:avLst/>
          </a:prstGeom>
          <a:ln w="0">
            <a:noFill/>
          </a:ln>
        </p:spPr>
      </p:pic>
      <p:pic>
        <p:nvPicPr>
          <p:cNvPr id="940" name="TextBox 1" descr=""/>
          <p:cNvPicPr/>
          <p:nvPr/>
        </p:nvPicPr>
        <p:blipFill>
          <a:blip r:embed="rId2"/>
          <a:stretch/>
        </p:blipFill>
        <p:spPr>
          <a:xfrm>
            <a:off x="274680" y="2932200"/>
            <a:ext cx="3863880" cy="1834920"/>
          </a:xfrm>
          <a:prstGeom prst="rect">
            <a:avLst/>
          </a:prstGeom>
          <a:ln w="0">
            <a:noFill/>
          </a:ln>
        </p:spPr>
      </p:pic>
      <p:pic>
        <p:nvPicPr>
          <p:cNvPr id="941" name="TextBox 7" descr=""/>
          <p:cNvPicPr/>
          <p:nvPr/>
        </p:nvPicPr>
        <p:blipFill>
          <a:blip r:embed="rId3"/>
          <a:stretch/>
        </p:blipFill>
        <p:spPr>
          <a:xfrm>
            <a:off x="5168880" y="2852640"/>
            <a:ext cx="38656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38188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цейская газета «НЕПОСЕДЫ»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ФОТО…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 advTm="1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Прямоугольник 1"/>
          <p:cNvSpPr/>
          <p:nvPr/>
        </p:nvSpPr>
        <p:spPr>
          <a:xfrm>
            <a:off x="1763640" y="126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культурное  на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Прямоугольник 6" descr=""/>
          <p:cNvPicPr/>
          <p:nvPr/>
        </p:nvPicPr>
        <p:blipFill>
          <a:blip r:embed="rId1"/>
          <a:stretch/>
        </p:blipFill>
        <p:spPr>
          <a:xfrm>
            <a:off x="1116000" y="304920"/>
            <a:ext cx="7461360" cy="1231920"/>
          </a:xfrm>
          <a:prstGeom prst="rect">
            <a:avLst/>
          </a:prstGeom>
          <a:ln w="0">
            <a:noFill/>
          </a:ln>
        </p:spPr>
      </p:pic>
      <p:pic>
        <p:nvPicPr>
          <p:cNvPr id="946" name="Рисунок 1" descr=""/>
          <p:cNvPicPr/>
          <p:nvPr/>
        </p:nvPicPr>
        <p:blipFill>
          <a:blip r:embed="rId2"/>
          <a:stretch/>
        </p:blipFill>
        <p:spPr>
          <a:xfrm>
            <a:off x="965160" y="1125360"/>
            <a:ext cx="3325680" cy="2775240"/>
          </a:xfrm>
          <a:prstGeom prst="rect">
            <a:avLst/>
          </a:prstGeom>
          <a:ln w="0">
            <a:noFill/>
          </a:ln>
        </p:spPr>
      </p:pic>
      <p:pic>
        <p:nvPicPr>
          <p:cNvPr id="947" name="Рисунок 3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2303280" cy="2586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5" descr="https://1.bp.blogspot.com/-EKBktE5bVMA/YBBdlmj1-BI/AAAAAAAABJE/WUXeIXMbvzkaJprSzpoZwn5N4X42Wzz1QCLcBGAsYHQ/s2048/%25D0%259F%25D0%25B0%25D0%25BB%25D1%258C%25D1%2586%25D1%258B%2B1.jpg"/>
          <p:cNvPicPr/>
          <p:nvPr/>
        </p:nvPicPr>
        <p:blipFill>
          <a:blip r:embed="rId4"/>
          <a:stretch/>
        </p:blipFill>
        <p:spPr>
          <a:xfrm>
            <a:off x="4572000" y="246060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Формы внеурочной деятельност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78920" y="1267920"/>
            <a:ext cx="4722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глые столы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ы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ады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евнования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исковые и научные исследовани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и с известными людьми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…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ик 1"/>
          <p:cNvSpPr/>
          <p:nvPr/>
        </p:nvSpPr>
        <p:spPr>
          <a:xfrm>
            <a:off x="571680" y="928800"/>
            <a:ext cx="85723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урочная деятельност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бразовательная деятельность, осуществляемая в формах, отличных от классно-урочной, направленная на достижение планируемых результатов освоения основной образовательной программы начального общего образования.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Схема 9" descr=""/>
          <p:cNvPicPr/>
          <p:nvPr/>
        </p:nvPicPr>
        <p:blipFill>
          <a:blip r:embed="rId1"/>
          <a:stretch/>
        </p:blipFill>
        <p:spPr>
          <a:xfrm>
            <a:off x="1042920" y="1000080"/>
            <a:ext cx="7418520" cy="590760"/>
          </a:xfrm>
          <a:prstGeom prst="rect">
            <a:avLst/>
          </a:prstGeom>
          <a:ln w="0">
            <a:noFill/>
          </a:ln>
        </p:spPr>
      </p:pic>
      <p:sp>
        <p:nvSpPr>
          <p:cNvPr id="952" name="Прямоугольник 2"/>
          <p:cNvSpPr/>
          <p:nvPr/>
        </p:nvSpPr>
        <p:spPr>
          <a:xfrm>
            <a:off x="538200" y="1685880"/>
            <a:ext cx="4203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атрализованные постанов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курс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Прямоугольник 2"/>
          <p:cNvSpPr/>
          <p:nvPr/>
        </p:nvSpPr>
        <p:spPr>
          <a:xfrm>
            <a:off x="5003640" y="2276640"/>
            <a:ext cx="420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Box 1"/>
          <p:cNvSpPr/>
          <p:nvPr/>
        </p:nvSpPr>
        <p:spPr>
          <a:xfrm>
            <a:off x="755640" y="407664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1071720" y="251028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после урок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мир творчества, проявления и раскрытия каждым ребенком своих интересов, своих увлечений, свое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Прямоугольник 1"/>
          <p:cNvSpPr/>
          <p:nvPr/>
        </p:nvSpPr>
        <p:spPr>
          <a:xfrm>
            <a:off x="684360" y="836640"/>
            <a:ext cx="807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"Детство  -  важнейший  период человеческой  жизни, не  подготовка  к будущей жизни, а настоящая,  яркая, неповторимая  жизнь. И  от того, как прошло детство, кто вел ребенка за руку в  детские годы, что вошло в  его  разум и  сердце из  окружающего мира,-  от  этого в решающей степени зависит, каким человеком станет сегодняшний малыш". (педагог Василий Александрович Сухомлинский)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32000" y="266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899" name="Прямая со стрелкой 3"/>
          <p:cNvCxnSpPr/>
          <p:nvPr/>
        </p:nvCxnSpPr>
        <p:spPr>
          <a:xfrm flipH="1">
            <a:off x="2548800" y="525600"/>
            <a:ext cx="1166040" cy="489600"/>
          </a:xfrm>
          <a:prstGeom prst="straightConnector1">
            <a:avLst/>
          </a:prstGeom>
          <a:ln w="9360">
            <a:solidFill>
              <a:srgbClr val="f09415"/>
            </a:solidFill>
            <a:miter/>
            <a:tailEnd len="med" type="triangle" w="med"/>
          </a:ln>
        </p:spPr>
      </p:cxnSp>
      <p:cxnSp>
        <p:nvCxnSpPr>
          <p:cNvPr id="900" name="Прямая со стрелкой 5"/>
          <p:cNvCxnSpPr/>
          <p:nvPr/>
        </p:nvCxnSpPr>
        <p:spPr>
          <a:xfrm>
            <a:off x="4642920" y="522360"/>
            <a:ext cx="939240" cy="513360"/>
          </a:xfrm>
          <a:prstGeom prst="straightConnector1">
            <a:avLst/>
          </a:prstGeom>
          <a:ln w="9360">
            <a:solidFill>
              <a:srgbClr val="f09415"/>
            </a:solidFill>
            <a:miter/>
            <a:tailEnd len="med" type="triangle" w="med"/>
          </a:ln>
        </p:spPr>
      </p:cxnSp>
      <p:sp>
        <p:nvSpPr>
          <p:cNvPr id="901" name="Прямоугольник 8"/>
          <p:cNvSpPr/>
          <p:nvPr/>
        </p:nvSpPr>
        <p:spPr>
          <a:xfrm>
            <a:off x="500040" y="1108080"/>
            <a:ext cx="3214800" cy="1654200"/>
          </a:xfrm>
          <a:prstGeom prst="rect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остный результ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Прямоугольник 9"/>
          <p:cNvSpPr/>
          <p:nvPr/>
        </p:nvSpPr>
        <p:spPr>
          <a:xfrm>
            <a:off x="4473720" y="1127160"/>
            <a:ext cx="3929040" cy="1654200"/>
          </a:xfrm>
          <a:prstGeom prst="rect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предметный резуль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Овал 10"/>
          <p:cNvSpPr/>
          <p:nvPr/>
        </p:nvSpPr>
        <p:spPr>
          <a:xfrm>
            <a:off x="500040" y="3068640"/>
            <a:ext cx="7559640" cy="2997360"/>
          </a:xfrm>
          <a:prstGeom prst="ellipse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только узнать, сколько научиться самостоятельно мыслить, принимать решения и развивать творческие  способ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1"/>
          <p:cNvSpPr/>
          <p:nvPr/>
        </p:nvSpPr>
        <p:spPr>
          <a:xfrm>
            <a:off x="1199520" y="922320"/>
            <a:ext cx="57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урочной дея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"/>
          <p:cNvSpPr/>
          <p:nvPr/>
        </p:nvSpPr>
        <p:spPr>
          <a:xfrm>
            <a:off x="285840" y="215568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ствовать адаптации ребёнка в школ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имизировать учебную нагрузку обучаю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стороннее развития ребён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Скругленный прямоугольник 1"/>
          <p:cNvSpPr/>
          <p:nvPr/>
        </p:nvSpPr>
        <p:spPr>
          <a:xfrm>
            <a:off x="2817720" y="701640"/>
            <a:ext cx="3637080" cy="1703520"/>
          </a:xfrm>
          <a:prstGeom prst="roundRect">
            <a:avLst>
              <a:gd name="adj" fmla="val 16667"/>
            </a:avLst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мущество В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трелка вниз 2"/>
          <p:cNvSpPr/>
          <p:nvPr/>
        </p:nvSpPr>
        <p:spPr>
          <a:xfrm>
            <a:off x="4546440" y="2549520"/>
            <a:ext cx="363600" cy="9777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Прямоугольник 3"/>
          <p:cNvSpPr/>
          <p:nvPr/>
        </p:nvSpPr>
        <p:spPr>
          <a:xfrm>
            <a:off x="2254320" y="3672000"/>
            <a:ext cx="4763880" cy="1901880"/>
          </a:xfrm>
          <a:prstGeom prst="rect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ий спектр занятий, направленных на развитие ребенка как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неурочная деятельность организуется </a:t>
            </a: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направлениям развития личности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0" name="Прямоугольник 2"/>
          <p:cNvSpPr/>
          <p:nvPr/>
        </p:nvSpPr>
        <p:spPr>
          <a:xfrm>
            <a:off x="257040" y="4005360"/>
            <a:ext cx="70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интеллектуаль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культур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ртивно- оздоровитель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Прямоугольник 1"/>
          <p:cNvSpPr/>
          <p:nvPr/>
        </p:nvSpPr>
        <p:spPr>
          <a:xfrm>
            <a:off x="1928880" y="14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-оздоровите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TextBox 1" descr=""/>
          <p:cNvPicPr/>
          <p:nvPr/>
        </p:nvPicPr>
        <p:blipFill>
          <a:blip r:embed="rId1"/>
          <a:stretch/>
        </p:blipFill>
        <p:spPr>
          <a:xfrm>
            <a:off x="1116000" y="1127160"/>
            <a:ext cx="66261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Прямоугольник 1"/>
          <p:cNvSpPr/>
          <p:nvPr/>
        </p:nvSpPr>
        <p:spPr>
          <a:xfrm>
            <a:off x="1928880" y="14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-оздоровите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Прямоугольник 6" descr=""/>
          <p:cNvPicPr/>
          <p:nvPr/>
        </p:nvPicPr>
        <p:blipFill>
          <a:blip r:embed="rId1"/>
          <a:stretch/>
        </p:blipFill>
        <p:spPr>
          <a:xfrm>
            <a:off x="176040" y="725400"/>
            <a:ext cx="8967960" cy="927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1"/>
          <p:cNvSpPr/>
          <p:nvPr/>
        </p:nvSpPr>
        <p:spPr>
          <a:xfrm>
            <a:off x="1332000" y="256536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1"/>
          <p:cNvSpPr/>
          <p:nvPr/>
        </p:nvSpPr>
        <p:spPr>
          <a:xfrm>
            <a:off x="1928880" y="14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-оздоровите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TextBox 1" descr=""/>
          <p:cNvPicPr/>
          <p:nvPr/>
        </p:nvPicPr>
        <p:blipFill>
          <a:blip r:embed="rId1"/>
          <a:stretch/>
        </p:blipFill>
        <p:spPr>
          <a:xfrm>
            <a:off x="1328760" y="762120"/>
            <a:ext cx="6553080" cy="1199880"/>
          </a:xfrm>
          <a:prstGeom prst="rect">
            <a:avLst/>
          </a:prstGeom>
          <a:ln w="0">
            <a:noFill/>
          </a:ln>
        </p:spPr>
      </p:pic>
      <p:sp>
        <p:nvSpPr>
          <p:cNvPr id="918" name="TextBox 2"/>
          <p:cNvSpPr/>
          <p:nvPr/>
        </p:nvSpPr>
        <p:spPr>
          <a:xfrm>
            <a:off x="1042920" y="227664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Артур Щетинин</cp:lastModifiedBy>
  <dcterms:modified xsi:type="dcterms:W3CDTF">2022-05-04T16:17:58Z</dcterms:modified>
  <cp:revision>56</cp:revision>
  <dc:subject/>
  <dc:title>Слайд 1</dc:title>
</cp:coreProperties>
</file>