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82A1-EF88-4FB6-9794-759FD2B6EC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19B20-9B2B-4639-96B6-EE58AC0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FD13-35CF-4E60-A221-6039B999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F9EF-8BBC-47B8-8B6E-FE4B59593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EE3B-F4FF-49DD-BB66-9B3ACB75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11DD2-4614-41B7-8CA9-062E9C6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EFE4-B843-4590-B6A4-243A499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61078-C1B1-4C9B-BB3E-588A5C8E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A907-405F-4240-9925-E192B8C9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9570-B62F-457F-98DC-CEDD3356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D2AB2-45F7-4BF5-8806-FFF612C8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57515-915E-468A-A7A5-9A6A3B6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DD58B9-D0E3-4EA0-9694-E03AA77E66F0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68360" y="333360"/>
            <a:ext cx="79898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на тему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quarelle"/>
                <a:ea typeface="Arial"/>
              </a:rPr>
              <a:t>«Безопасное дорожное движение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371600" y="4249800"/>
            <a:ext cx="197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543640" y="4735440"/>
            <a:ext cx="316872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одготовила: воспитатель МДОУ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«Детский сад № 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09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. Саратов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оманова О.А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64000" y="40464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редко увидишь, но он ес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995640" y="77472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вают разных цветов и размеров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63528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очень удобно ездить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974600" y="15127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вят на заднем пассажирском мест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2457360" y="1712880"/>
            <a:ext cx="3467160" cy="9382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276720" y="260280"/>
            <a:ext cx="27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что-то такое высокое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630600" y="63036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732120" y="10429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го три глаз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561120" y="14842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на него смотря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24160" y="1854360"/>
            <a:ext cx="28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за светятся по очереди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1768320" y="2292480"/>
            <a:ext cx="5772240" cy="45226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908000" y="33336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Конкурс «Соберите знак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08000" y="1533600"/>
            <a:ext cx="4081320" cy="4073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284720" y="1508040"/>
            <a:ext cx="4667040" cy="4098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24000" y="189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вседневной жизни мы стараемся быть вежливыми по отношению друг к другу, а вот ступая на дорогу, садясь за руль автомобиля, становимся другими, как бы перерождаемся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84240" y="1798560"/>
            <a:ext cx="45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е трамвай – объедет», – убеждает себя пешеход, переходя дорогу перед близко идущим транспорто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986360" y="1427040"/>
            <a:ext cx="3492360" cy="5808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14036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водителя мнение насчет пешехода совсем другое: «Не столб – отойдет», а в результате статистика собирает урожай дорожных происшествий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712800" y="3382920"/>
            <a:ext cx="306072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258920" y="404640"/>
            <a:ext cx="68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шеходы наравне с водителями обязаны соблюдать Правила дорожного движения. Об этом должны знать и взрослые, и дет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важаемые ребята и родители! Чтобы сохранить свое здоровье и жизнь, мы должны строго соблюдать установленные правила движения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89120" y="2048040"/>
            <a:ext cx="5937120" cy="4449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468360" y="18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Чтобы происшествий на дороге избежа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до выучить все правила движень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е знаки помнить и уметь чита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3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2457360" cy="2457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468360" y="260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наки бывают разные: белые, синие, красны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6920" y="15336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круглые они и все нам запрещаю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564000" y="784080"/>
            <a:ext cx="2570040" cy="2568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684360" y="3168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треугольные они и нас предупреждаю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500800" y="1533600"/>
            <a:ext cx="3079800" cy="27050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714240" y="4716360"/>
            <a:ext cx="26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м предписывают как себя вест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195640" y="610236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 что нас ожидает по пу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39640" y="33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Обращение к водителям нашего город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43280" y="1000080"/>
            <a:ext cx="410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ДД соблюдайте тщательн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храните в нашем поселке покой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гоняйте, как гонщики формулы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лихачьте забыв обо все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садитесь за руль не трезвым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учше уж пройдитесь пешко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е забудьте пожалуйста взрослы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ы в ответе за нас де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139680" y="1450800"/>
            <a:ext cx="5443560" cy="428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539640" y="260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онкурс «Размин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39640" y="11253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марки российских автомобилей вы знает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39640" y="1494000"/>
            <a:ext cx="51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правильно перевозить детей в машин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39640" y="186372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и где нужно переходить улицу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39640" y="2232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какого возраста можно использовать детские автокресла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26020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безопасное место для установки детского кресла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39640" y="297180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заднее правое сидение, расположенное за передним пассажиром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539640" y="334008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безопасное положение ребёнка- младенца при перевозке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684360" y="3710160"/>
            <a:ext cx="74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984807"/>
                </a:solidFill>
                <a:latin typeface="Calibri"/>
              </a:rPr>
              <a:t>спиной вперёд, против хода движения транспортного средств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600120" y="4118040"/>
            <a:ext cx="55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называется пешеходным переходом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00480" y="4487760"/>
            <a:ext cx="35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устанавливается светофор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13440" y="4857840"/>
            <a:ext cx="27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такое перекресток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612720" y="5226120"/>
            <a:ext cx="67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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акие группы делятся дорожные знаки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1019160" y="5708520"/>
            <a:ext cx="66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  <a:ea typeface="Arial"/>
              </a:rPr>
              <a:t>Молодцы!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484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курс «Объяснялки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244680" y="119700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оцвет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605040" y="1700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хож на палк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844640" y="203040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 указывают на кого-нибудь и тот останавливаетс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400120" y="240048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чередуются черный и белый цвет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1158840" y="3230640"/>
            <a:ext cx="6973920" cy="6102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395280" y="26028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роде этого много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344600" y="7254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бывает разный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382840" y="115560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 нем находишься, зевать нельзя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457080" y="157320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 на нем светофоры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0" y="20048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м все смотрят по сторонам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03320" y="1689120"/>
            <a:ext cx="502308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8:59:28Z</dcterms:created>
  <dc:creator>user</dc:creator>
  <dc:description/>
  <dc:language>en-US</dc:language>
  <cp:lastModifiedBy>Сергей Романов</cp:lastModifiedBy>
  <dcterms:modified xsi:type="dcterms:W3CDTF">2022-05-05T08:16:05Z</dcterms:modified>
  <cp:revision>18</cp:revision>
  <dc:subject/>
  <dc:title>Презентация PowerPoint</dc:title>
</cp:coreProperties>
</file>