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8108-974F-45CB-A9D1-62237D64A6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1A3F-46EB-4050-95BC-DD5C2B30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FAA9-F8AE-4EA2-9FA1-4515F557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209CE-0D24-4BCB-A250-08353FF0FE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169A-D2BF-4921-93F5-617791C1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56CAD-0C25-442C-9424-644215C7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05F04-4322-4CA3-84A9-E8FC9DD8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9F13-B3D7-4459-9423-8864E55D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4D51-6110-42ED-BA6F-F21A7A8B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72CF-0144-4729-BD67-71E9A833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B2D5-326C-4DE6-87F2-C6C5050A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73AD-8F71-4846-ABBE-36520B83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2EF3F6-86A7-40C9-93DE-4999A9E42A71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68360" y="333360"/>
            <a:ext cx="79898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quarelle"/>
                <a:ea typeface="Arial"/>
              </a:rPr>
              <a:t>Родительское собран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quarelle"/>
                <a:ea typeface="Arial"/>
              </a:rPr>
              <a:t>на тему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quarelle"/>
                <a:ea typeface="Arial"/>
              </a:rPr>
              <a:t>«Безопасное дорожное движение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4249800"/>
            <a:ext cx="197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543640" y="4735440"/>
            <a:ext cx="316872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одготовила: воспитатель МДОУ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«Детский сад № 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09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г. Саратов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оманова О.А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364000" y="40464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о редко увидишь, но он есть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995640" y="77472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вают разных цветов и размеров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635280" y="114300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ем очень удобно ездить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974600" y="15127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вят на заднем пассажирском месте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2457360" y="1712880"/>
            <a:ext cx="3467160" cy="9382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3276720" y="26028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что-то такое высокое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630600" y="63036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бывает разный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732120" y="10429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его три глаз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561120" y="148428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на него смотрят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224160" y="1854360"/>
            <a:ext cx="28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за светятся по очереди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1768320" y="2292480"/>
            <a:ext cx="5772240" cy="4522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908000" y="33336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Конкурс «Соберите знак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08000" y="1533600"/>
            <a:ext cx="4081320" cy="4073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284720" y="1508040"/>
            <a:ext cx="4667040" cy="4098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24000" y="189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овседневной жизни мы стараемся быть вежливыми по отношению друг к другу, а вот ступая на дорогу, садясь за руль автомобиля, становимся другими, как бы перерождаемся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84240" y="1798560"/>
            <a:ext cx="45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е трамвай – объедет», – убеждает себя пешеход, переходя дорогу перед близко идущим транспорто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986360" y="1427040"/>
            <a:ext cx="3492360" cy="5808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140360" y="4941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водителя мнение насчет пешехода совсем другое: «Не столб – отойдет», а в результате статистика собирает урожай дорожных происшествий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712800" y="3382920"/>
            <a:ext cx="306072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258920" y="404640"/>
            <a:ext cx="68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шеходы наравне с водителями обязаны соблюдать Правила дорожного движения. Об этом должны знать и взрослые, и дет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важаемые ребята и родители! Чтобы сохранить свое здоровье и жизнь, мы должны строго соблюдать установленные правила движения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89120" y="2048040"/>
            <a:ext cx="5937120" cy="4449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6836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Чтобы происшествий на дороге избежат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до выучить все правила движень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е знаки помнить и уметь читат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2457360" cy="2457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468360" y="260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наки бывают разные: белые, синие, красны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26920" y="15336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круглые они и все нам запрещают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564000" y="784080"/>
            <a:ext cx="2570040" cy="2568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684360" y="3168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треугольные они и нас предупреждаю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5500800" y="1533600"/>
            <a:ext cx="3079800" cy="2705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714240" y="4716360"/>
            <a:ext cx="26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нам предписывают как себя вест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195640" y="610236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 что нас ожидает по пут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539640" y="33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Обращение к водителям нашего город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43280" y="1000080"/>
            <a:ext cx="410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ДД соблюдайте тщательно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охраните в нашем поселке покой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е гоняйте, как гонщики формулы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е лихачьте забыв обо все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е садитесь за руль не трезвыми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учше уж пройдитесь пешко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е забудьте пожалуйста взрослые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ы в ответе за нас дете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139680" y="1450800"/>
            <a:ext cx="5443560" cy="4280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539640" y="2602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онкурс «Разминк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39640" y="112536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марки российских автомобилей вы знаете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39640" y="1494000"/>
            <a:ext cx="51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правильно перевозить детей в машине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39640" y="186372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и где нужно переходить улицу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39640" y="2232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какого возраста можно использовать детские автокресла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9640" y="260208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более безопасное место для установки детского кресла?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39640" y="297180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Calibri"/>
              </a:rPr>
              <a:t>заднее правое сидение, расположенное за передним пассажиром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539640" y="334008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более безопасное положение ребёнка- младенца при перевозке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684360" y="371016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Calibri"/>
              </a:rPr>
              <a:t>спиной вперёд, против хода движения транспортного средств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600120" y="4118040"/>
            <a:ext cx="55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называется пешеходным переходом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600480" y="4487760"/>
            <a:ext cx="35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устанавливается светофор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613440" y="4857840"/>
            <a:ext cx="27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такое перекресток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612720" y="5226120"/>
            <a:ext cx="67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акие группы делятся дорожные знаки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1019160" y="5708520"/>
            <a:ext cx="66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Молодцы!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484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Конкурс «Объяснялки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244680" y="119700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бывает разноцветный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605040" y="170028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похож на палк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844640" y="203040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 указывают на кого-нибудь и тот останавливается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400120" y="2400480"/>
            <a:ext cx="43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нем чередуются черный и белый цвет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1158840" y="3230640"/>
            <a:ext cx="6973920" cy="6102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395280" y="26028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городе этого много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344600" y="7254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бывает разный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382840" y="1155600"/>
            <a:ext cx="42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 нем находишься, зевать нельзя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457080" y="157320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о на нем светофоры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72000" y="20048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нем все смотрят по сторона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03320" y="1689120"/>
            <a:ext cx="502308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18:59:28Z</dcterms:created>
  <dc:creator>user</dc:creator>
  <dc:description/>
  <dc:language>en-US</dc:language>
  <cp:lastModifiedBy>Сергей Романов</cp:lastModifiedBy>
  <dcterms:modified xsi:type="dcterms:W3CDTF">2022-05-05T08:16:05Z</dcterms:modified>
  <cp:revision>18</cp:revision>
  <dc:subject/>
  <dc:title>Презентация PowerPoint</dc:title>
</cp:coreProperties>
</file>