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EA9D-6B8C-451C-9D08-CA6A85739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C3A4-D834-4209-AAE3-DD29166D6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040-F219-490E-8032-E69B657A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947-3422-4185-A673-8D16FFCF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F9C-CC4A-482B-83E9-C7B63001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2D7-38A7-41D5-B4F1-47510E89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ED1-AE7C-4B24-A722-E1162F92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F15-7A60-4BB0-953C-8519C67C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438F-DC90-40BF-803E-FE829B0C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0D6A-C9E8-42A8-B3E1-533CE111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1DC1-2DB2-4C28-BE2B-71C93BC7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EDD8-6328-4B8D-AACF-72B01F5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304-8194-4571-84E0-8970F75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85B-63D0-4029-B92B-496949C4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829-5134-4678-9CD0-7FA588F1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FF34-A6FB-4A4D-AA6A-5FB9F5A1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905-4866-4843-A3DE-BDE07A10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40A-1C2A-4441-B2B1-01894B54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E3DC-106E-41B3-8D3C-B3951FC4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5E89-44EF-461D-B8F6-536B1DAE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9ED1-6762-415C-9A95-E236ACD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49F84-B313-4C4F-81FB-493C6F37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4F61-AEA6-454D-8605-A45DBB55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32AA-D5F2-45FF-9A64-8944373F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B0E-F73B-4159-8BA9-85188C62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A376-BD6B-46C7-9CC7-53FF48C5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DE719-A78E-448F-84EA-E4B2E303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B7EE-30B6-4CBB-B6AB-60EA6043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7370-AA0D-48B2-ACA4-A42D25D5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E3EF-2440-4C84-936A-5042C010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D4CC-2302-4E7B-9435-4504743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F2CF6-E5A9-4000-9D93-8335A586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BEEC-90D8-414A-BFB3-6199AD1C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DD40-3609-4E74-9583-5395D2D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07E40-1EC3-414D-B94F-976358FF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6A5-5D22-4046-872B-B9059A5D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2D3D-2573-4AD8-82DB-C3DA54FB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BEB0-FD6A-48B8-B649-6642C1E6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764DD-AA55-4D59-8A54-9967EC2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508A-DEC7-45BD-9195-663D765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A48C8-9262-4FAE-8B6C-B1790B97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E786-2005-48F3-BA25-C5631FD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281A-5B02-45B2-863B-85F57F45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C384-E72C-4FD6-8941-4A02105B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B1E27-EA26-4EF2-8A89-493E88EB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F9F56-16F5-44DD-A4AA-4D90A3B9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B63-7A6D-4244-B2D9-3EEB502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510A-3046-481C-B489-8400BF9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EDD2-8CA7-4B45-8D6E-8191DB7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74026-C3B5-446A-9A9A-E2944D4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113C9-BA45-487E-8279-2A388A42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A19E-2CF1-4D7A-809D-40E2E83D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1250-D7C1-4419-8E24-0ADABFD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0A0B8-57F4-48E5-8615-896048B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BDDF-4549-4297-8B56-BE6EE96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3DEA-BEB9-4C30-A2B4-707EAB5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93B58-C36D-4F39-BCE6-D3FE933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F96-E846-4C34-8D28-2E87382D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EE4D-3286-40D6-8FE4-DAFB19B3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B73-2B99-496A-83E6-FEF5185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14E-E26A-409F-A364-98CFBEE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C41-8DB3-4D4A-B456-A633EB93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2BB-637F-422C-8C16-D68163360E0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096-099E-4036-AFCD-82E3F1BA24F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DD8-F0AB-4F39-9BDA-F20EB06E2ED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38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237-7995-49BC-B519-36EE7354C75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86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6EF9-37EE-4ED3-A370-EDFC2DF9EFC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543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55280" y="549000"/>
            <a:ext cx="7777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Кейс-метод – технология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блемного обучения в ДОУ»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41" name="Picture 2" descr="http://wiki.iteach.ru/images/7/77/1389795210_1111111111.jpg"/>
          <p:cNvPicPr/>
          <p:nvPr/>
        </p:nvPicPr>
        <p:blipFill>
          <a:blip r:embed="rId1"/>
          <a:stretch/>
        </p:blipFill>
        <p:spPr>
          <a:xfrm>
            <a:off x="971640" y="4653000"/>
            <a:ext cx="1938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Шесть признаков хорошего кейс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116000" y="26370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поставленной цел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ет возрастные и индивидуальные особенности де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актуальным и интересным детя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ет когнитивные навыки, воображение, креативное мышл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ет дискусси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 algn="just">
              <a:lnSpc>
                <a:spcPct val="100000"/>
              </a:lnSpc>
              <a:spcBef>
                <a:spcPts val="601"/>
              </a:spcBef>
              <a:buClr>
                <a:srgbClr val="073e8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несколько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35892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3040200" cy="215892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pic>
        <p:nvPicPr>
          <p:cNvPr id="268" name="Picture 5" descr="https://1.bp.blogspot.com/-JSyyK9wQzZA/XKSA5m3f_nI/AAAAAAAACaQ/VzO0Js6MQvoKn_DyCouRnZDvcDT9ch9EQCLcBGAs/s1600/%25D1%2588%25D0%25B0%25D1%2588%25D0%25BA%25D0%25B8.jpg"/>
          <p:cNvPicPr/>
          <p:nvPr/>
        </p:nvPicPr>
        <p:blipFill>
          <a:blip r:embed="rId2"/>
          <a:stretch/>
        </p:blipFill>
        <p:spPr>
          <a:xfrm>
            <a:off x="324000" y="333360"/>
            <a:ext cx="3071520" cy="230364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69" name="Прямоугольник 4"/>
          <p:cNvSpPr/>
          <p:nvPr/>
        </p:nvSpPr>
        <p:spPr>
          <a:xfrm>
            <a:off x="3708000" y="4437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то-кей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331560" y="2637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иллюст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https://top-cena.ru/up_img/8f5/8f515f9d4e034791e07ec4071a4cd779.jpg"/>
          <p:cNvPicPr/>
          <p:nvPr/>
        </p:nvPicPr>
        <p:blipFill>
          <a:blip r:embed="rId3"/>
          <a:srcRect l="3595" t="18403" r="6894" b="19050"/>
          <a:stretch/>
        </p:blipFill>
        <p:spPr>
          <a:xfrm>
            <a:off x="5580000" y="3860640"/>
            <a:ext cx="3233880" cy="226080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2" name="TextBox 8"/>
          <p:cNvSpPr/>
          <p:nvPr/>
        </p:nvSpPr>
        <p:spPr>
          <a:xfrm>
            <a:off x="6302160" y="623736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драмат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9" descr="https://i.pinimg.com/736x/db/39/13/db39135c6a0bd81ece09cfd5ecc21899--clipart-doctor.jpg"/>
          <p:cNvPicPr/>
          <p:nvPr/>
        </p:nvPicPr>
        <p:blipFill>
          <a:blip r:embed="rId4"/>
          <a:stretch/>
        </p:blipFill>
        <p:spPr>
          <a:xfrm>
            <a:off x="6875640" y="620640"/>
            <a:ext cx="1915920" cy="230364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4" name="TextBox 10"/>
          <p:cNvSpPr/>
          <p:nvPr/>
        </p:nvSpPr>
        <p:spPr>
          <a:xfrm>
            <a:off x="7023240" y="30686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ы-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http://simfchildlibrary.ru/admin/edit/images/721-c2851094eaa6cefb4cfcce9bc554d388.png"/>
          <p:cNvPicPr/>
          <p:nvPr/>
        </p:nvPicPr>
        <p:blipFill>
          <a:blip r:embed="rId5"/>
          <a:stretch/>
        </p:blipFill>
        <p:spPr>
          <a:xfrm>
            <a:off x="395280" y="3284640"/>
            <a:ext cx="2448000" cy="2511360"/>
          </a:xfrm>
          <a:prstGeom prst="rect">
            <a:avLst/>
          </a:prstGeom>
          <a:ln w="76320">
            <a:solidFill>
              <a:srgbClr val="4584d3"/>
            </a:solidFill>
            <a:miter/>
          </a:ln>
        </p:spPr>
      </p:pic>
      <p:sp>
        <p:nvSpPr>
          <p:cNvPr id="276" name="TextBox 12"/>
          <p:cNvSpPr/>
          <p:nvPr/>
        </p:nvSpPr>
        <p:spPr>
          <a:xfrm>
            <a:off x="261360" y="6021360"/>
            <a:ext cx="33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ы на основе мультфиль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итературных произ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20181012_153803"/>
          <p:cNvPicPr/>
          <p:nvPr/>
        </p:nvPicPr>
        <p:blipFill>
          <a:blip r:embed="rId1"/>
          <a:stretch/>
        </p:blipFill>
        <p:spPr>
          <a:xfrm>
            <a:off x="324000" y="836640"/>
            <a:ext cx="3663720" cy="2747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20181012_153417"/>
          <p:cNvPicPr/>
          <p:nvPr/>
        </p:nvPicPr>
        <p:blipFill>
          <a:blip r:embed="rId2"/>
          <a:stretch/>
        </p:blipFill>
        <p:spPr>
          <a:xfrm>
            <a:off x="395280" y="378936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20181012_153354"/>
          <p:cNvPicPr/>
          <p:nvPr/>
        </p:nvPicPr>
        <p:blipFill>
          <a:blip r:embed="rId3"/>
          <a:stretch/>
        </p:blipFill>
        <p:spPr>
          <a:xfrm>
            <a:off x="4932360" y="836640"/>
            <a:ext cx="3652920" cy="274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20181012_154344"/>
          <p:cNvPicPr/>
          <p:nvPr/>
        </p:nvPicPr>
        <p:blipFill>
          <a:blip r:embed="rId4"/>
          <a:stretch/>
        </p:blipFill>
        <p:spPr>
          <a:xfrm>
            <a:off x="5003640" y="3789360"/>
            <a:ext cx="35989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20181012_153648"/>
          <p:cNvPicPr/>
          <p:nvPr/>
        </p:nvPicPr>
        <p:blipFill>
          <a:blip r:embed="rId1"/>
          <a:stretch/>
        </p:blipFill>
        <p:spPr>
          <a:xfrm>
            <a:off x="611280" y="69228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20181012_153620"/>
          <p:cNvPicPr/>
          <p:nvPr/>
        </p:nvPicPr>
        <p:blipFill>
          <a:blip r:embed="rId2"/>
          <a:stretch/>
        </p:blipFill>
        <p:spPr>
          <a:xfrm>
            <a:off x="5003640" y="69228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0181012_153503"/>
          <p:cNvPicPr/>
          <p:nvPr/>
        </p:nvPicPr>
        <p:blipFill>
          <a:blip r:embed="rId3"/>
          <a:stretch/>
        </p:blipFill>
        <p:spPr>
          <a:xfrm>
            <a:off x="611280" y="3645000"/>
            <a:ext cx="3598920" cy="2698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20181012_153508"/>
          <p:cNvPicPr/>
          <p:nvPr/>
        </p:nvPicPr>
        <p:blipFill>
          <a:blip r:embed="rId4"/>
          <a:stretch/>
        </p:blipFill>
        <p:spPr>
          <a:xfrm>
            <a:off x="5003640" y="3645000"/>
            <a:ext cx="35989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  <a:ea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517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интерактивная технология для краткосрочного обучения, на основе реальных или вымышленных ситуаций, направленная не столько на освоение знаний, сколько на формирование новых качеств и умени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предназна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звивать способность анализировать различные проблемы и находить их решение, а также умение работать с информаци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ейс-технолог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4" name="Picture 2" descr="best-text.ru &amp;Mcy;&amp;ycy; &amp;pcy;&amp;icy;&amp;shcy;&amp;iecy;&amp;mcy; &amp;scy;&amp;tcy;&amp;acy;&amp;tcy;&amp;softcy;&amp;icy; &amp;icy; &amp;rcy;&amp;iecy;&amp;kcy;&amp;lcy;&amp;acy;&amp;mcy;&amp;ncy;&amp;ycy;&amp;iecy; &amp;tcy;&amp;iecy;&amp;kcy;&amp;scy;&amp;tcy;&amp;ycy; - &amp;Ncy;&amp;ocy;&amp;vcy;&amp;ocy;&amp;scy;&amp;tcy;&amp;icy; - 05 - 46 &amp;Scy;&amp;icy;&amp;tcy;&amp;ucy;&amp;acy;&amp;tscy;&amp;icy;&amp;ocy;&amp;ncy;&amp;ncy;&amp;ycy;&amp;jcy; &amp;acy;&amp;ncy;&amp;acy;&amp;lcy;&amp;icy;&amp;zcy;"/>
          <p:cNvPicPr/>
          <p:nvPr/>
        </p:nvPicPr>
        <p:blipFill>
          <a:blip r:embed="rId1"/>
          <a:stretch/>
        </p:blipFill>
        <p:spPr>
          <a:xfrm>
            <a:off x="6551640" y="3860640"/>
            <a:ext cx="25923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Кейс-метод развивает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ственные, сенсорные, речевые способност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е умения: классифицировать, анализировать, представлять свой взгляд на решение проблемы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ует навыки коммуникативного взаимодейств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е умен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умения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йс дает возможность приблизиться к практике,  встать на позицию человека, реально принимающего решения, учиться на ошибках других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Требования к кейса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569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нная ситуация должна соответствовать потребностям дошкольников и иллюстрировать те проблемы, с которыми ребенок может столкнуться в жизни. Эта ситуация должна зацепить ребенка. В ней должно содержаться достаточно информации, она должна быть по силам детям и не содержать подсказок относительно решения проблем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49" name="Picture 8" descr="http://sch5-gusev.ru/wp-content/uploads/2016/02/2129/%D0%A1%D0%BE%D1%86%D0%B8%D0%BE%D0%BB%D0%BE%D0%B3%D0%B8%D1%87%D0%B5%D1%81%D0%BA%D0%BE%D0%B5-%D0%B8%D1%81%D1%81%D0%BB%D0%B5%D0%B4%D0%BE%D0%B2%D0%B0%D0%BD%D0%B8%D0%B5.jpg"/>
          <p:cNvPicPr/>
          <p:nvPr/>
        </p:nvPicPr>
        <p:blipFill>
          <a:blip r:embed="rId1"/>
          <a:stretch/>
        </p:blipFill>
        <p:spPr>
          <a:xfrm>
            <a:off x="2484360" y="4114800"/>
            <a:ext cx="446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Чем отличается кейс от проблемной ситуации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24206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ейс не дает дошкольникам проблему в открытом виде, им предстоит вычленить ее из той информации, которая содержится в описании кейс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52" name="Picture 6" descr="https://www.cheapassignmenthelp.co.uk/wp-content/uploads/2015/08/case_study_research_design.jpg"/>
          <p:cNvPicPr/>
          <p:nvPr/>
        </p:nvPicPr>
        <p:blipFill>
          <a:blip r:embed="rId1"/>
          <a:stretch/>
        </p:blipFill>
        <p:spPr>
          <a:xfrm>
            <a:off x="2484360" y="4005360"/>
            <a:ext cx="47624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  <a:ea typeface="Times New Roman"/>
              </a:rPr>
              <a:t>Классификация  кейсов </a:t>
            </a: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55640" y="1341360"/>
          <a:ext cx="5977080" cy="323388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70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2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 исследовательский кей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6" descr="https://avatars.mds.yandex.net/get-pdb/1519478/5748f625-2cd2-4dd8-9488-32502dc3e59f/s1200"/>
          <p:cNvPicPr/>
          <p:nvPr/>
        </p:nvPicPr>
        <p:blipFill>
          <a:blip r:embed="rId1"/>
          <a:stretch/>
        </p:blipFill>
        <p:spPr>
          <a:xfrm>
            <a:off x="4713120" y="3800520"/>
            <a:ext cx="46468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ольза кейс - технологий в развитии дошк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132000" y="2852640"/>
            <a:ext cx="583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ки отмечают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Кейс – технологии обладают огромным развивающим потенциалом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лучае целенаправленного и регулярного примен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58" name="Picture 5" descr="https://arhlib.ru/wp-content/uploads/2017/10/4i8nzui-004.jpg"/>
          <p:cNvPicPr/>
          <p:nvPr/>
        </p:nvPicPr>
        <p:blipFill>
          <a:blip r:embed="rId1"/>
          <a:srcRect l="0" t="0" r="55352" b="48828"/>
          <a:stretch/>
        </p:blipFill>
        <p:spPr>
          <a:xfrm>
            <a:off x="539640" y="2997360"/>
            <a:ext cx="295272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Правила применения кейс - технолог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640720" cy="27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предъявления стимульного материала кейс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выявления причинно-следственных связей, условий, влияний, неадекватности и т.п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поиск верных и безопасных вариантов повед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этап коллективного творческого решения, формирования правила на основе пережитого обсуждения, опыт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61" name="Picture 6" descr="https://st4.depositphotos.com/2747043/25882/v/950/depositphotos_258821702-stock-illustration-boy-and-girl-reading-book.jpg"/>
          <p:cNvPicPr/>
          <p:nvPr/>
        </p:nvPicPr>
        <p:blipFill>
          <a:blip r:embed="rId1"/>
          <a:stretch/>
        </p:blipFill>
        <p:spPr>
          <a:xfrm>
            <a:off x="2195640" y="4016520"/>
            <a:ext cx="360036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етодические рекомендац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349000"/>
            <a:ext cx="439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у для работы с кейс – технологиями необходимо осознать и принять те методологические принципы и подходы, на которых она строитс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и сделать их основой для своей  деятельности и для работы с деть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64" name="Picture 7" descr="https://pickimage.ru/wp-content/uploads/images/detskie/tutorwithchildren/vospitatelsdetmi4.jpg"/>
          <p:cNvPicPr/>
          <p:nvPr/>
        </p:nvPicPr>
        <p:blipFill>
          <a:blip r:embed="rId1"/>
          <a:stretch/>
        </p:blipFill>
        <p:spPr>
          <a:xfrm>
            <a:off x="4788000" y="3141720"/>
            <a:ext cx="4105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3T04:32:02Z</dcterms:created>
  <dc:creator>Андрей</dc:creator>
  <dc:description/>
  <dc:language>en-US</dc:language>
  <cp:lastModifiedBy>User</cp:lastModifiedBy>
  <dcterms:modified xsi:type="dcterms:W3CDTF">2019-11-13T13:50:10Z</dcterms:modified>
  <cp:revision>58</cp:revision>
  <dc:subject/>
  <dc:title>Слайд 1</dc:title>
</cp:coreProperties>
</file>