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393D-D51D-4DF4-B03D-FD4ED7B821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E58A-D202-421D-87D0-647E5DF3DD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56B-859F-4D77-86EB-41065231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FE0-BD04-476A-A84B-BF2880D9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2A74-015E-40C2-A28D-167ABCBE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2718-8EAF-4C62-988D-53C2AB99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E17B-58CC-46EE-907A-C96D2C5D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5C79-BD63-41CF-929D-8C15D758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41AF-DCCF-435B-85BF-01AF41D4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98F4-B898-40AF-A54E-EA04F612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A658-AB76-42A8-90C9-87294148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2BB1-566F-4A7F-A792-752B48C4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A0B7-7FB6-4FEC-ABCB-085B6028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84C-E4B6-49D7-B302-A37CB4EE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B45A-C52F-49CE-9390-A2D3BFB5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E4B6-FAAD-4313-8C1D-B85EBE68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6E22-ACFA-4350-9FB9-C943C2D6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BBE7-73C7-4EA1-A1DE-D04D9F79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0247-4D4B-4BB7-BDD5-6B99DB37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1AF3C-AC5D-4D3E-86FB-5EDCC619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E2540-162D-401C-B6AB-AD4811AF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D2545-95B4-4E88-AA2C-AFDCA43D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C7C6A-12CA-4584-BDDA-82D91250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D1629-355B-4FA9-B4D8-4A688407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892-6256-47D9-B2BD-E42717BE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43D82-0EC2-4162-85FC-DEC3DF96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8CF0C-8047-4404-8482-9F30AF24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65690-88B5-40D8-9C5C-445D972F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6B189-7179-4A62-853A-199277C8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DE469-9C1F-4B42-88AB-64C987B6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4F565-5B7C-42AB-9C4C-5DB47621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97EDA-6280-497C-AB89-6A3379FC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36EE2-0A74-4947-8857-A24CA339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4DF23-54A4-47BA-9C5E-C2F4B853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1835B-36CF-4332-A0FA-D79C6C47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04E5-C3C8-4103-A90B-9A737BE5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2510F-CC52-48D4-B56D-28C8F6D7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A02D6-BC01-4FFC-B1AC-3E713C52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DBB9C-E658-4957-81EA-86661A01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D2B5A-C24E-42F0-ACCF-5409A9A0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EC345-1240-4EE3-B500-A8CB0393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A8CD5-95B5-4F94-8CBC-C92DFBB4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B969A-D288-4628-88F0-5D595B2A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6B950-6690-47DC-9D69-79C9D657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9F2C8-AB37-461D-9506-1105FE90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B54FF-6098-4758-A93A-0C6519B5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84A1-779F-4242-8692-DF45B0DC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9BC6B-E66D-4A3B-B27B-7562C61F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46F4C-CD7D-4DD8-BBC1-FF0E7BB5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B2F42-3F70-4707-8579-F3DF2B14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0AE60-AED5-4E83-A667-ABCCAB78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5C77D-254B-426F-B45A-07E16874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0A531-FAB9-466B-8493-5673392F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EFD44-79B1-4DA0-A986-068BAD89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610CA-F443-45CB-868C-50722E23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C3AFF-5410-47A3-96FC-F25A88A0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FAB5B-ABEC-4C0F-BAB5-02978DA5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8EB-7B4C-42A6-B605-F476FC2F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F53B1-8D0C-4331-B417-E11503C9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487-6914-4865-A24E-4F268B2A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0E1-3CD1-4025-AB7F-886DC4DE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F74-3C4F-4E23-A43F-29223BF3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9F0D-D64A-4371-8404-06DEA439F60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4EB7-6A57-424A-9CB0-35914C776D21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D657-2042-4D74-B452-65FA972FC157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138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B30D-ADD1-45F1-B191-649AC30568FF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86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2601-4BE4-47E5-A6E8-92B6EAF7E295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543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55280" y="549000"/>
            <a:ext cx="7777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«Кейс-метод – технология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роблемного обучения в ДОУ»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241" name="Picture 2" descr="http://wiki.iteach.ru/images/7/77/1389795210_1111111111.jpg"/>
          <p:cNvPicPr/>
          <p:nvPr/>
        </p:nvPicPr>
        <p:blipFill>
          <a:blip r:embed="rId1"/>
          <a:stretch/>
        </p:blipFill>
        <p:spPr>
          <a:xfrm>
            <a:off x="971640" y="4653000"/>
            <a:ext cx="19382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Шесть признаков хорошего кейс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16000" y="26370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358920" algn="just">
              <a:lnSpc>
                <a:spcPct val="100000"/>
              </a:lnSpc>
              <a:spcBef>
                <a:spcPts val="601"/>
              </a:spcBef>
              <a:buClr>
                <a:srgbClr val="073e8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поставленной цел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358920" algn="just">
              <a:lnSpc>
                <a:spcPct val="100000"/>
              </a:lnSpc>
              <a:spcBef>
                <a:spcPts val="601"/>
              </a:spcBef>
              <a:buClr>
                <a:srgbClr val="073e8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ет возрастные и индивидуальные особенности дете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358920" algn="just">
              <a:lnSpc>
                <a:spcPct val="100000"/>
              </a:lnSpc>
              <a:spcBef>
                <a:spcPts val="601"/>
              </a:spcBef>
              <a:buClr>
                <a:srgbClr val="073e8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актуальным и интересным детя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358920" algn="just">
              <a:lnSpc>
                <a:spcPct val="100000"/>
              </a:lnSpc>
              <a:spcBef>
                <a:spcPts val="601"/>
              </a:spcBef>
              <a:buClr>
                <a:srgbClr val="073e8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когнитивные навыки, воображение, креативное мышлени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358920" algn="just">
              <a:lnSpc>
                <a:spcPct val="100000"/>
              </a:lnSpc>
              <a:spcBef>
                <a:spcPts val="601"/>
              </a:spcBef>
              <a:buClr>
                <a:srgbClr val="073e8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цирует дискуссию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358920" algn="just">
              <a:lnSpc>
                <a:spcPct val="100000"/>
              </a:lnSpc>
              <a:spcBef>
                <a:spcPts val="601"/>
              </a:spcBef>
              <a:buClr>
                <a:srgbClr val="073e8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несколько решени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35892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3040200" cy="2158920"/>
          </a:xfrm>
          <a:prstGeom prst="rect">
            <a:avLst/>
          </a:prstGeom>
          <a:ln w="76320">
            <a:solidFill>
              <a:srgbClr val="4584d3"/>
            </a:solidFill>
            <a:miter/>
          </a:ln>
        </p:spPr>
      </p:pic>
      <p:pic>
        <p:nvPicPr>
          <p:cNvPr id="268" name="Picture 5" descr="https://1.bp.blogspot.com/-JSyyK9wQzZA/XKSA5m3f_nI/AAAAAAAACaQ/VzO0Js6MQvoKn_DyCouRnZDvcDT9ch9EQCLcBGAs/s1600/%25D1%2588%25D0%25B0%25D1%2588%25D0%25BA%25D0%25B8.jpg"/>
          <p:cNvPicPr/>
          <p:nvPr/>
        </p:nvPicPr>
        <p:blipFill>
          <a:blip r:embed="rId2"/>
          <a:stretch/>
        </p:blipFill>
        <p:spPr>
          <a:xfrm>
            <a:off x="324000" y="333360"/>
            <a:ext cx="3071520" cy="2303640"/>
          </a:xfrm>
          <a:prstGeom prst="rect">
            <a:avLst/>
          </a:prstGeom>
          <a:ln w="76320">
            <a:solidFill>
              <a:srgbClr val="4584d3"/>
            </a:solidFill>
            <a:miter/>
          </a:ln>
        </p:spPr>
      </p:pic>
      <p:sp>
        <p:nvSpPr>
          <p:cNvPr id="269" name="Прямоугольник 4"/>
          <p:cNvSpPr/>
          <p:nvPr/>
        </p:nvSpPr>
        <p:spPr>
          <a:xfrm>
            <a:off x="3708000" y="44370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то-кей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331560" y="263700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йс-иллюст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7" descr="https://top-cena.ru/up_img/8f5/8f515f9d4e034791e07ec4071a4cd779.jpg"/>
          <p:cNvPicPr/>
          <p:nvPr/>
        </p:nvPicPr>
        <p:blipFill>
          <a:blip r:embed="rId3"/>
          <a:srcRect l="3595" t="18403" r="6894" b="19050"/>
          <a:stretch/>
        </p:blipFill>
        <p:spPr>
          <a:xfrm>
            <a:off x="5580000" y="3860640"/>
            <a:ext cx="3233880" cy="2260800"/>
          </a:xfrm>
          <a:prstGeom prst="rect">
            <a:avLst/>
          </a:prstGeom>
          <a:ln w="76320">
            <a:solidFill>
              <a:srgbClr val="4584d3"/>
            </a:solidFill>
            <a:miter/>
          </a:ln>
        </p:spPr>
      </p:pic>
      <p:sp>
        <p:nvSpPr>
          <p:cNvPr id="272" name="TextBox 8"/>
          <p:cNvSpPr/>
          <p:nvPr/>
        </p:nvSpPr>
        <p:spPr>
          <a:xfrm>
            <a:off x="6302160" y="623736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йс-драмат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9" descr="https://i.pinimg.com/736x/db/39/13/db39135c6a0bd81ece09cfd5ecc21899--clipart-doctor.jpg"/>
          <p:cNvPicPr/>
          <p:nvPr/>
        </p:nvPicPr>
        <p:blipFill>
          <a:blip r:embed="rId4"/>
          <a:stretch/>
        </p:blipFill>
        <p:spPr>
          <a:xfrm>
            <a:off x="6875640" y="620640"/>
            <a:ext cx="1915920" cy="2303640"/>
          </a:xfrm>
          <a:prstGeom prst="rect">
            <a:avLst/>
          </a:prstGeom>
          <a:ln w="76320">
            <a:solidFill>
              <a:srgbClr val="4584d3"/>
            </a:solidFill>
            <a:miter/>
          </a:ln>
        </p:spPr>
      </p:pic>
      <p:sp>
        <p:nvSpPr>
          <p:cNvPr id="274" name="TextBox 10"/>
          <p:cNvSpPr/>
          <p:nvPr/>
        </p:nvSpPr>
        <p:spPr>
          <a:xfrm>
            <a:off x="7023240" y="30686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йсы-наоб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1" descr="http://simfchildlibrary.ru/admin/edit/images/721-c2851094eaa6cefb4cfcce9bc554d388.png"/>
          <p:cNvPicPr/>
          <p:nvPr/>
        </p:nvPicPr>
        <p:blipFill>
          <a:blip r:embed="rId5"/>
          <a:stretch/>
        </p:blipFill>
        <p:spPr>
          <a:xfrm>
            <a:off x="395280" y="3284640"/>
            <a:ext cx="2448000" cy="2511360"/>
          </a:xfrm>
          <a:prstGeom prst="rect">
            <a:avLst/>
          </a:prstGeom>
          <a:ln w="76320">
            <a:solidFill>
              <a:srgbClr val="4584d3"/>
            </a:solidFill>
            <a:miter/>
          </a:ln>
        </p:spPr>
      </p:pic>
      <p:sp>
        <p:nvSpPr>
          <p:cNvPr id="276" name="TextBox 12"/>
          <p:cNvSpPr/>
          <p:nvPr/>
        </p:nvSpPr>
        <p:spPr>
          <a:xfrm>
            <a:off x="261360" y="6021360"/>
            <a:ext cx="33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йсы на основе мультфиль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литературных произве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20181012_153803"/>
          <p:cNvPicPr/>
          <p:nvPr/>
        </p:nvPicPr>
        <p:blipFill>
          <a:blip r:embed="rId1"/>
          <a:stretch/>
        </p:blipFill>
        <p:spPr>
          <a:xfrm>
            <a:off x="324000" y="836640"/>
            <a:ext cx="3663720" cy="2747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20181012_153417"/>
          <p:cNvPicPr/>
          <p:nvPr/>
        </p:nvPicPr>
        <p:blipFill>
          <a:blip r:embed="rId2"/>
          <a:stretch/>
        </p:blipFill>
        <p:spPr>
          <a:xfrm>
            <a:off x="395280" y="3789360"/>
            <a:ext cx="3598920" cy="269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20181012_153354"/>
          <p:cNvPicPr/>
          <p:nvPr/>
        </p:nvPicPr>
        <p:blipFill>
          <a:blip r:embed="rId3"/>
          <a:stretch/>
        </p:blipFill>
        <p:spPr>
          <a:xfrm>
            <a:off x="4932360" y="836640"/>
            <a:ext cx="3652920" cy="2741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20181012_154344"/>
          <p:cNvPicPr/>
          <p:nvPr/>
        </p:nvPicPr>
        <p:blipFill>
          <a:blip r:embed="rId4"/>
          <a:stretch/>
        </p:blipFill>
        <p:spPr>
          <a:xfrm>
            <a:off x="5003640" y="3789360"/>
            <a:ext cx="35989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20181012_153648"/>
          <p:cNvPicPr/>
          <p:nvPr/>
        </p:nvPicPr>
        <p:blipFill>
          <a:blip r:embed="rId1"/>
          <a:stretch/>
        </p:blipFill>
        <p:spPr>
          <a:xfrm>
            <a:off x="611280" y="692280"/>
            <a:ext cx="3598920" cy="2698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20181012_153620"/>
          <p:cNvPicPr/>
          <p:nvPr/>
        </p:nvPicPr>
        <p:blipFill>
          <a:blip r:embed="rId2"/>
          <a:stretch/>
        </p:blipFill>
        <p:spPr>
          <a:xfrm>
            <a:off x="5003640" y="692280"/>
            <a:ext cx="3598920" cy="26985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20181012_153503"/>
          <p:cNvPicPr/>
          <p:nvPr/>
        </p:nvPicPr>
        <p:blipFill>
          <a:blip r:embed="rId3"/>
          <a:stretch/>
        </p:blipFill>
        <p:spPr>
          <a:xfrm>
            <a:off x="611280" y="3645000"/>
            <a:ext cx="3598920" cy="26985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20181012_153508"/>
          <p:cNvPicPr/>
          <p:nvPr/>
        </p:nvPicPr>
        <p:blipFill>
          <a:blip r:embed="rId4"/>
          <a:stretch/>
        </p:blipFill>
        <p:spPr>
          <a:xfrm>
            <a:off x="5003640" y="3645000"/>
            <a:ext cx="359892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50920" y="1916280"/>
            <a:ext cx="8642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Georgia"/>
                <a:ea typeface="Times New Roman"/>
              </a:rPr>
              <a:t>Спасибо за внимание!!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517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50920" y="1844280"/>
            <a:ext cx="8642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йс-технолог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интерактивная технология для краткосрочного обучения, на основе реальных или вымышленных ситуаций, направленная не столько на освоение знаний, сколько на формирование новых качеств и умений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 предназна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звивать способность анализировать различные проблемы и находить их решение, а также умение работать с информацие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  <a:ea typeface="Times New Roman"/>
              </a:rPr>
              <a:t>Кейс-технолог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44" name="Picture 2" descr="best-text.ru &amp;Mcy;&amp;ycy; &amp;pcy;&amp;icy;&amp;shcy;&amp;iecy;&amp;mcy; &amp;scy;&amp;tcy;&amp;acy;&amp;tcy;&amp;softcy;&amp;icy; &amp;icy; &amp;rcy;&amp;iecy;&amp;kcy;&amp;lcy;&amp;acy;&amp;mcy;&amp;ncy;&amp;ycy;&amp;iecy; &amp;tcy;&amp;iecy;&amp;kcy;&amp;scy;&amp;tcy;&amp;ycy; - &amp;Ncy;&amp;ocy;&amp;vcy;&amp;ocy;&amp;scy;&amp;tcy;&amp;icy; - 05 - 46 &amp;Scy;&amp;icy;&amp;tcy;&amp;ucy;&amp;acy;&amp;tscy;&amp;icy;&amp;ocy;&amp;ncy;&amp;ncy;&amp;ycy;&amp;jcy; &amp;acy;&amp;ncy;&amp;acy;&amp;lcy;&amp;icy;&amp;zcy;"/>
          <p:cNvPicPr/>
          <p:nvPr/>
        </p:nvPicPr>
        <p:blipFill>
          <a:blip r:embed="rId1"/>
          <a:stretch/>
        </p:blipFill>
        <p:spPr>
          <a:xfrm>
            <a:off x="6551640" y="3860640"/>
            <a:ext cx="259236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Кейс-метод развивает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ственные, сенсорные, речевые способност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тические умения: классифицировать, анализировать, представлять свой взгляд на решение проблемы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ует навыки коммуникативного взаимодействи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ктические умени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ые умения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ейс дает возможность приблизиться к практике,  встать на позицию человека, реально принимающего решения, учиться на ошибках других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Требования к кейсам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569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ранная ситуация должна соответствовать потребностям дошкольников и иллюстрировать те проблемы, с которыми ребенок может столкнуться в жизни. Эта ситуация должна зацепить ребенка. В ней должно содержаться достаточно информации, она должна быть по силам детям и не содержать подсказок относительно решения проблем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249" name="Picture 8" descr="http://sch5-gusev.ru/wp-content/uploads/2016/02/2129/%D0%A1%D0%BE%D1%86%D0%B8%D0%BE%D0%BB%D0%BE%D0%B3%D0%B8%D1%87%D0%B5%D1%81%D0%BA%D0%BE%D0%B5-%D0%B8%D1%81%D1%81%D0%BB%D0%B5%D0%B4%D0%BE%D0%B2%D0%B0%D0%BD%D0%B8%D0%B5.jpg"/>
          <p:cNvPicPr/>
          <p:nvPr/>
        </p:nvPicPr>
        <p:blipFill>
          <a:blip r:embed="rId1"/>
          <a:stretch/>
        </p:blipFill>
        <p:spPr>
          <a:xfrm>
            <a:off x="2484360" y="4114800"/>
            <a:ext cx="446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Чем отличается кейс от проблемной ситуации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24206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ейс не дает дошкольникам проблему в открытом виде, им предстоит вычленить ее из той информации, которая содержится в описании кейса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252" name="Picture 6" descr="https://www.cheapassignmenthelp.co.uk/wp-content/uploads/2015/08/case_study_research_design.jpg"/>
          <p:cNvPicPr/>
          <p:nvPr/>
        </p:nvPicPr>
        <p:blipFill>
          <a:blip r:embed="rId1"/>
          <a:stretch/>
        </p:blipFill>
        <p:spPr>
          <a:xfrm>
            <a:off x="2484360" y="4005360"/>
            <a:ext cx="47624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  <a:ea typeface="Times New Roman"/>
              </a:rPr>
              <a:t>Классификация  кейсов </a:t>
            </a:r>
            <a:br>
              <a:rPr sz="36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55640" y="1341360"/>
          <a:ext cx="5977080" cy="323388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70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й кей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й кей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2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о- исследовательский кей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5" name="Picture 6" descr="https://avatars.mds.yandex.net/get-pdb/1519478/5748f625-2cd2-4dd8-9488-32502dc3e59f/s1200"/>
          <p:cNvPicPr/>
          <p:nvPr/>
        </p:nvPicPr>
        <p:blipFill>
          <a:blip r:embed="rId1"/>
          <a:stretch/>
        </p:blipFill>
        <p:spPr>
          <a:xfrm>
            <a:off x="4713120" y="3800520"/>
            <a:ext cx="46468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Польза кейс - технологий в развитии дошкольников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132000" y="2852640"/>
            <a:ext cx="5832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ктики отмечают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Кейс – технологии обладают огромным развивающим потенциалом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лучае целенаправленного и регулярного применения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258" name="Picture 5" descr="https://arhlib.ru/wp-content/uploads/2017/10/4i8nzui-004.jpg"/>
          <p:cNvPicPr/>
          <p:nvPr/>
        </p:nvPicPr>
        <p:blipFill>
          <a:blip r:embed="rId1"/>
          <a:srcRect l="0" t="0" r="55352" b="48828"/>
          <a:stretch/>
        </p:blipFill>
        <p:spPr>
          <a:xfrm>
            <a:off x="539640" y="2997360"/>
            <a:ext cx="295272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Правила применения кейс - технолог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640720" cy="27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предъявления стимульного материала кейса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выявления причинно-следственных связей, условий, влияний, неадекватности и т.п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поиск верных и безопасных вариантов поведени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этап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этап коллективного творческого решения, формирования правила на основе пережитого обсуждения, опыта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261" name="Picture 6" descr="https://st4.depositphotos.com/2747043/25882/v/950/depositphotos_258821702-stock-illustration-boy-and-girl-reading-book.jpg"/>
          <p:cNvPicPr/>
          <p:nvPr/>
        </p:nvPicPr>
        <p:blipFill>
          <a:blip r:embed="rId1"/>
          <a:stretch/>
        </p:blipFill>
        <p:spPr>
          <a:xfrm>
            <a:off x="2195640" y="4016520"/>
            <a:ext cx="360036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86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Методические рекомендац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560" y="2349000"/>
            <a:ext cx="4392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у для работы с кейс – технологиями необходимо осознать и принять те методологические принципы и подходы, на которых она строитс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и сделать их основой для своей  деятельности и для работы с детьм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264" name="Picture 7" descr="https://pickimage.ru/wp-content/uploads/images/detskie/tutorwithchildren/vospitatelsdetmi4.jpg"/>
          <p:cNvPicPr/>
          <p:nvPr/>
        </p:nvPicPr>
        <p:blipFill>
          <a:blip r:embed="rId1"/>
          <a:stretch/>
        </p:blipFill>
        <p:spPr>
          <a:xfrm>
            <a:off x="4788000" y="3141720"/>
            <a:ext cx="41050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3T04:32:02Z</dcterms:created>
  <dc:creator>Андрей</dc:creator>
  <dc:description/>
  <dc:language>en-US</dc:language>
  <cp:lastModifiedBy>User</cp:lastModifiedBy>
  <dcterms:modified xsi:type="dcterms:W3CDTF">2019-11-13T13:50:10Z</dcterms:modified>
  <cp:revision>58</cp:revision>
  <dc:subject/>
  <dc:title>Слайд 1</dc:title>
</cp:coreProperties>
</file>