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67-97A7-45A5-94C7-6D1D7C3C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8F3-FCFE-4B05-9222-90F3943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286-EC7A-4B61-A2B8-E518C995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17A-9943-4C59-BC54-459B46F4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48A-26EF-45AA-B0D5-36281F7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940-EDC1-4B35-9DB7-8C1046F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813-5C32-4261-B143-3F9C227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1F1-BFD0-4FF6-B95A-BEE5824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32E-7027-4AA4-97D8-932FDDF1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CE3-1FA9-434F-BA75-A67DC13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4BA-FF27-47E4-AD6F-26FD0EC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1E0-86CA-4A7C-A296-EA197C4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FF1-A540-49E6-95D9-3DAE47A5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44520"/>
            <a:ext cx="8467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4T18:44:33Z</dcterms:created>
  <dc:creator>Тереховы</dc:creator>
  <dc:description/>
  <dc:language>en-US</dc:language>
  <cp:lastModifiedBy>Тереховы</cp:lastModifiedBy>
  <dcterms:modified xsi:type="dcterms:W3CDTF">2021-03-04T19:10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