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942F-F1A4-47B5-999E-D0EBB8D61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2D14-86DC-43D4-AB59-61D4CE2F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B30F-9C81-46E5-A9D6-86977FCFE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8D6A-7862-4636-B721-006BD6834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855F-5201-4C4F-B176-B616CA44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0148-860E-4DF0-AB5B-583D5248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4A71-31EB-46C7-A586-EC25CD5A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4D11-15BB-4222-8661-72155EE1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E97A-D2F0-4F0C-8825-1C02573F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2468-D0A1-4337-943A-37ECDDCD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AC64-C4C0-4753-8E58-E6B2D276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5FF3-5CED-432E-8D5B-65966731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C9AB-9E32-46F2-9657-55800D53D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34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91540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344520"/>
            <a:ext cx="846756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5345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04T18:44:33Z</dcterms:created>
  <dc:creator>Тереховы</dc:creator>
  <dc:description/>
  <dc:language>en-US</dc:language>
  <cp:lastModifiedBy>Тереховы</cp:lastModifiedBy>
  <dcterms:modified xsi:type="dcterms:W3CDTF">2021-03-04T19:10:1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