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47FF9-AB58-4B31-ADF6-4DE60BD2D8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2D17B-AC48-4A57-A5F5-C8A0706F64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7F3F4-2661-47AF-BF77-93AB99E332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C8BDD-AEA0-4BA9-9060-E4DF632308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78274-33E8-4E01-8A15-CD321D384F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66DCA-FE78-4356-B1F8-4F977F37FF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417E9-92DB-460F-B8C3-40CF170825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851-B280-4280-910C-CCA4DD06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5C9-6966-458B-AABA-A85830DD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971-35E6-4564-AA06-4C15805D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723B-FD5C-4D21-B69F-CD913C8F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410-0A61-4BDD-97EA-C045014A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4D0-8722-434B-B13B-ECFC8DF5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DFD-3937-4573-8E51-E213EFC0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BC7-1F4F-47E9-AAAA-1D204E46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9DF-9CD3-406E-A1DE-58D57ED4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D4F-8F9E-4860-BACB-66EE8E9F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7F1-F761-43A0-B422-45D0FCC8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636B-42F9-4E43-9111-F3ABAB38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F85C2-1C21-4351-88E5-EB76108DC1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5640" y="87120"/>
            <a:ext cx="755964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«Клички и прозвища»</a:t>
            </a:r>
            <a:br>
              <a:rPr sz="44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полнили: Аджиева О.Д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92000" y="2952720"/>
            <a:ext cx="856800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чка имеет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лк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имя домашнего животног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прозвищ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Ушакова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следующее определение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вищ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звание, данное человеку помимо его имени и содержащее в себе указание на какую-нибудь черту характера, наружности, деятельности данного лица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76320" y="13644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76320" y="160344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904000" y="4680000"/>
            <a:ext cx="374328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80640"/>
            <a:ext cx="907092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spcAft>
                <a:spcPts val="75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чнем с вопроса: «откуда берутся различные прозвища и клички и что они означают?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04800" y="1768320"/>
            <a:ext cx="88693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608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 основе фамили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самый распространенный способ)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ловей (Соловьев), , Поляк (Поляков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имен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- Лизун (Лиза), Моно Лиза (Лиза), котенок (Кат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внешним признакам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человека, а такж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особенностям характера, поведения, привычек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( «Гном», «Малой», потому что маленького роста; «Колобок», «Тесто», «Батон», потому что полные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ьшительно-ласкательные прозвища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(«малышка», «Кисуня»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ложенные в рифму с именем или фамилие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(Лена-полено,Антон–батон )</a:t>
            </a:r>
            <a:br>
              <a:rPr sz="2600"/>
            </a:b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270000"/>
            <a:ext cx="907092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еты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делать так, чтобы обидное прозвище не приклеилось к тебе надолго?</a:t>
            </a:r>
            <a:br>
              <a:rPr sz="1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856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бращать внимания на обидные слов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ойти и спросить «почему»?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учиться отвечать обидчику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 издевался над кем-нибудь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вить себя на место обидчик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7280" y="647640"/>
            <a:ext cx="9504360" cy="662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09:36:11Z</dcterms:created>
  <dc:creator>Ольга Аджиева</dc:creator>
  <dc:description/>
  <dc:language>en-US</dc:language>
  <cp:lastModifiedBy>Ольга 1</cp:lastModifiedBy>
  <dcterms:modified xsi:type="dcterms:W3CDTF">2022-05-05T05:06:51Z</dcterms:modified>
  <cp:revision>3</cp:revision>
  <dc:subject/>
  <dc:title> Презентация на тему:  «Клички и прозвища» Выполнили: Аджиева О.Д. </dc:title>
</cp:coreProperties>
</file>