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37B08-3B39-4863-BCBE-57E1C715AD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597C5-07CE-4EEF-9B3F-AAE6844772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8314D-35B1-47FB-9F37-A6455CA500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5FA2B-A805-4943-9E5C-028691A2CD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3E091-AA14-446F-ADEB-45918BBDE8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07943-BF80-47F8-9F58-5CEB21BF14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61245-4723-411E-8EC2-93318C4BB3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7F3-A291-4681-A0DF-843B7E66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704-E3AC-4A59-B996-5ACFE82C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D37-51C9-4F58-9783-F67BDF90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655-2B82-46B4-8DDB-EEA99246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330-C322-49A5-A026-FAE5A6BB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ACF-9D10-4B02-BC88-8149381A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B92-920E-4FE6-8DC4-FA17F9C0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507-F5A4-45F6-9591-AC354B1D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6A6-76F4-4A8D-8302-7EE0884C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75D-D136-4665-8138-8C97F879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C4F-DA0D-4218-A6EB-9011F181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04E-97C3-4513-B4E0-2BCD44E2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35896-E55B-4EA3-BAD7-C0A1B9D4F9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5640" y="87120"/>
            <a:ext cx="755964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«Клички и прозвища»</a:t>
            </a:r>
            <a:br>
              <a:rPr sz="44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олнили: Аджиева О.Д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92000" y="2952720"/>
            <a:ext cx="856800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чка имеет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лк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имя домашнего животно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прозвищ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Ушакова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следующее определение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звание, данное человеку помимо его имени и содержащее в себе указание на какую-нибудь черту характера, наружности, деятельности данного лица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76320" y="13644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6320" y="160344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904000" y="4680000"/>
            <a:ext cx="374328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80640"/>
            <a:ext cx="907092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spcAft>
                <a:spcPts val="75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чнем с вопроса: «откуда берутся различные прозвища и клички и что они означают?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04800" y="1768320"/>
            <a:ext cx="8869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0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 основе фамили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самый распространенный способ)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ловей (Соловьев), , Поляк (Поляков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им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- Лизун (Лиза), Моно Лиза (Лиза), котенок (Кат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внешним признакам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ловека, а такж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особенностям характера, поведения, привычек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( «Гном», «Малой», потому что маленького роста; «Колобок», «Тесто», «Батон», потому что полные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ьшительно-ласкательные прозвища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(«малышка», «Кисуня»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ложенные в рифму с именем или фамилие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(Лена-полено,Антон–батон )</a:t>
            </a:r>
            <a:br>
              <a:rPr sz="2600"/>
            </a:b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70000"/>
            <a:ext cx="907092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делать так, чтобы обидное прозвище не приклеилось к тебе надолго?</a:t>
            </a:r>
            <a:br>
              <a:rPr sz="1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856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бращать внимания на обидные слов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ойти и спросить «почему»?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ться отвечать обидчику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 издевался над кем-нибудь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вить себя на место обидчик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7280" y="647640"/>
            <a:ext cx="9504360" cy="662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09:36:11Z</dcterms:created>
  <dc:creator>Ольга Аджиева</dc:creator>
  <dc:description/>
  <dc:language>en-US</dc:language>
  <cp:lastModifiedBy>Ольга 1</cp:lastModifiedBy>
  <dcterms:modified xsi:type="dcterms:W3CDTF">2022-05-05T05:06:51Z</dcterms:modified>
  <cp:revision>3</cp:revision>
  <dc:subject/>
  <dc:title> Презентация на тему:  «Клички и прозвища» Выполнили: Аджиева О.Д. </dc:title>
</cp:coreProperties>
</file>