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1139-A923-4798-B1B4-0AB7570E4D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A2BC-AD54-4074-B733-BD53F9451A7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16A0-FDD1-4C48-8891-3D838436E6F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634C-8922-4A2E-BD77-1FEDE3013D2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1D72-15E0-4C21-8DC5-1AE29ABDA31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E5F4-D122-48C4-BE11-C0C867BB64F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7EF5-9C12-486E-B2C6-9650D465DC5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700A-3A2B-4427-8F8E-504635C1F6A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0149-0488-4B98-8B5D-5CA6B54DE43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6F78-9500-4379-9830-EB3292AC83D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9B9C-97B6-4F1B-A332-42EAEE2AB07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A74A-2F8D-41E4-A161-667FB35098E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313A-1B61-4C71-9237-D0F5A59BC04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7925-CEC0-4C99-9BD4-8A676ACA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B37-7DA3-4163-A08E-02938162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A51-B72A-4B86-8EFA-5C62B5EB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9A3-30C1-461C-BAE2-0BCBFB53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753-A28D-4C9C-8DA6-F197D6B0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383D-DE5B-4419-A76B-71C6FAC3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614-E5DA-4247-8D98-9D821A2C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947-267F-4563-AE36-134DD715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B21B-22D7-443A-8A78-359BB584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D023-12F3-42BE-A20D-F8C09BB8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CA7-FB4C-484B-B165-240F7DF2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227-29EB-47B2-A6B3-7B6A8D5D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D3D2-675A-43B6-AA70-1A7A43071D3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2434-B47E-4DF3-82D9-32EE07362E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ru.wikipedia.org/wiki/&#1051;&#1072;&#1090;&#1080;&#1085;&#1089;&#1082;&#1080;&#1081;_&#1103;&#1079;&#1099;&#1082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2"/>
          <p:cNvSpPr/>
          <p:nvPr/>
        </p:nvSpPr>
        <p:spPr>
          <a:xfrm>
            <a:off x="320760" y="363600"/>
            <a:ext cx="8316720" cy="1100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4640" y="447840"/>
            <a:ext cx="77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omic Sans MS"/>
                <a:ea typeface="Arial"/>
              </a:rPr>
              <a:t>Главная заповедь учителя – заметить даже самое маленькое продвижение ученика вперёд и поддержать его успе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51" name="Скругленный прямоугольник 7"/>
          <p:cNvSpPr/>
          <p:nvPr/>
        </p:nvSpPr>
        <p:spPr>
          <a:xfrm>
            <a:off x="434880" y="1569960"/>
            <a:ext cx="8202600" cy="4786560"/>
          </a:xfrm>
          <a:prstGeom prst="roundRect">
            <a:avLst>
              <a:gd name="adj" fmla="val 1639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AEBA-D767-45CE-811B-0731D549557F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13080882-n---n--n----n--n--n----n---n-noe--n-nf------n--n---n--n-n----nzn-n-n--n------n-------------n---noen"/>
          <p:cNvPicPr/>
          <p:nvPr/>
        </p:nvPicPr>
        <p:blipFill>
          <a:blip r:embed="rId2"/>
          <a:stretch/>
        </p:blipFill>
        <p:spPr>
          <a:xfrm>
            <a:off x="2187720" y="1569960"/>
            <a:ext cx="4716360" cy="471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school-children-illustration-vector_18-9112"/>
          <p:cNvPicPr/>
          <p:nvPr/>
        </p:nvPicPr>
        <p:blipFill>
          <a:blip r:embed="rId3"/>
          <a:srcRect l="51663" t="26441" r="0" b="6249"/>
          <a:stretch/>
        </p:blipFill>
        <p:spPr>
          <a:xfrm>
            <a:off x="3973680" y="2797200"/>
            <a:ext cx="14014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Скругленный прямоугольник 2"/>
          <p:cNvSpPr/>
          <p:nvPr/>
        </p:nvSpPr>
        <p:spPr>
          <a:xfrm>
            <a:off x="434880" y="363600"/>
            <a:ext cx="82026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127160" y="378000"/>
            <a:ext cx="735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63c1"/>
                </a:solidFill>
                <a:latin typeface="Arial"/>
                <a:ea typeface="Arial"/>
              </a:rPr>
              <a:t>Рефлекс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63c1"/>
                </a:solidFill>
                <a:latin typeface="Arial"/>
                <a:ea typeface="Arial"/>
              </a:rPr>
              <a:t>содержания учебного материала</a:t>
            </a:r>
            <a:r>
              <a:rPr b="0" lang="ru-RU" sz="2800" spc="-1" strike="noStrike">
                <a:solidFill>
                  <a:srgbClr val="0563c1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107" name="Скругленный прямоугольник 7"/>
          <p:cNvSpPr/>
          <p:nvPr/>
        </p:nvSpPr>
        <p:spPr>
          <a:xfrm>
            <a:off x="449280" y="1490760"/>
            <a:ext cx="8202600" cy="4836960"/>
          </a:xfrm>
          <a:prstGeom prst="roundRect">
            <a:avLst>
              <a:gd name="adj" fmla="val 1639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5116-C0ED-4757-B704-232791FBCBB9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2"/>
          <a:stretch/>
        </p:blipFill>
        <p:spPr>
          <a:xfrm>
            <a:off x="722160" y="1627200"/>
            <a:ext cx="77644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568080"/>
            <a:ext cx="3570120" cy="121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563c1"/>
                </a:solidFill>
                <a:latin typeface="Comic Sans MS"/>
                <a:ea typeface="Arial"/>
              </a:rPr>
              <a:t>Рефлексия деятельност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87280" y="987480"/>
            <a:ext cx="46292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Акрослово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шите при помощи прилагательных героя Порфирьева П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-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5" descr=""/>
          <p:cNvPicPr/>
          <p:nvPr/>
        </p:nvPicPr>
        <p:blipFill>
          <a:blip r:embed="rId1"/>
          <a:stretch/>
        </p:blipFill>
        <p:spPr>
          <a:xfrm>
            <a:off x="712800" y="2122560"/>
            <a:ext cx="1135080" cy="3619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30000" y="2057400"/>
            <a:ext cx="294948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CF26-3349-4F23-8F19-FFF1651C2F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Скругленный прямоугольник 2"/>
          <p:cNvSpPr/>
          <p:nvPr/>
        </p:nvSpPr>
        <p:spPr>
          <a:xfrm>
            <a:off x="434880" y="363600"/>
            <a:ext cx="82026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1112760" y="546120"/>
            <a:ext cx="73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63c1"/>
                </a:solidFill>
                <a:latin typeface="Comic Sans MS"/>
                <a:ea typeface="Arial"/>
              </a:rPr>
              <a:t>Рефлексия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7"/>
          <p:cNvSpPr/>
          <p:nvPr/>
        </p:nvSpPr>
        <p:spPr>
          <a:xfrm>
            <a:off x="434880" y="1533600"/>
            <a:ext cx="8202600" cy="4836960"/>
          </a:xfrm>
          <a:prstGeom prst="roundRect">
            <a:avLst>
              <a:gd name="adj" fmla="val 1639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771480" y="1851120"/>
            <a:ext cx="7513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563c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563c1"/>
                </a:solidFill>
                <a:latin typeface="Comic Sans MS"/>
                <a:ea typeface="Arial"/>
              </a:rPr>
              <a:t>«Вагончик»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– У вас — 5 вагончиков. Предложите своим ученикам посадить человечков (животных, оставить жетончик) в тот вагончик, задание которого выполнилось легко, быстро и прави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A4BD-9D23-4F3A-B8D5-59493EFAA13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Рисунок 1" descr=""/>
          <p:cNvPicPr/>
          <p:nvPr/>
        </p:nvPicPr>
        <p:blipFill>
          <a:blip r:embed="rId2"/>
          <a:srcRect l="9684" t="12809" r="12528" b="0"/>
          <a:stretch/>
        </p:blipFill>
        <p:spPr>
          <a:xfrm>
            <a:off x="1357200" y="3174840"/>
            <a:ext cx="577548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2"/>
          <p:cNvSpPr/>
          <p:nvPr/>
        </p:nvSpPr>
        <p:spPr>
          <a:xfrm>
            <a:off x="434880" y="363600"/>
            <a:ext cx="82026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1112760" y="546120"/>
            <a:ext cx="735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63c1"/>
                </a:solidFill>
                <a:latin typeface="Comic Sans MS"/>
                <a:ea typeface="Arial"/>
              </a:rPr>
              <a:t>Рефлексия на урок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3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125" name="Скругленный прямоугольник 7"/>
          <p:cNvSpPr/>
          <p:nvPr/>
        </p:nvSpPr>
        <p:spPr>
          <a:xfrm>
            <a:off x="447840" y="1519200"/>
            <a:ext cx="8202600" cy="4837320"/>
          </a:xfrm>
          <a:prstGeom prst="roundRect">
            <a:avLst>
              <a:gd name="adj" fmla="val 1639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714240" y="1519200"/>
            <a:ext cx="768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Если ограничить представления души только тем, что человек слышал и видел, но не осмелиться путем размышления достичь истины, то это ограничит душу человека. Чжан                    Цз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F41B-8074-4ABC-B4B0-DF51BD94991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clp747537"/>
          <p:cNvPicPr/>
          <p:nvPr/>
        </p:nvPicPr>
        <p:blipFill>
          <a:blip r:embed="rId2"/>
          <a:srcRect l="-1710" t="14769" r="0" b="3392"/>
          <a:stretch/>
        </p:blipFill>
        <p:spPr>
          <a:xfrm>
            <a:off x="588960" y="3733920"/>
            <a:ext cx="359100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Скругленный прямоугольник 2"/>
          <p:cNvSpPr/>
          <p:nvPr/>
        </p:nvSpPr>
        <p:spPr>
          <a:xfrm>
            <a:off x="434880" y="363600"/>
            <a:ext cx="82026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434880" y="36360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131" name="Скругленный прямоугольник 7"/>
          <p:cNvSpPr/>
          <p:nvPr/>
        </p:nvSpPr>
        <p:spPr>
          <a:xfrm>
            <a:off x="434880" y="1519200"/>
            <a:ext cx="8202600" cy="4837320"/>
          </a:xfrm>
          <a:prstGeom prst="roundRect">
            <a:avLst>
              <a:gd name="adj" fmla="val 1639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ценка урока и самооценка деятельности на ур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 доске лист с двумя шкалами: оцените, пожалуйста, этот мастер-класс: насколько интересным он вам показался.  Затем оцените свою работу на мастер-классе, насколько активно каждый из вас участвовал в обсуждении, выполнял практическую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05B4-04F6-4D4D-882B-7DB77E35586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5" descr="http://eztea.ru/wp-content/uploads/2020/07/Image-80.jpg"/>
          <p:cNvPicPr/>
          <p:nvPr/>
        </p:nvPicPr>
        <p:blipFill>
          <a:blip r:embed="rId2"/>
          <a:stretch/>
        </p:blipFill>
        <p:spPr>
          <a:xfrm>
            <a:off x="2935440" y="3537000"/>
            <a:ext cx="3200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86DB-FF12-4E5A-99EF-463E193CA21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Прямоугольник 2" descr=""/>
          <p:cNvPicPr/>
          <p:nvPr/>
        </p:nvPicPr>
        <p:blipFill>
          <a:blip r:embed="rId1"/>
          <a:stretch/>
        </p:blipFill>
        <p:spPr>
          <a:xfrm>
            <a:off x="669960" y="60480"/>
            <a:ext cx="7583400" cy="1450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Елена\Downloads\солнце.png"/>
          <p:cNvPicPr/>
          <p:nvPr/>
        </p:nvPicPr>
        <p:blipFill>
          <a:blip r:embed="rId2"/>
          <a:stretch/>
        </p:blipFill>
        <p:spPr>
          <a:xfrm>
            <a:off x="2395440" y="1143000"/>
            <a:ext cx="4353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8fd0"/>
            </a:gs>
            <a:gs pos="100000">
              <a:srgbClr val="2e75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Капля 4"/>
          <p:cNvSpPr/>
          <p:nvPr/>
        </p:nvSpPr>
        <p:spPr>
          <a:xfrm>
            <a:off x="477720" y="243000"/>
            <a:ext cx="8401320" cy="6016680"/>
          </a:xfrm>
          <a:custGeom>
            <a:avLst/>
            <a:gdLst/>
            <a:ahLst/>
            <a:rect l="l" t="t" r="r" b="b"/>
            <a:pathLst>
              <a:path w="8401050" h="6016625">
                <a:moveTo>
                  <a:pt x="0" y="3008313"/>
                </a:moveTo>
                <a:cubicBezTo>
                  <a:pt x="0" y="1346868"/>
                  <a:pt x="1880639" y="0"/>
                  <a:pt x="4200525" y="0"/>
                </a:cubicBezTo>
                <a:lnTo>
                  <a:pt x="8401050" y="0"/>
                </a:lnTo>
                <a:lnTo>
                  <a:pt x="8401050" y="3008313"/>
                </a:lnTo>
                <a:cubicBezTo>
                  <a:pt x="8401050" y="4669758"/>
                  <a:pt x="6520411" y="6016626"/>
                  <a:pt x="4200525" y="6016626"/>
                </a:cubicBezTo>
                <a:cubicBezTo>
                  <a:pt x="1880639" y="6016626"/>
                  <a:pt x="0" y="4669758"/>
                  <a:pt x="0" y="3008313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"/>
          <p:cNvPicPr/>
          <p:nvPr/>
        </p:nvPicPr>
        <p:blipFill>
          <a:blip r:embed="rId1"/>
          <a:stretch/>
        </p:blipFill>
        <p:spPr>
          <a:xfrm>
            <a:off x="434880" y="2039760"/>
            <a:ext cx="4330800" cy="44960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1289160" y="426960"/>
            <a:ext cx="75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  <a:ea typeface="Arial"/>
              </a:rPr>
              <a:t>Мастер-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"/>
                <a:ea typeface="Arial"/>
              </a:rPr>
              <a:t>«Рефлексия</a:t>
            </a:r>
            <a:r>
              <a:rPr b="1" lang="ru-RU" sz="3600" spc="-1" strike="noStrike">
                <a:solidFill>
                  <a:srgbClr val="0070c0"/>
                </a:solidFill>
                <a:latin typeface="Comic Sans MS"/>
                <a:ea typeface="Arial"/>
              </a:rPr>
              <a:t> на урока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  <a:ea typeface="Arial"/>
              </a:rPr>
              <a:t>в начальных класс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олилиния 8"/>
          <p:cNvSpPr/>
          <p:nvPr/>
        </p:nvSpPr>
        <p:spPr>
          <a:xfrm rot="21009600">
            <a:off x="3963960" y="2158560"/>
            <a:ext cx="4670280" cy="374760"/>
          </a:xfrm>
          <a:custGeom>
            <a:avLst/>
            <a:gdLst/>
            <a:ahLst/>
            <a:rect l="l" t="t" r="r" b="b"/>
            <a:pathLst>
              <a:path w="4671152" h="374791">
                <a:moveTo>
                  <a:pt x="4671152" y="374791"/>
                </a:moveTo>
                <a:cubicBezTo>
                  <a:pt x="3728291" y="192095"/>
                  <a:pt x="2785431" y="9399"/>
                  <a:pt x="2082188" y="218"/>
                </a:cubicBezTo>
                <a:cubicBezTo>
                  <a:pt x="1378945" y="-8963"/>
                  <a:pt x="798723" y="273804"/>
                  <a:pt x="451692" y="319707"/>
                </a:cubicBezTo>
                <a:cubicBezTo>
                  <a:pt x="104661" y="365610"/>
                  <a:pt x="52330" y="320624"/>
                  <a:pt x="0" y="275639"/>
                </a:cubicBezTo>
              </a:path>
            </a:pathLst>
          </a:custGeom>
          <a:noFill/>
          <a:ln w="6480">
            <a:solidFill>
              <a:srgbClr val="70ad47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367160" y="4170240"/>
            <a:ext cx="389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alibri"/>
                <a:ea typeface="Arial"/>
              </a:rPr>
              <a:t>Константинова Анна Владимировна, 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Calibri"/>
                <a:ea typeface="Arial"/>
              </a:rPr>
              <a:t>МАОУ Большеяников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Скругленный прямоугольник 2"/>
          <p:cNvSpPr/>
          <p:nvPr/>
        </p:nvSpPr>
        <p:spPr>
          <a:xfrm>
            <a:off x="434880" y="187200"/>
            <a:ext cx="8202600" cy="74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Интерпретация рисунка "Слон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484200" y="0"/>
            <a:ext cx="920880" cy="955800"/>
          </a:xfrm>
          <a:prstGeom prst="rect">
            <a:avLst/>
          </a:prstGeom>
          <a:ln w="0">
            <a:noFill/>
          </a:ln>
        </p:spPr>
      </p:pic>
      <p:sp>
        <p:nvSpPr>
          <p:cNvPr id="62" name="Скругленный прямоугольник 7"/>
          <p:cNvSpPr/>
          <p:nvPr/>
        </p:nvSpPr>
        <p:spPr>
          <a:xfrm>
            <a:off x="333360" y="1116000"/>
            <a:ext cx="8304120" cy="5602320"/>
          </a:xfrm>
          <a:prstGeom prst="roundRect">
            <a:avLst>
              <a:gd name="adj" fmla="val 1639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ы чув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у слона хорошо прорисованы органы чувств (глаза, кончик хобота, уши, рот) - значит, вы чутки к другим, к своей жизни и сегодня пришли с готовностью слушать ме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уши у слона подняты вверх - это может означать, что автор рисунка находится в напряжении, чем-то встревожен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у слона подняты вверх не только уши, но и бивни, задран вверх хобот, хвост вытянут - эти признаки выдают человека излишне активного.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Хвост сл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вост направлен вверх – вы дружелюбны и оптимистичны, вниз – подавл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оги сл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брежно прорисованные ноги выдают отношение к мероприятию -  неосновательного, поверхност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ко прорисованные ноги одинаковой длины, говорят о том, что вы уверены в себе и в правильности выбранного меропри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олова сл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круглая голова, туловище, ноги, уши и другие части и органы тела указывают на наличие женственности - мягкости, доброты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 слона нарисованы крыл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рылья говорят о том, что человеку хочется всё успеть, ему многое интересно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кра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ерьги, бантики, резиночки, косметика на лице слона выдают человека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забоченного своим внешним ви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509C-1C0D-4EFF-BB25-6323A04D2DB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Скругленный прямоугольник 2"/>
          <p:cNvSpPr/>
          <p:nvPr/>
        </p:nvSpPr>
        <p:spPr>
          <a:xfrm>
            <a:off x="434880" y="363600"/>
            <a:ext cx="82026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459080" y="398520"/>
            <a:ext cx="6521400" cy="86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63c1"/>
                </a:solidFill>
                <a:latin typeface="Comic Sans MS"/>
                <a:ea typeface="Arial"/>
              </a:rPr>
              <a:t>Рефлексия настроения и эмоционального состоя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426960" y="27792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7"/>
          <p:cNvSpPr/>
          <p:nvPr/>
        </p:nvSpPr>
        <p:spPr>
          <a:xfrm>
            <a:off x="333360" y="1519200"/>
            <a:ext cx="8304120" cy="5119560"/>
          </a:xfrm>
          <a:prstGeom prst="roundRect">
            <a:avLst>
              <a:gd name="adj" fmla="val 1639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522C-ED82-44BA-ABD8-5B5D27C3CA16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2"/>
          <a:srcRect l="-737" t="-97" r="751" b="9082"/>
          <a:stretch/>
        </p:blipFill>
        <p:spPr>
          <a:xfrm>
            <a:off x="492120" y="1706400"/>
            <a:ext cx="2587680" cy="20257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"/>
          <p:cNvPicPr/>
          <p:nvPr/>
        </p:nvPicPr>
        <p:blipFill>
          <a:blip r:embed="rId3"/>
          <a:srcRect l="0" t="26759" r="0" b="7283"/>
          <a:stretch/>
        </p:blipFill>
        <p:spPr>
          <a:xfrm>
            <a:off x="3238560" y="1706400"/>
            <a:ext cx="2244600" cy="2033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"/>
          <p:cNvPicPr/>
          <p:nvPr/>
        </p:nvPicPr>
        <p:blipFill>
          <a:blip r:embed="rId4"/>
          <a:srcRect l="0" t="0" r="0" b="9780"/>
          <a:stretch/>
        </p:blipFill>
        <p:spPr>
          <a:xfrm>
            <a:off x="550800" y="4302000"/>
            <a:ext cx="2747880" cy="2065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"/>
          <p:cNvPicPr/>
          <p:nvPr/>
        </p:nvPicPr>
        <p:blipFill>
          <a:blip r:embed="rId5"/>
          <a:srcRect l="16975" t="29295" r="12266" b="6643"/>
          <a:stretch/>
        </p:blipFill>
        <p:spPr>
          <a:xfrm>
            <a:off x="3452760" y="4168800"/>
            <a:ext cx="2533680" cy="2146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"/>
          <p:cNvPicPr/>
          <p:nvPr/>
        </p:nvPicPr>
        <p:blipFill>
          <a:blip r:embed="rId6"/>
          <a:stretch/>
        </p:blipFill>
        <p:spPr>
          <a:xfrm>
            <a:off x="6296040" y="4194000"/>
            <a:ext cx="2139840" cy="2227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"/>
          <p:cNvPicPr/>
          <p:nvPr/>
        </p:nvPicPr>
        <p:blipFill>
          <a:blip r:embed="rId7"/>
          <a:srcRect l="0" t="0" r="6964" b="0"/>
          <a:stretch/>
        </p:blipFill>
        <p:spPr>
          <a:xfrm>
            <a:off x="5985000" y="1631880"/>
            <a:ext cx="230652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Скругленный прямоугольник 2"/>
          <p:cNvSpPr/>
          <p:nvPr/>
        </p:nvSpPr>
        <p:spPr>
          <a:xfrm>
            <a:off x="449280" y="517680"/>
            <a:ext cx="8202600" cy="93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1141560" y="743040"/>
            <a:ext cx="73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563c1"/>
                </a:solidFill>
                <a:latin typeface="Comic Sans MS"/>
                <a:ea typeface="Arial"/>
              </a:rPr>
              <a:t>А что же такое рефлекси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78" name="Скругленный прямоугольник 7"/>
          <p:cNvSpPr/>
          <p:nvPr/>
        </p:nvSpPr>
        <p:spPr>
          <a:xfrm>
            <a:off x="434880" y="1519200"/>
            <a:ext cx="8202600" cy="4837320"/>
          </a:xfrm>
          <a:prstGeom prst="roundRect">
            <a:avLst>
              <a:gd name="adj" fmla="val 1639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766800" y="1790640"/>
            <a:ext cx="7532640" cy="409104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Рефле́кси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(от </a:t>
            </a:r>
            <a:r>
              <a:rPr b="0" lang="ru-RU" sz="2200" spc="-1" strike="noStrike" u="sng">
                <a:solidFill>
                  <a:srgbClr val="0563c1"/>
                </a:solidFill>
                <a:uFillTx/>
                <a:latin typeface="Calibri"/>
                <a:ea typeface="Arial"/>
                <a:hlinkClick r:id="rId2"/>
              </a:rPr>
              <a:t>позднелат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0" i="1" lang="la-VA" sz="2200" spc="-1" strike="noStrike">
                <a:solidFill>
                  <a:srgbClr val="ff0000"/>
                </a:solidFill>
                <a:latin typeface="Calibri"/>
                <a:ea typeface="Arial"/>
              </a:rPr>
              <a:t>reflexio</a:t>
            </a:r>
            <a:r>
              <a:rPr b="0" i="1" lang="ru-RU" sz="2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— обращение назад) — способность человеческого мышления к критическому самоанализу. (Философская энциклопед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Рефлекси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– размышление о своем внутреннем состоянии, самоанализ. (Ожегов С.И., Шведова Н.Ю. Толковый словарь русского языка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едагогическа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рефлекси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 - это (от лат. reflexio - обращение назад) – мыслительный процесс, направленный на самопознание, анализ своих эмоций и чувств, состояний, способностей, повед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В современной педагогике под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рефлексией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понимают самоанализ деятельности и ее результа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CC8D-6D0E-4D79-ADC1-27338365B22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768240" y="2587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Скругленный прямоугольник 2"/>
          <p:cNvSpPr/>
          <p:nvPr/>
        </p:nvSpPr>
        <p:spPr>
          <a:xfrm>
            <a:off x="434880" y="363600"/>
            <a:ext cx="82026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100160" y="560520"/>
            <a:ext cx="73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63c1"/>
                </a:solidFill>
                <a:latin typeface="Arial"/>
                <a:ea typeface="Arial"/>
              </a:rPr>
              <a:t>Виды учебной рефлекс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85" name="Скругленный прямоугольник 7"/>
          <p:cNvSpPr/>
          <p:nvPr/>
        </p:nvSpPr>
        <p:spPr>
          <a:xfrm>
            <a:off x="434880" y="1519200"/>
            <a:ext cx="8202600" cy="4837320"/>
          </a:xfrm>
          <a:prstGeom prst="roundRect">
            <a:avLst>
              <a:gd name="adj" fmla="val 1639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физическа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успел – не успе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ru-RU" sz="3200" spc="-1" strike="noStrike">
                <a:solidFill>
                  <a:srgbClr val="0563c1"/>
                </a:solidFill>
                <a:latin typeface="Comic Sans MS"/>
              </a:rPr>
              <a:t>сенсорна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самочувствие: комфортно – дискомфортн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интеллектуальная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что понял, что осознал – что не понял, какие затруднения испытывал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духовна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стал лучше – хуже, созидал или разрушал себя, други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139D-12B5-4B41-A965-E40C442A71E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Скругленный прямоугольник 2"/>
          <p:cNvSpPr/>
          <p:nvPr/>
        </p:nvSpPr>
        <p:spPr>
          <a:xfrm>
            <a:off x="434880" y="363600"/>
            <a:ext cx="82026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100160" y="560520"/>
            <a:ext cx="73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63c1"/>
                </a:solidFill>
                <a:latin typeface="Arial"/>
                <a:ea typeface="Arial"/>
              </a:rPr>
              <a:t>Возникает вопрос, для чего нужна рефлекс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7"/>
          <p:cNvSpPr/>
          <p:nvPr/>
        </p:nvSpPr>
        <p:spPr>
          <a:xfrm>
            <a:off x="434880" y="1519200"/>
            <a:ext cx="8202600" cy="4837320"/>
          </a:xfrm>
          <a:prstGeom prst="roundRect">
            <a:avLst>
              <a:gd name="adj" fmla="val 1639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сли ребенок поним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ди чего он изучает данную тему, как она ему пригодится в будущ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какие цели должны быть достигнуты именно на этом уро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•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какой вклад в общее дело он может вне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•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может ли он адекватно оценивать свой труд и работу своих одноклассни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 процесс обучения становится намного интереснее и легче как для ученика, так и для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7D1D-39D6-4F83-AFA8-31365CCE01B8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2"/>
          <p:cNvSpPr/>
          <p:nvPr/>
        </p:nvSpPr>
        <p:spPr>
          <a:xfrm>
            <a:off x="434880" y="363600"/>
            <a:ext cx="82026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1127160" y="571680"/>
            <a:ext cx="73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63c1"/>
                </a:solidFill>
                <a:latin typeface="Comic Sans MS"/>
                <a:ea typeface="Arial"/>
              </a:rPr>
              <a:t>Классификация рефлекс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7"/>
          <p:cNvSpPr/>
          <p:nvPr/>
        </p:nvSpPr>
        <p:spPr>
          <a:xfrm>
            <a:off x="434880" y="1519200"/>
            <a:ext cx="8202600" cy="4837320"/>
          </a:xfrm>
          <a:prstGeom prst="roundRect">
            <a:avLst>
              <a:gd name="adj" fmla="val 1639"/>
            </a:avLst>
          </a:prstGeom>
          <a:solidFill>
            <a:srgbClr val="f8cbad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731880" y="1608120"/>
            <a:ext cx="7553160" cy="47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1.По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  <a:ea typeface="Arial"/>
              </a:rPr>
              <a:t>содержанию: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Устная и письменная рефлексия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2.По </a:t>
            </a:r>
            <a:r>
              <a:rPr b="1" lang="ru-RU" sz="2800" spc="-1" strike="noStrike">
                <a:solidFill>
                  <a:srgbClr val="2e75b6"/>
                </a:solidFill>
                <a:latin typeface="Comic Sans MS"/>
                <a:ea typeface="Arial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Рефлексия настроения и  эмоционального состоя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Рефлексия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Рефлексия содержания</a:t>
            </a:r>
            <a:r>
              <a:rPr b="1" lang="ru-RU" sz="1800" spc="-1" strike="noStrike">
                <a:solidFill>
                  <a:srgbClr val="2e75b6"/>
                </a:solidFill>
                <a:latin typeface="Comic Sans MS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3.По </a:t>
            </a:r>
            <a:r>
              <a:rPr b="1" lang="ru-RU" sz="2800" spc="-1" strike="noStrike">
                <a:solidFill>
                  <a:srgbClr val="7030a0"/>
                </a:solidFill>
                <a:latin typeface="Comic Sans MS"/>
                <a:ea typeface="Arial"/>
              </a:rPr>
              <a:t>типу ур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 Light"/>
                <a:ea typeface="Arial"/>
              </a:rPr>
              <a:t>После усвоения содержания матери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 Light"/>
                <a:ea typeface="Arial"/>
              </a:rPr>
              <a:t>Промежуточная рефлекс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 Light"/>
                <a:ea typeface="Arial"/>
              </a:rPr>
              <a:t>Контрольная рефлекс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 Light"/>
                <a:ea typeface="Arial"/>
              </a:rPr>
              <a:t>Итоговая рефлексия</a:t>
            </a:r>
            <a:r>
              <a:rPr b="1" lang="ru-RU" sz="1600" spc="-1" strike="noStrike">
                <a:solidFill>
                  <a:srgbClr val="7030a0"/>
                </a:solidFill>
                <a:latin typeface="Calibri Light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4. По</a:t>
            </a:r>
            <a:r>
              <a:rPr b="1" lang="ru-RU" sz="2800" spc="-1" strike="noStrike">
                <a:solidFill>
                  <a:srgbClr val="009900"/>
                </a:solidFill>
                <a:latin typeface="Comic Sans MS"/>
                <a:ea typeface="Arial"/>
              </a:rPr>
              <a:t> форме деятельности: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индивидуальная и группо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4DDB-D289-410D-ADB1-CF840B48DC4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Скругленный прямоугольник 2"/>
          <p:cNvSpPr/>
          <p:nvPr/>
        </p:nvSpPr>
        <p:spPr>
          <a:xfrm>
            <a:off x="434880" y="363600"/>
            <a:ext cx="820260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1127160" y="571680"/>
            <a:ext cx="73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563c1"/>
                </a:solidFill>
                <a:latin typeface="Comic Sans MS"/>
                <a:ea typeface="Arial"/>
              </a:rPr>
              <a:t>Рефлексии по 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90360" y="304920"/>
            <a:ext cx="920880" cy="95544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7"/>
          <p:cNvSpPr/>
          <p:nvPr/>
        </p:nvSpPr>
        <p:spPr>
          <a:xfrm>
            <a:off x="434880" y="1530360"/>
            <a:ext cx="8202600" cy="4836960"/>
          </a:xfrm>
          <a:prstGeom prst="roundRect">
            <a:avLst>
              <a:gd name="adj" fmla="val 1639"/>
            </a:avLst>
          </a:prstGeom>
          <a:solidFill>
            <a:srgbClr val="c5e0b4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771480" y="1851120"/>
            <a:ext cx="7513560" cy="46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рефлексия </a:t>
            </a:r>
            <a:r>
              <a:rPr b="1" lang="ru-RU" sz="3600" spc="-1" strike="noStrike">
                <a:solidFill>
                  <a:srgbClr val="ff3300"/>
                </a:solidFill>
                <a:latin typeface="Comic Sans MS"/>
                <a:ea typeface="Arial"/>
              </a:rPr>
              <a:t>настроения и эмоционального состоя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рефлексия </a:t>
            </a:r>
            <a:r>
              <a:rPr b="1" lang="ru-RU" sz="3600" spc="-1" strike="noStrike">
                <a:solidFill>
                  <a:srgbClr val="0563c1"/>
                </a:solidFill>
                <a:latin typeface="Comic Sans MS"/>
                <a:ea typeface="Arial"/>
              </a:rPr>
              <a:t>деятель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563c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рефлексия </a:t>
            </a:r>
            <a:r>
              <a:rPr b="1" lang="ru-RU" sz="3600" spc="-1" strike="noStrike">
                <a:solidFill>
                  <a:srgbClr val="009900"/>
                </a:solidFill>
                <a:latin typeface="Comic Sans MS"/>
                <a:ea typeface="Arial"/>
              </a:rPr>
              <a:t>содержания учебного матери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8"/>
          <p:cNvSpPr/>
          <p:nvPr/>
        </p:nvSpPr>
        <p:spPr>
          <a:xfrm>
            <a:off x="6513480" y="600228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1B7C-F112-479E-92F7-6F8F2D9B849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7:07:54Z</dcterms:created>
  <dc:creator>Олег Грибан</dc:creator>
  <dc:description/>
  <dc:language>en-US</dc:language>
  <cp:lastModifiedBy>Анна</cp:lastModifiedBy>
  <dcterms:modified xsi:type="dcterms:W3CDTF">2022-03-08T13:04:55Z</dcterms:modified>
  <cp:revision>63</cp:revision>
  <dc:subject/>
  <dc:title>Презентация PowerPoint</dc:title>
</cp:coreProperties>
</file>