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49B-6082-43A0-9224-BF6F656881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33DF-D62D-484D-924B-FDF32747D7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1E43-8D01-4029-94A5-7F0A99DC8B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065-E6BC-4A7A-9C51-10EDD61B66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7E9-AB23-4884-8C5D-DF0C190261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7C0E-79DD-4165-8F6B-AF1B283B6C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286-7C7E-4F17-942D-22983DA1E1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78A-5FD8-49CB-9085-BB37CF147D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0CF-4706-4155-9E1C-341AE99504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0D26-431C-4F2A-9571-9E37A06644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E7A-CE9F-4B1D-8305-D83374E5C2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1CC3-D752-4FBD-9FC6-F21F8DB255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E0A-5C7C-423D-9C0C-CB44807EA3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45D-2B2C-4C40-9DCB-48797DA0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717-6218-4F99-B77A-444D4E3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3CE-DAA6-4D05-9650-8F363A29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B43-FCB0-4387-A192-0453A2D6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DC7-A7D7-4978-9113-8676B66B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D90-2DBD-416A-B161-C874371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6D6-6F26-406F-9135-9875938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5F2-B5D3-49CE-8C7F-89BF6D6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7C7-4A6F-4A76-9CDE-F4CA296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657-FF66-4D2E-81BC-67016B2B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6ED-47D7-40F6-A590-EFF3784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430-23A6-4EC2-8FA1-5AFC66E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748D-6532-4D2F-8C7D-6FA78A9E2B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CB72-1B65-421D-8C2B-E80EB0D12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320760" y="363600"/>
            <a:ext cx="8316720" cy="11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4640" y="447840"/>
            <a:ext cx="77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  <a:ea typeface="Arial"/>
              </a:rPr>
              <a:t>Главная заповедь учителя – заметить даже самое маленькое продвижение ученика вперёд и поддержать его успе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7"/>
          <p:cNvSpPr/>
          <p:nvPr/>
        </p:nvSpPr>
        <p:spPr>
          <a:xfrm>
            <a:off x="434880" y="1569960"/>
            <a:ext cx="8202600" cy="47865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5BEE-94BC-4C76-8B05-117A9821779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3080882-n---n--n----n--n--n----n---n-noe--n-nf------n--n---n--n-n----nzn-n-n--n------n-------------n---noen"/>
          <p:cNvPicPr/>
          <p:nvPr/>
        </p:nvPicPr>
        <p:blipFill>
          <a:blip r:embed="rId2"/>
          <a:stretch/>
        </p:blipFill>
        <p:spPr>
          <a:xfrm>
            <a:off x="2187720" y="1569960"/>
            <a:ext cx="4716360" cy="471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school-children-illustration-vector_18-9112"/>
          <p:cNvPicPr/>
          <p:nvPr/>
        </p:nvPicPr>
        <p:blipFill>
          <a:blip r:embed="rId3"/>
          <a:srcRect l="51663" t="26441" r="0" b="6249"/>
          <a:stretch/>
        </p:blipFill>
        <p:spPr>
          <a:xfrm>
            <a:off x="3973680" y="2797200"/>
            <a:ext cx="14014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127160" y="378000"/>
            <a:ext cx="73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содержания учебного материала</a:t>
            </a:r>
            <a:r>
              <a:rPr b="0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7"/>
          <p:cNvSpPr/>
          <p:nvPr/>
        </p:nvSpPr>
        <p:spPr>
          <a:xfrm>
            <a:off x="449280" y="149076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D66-28A3-4898-BEA5-1B0618F4F03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722160" y="1627200"/>
            <a:ext cx="7764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568080"/>
            <a:ext cx="3570120" cy="12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деятель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7280" y="987480"/>
            <a:ext cx="4629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Акрослов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при помощи прилагательных героя Порфирьева П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-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5" descr=""/>
          <p:cNvPicPr/>
          <p:nvPr/>
        </p:nvPicPr>
        <p:blipFill>
          <a:blip r:embed="rId1"/>
          <a:stretch/>
        </p:blipFill>
        <p:spPr>
          <a:xfrm>
            <a:off x="712800" y="2122560"/>
            <a:ext cx="113508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3B8-5BF9-47BF-88B9-C95EAB509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112760" y="546120"/>
            <a:ext cx="73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7"/>
          <p:cNvSpPr/>
          <p:nvPr/>
        </p:nvSpPr>
        <p:spPr>
          <a:xfrm>
            <a:off x="434880" y="153360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71480" y="1851120"/>
            <a:ext cx="751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563c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63c1"/>
                </a:solidFill>
                <a:latin typeface="Comic Sans MS"/>
                <a:ea typeface="Arial"/>
              </a:rPr>
              <a:t>«Вагончик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У вас — 5 вагончиков. Предложите своим ученикам посадить человечков (животных, оставить жетончик) в тот вагончик, задание которого выполнилось легко, быстро и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7E48-FB80-49E7-BEB7-C3EC6B8DC4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rcRect l="9684" t="12809" r="12528" b="0"/>
          <a:stretch/>
        </p:blipFill>
        <p:spPr>
          <a:xfrm>
            <a:off x="1357200" y="3174840"/>
            <a:ext cx="5775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112760" y="546120"/>
            <a:ext cx="73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на урок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7"/>
          <p:cNvSpPr/>
          <p:nvPr/>
        </p:nvSpPr>
        <p:spPr>
          <a:xfrm>
            <a:off x="44784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14240" y="1519200"/>
            <a:ext cx="768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ограничить представления души только тем, что человек слышал и видел, но не осмелиться путем размышления достичь истины, то это ограничит душу человека. Чжан                    Цз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4FF-3542-4492-A780-13C58779C4A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clp747537"/>
          <p:cNvPicPr/>
          <p:nvPr/>
        </p:nvPicPr>
        <p:blipFill>
          <a:blip r:embed="rId2"/>
          <a:srcRect l="-1710" t="14769" r="0" b="3392"/>
          <a:stretch/>
        </p:blipFill>
        <p:spPr>
          <a:xfrm>
            <a:off x="588960" y="3733920"/>
            <a:ext cx="35910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434880" y="36360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31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ценка урока и самооценка 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доске лист с двумя шкалами: оцените, пожалуйста, этот мастер-класс: насколько интересным он вам показался.  Затем оцените свою работу на мастер-классе, насколько активно каждый из вас участвовал в обсуждении, выполнял практическ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8412-FD12-44D4-85F4-9B4D8A2574E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http://eztea.ru/wp-content/uploads/2020/07/Image-80.jpg"/>
          <p:cNvPicPr/>
          <p:nvPr/>
        </p:nvPicPr>
        <p:blipFill>
          <a:blip r:embed="rId2"/>
          <a:stretch/>
        </p:blipFill>
        <p:spPr>
          <a:xfrm>
            <a:off x="2935440" y="3537000"/>
            <a:ext cx="3200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E7A-FBAE-4493-A02D-C16DF37BA25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2" descr=""/>
          <p:cNvPicPr/>
          <p:nvPr/>
        </p:nvPicPr>
        <p:blipFill>
          <a:blip r:embed="rId1"/>
          <a:stretch/>
        </p:blipFill>
        <p:spPr>
          <a:xfrm>
            <a:off x="669960" y="60480"/>
            <a:ext cx="7583400" cy="1450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Елена\Downloads\солнце.png"/>
          <p:cNvPicPr/>
          <p:nvPr/>
        </p:nvPicPr>
        <p:blipFill>
          <a:blip r:embed="rId2"/>
          <a:stretch/>
        </p:blipFill>
        <p:spPr>
          <a:xfrm>
            <a:off x="2395440" y="1143000"/>
            <a:ext cx="435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8fd0"/>
            </a:gs>
            <a:gs pos="100000">
              <a:srgbClr val="2e75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Капля 4"/>
          <p:cNvSpPr/>
          <p:nvPr/>
        </p:nvSpPr>
        <p:spPr>
          <a:xfrm>
            <a:off x="477720" y="243000"/>
            <a:ext cx="8401320" cy="6016680"/>
          </a:xfrm>
          <a:custGeom>
            <a:avLst/>
            <a:gdLst/>
            <a:ahLst/>
            <a:rect l="l" t="t" r="r" b="b"/>
            <a:pathLst>
              <a:path w="8401050" h="6016625">
                <a:moveTo>
                  <a:pt x="0" y="3008313"/>
                </a:moveTo>
                <a:cubicBezTo>
                  <a:pt x="0" y="1346868"/>
                  <a:pt x="1880639" y="0"/>
                  <a:pt x="4200525" y="0"/>
                </a:cubicBezTo>
                <a:lnTo>
                  <a:pt x="8401050" y="0"/>
                </a:lnTo>
                <a:lnTo>
                  <a:pt x="8401050" y="3008313"/>
                </a:lnTo>
                <a:cubicBezTo>
                  <a:pt x="8401050" y="4669758"/>
                  <a:pt x="6520411" y="6016626"/>
                  <a:pt x="4200525" y="6016626"/>
                </a:cubicBezTo>
                <a:cubicBezTo>
                  <a:pt x="1880639" y="6016626"/>
                  <a:pt x="0" y="4669758"/>
                  <a:pt x="0" y="3008313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434880" y="2039760"/>
            <a:ext cx="4330800" cy="449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289160" y="426960"/>
            <a:ext cx="75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  <a:ea typeface="Arial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"/>
                <a:ea typeface="Arial"/>
              </a:rPr>
              <a:t>«Рефлексия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Arial"/>
              </a:rPr>
              <a:t> на урок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Arial"/>
              </a:rPr>
              <a:t>в начальных класс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8"/>
          <p:cNvSpPr/>
          <p:nvPr/>
        </p:nvSpPr>
        <p:spPr>
          <a:xfrm rot="21009600">
            <a:off x="3963960" y="2158560"/>
            <a:ext cx="4670280" cy="374760"/>
          </a:xfrm>
          <a:custGeom>
            <a:avLst/>
            <a:gdLst/>
            <a:ahLst/>
            <a:rect l="l" t="t" r="r" b="b"/>
            <a:pathLst>
              <a:path w="4671152" h="374791">
                <a:moveTo>
                  <a:pt x="4671152" y="374791"/>
                </a:moveTo>
                <a:cubicBezTo>
                  <a:pt x="3728291" y="192095"/>
                  <a:pt x="2785431" y="9399"/>
                  <a:pt x="2082188" y="218"/>
                </a:cubicBezTo>
                <a:cubicBezTo>
                  <a:pt x="1378945" y="-8963"/>
                  <a:pt x="798723" y="273804"/>
                  <a:pt x="451692" y="319707"/>
                </a:cubicBezTo>
                <a:cubicBezTo>
                  <a:pt x="104661" y="365610"/>
                  <a:pt x="52330" y="320624"/>
                  <a:pt x="0" y="275639"/>
                </a:cubicBezTo>
              </a:path>
            </a:pathLst>
          </a:custGeom>
          <a:noFill/>
          <a:ln w="6480">
            <a:solidFill>
              <a:srgbClr val="70ad4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367160" y="4170240"/>
            <a:ext cx="389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Константинова Анна Владимировна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МАОУ Большеяник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2"/>
          <p:cNvSpPr/>
          <p:nvPr/>
        </p:nvSpPr>
        <p:spPr>
          <a:xfrm>
            <a:off x="434880" y="187200"/>
            <a:ext cx="8202600" cy="74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Интерпретация рисунка "Слон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484200" y="0"/>
            <a:ext cx="920880" cy="95580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7"/>
          <p:cNvSpPr/>
          <p:nvPr/>
        </p:nvSpPr>
        <p:spPr>
          <a:xfrm>
            <a:off x="333360" y="1116000"/>
            <a:ext cx="8304120" cy="5602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ы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 слона хорошо прорисованы органы чувств (глаза, кончик хобота, уши, рот) - значит, вы чутки к другим, к своей жизни и сегодня пришли с готовностью слушать ме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ши у слона подняты вверх - это может означать, что автор рисунка находится в напряжении, чем-то встревожен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 слона подняты вверх не только уши, но и бивни, задран вверх хобот, хвост вытянут - эти признаки выдают человека излишне активного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вост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вост направлен вверх – вы дружелюбны и оптимистичны, вниз – подавл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ги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брежно прорисованные ноги выдают отношение к мероприятию -  неосновательного, поверхност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ко прорисованные ноги одинаковой длины, говорят о том, что вы уверены в себе и в правильности выбранного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лова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руглая голова, туловище, ноги, уши и другие части и органы тела указывают на наличие женственности - мягкости, доброт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слона нарисованы кры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ылья говорят о том, что человеку хочется всё успеть, ему многое интересн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кра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рьги, бантики, резиночки, косметика на лице слона выдают человека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абоченного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77D-B4A3-411A-8973-03762679BD3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59080" y="398520"/>
            <a:ext cx="6521400" cy="86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настроения и эмоционального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26960" y="277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7"/>
          <p:cNvSpPr/>
          <p:nvPr/>
        </p:nvSpPr>
        <p:spPr>
          <a:xfrm>
            <a:off x="333360" y="1519200"/>
            <a:ext cx="8304120" cy="51195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7D6-314F-4A91-A4D4-25618F28DAD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2"/>
          <a:srcRect l="-737" t="-97" r="751" b="9082"/>
          <a:stretch/>
        </p:blipFill>
        <p:spPr>
          <a:xfrm>
            <a:off x="492120" y="1706400"/>
            <a:ext cx="2587680" cy="2025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rcRect l="0" t="26759" r="0" b="7283"/>
          <a:stretch/>
        </p:blipFill>
        <p:spPr>
          <a:xfrm>
            <a:off x="3238560" y="1706400"/>
            <a:ext cx="2244600" cy="203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4"/>
          <a:srcRect l="0" t="0" r="0" b="9780"/>
          <a:stretch/>
        </p:blipFill>
        <p:spPr>
          <a:xfrm>
            <a:off x="550800" y="4302000"/>
            <a:ext cx="2747880" cy="20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"/>
          <p:cNvPicPr/>
          <p:nvPr/>
        </p:nvPicPr>
        <p:blipFill>
          <a:blip r:embed="rId5"/>
          <a:srcRect l="16975" t="29295" r="12266" b="6643"/>
          <a:stretch/>
        </p:blipFill>
        <p:spPr>
          <a:xfrm>
            <a:off x="3452760" y="4168800"/>
            <a:ext cx="2533680" cy="2146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tretch/>
        </p:blipFill>
        <p:spPr>
          <a:xfrm>
            <a:off x="6296040" y="4194000"/>
            <a:ext cx="2139840" cy="2227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7"/>
          <a:srcRect l="0" t="0" r="6964" b="0"/>
          <a:stretch/>
        </p:blipFill>
        <p:spPr>
          <a:xfrm>
            <a:off x="5985000" y="1631880"/>
            <a:ext cx="23065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2"/>
          <p:cNvSpPr/>
          <p:nvPr/>
        </p:nvSpPr>
        <p:spPr>
          <a:xfrm>
            <a:off x="449280" y="517680"/>
            <a:ext cx="820260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141560" y="74304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А что же такое рефлекс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766800" y="1790640"/>
            <a:ext cx="7532640" cy="40910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́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(от </a:t>
            </a:r>
            <a:r>
              <a:rPr b="0" lang="ru-RU" sz="2200" spc="-1" strike="noStrike" u="sng">
                <a:solidFill>
                  <a:srgbClr val="0563c1"/>
                </a:solidFill>
                <a:uFillTx/>
                <a:latin typeface="Calibri"/>
                <a:ea typeface="Arial"/>
                <a:hlinkClick r:id="rId2"/>
              </a:rPr>
              <a:t>позднелат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i="1" lang="la-VA" sz="2200" spc="-1" strike="noStrike">
                <a:solidFill>
                  <a:srgbClr val="ff0000"/>
                </a:solidFill>
                <a:latin typeface="Calibri"/>
                <a:ea typeface="Arial"/>
              </a:rPr>
              <a:t>reflexio</a:t>
            </a:r>
            <a:r>
              <a:rPr b="0" i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— обращение назад) — способность человеческого мышления к критическому самоанализу. (Философская энциклопед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– размышление о своем внутреннем состоянии, самоанализ. (Ожегов С.И., Шведова Н.Ю. Толковый словарь русского язы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ическ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- это (от лат. reflexio - обращение назад) – мыслительный процесс, направленный на самопознание, анализ своих эмоций и чувств, состояний, способностей, пове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 современной педагогике под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ие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понимают самоанализ деятельности и ее результа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9E4-1B2E-4684-8E42-987037B30B6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8240" y="2587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100160" y="56052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Виды учебной рефлек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физическ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успел – не успе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0563c1"/>
                </a:solidFill>
                <a:latin typeface="Comic Sans MS"/>
              </a:rPr>
              <a:t>сенсорн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самочувствие: комфортно – дискомфорт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интеллектуальна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что понял, что осознал – что не понял, какие затруднения испытыва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духовн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стал лучше – хуже, созидал или разрушал себя, други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466-0F84-4D2F-B722-F54F496CE82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100160" y="56052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63c1"/>
                </a:solidFill>
                <a:latin typeface="Arial"/>
                <a:ea typeface="Arial"/>
              </a:rPr>
              <a:t>Возникает вопрос, для чего нужна рефлекс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ребенок поним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ди чего он изучает данную тему, как она ему пригодится в будущ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ие цели должны быть достигнуты именно на этом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•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ой вклад в общее дело он может вн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•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ожет ли он адекватно оценивать свой труд и работу своих однокласс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процесс обучения становится намного интереснее и легче как для ученика, так и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18A-F0B9-4EA0-8087-310971D869E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127160" y="57168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Классификация рефлек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8cbad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731880" y="1608120"/>
            <a:ext cx="755316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.П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содержанию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Устная и письменная рефлекси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.По </a:t>
            </a:r>
            <a:r>
              <a:rPr b="1" lang="ru-RU" sz="2800" spc="-1" strike="noStrike">
                <a:solidFill>
                  <a:srgbClr val="2e75b6"/>
                </a:solidFill>
                <a:latin typeface="Comic Sans MS"/>
                <a:ea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настроения и  эмоционального 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содержания</a:t>
            </a:r>
            <a:r>
              <a:rPr b="1" lang="ru-RU" sz="1800" spc="-1" strike="noStrike">
                <a:solidFill>
                  <a:srgbClr val="2e75b6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.По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Arial"/>
              </a:rPr>
              <a:t>типу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После усвоения содержания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Промежуточная рефлек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Контрольная рефлек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Итоговая рефлексия</a:t>
            </a:r>
            <a:r>
              <a:rPr b="1" lang="ru-RU" sz="1600" spc="-1" strike="noStrike">
                <a:solidFill>
                  <a:srgbClr val="7030a0"/>
                </a:solidFill>
                <a:latin typeface="Calibri Light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4. По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  <a:ea typeface="Arial"/>
              </a:rPr>
              <a:t> форме деятельности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ндивидуальная и групп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357-F984-433A-B5BE-9E8EA0AA27F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127160" y="57168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и по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7"/>
          <p:cNvSpPr/>
          <p:nvPr/>
        </p:nvSpPr>
        <p:spPr>
          <a:xfrm>
            <a:off x="434880" y="153036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c5e0b4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771480" y="1851120"/>
            <a:ext cx="751356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настроения и эмоционального состоя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0563c1"/>
                </a:solidFill>
                <a:latin typeface="Comic Sans MS"/>
                <a:ea typeface="Arial"/>
              </a:rPr>
              <a:t>дея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563c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содержания учебного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882-8A1E-44B9-9181-28B3EB1CF60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7:07:54Z</dcterms:created>
  <dc:creator>Олег Грибан</dc:creator>
  <dc:description/>
  <dc:language>en-US</dc:language>
  <cp:lastModifiedBy>Анна</cp:lastModifiedBy>
  <dcterms:modified xsi:type="dcterms:W3CDTF">2022-03-08T13:04:55Z</dcterms:modified>
  <cp:revision>63</cp:revision>
  <dc:subject/>
  <dc:title>Презентация PowerPoint</dc:title>
</cp:coreProperties>
</file>