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74F0-1674-46F6-8BEF-9E52F921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E354-7D65-49FF-B1A5-0258BA76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C4CC-9C74-4750-9A4E-8C975B9F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566D-F026-4386-94E1-BF17C1A9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4F62-A0FC-419E-AE62-EE1502D1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4312-246C-46CD-9C7F-0207E980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B67A-BD16-42BF-880E-7599DC2E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7A7A-9675-42F6-AC0A-C407E023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2AB0-82D9-4743-B919-84FBB378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FA30-A806-4497-A3A7-969DA656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37CD-BC0F-4309-B50E-53DCA3B9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103D-65A4-4DFF-81CB-32F9AF2B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71E7-3099-45D4-A07C-6E81BA619E8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28520" y="1571400"/>
            <a:ext cx="678348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b050"/>
                </a:solidFill>
                <a:latin typeface="Palatino Linotype"/>
              </a:rPr>
              <a:t>Методика организации образовательного процесса для учащихся  с ОВЗ в начальной школе в условиях реализации ФГОС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Palatino Linotype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Подготовила:Учитель начальных классо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школы №49 г. Улан-Удэ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Пшенникова Н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5076720" y="1557360"/>
            <a:ext cx="36720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и психолого-педагогического сопров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ие детей группы риска по различным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дам дезадаптаци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разовательной и/или поведенческо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особенностей и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ровня развит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а, с выявлением причин и механизмов его проблем, для создания адекватной абилитации и сопровождения ребенка и его семьи;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междисциплинарных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силиум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ециалистов, что способствует выстраиванию приоритетов и определению стратегии медицинского и психолого-педагогического сопровождения как в конкретные моменты, так и на длительные периоды, а также оценке эффективности той или иной стратегии сопровожд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адекватной возможностям ребенка последовательности и глубины подачи программного материала в контексте адаптации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разовательной программ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личных категорий детей с ОВЗ по каждой отдельной компетенции или предме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внутригрупповых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заимоотноше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решения задач сопровождения всех субъектов инклюзивного образовательного пространства, формирования  эмоционального принятия и группового спло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ррекционно-развивающая раб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включаемыми детьми и с другими субъектами инклюзивного образовательного простран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сихокоррекционная раб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различными участниками образовательного процесса (педагогами, специалистами, родителями, старшеклассниками, администрацией), в том числе и крайне специфической психологической работы с родительскими и учительскими ожид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5684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направления программы адаптации (интегра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85840" y="2143080"/>
          <a:ext cx="8643960" cy="4145040"/>
        </p:xfrm>
        <a:graphic>
          <a:graphicData uri="http://schemas.openxmlformats.org/drawingml/2006/table">
            <a:tbl>
              <a:tblPr/>
              <a:tblGrid>
                <a:gridCol w="1650960"/>
                <a:gridCol w="6993000"/>
              </a:tblGrid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46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46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я программы адаптации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нтеграц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73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46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46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ммуникати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алгоритма учебной деятельност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й подбор способов предъявления, выполнения учебного материала и оценк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я письменной реч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навыков общения с взрослыми, сверстниками в социально-значимых ситуация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творческих и других способностей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е русскому языку и основам русской культуры (для иностранце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9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46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46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енсор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463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й подбор способов предъявления, выполнения учебного материала и оцен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463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учебной деятельности с опорой на ведущий вид восприятия. Формирование алгоритма учебной деятель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33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46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46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вига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463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алгоритма учебной деятель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463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учебных навыков с использованием специальных приспособлений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463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учебных навыков с опорой на ведущий вид восприятия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463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й подбор способов предъявления, выполнения учебного материала и оценки учебных задан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уктура урока при внутренней дифференци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14200" y="1600200"/>
          <a:ext cx="8786880" cy="5008680"/>
        </p:xfrm>
        <a:graphic>
          <a:graphicData uri="http://schemas.openxmlformats.org/drawingml/2006/table">
            <a:tbl>
              <a:tblPr/>
              <a:tblGrid>
                <a:gridCol w="1648080"/>
                <a:gridCol w="2211120"/>
                <a:gridCol w="2463840"/>
                <a:gridCol w="246384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тоды и приё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рганизация работы по ОО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рганизация работы по АОО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Орг.мо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ес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е для всех детей кла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Проверка дом.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есные, практ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онтальный опрос, проверка, взаимопровер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. провер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Повторение изучен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есные, практ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, письменное и устное выполнение упраж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по карточ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Подготовка к восприятию нового матери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есные, нагляд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по вопросам, соотв. уровню развити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Изучение нового матери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есные, практические, нагляд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яснение нового матери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опорой на наглядность и работой над алгоритм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Закрепление изучен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есные, практ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упражнений. провер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над усвоением нового материала (по алгоритм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Итог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ес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е для всех детей кла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Инструктаж по выполнению дом.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ес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дом.задания для детей с нормой разви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дом.задания для детей с ОВ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9720" y="2714400"/>
            <a:ext cx="735804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Palatino Linotype"/>
              </a:rPr>
              <a:t>Психолого-педагогические особенности развития и трудности обучения младших школьников с ЗП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2"/>
          <p:cNvSpPr/>
          <p:nvPr/>
        </p:nvSpPr>
        <p:spPr>
          <a:xfrm>
            <a:off x="5076720" y="1557360"/>
            <a:ext cx="36720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сификации ЗП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лассификация К.С. Лебединской (1986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конституционального генез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соматогенного генез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психогенного генез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церебрально-органического гене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арактерные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детей с ЗПР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й актив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релость к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б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оспособ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ые фрагментарны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едставления об окружающем мир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номер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явлений недостаточности развит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ответствие интеллектуальных возможностей ребенка его возрас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ая сформированность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ственных операц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дленный темп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работки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тавание 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и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с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28760" y="178596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восприятия (недостаточная полнота и точность, ограниченность, фрагментарност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уднён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узнавания предмет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ъявляемых в непривычном ракур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длен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матривания предъявляемых объект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рият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удняются в построени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г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а и выделении объекта на фоне други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грубо нарушены более сложные формы восприятия, требующие участия нескольких анализаторов и имеющих сложный характер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рушения восприя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младших школьников с ЗП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одят к затруднениям в овладении навыками чтения и письма (часто смешивают сходные по начертанию буквы и их элементы, близкие по акустическому признаку буквы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цательно влияет на восприятие ухудшение внешних условий восприятия: недостаточная освещённость, частая смена объектов восприятия, необходимость выявления нескольких сенсорных сигналов одноврем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ая сформированность и повышенна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щаем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ольного вним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арность основных свойств внимания: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и, распределения, объём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лекаемост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ерт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.различ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в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в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пы детей максимальное сосредоточение внимания наблюдается в начале урока, учебного д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тор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пы – сосредоточение внимания наступает не сразу, требуется постепенная врабатываемость, осуществление какой-либо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еть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пы – наблюдается периодичность сосредоточения внимания на протяжении всего урока; периоды устойчивой произвольности внимания чередуются с рассеянностью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то такой ребёнок с ОВЗ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учающийся с ограниченными возможностями здоров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зическое лицо, имеющее недостатки в физическом и (или) психологическом развитии, подтвержденные психолого-медико-педагогической комиссией и препятствующие получению образования без создани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ециальны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рушения произвольного вним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детей с З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ятствуют реализации мысли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активизируют сосредоточенность и избирательность познава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удняют реализацию процессов восприятия и пам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мя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длительный период приёма и переработки сенсорной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ём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атковременной и долговременной памя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развит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ольного и непроизвольного запомин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в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ольной памяти, неточность и трудность воспроизведения, обусловленная снижением познавательной актив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о сформированы умения использования рациональных, опосредованных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ов запомин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ый материал запоминают лучше, чем вербальн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рушения памя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детей с ЗПР являются одной из основных причин неуспеваемости учащих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хое усвоение содержания текстов, таблиц, сх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удержания в уме цели и условия задач, упражнений, других учебных за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номер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ития всех форм мышления у каждого конкретного ребён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мение ставить перед собой конкретную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самостоятельном решении мыслительных задач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выраженног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очного этап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решении мыслительных задач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апного планиров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мственных действ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нимание важности поиск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ьных способ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интеллектуальных задач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уровня сформированности всех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слительных операц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нализа, синтеза, сравнения, классификации, обобщения, перено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еотипность мышления, его шаблон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рушения мышл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детей с ЗПР вызывают затруднения в обу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лохо владеют общепринятыми терминами и понят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о сформировано умение выделять части предметов и устанавливать между ними отнош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ЗПР испытывают очень большие трудности при выстраивании самых простых умозаключений, не умеют рассуждать, делать выводы; стараются избегать таких ситуац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несформированности логического мышления дают случайные, необдуманные ответы, проявляют неспособность к анализу условий зада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ельно снижены продуктивность и динамичность умственной деятельности, отсутствует контроль за результатами свое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моционально-волевой сф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формированность произвольной регуляци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или слабость учебно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обладание игровых интересов над учебны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мляем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ая при нарастании проявляется в медлительности или импульсив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отивированные расстройств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ро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лезливость, капризность, сонливость, болтливость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а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стойчив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пыльчивость, конфликт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заимодействие специалис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ит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ализует коррекционное направление в ходе индивидуального подхода к детям на уроке (при объяснении, закреплении учебного материала, а также при оценке знаний учащихс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сихоло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 диагностику с целью выявления нарушений психического развития ребёнка и определения его индивидуальных потребностей; проводит индивидуальные коррекционные занятия с детьми и консультирует учит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фектоло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 индивидуальные и групповые занятия (на практике это делает учитель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ие </a:t>
            </a: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рекомендации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учител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олжно быть осмыслен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м уроке должны сталкиваться типы объяснения «от простого к сложному» и «от общего к частному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е обучение должно быть не «мультимедийным», а «мультимодальным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ффективном обучении должна использоваться не «интерактивность», а совместная продуктивная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ть задания в соответствии с темпом деятельности и возможностями учен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ть индивидуальные особенности вхождения ребёнка в деятельность (период врабатыва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ть тактику руководства деятельностью ребёнка в связи с динамическими изменениями (при утомлении, пресыщен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едъявлять для выполнения ребёнку сразу более одного задания; если ученику предстоит выполнить сложное задание, следует предлагать его в виде последовательных частей и периодически контролировать ход работы над каждой частью, внося необходимые корректив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групповые методы работы на уроке, при которых каждый ученик делает посильную для него часть задания, выполнение которой ведёт к достижению общего результа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аивать паузы активного отдыха с лёгкими физическими упражнениями или расслаблен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85480" y="150012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в процессе обучения игровые приёмы, элементы соревнования, дидактические игр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ситуации успеха, в которых ученик имел бы возможность проявить свои сильные сторо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ть и поощрять любые проявления инициативы и самостоятельности ребё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ть предъявления завышенных и заниженных требований к учени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сти знаковую систему оценивания, поощрять хорошее поведение и успехи в учёбе, хвалить ребёнка, если он успешно справился даже с небольшим задан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иться минимальным количеством отвлекающих предметов в классе (картин, стендов и т.п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зможности придерживаться постоянного расписания занятий, т.к. дети с ЗПР отличаются забывчивост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 с психологом помогать ребёнку адаптироваться в условиях школы и классном коллекти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рмативно-правовая база введения ФГОС НОО с ОВ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785880" y="1928880"/>
            <a:ext cx="3571920" cy="1857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Федеральный государственный образовательный стандарт образования обучающихся с ограниченными возможностями здоров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5000760" y="1928880"/>
            <a:ext cx="3643200" cy="1857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Федеральный государственный образовательный стандарт образования обучающихся с умственной отсталостью (интеллектуальной недостаточность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/>
          <p:cNvSpPr/>
          <p:nvPr/>
        </p:nvSpPr>
        <p:spPr>
          <a:xfrm>
            <a:off x="1214280" y="4429080"/>
            <a:ext cx="2714760" cy="1500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иказ Министерства образования и науки РФ № 1598 от 19.12.201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7"/>
          <p:cNvSpPr/>
          <p:nvPr/>
        </p:nvSpPr>
        <p:spPr>
          <a:xfrm>
            <a:off x="5500800" y="4429080"/>
            <a:ext cx="2714400" cy="1500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иказ Министерства образования и науки РФ № 1599 от 19.12.201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елка вниз 9"/>
          <p:cNvSpPr/>
          <p:nvPr/>
        </p:nvSpPr>
        <p:spPr>
          <a:xfrm>
            <a:off x="2357280" y="3786120"/>
            <a:ext cx="42876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трелка вниз 11"/>
          <p:cNvSpPr/>
          <p:nvPr/>
        </p:nvSpPr>
        <p:spPr>
          <a:xfrm>
            <a:off x="6643800" y="3786120"/>
            <a:ext cx="428400" cy="64296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ические при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14400" y="1571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этапное разъяснение зад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е выполнение зад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ение учащимся инструкции к выполнению за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зость к учащимся во время объяснения зад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еремена видов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учащихся к перемене вида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дование занятий и физкультурных пау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дополнительного времени для завершения за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дополнительного времени для сдачи домашнего зад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спользование листов с упражнениями, которые требуют минимального запол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упражнений с пропущенными словами/предложен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ение печатных материалов видеоматериал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учащихся печатными копиями заданий, написанных на дос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ндивидуальное оценивание ответов учащихся с ОВ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дивидуальной шкалы оценок в соответствии с успехами и затраченными усил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дневная оценка с целью выведения четвертной отмет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шение переделать задание, с которым он не справил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переделанных раб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истемы оценок достижений учащих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1360" y="142560"/>
            <a:ext cx="78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организационные модели реализации ФГОС обучающихся с ОВ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5776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714240" y="1857240"/>
            <a:ext cx="2643480" cy="71460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образовательных организа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6"/>
          <p:cNvSpPr/>
          <p:nvPr/>
        </p:nvSpPr>
        <p:spPr>
          <a:xfrm>
            <a:off x="4286160" y="2214720"/>
            <a:ext cx="2143080" cy="150012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учение в стационарах мед.организаций и соц.защ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6643800" y="3214800"/>
            <a:ext cx="2286000" cy="100008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не образовательных организ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ятиугольник 9"/>
          <p:cNvSpPr/>
          <p:nvPr/>
        </p:nvSpPr>
        <p:spPr>
          <a:xfrm>
            <a:off x="428760" y="3143160"/>
            <a:ext cx="2857320" cy="714600"/>
          </a:xfrm>
          <a:custGeom>
            <a:avLst/>
            <a:gdLst>
              <a:gd name="textAreaLeft" fmla="*/ 0 w 2857320"/>
              <a:gd name="textAreaRight" fmla="*/ 2857680 w 28573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ециальные коррекционные образовательные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ятиугольник 10"/>
          <p:cNvSpPr/>
          <p:nvPr/>
        </p:nvSpPr>
        <p:spPr>
          <a:xfrm>
            <a:off x="428760" y="4000680"/>
            <a:ext cx="2857320" cy="642600"/>
          </a:xfrm>
          <a:custGeom>
            <a:avLst/>
            <a:gdLst>
              <a:gd name="textAreaLeft" fmla="*/ 0 w 2857320"/>
              <a:gd name="textAreaRight" fmla="*/ 2857680 w 2857320"/>
              <a:gd name="textAreaTop" fmla="*/ 0 h 642600"/>
              <a:gd name="textAreaBottom" fmla="*/ 64296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70" y="0"/>
                </a:lnTo>
                <a:lnTo>
                  <a:pt x="21600" y="10800"/>
                </a:lnTo>
                <a:lnTo>
                  <a:pt x="1917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ециальные коррекционные классы (группы) в образовательных организац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ятиугольник 11"/>
          <p:cNvSpPr/>
          <p:nvPr/>
        </p:nvSpPr>
        <p:spPr>
          <a:xfrm>
            <a:off x="428760" y="4786200"/>
            <a:ext cx="2928960" cy="64296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29" y="0"/>
                </a:lnTo>
                <a:lnTo>
                  <a:pt x="21600" y="10800"/>
                </a:lnTo>
                <a:lnTo>
                  <a:pt x="192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местное обучение с другими обучающимися в образовательной организ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ятиугольник 12"/>
          <p:cNvSpPr/>
          <p:nvPr/>
        </p:nvSpPr>
        <p:spPr>
          <a:xfrm>
            <a:off x="428760" y="5572080"/>
            <a:ext cx="2857320" cy="714600"/>
          </a:xfrm>
          <a:custGeom>
            <a:avLst/>
            <a:gdLst>
              <a:gd name="textAreaLeft" fmla="*/ 0 w 2857320"/>
              <a:gd name="textAreaRight" fmla="*/ 2857680 w 28573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уктурные подразделения образовательных организаций в медучрежден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Блок-схема: карточка 15"/>
          <p:cNvSpPr/>
          <p:nvPr/>
        </p:nvSpPr>
        <p:spPr>
          <a:xfrm>
            <a:off x="2286000" y="2643120"/>
            <a:ext cx="1714680" cy="357120"/>
          </a:xfrm>
          <a:prstGeom prst="flowChartPunchedCard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учение в клас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Блок-схема: карточка 16"/>
          <p:cNvSpPr/>
          <p:nvPr/>
        </p:nvSpPr>
        <p:spPr>
          <a:xfrm>
            <a:off x="142920" y="2643120"/>
            <a:ext cx="1714320" cy="357120"/>
          </a:xfrm>
          <a:prstGeom prst="flowChartPunchedCard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учение на д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Блок-схема: карточка 17"/>
          <p:cNvSpPr/>
          <p:nvPr/>
        </p:nvSpPr>
        <p:spPr>
          <a:xfrm>
            <a:off x="6286680" y="5500800"/>
            <a:ext cx="1857240" cy="500040"/>
          </a:xfrm>
          <a:prstGeom prst="flowChartPunchedCar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образ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Блок-схема: карточка 18"/>
          <p:cNvSpPr/>
          <p:nvPr/>
        </p:nvSpPr>
        <p:spPr>
          <a:xfrm>
            <a:off x="6286680" y="4643280"/>
            <a:ext cx="1857240" cy="571680"/>
          </a:xfrm>
          <a:prstGeom prst="flowChartPunchedCar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мейное 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углом 21"/>
          <p:cNvSpPr/>
          <p:nvPr/>
        </p:nvSpPr>
        <p:spPr>
          <a:xfrm rot="10800000">
            <a:off x="3285720" y="2999880"/>
            <a:ext cx="714600" cy="714600"/>
          </a:xfrm>
          <a:custGeom>
            <a:avLst/>
            <a:gdLst/>
            <a:ahLst/>
            <a:rect l="l" t="t" r="r" b="b"/>
            <a:pathLst>
              <a:path w="714375" h="714375">
                <a:moveTo>
                  <a:pt x="0" y="714375"/>
                </a:moveTo>
                <a:lnTo>
                  <a:pt x="0" y="401836"/>
                </a:lnTo>
                <a:cubicBezTo>
                  <a:pt x="0" y="229225"/>
                  <a:pt x="139928" y="89297"/>
                  <a:pt x="312539" y="89297"/>
                </a:cubicBezTo>
                <a:lnTo>
                  <a:pt x="535781" y="89297"/>
                </a:lnTo>
                <a:lnTo>
                  <a:pt x="535781" y="0"/>
                </a:lnTo>
                <a:lnTo>
                  <a:pt x="714375" y="178594"/>
                </a:lnTo>
                <a:lnTo>
                  <a:pt x="535781" y="357188"/>
                </a:lnTo>
                <a:lnTo>
                  <a:pt x="535781" y="267891"/>
                </a:lnTo>
                <a:lnTo>
                  <a:pt x="312539" y="267891"/>
                </a:lnTo>
                <a:cubicBezTo>
                  <a:pt x="238563" y="267891"/>
                  <a:pt x="178594" y="327860"/>
                  <a:pt x="178594" y="401836"/>
                </a:cubicBezTo>
                <a:lnTo>
                  <a:pt x="178594" y="714375"/>
                </a:lnTo>
                <a:lnTo>
                  <a:pt x="0" y="71437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углом 22"/>
          <p:cNvSpPr/>
          <p:nvPr/>
        </p:nvSpPr>
        <p:spPr>
          <a:xfrm rot="10800000">
            <a:off x="3285720" y="3643200"/>
            <a:ext cx="714600" cy="857520"/>
          </a:xfrm>
          <a:custGeom>
            <a:avLst/>
            <a:gdLst/>
            <a:ahLst/>
            <a:rect l="l" t="t" r="r" b="b"/>
            <a:pathLst>
              <a:path w="714375" h="857250">
                <a:moveTo>
                  <a:pt x="0" y="857250"/>
                </a:moveTo>
                <a:lnTo>
                  <a:pt x="0" y="401836"/>
                </a:lnTo>
                <a:cubicBezTo>
                  <a:pt x="0" y="229225"/>
                  <a:pt x="139928" y="89297"/>
                  <a:pt x="312539" y="89297"/>
                </a:cubicBezTo>
                <a:lnTo>
                  <a:pt x="535781" y="89297"/>
                </a:lnTo>
                <a:lnTo>
                  <a:pt x="535781" y="0"/>
                </a:lnTo>
                <a:lnTo>
                  <a:pt x="714375" y="178594"/>
                </a:lnTo>
                <a:lnTo>
                  <a:pt x="535781" y="357188"/>
                </a:lnTo>
                <a:lnTo>
                  <a:pt x="535781" y="267891"/>
                </a:lnTo>
                <a:lnTo>
                  <a:pt x="312539" y="267891"/>
                </a:lnTo>
                <a:cubicBezTo>
                  <a:pt x="238563" y="267891"/>
                  <a:pt x="178594" y="327860"/>
                  <a:pt x="178594" y="401836"/>
                </a:cubicBezTo>
                <a:lnTo>
                  <a:pt x="178594" y="857250"/>
                </a:lnTo>
                <a:lnTo>
                  <a:pt x="0" y="85725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углом 23"/>
          <p:cNvSpPr/>
          <p:nvPr/>
        </p:nvSpPr>
        <p:spPr>
          <a:xfrm rot="10800000">
            <a:off x="3357720" y="4428720"/>
            <a:ext cx="642960" cy="857160"/>
          </a:xfrm>
          <a:custGeom>
            <a:avLst/>
            <a:gdLst/>
            <a:ahLst/>
            <a:rect l="l" t="t" r="r" b="b"/>
            <a:pathLst>
              <a:path w="642937" h="857250">
                <a:moveTo>
                  <a:pt x="0" y="857250"/>
                </a:moveTo>
                <a:lnTo>
                  <a:pt x="0" y="361652"/>
                </a:lnTo>
                <a:cubicBezTo>
                  <a:pt x="0" y="206303"/>
                  <a:pt x="125936" y="80367"/>
                  <a:pt x="281285" y="80367"/>
                </a:cubicBezTo>
                <a:lnTo>
                  <a:pt x="482203" y="80367"/>
                </a:lnTo>
                <a:lnTo>
                  <a:pt x="482203" y="0"/>
                </a:lnTo>
                <a:lnTo>
                  <a:pt x="642937" y="160734"/>
                </a:lnTo>
                <a:lnTo>
                  <a:pt x="482203" y="321469"/>
                </a:lnTo>
                <a:lnTo>
                  <a:pt x="482203" y="241101"/>
                </a:lnTo>
                <a:lnTo>
                  <a:pt x="281285" y="241101"/>
                </a:lnTo>
                <a:cubicBezTo>
                  <a:pt x="214707" y="241101"/>
                  <a:pt x="160734" y="295074"/>
                  <a:pt x="160734" y="361652"/>
                </a:cubicBezTo>
                <a:lnTo>
                  <a:pt x="160734" y="857250"/>
                </a:lnTo>
                <a:lnTo>
                  <a:pt x="0" y="85725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углом 24"/>
          <p:cNvSpPr/>
          <p:nvPr/>
        </p:nvSpPr>
        <p:spPr>
          <a:xfrm rot="10800000">
            <a:off x="3285720" y="5214600"/>
            <a:ext cx="714600" cy="857160"/>
          </a:xfrm>
          <a:custGeom>
            <a:avLst/>
            <a:gdLst/>
            <a:ahLst/>
            <a:rect l="l" t="t" r="r" b="b"/>
            <a:pathLst>
              <a:path w="714375" h="857250">
                <a:moveTo>
                  <a:pt x="0" y="857250"/>
                </a:moveTo>
                <a:lnTo>
                  <a:pt x="0" y="401836"/>
                </a:lnTo>
                <a:cubicBezTo>
                  <a:pt x="0" y="229225"/>
                  <a:pt x="139928" y="89297"/>
                  <a:pt x="312539" y="89297"/>
                </a:cubicBezTo>
                <a:lnTo>
                  <a:pt x="535781" y="89297"/>
                </a:lnTo>
                <a:lnTo>
                  <a:pt x="535781" y="0"/>
                </a:lnTo>
                <a:lnTo>
                  <a:pt x="714375" y="178594"/>
                </a:lnTo>
                <a:lnTo>
                  <a:pt x="535781" y="357188"/>
                </a:lnTo>
                <a:lnTo>
                  <a:pt x="535781" y="267891"/>
                </a:lnTo>
                <a:lnTo>
                  <a:pt x="312539" y="267891"/>
                </a:lnTo>
                <a:cubicBezTo>
                  <a:pt x="238563" y="267891"/>
                  <a:pt x="178594" y="327860"/>
                  <a:pt x="178594" y="401836"/>
                </a:cubicBezTo>
                <a:lnTo>
                  <a:pt x="178594" y="857250"/>
                </a:lnTo>
                <a:lnTo>
                  <a:pt x="0" y="85725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углом 25"/>
          <p:cNvSpPr/>
          <p:nvPr/>
        </p:nvSpPr>
        <p:spPr>
          <a:xfrm rot="10800000">
            <a:off x="8143920" y="4214520"/>
            <a:ext cx="714240" cy="857160"/>
          </a:xfrm>
          <a:custGeom>
            <a:avLst/>
            <a:gdLst/>
            <a:ahLst/>
            <a:rect l="l" t="t" r="r" b="b"/>
            <a:pathLst>
              <a:path w="714375" h="857250">
                <a:moveTo>
                  <a:pt x="0" y="857250"/>
                </a:moveTo>
                <a:lnTo>
                  <a:pt x="0" y="401836"/>
                </a:lnTo>
                <a:cubicBezTo>
                  <a:pt x="0" y="229225"/>
                  <a:pt x="139928" y="89297"/>
                  <a:pt x="312539" y="89297"/>
                </a:cubicBezTo>
                <a:lnTo>
                  <a:pt x="535781" y="89297"/>
                </a:lnTo>
                <a:lnTo>
                  <a:pt x="535781" y="0"/>
                </a:lnTo>
                <a:lnTo>
                  <a:pt x="714375" y="178594"/>
                </a:lnTo>
                <a:lnTo>
                  <a:pt x="535781" y="357188"/>
                </a:lnTo>
                <a:lnTo>
                  <a:pt x="535781" y="267891"/>
                </a:lnTo>
                <a:lnTo>
                  <a:pt x="312539" y="267891"/>
                </a:lnTo>
                <a:cubicBezTo>
                  <a:pt x="238563" y="267891"/>
                  <a:pt x="178594" y="327860"/>
                  <a:pt x="178594" y="401836"/>
                </a:cubicBezTo>
                <a:lnTo>
                  <a:pt x="178594" y="857250"/>
                </a:lnTo>
                <a:lnTo>
                  <a:pt x="0" y="85725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 углом 26"/>
          <p:cNvSpPr/>
          <p:nvPr/>
        </p:nvSpPr>
        <p:spPr>
          <a:xfrm rot="10800000">
            <a:off x="8143920" y="5000400"/>
            <a:ext cx="714240" cy="857160"/>
          </a:xfrm>
          <a:custGeom>
            <a:avLst/>
            <a:gdLst/>
            <a:ahLst/>
            <a:rect l="l" t="t" r="r" b="b"/>
            <a:pathLst>
              <a:path w="714375" h="857250">
                <a:moveTo>
                  <a:pt x="0" y="857250"/>
                </a:moveTo>
                <a:lnTo>
                  <a:pt x="0" y="401836"/>
                </a:lnTo>
                <a:cubicBezTo>
                  <a:pt x="0" y="229225"/>
                  <a:pt x="139928" y="89297"/>
                  <a:pt x="312539" y="89297"/>
                </a:cubicBezTo>
                <a:lnTo>
                  <a:pt x="535781" y="89297"/>
                </a:lnTo>
                <a:lnTo>
                  <a:pt x="535781" y="0"/>
                </a:lnTo>
                <a:lnTo>
                  <a:pt x="714375" y="178594"/>
                </a:lnTo>
                <a:lnTo>
                  <a:pt x="535781" y="357188"/>
                </a:lnTo>
                <a:lnTo>
                  <a:pt x="535781" y="267891"/>
                </a:lnTo>
                <a:lnTo>
                  <a:pt x="312539" y="267891"/>
                </a:lnTo>
                <a:cubicBezTo>
                  <a:pt x="238563" y="267891"/>
                  <a:pt x="178594" y="327860"/>
                  <a:pt x="178594" y="401836"/>
                </a:cubicBezTo>
                <a:lnTo>
                  <a:pt x="178594" y="857250"/>
                </a:lnTo>
                <a:lnTo>
                  <a:pt x="0" y="85725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изация обучения детей с ОВЗ в соответствии с требованием Станд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ровень развития ребенка близок к возрастной н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00040" y="2500200"/>
          <a:ext cx="8215200" cy="3727440"/>
        </p:xfrm>
        <a:graphic>
          <a:graphicData uri="http://schemas.openxmlformats.org/drawingml/2006/table">
            <a:tbl>
              <a:tblPr/>
              <a:tblGrid>
                <a:gridCol w="2428920"/>
                <a:gridCol w="5786280"/>
              </a:tblGrid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реда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ормально развивающиеся сверстни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88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нечный результат усвоения содержания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поставим (на момент окончания школы) с результатом образования нормально развивающихся сверстни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6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роки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падают со сроками обучения нормально развивающихся дет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6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ид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П и программа коррекционной работы и/или индивидуальный пла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ттес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тестат. Имеет право на прохождение текущей, промежуточной и государственной итоговой аттестации в иных форм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72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я к структуре ООП устанавливает действующий ФГО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4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я к Программе коррекционной работы – ФГОС для детей с ОВ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а начало обучения ребенка очевидны задержки разви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85840" y="2428920"/>
          <a:ext cx="8572320" cy="3611520"/>
        </p:xfrm>
        <a:graphic>
          <a:graphicData uri="http://schemas.openxmlformats.org/drawingml/2006/table">
            <a:tbl>
              <a:tblPr/>
              <a:tblGrid>
                <a:gridCol w="2706480"/>
                <a:gridCol w="5865840"/>
              </a:tblGrid>
              <a:tr h="526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реда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верстники со сходными проблемами развития в условиях специальной или общеобразовательной школ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6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нечный результат усвоения содержания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поставим с результатом образования нормально развивающихся сверстни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6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роки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лонгирован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26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ид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аптированные образовательные программ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ттес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вершению освоения Программы определенного уровня, обучающиеся с ОВЗ получают документы, предусмотренные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онодательством по итогам промежуточной и/или итоговой аттест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59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ОС для детей с ОВЗ задает единую структуру АООП, образовательные области и компоненты жизненной и академической компетен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ыраженные нарушения разви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28760" y="2428920"/>
          <a:ext cx="8429400" cy="3665520"/>
        </p:xfrm>
        <a:graphic>
          <a:graphicData uri="http://schemas.openxmlformats.org/drawingml/2006/table">
            <a:tbl>
              <a:tblPr/>
              <a:tblGrid>
                <a:gridCol w="2735280"/>
                <a:gridCol w="5694120"/>
              </a:tblGrid>
              <a:tr h="58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реда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овместно с другими обучающимися и в отдельных классах, образовательных организация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нечный результат усвоения содержания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 по конечному результату несопоставимо с образованием нормально развивающихся сверстни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роки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лонгирован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6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ид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аптированные образовательные программ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ттес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мся с ОВЗ выдается свидетельство об обучении.  Имеет право на прохождение текущей, промежуточной и государственной итоговой аттестации в иных форм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57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ОС для детей с ОВЗ задает единую структуру АООП, образовательные области и компоненты жизненной и академической компетен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значительные, комплексные нарушения разви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85840" y="2428920"/>
          <a:ext cx="8501040" cy="3665520"/>
        </p:xfrm>
        <a:graphic>
          <a:graphicData uri="http://schemas.openxmlformats.org/drawingml/2006/table">
            <a:tbl>
              <a:tblPr/>
              <a:tblGrid>
                <a:gridCol w="2908080"/>
                <a:gridCol w="5592960"/>
              </a:tblGrid>
              <a:tr h="58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реда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овместно с другими обучающимися и в отдельных классах, образовательных организациях, в условиях семейного воспит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нечный результат усвоения содержания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образования ориентирован на индивидуальные возможности обучающего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роки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лонгирован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6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ид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специальные образовательные программ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ттес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ается свидетельство об обучении по образцу и в порядке, которые устанавливаются федеральным органом исполнительной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57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ОС для детей с ОВЗ задает структуру АООП на основе индивидуального плана, образовательные области и компоненты жизненной и академической компетенции. Программа может быть только индивидуальн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рианты Стандарта для категорий детей с ОВ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28760" y="2214720"/>
          <a:ext cx="8501040" cy="3952800"/>
        </p:xfrm>
        <a:graphic>
          <a:graphicData uri="http://schemas.openxmlformats.org/drawingml/2006/table">
            <a:tbl>
              <a:tblPr/>
              <a:tblGrid>
                <a:gridCol w="4500360"/>
                <a:gridCol w="4000680"/>
              </a:tblGrid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атегория детей с ОВ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арианты программ ФГОС НОО ОВЗ и ФГОС О У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лух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, 1.2, 1.3, 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лабослышащ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, 2.2, 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леп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, 3.2, 3.3, 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лабовидящ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, 4.2, 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 тяжёлыми нарушениями ре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, 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 нарушениями 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, 6.2, 6.3, 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 задержкой психического разви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, 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 расстройствами аутистического спек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1, 8.2, 8.3, 8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 умственной отсталостью (интеллектуальными нарушениям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. №1599, вариант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. №1599, вариант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школа36</cp:lastModifiedBy>
  <dcterms:modified xsi:type="dcterms:W3CDTF">2022-05-05T11:17:44Z</dcterms:modified>
  <cp:revision>751</cp:revision>
  <dc:subject/>
  <dc:title>Diapositiva 1</dc:title>
</cp:coreProperties>
</file>