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395-86D1-41CA-BE8E-46C6BA95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986-4F29-4D8F-BC98-96B51584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408-7891-43D0-AC4F-E13D6B45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DE2-AA47-45BA-B4A3-F61A123F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163-CB6D-4630-B306-28D9F4AB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0EB-AF5D-4F91-ACCB-BC2A0D1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29E-BA21-4922-9678-FC179E93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94E-8989-48A3-B675-E50245C4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148-CD84-4266-A833-4C49D5AE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030-4442-47C2-8E34-1DF3FC78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081-C1A5-4AFB-A8F2-091B9514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254-0368-4FAF-98C0-9AF46048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29A8-C5C4-45C5-B889-A7AE9BA02C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520" y="1571400"/>
            <a:ext cx="678348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b050"/>
                </a:solidFill>
                <a:latin typeface="Palatino Linotype"/>
              </a:rPr>
              <a:t>Методика организации образовательного процесса для учащихся  с ОВЗ в начальной школе в условиях реализации ФГОС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b050"/>
                </a:solidFill>
                <a:latin typeface="Palatino Linotype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одготовила:Учитель начальных классо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школы №49 г. Улан-Удэ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шенникова Н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076720" y="1557360"/>
            <a:ext cx="3672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ологии психолого-педагогического сопров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детей группы риска по различным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ам дезадапта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разовательной и/или поведенческо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особенностей 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ровня развит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, с выявлением причин и механизмов его проблем, для создания адекватной абилитации и сопровождения ребенка и его семьи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междисциплинарных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илиум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истов, что способствует выстраиванию приоритетов и определению стратегии медицинского и психолого-педагогического сопровождения как в конкретные моменты, так и на длительные периоды, а также оценке эффективности той или иной стратегии сопровожд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адекватной возможностям ребенка последовательности и глубины подачи программного материала в контексте адаптаци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тельной програм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личных категорий детей с ОВЗ по каждой отдельной компетенции или 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внутригрупповых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заимоотноше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решения задач сопровождения всех субъектов инклюзивного образовательного пространства, формирования  эмоционального принятия и группового спло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ррекционно-развивающая раб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включаемыми детьми и с другими субъектами инклюзивного образовательного простран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окоррекционная раб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различными участниками образовательного процесса (педагогами, специалистами, родителями, старшеклассниками, администрацией), в том числе и крайне специфической психологической работы с родительскими и учительскими ожид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684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направления программы адаптации (интегр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85840" y="2143080"/>
          <a:ext cx="8643960" cy="4145040"/>
        </p:xfrm>
        <a:graphic>
          <a:graphicData uri="http://schemas.openxmlformats.org/drawingml/2006/table">
            <a:tbl>
              <a:tblPr/>
              <a:tblGrid>
                <a:gridCol w="1650960"/>
                <a:gridCol w="6993000"/>
              </a:tblGrid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программы адаптации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нтеграц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3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алгоритма учебной деятель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 подбор способов предъявления, выполнения учебного материала и оценк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я письменной реч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авыков общения с взрослыми, сверстниками в социально-значимых ситуаци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ворческих и других способносте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русскому языку и основам русской культуры (для иностран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енсор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 подбор способов предъявления, выполнения учебного материала и оцен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учебной деятельности с опорой на ведущий вид восприятия. Формирование алгоритма учеб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3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вига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алгоритма учебн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учебных навыков с использованием специальных приспособлени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учебных навыков с опорой на ведущий вид восприяти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463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 подбор способов предъявления, выполнения учебного материала и оценки учебных зада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8480" y="2743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 урока при внутренней дифферен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14200" y="1600200"/>
          <a:ext cx="8786880" cy="5008680"/>
        </p:xfrm>
        <a:graphic>
          <a:graphicData uri="http://schemas.openxmlformats.org/drawingml/2006/table">
            <a:tbl>
              <a:tblPr/>
              <a:tblGrid>
                <a:gridCol w="1648080"/>
                <a:gridCol w="2211120"/>
                <a:gridCol w="2463840"/>
                <a:gridCol w="24638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оды и приё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работы по О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работы по АОО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Орг.мо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для всех детей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роверка дом.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, прак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онтальный опрос, проверка, взаимо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.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овторение изучен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, прак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, письменное и устное выполнение упраж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 карточ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Подготовка к восприятию нов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, нагляд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по вопросам, соотв. уровню развити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Изучение нов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, практические, нагляд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ение нового матери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опорой на наглядность и работой над алгоритм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Закрепление изучен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, прак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упражнений. прове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усвоением нового материала (по алгоритм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Итог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для всех детей 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Инструктаж по выполнению дом.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ес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дом.задания для детей с нормой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дом.задания для детей с ОВ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9720" y="2714400"/>
            <a:ext cx="735804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Palatino Linotype"/>
              </a:rPr>
              <a:t>Психолого-педагогические особенности развития и трудности обучения младших школьников с ЗП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2"/>
          <p:cNvSpPr/>
          <p:nvPr/>
        </p:nvSpPr>
        <p:spPr>
          <a:xfrm>
            <a:off x="5076720" y="1557360"/>
            <a:ext cx="3672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и ЗП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лассификация К.С. Лебединской (1986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конституционального гене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соматогенного гене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гене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ные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детей с ЗП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й а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релость к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способ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ые фрагментарн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дставления об окружающем ми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омер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явлений недостаточности разви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интеллектуальных возможностей ребенка его возрас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ая сформированнос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ственных опера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дленный тем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ботки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вание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760" y="17859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й уровен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восприятия (недостаточная полнота и точность, ограниченность, фрагментар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ён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узнавания предме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ъявляемых в непривычном ракур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длен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атривания предъявляемых объект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рия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яются в построен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а и выделении объекта на фоне други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грубо нарушены более сложные формы восприятия, требующие участия нескольких анализаторов и имеющих сложный характе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я восприят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младших школьников с З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т к затруднениям в овладении навыками чтения и письма (часто смешивают сходные по начертанию буквы и их элементы, близкие по акустическому признаку буквы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тельно влияет на восприятие ухудшение внешних условий восприятия: недостаточная освещённость, частая смена объектов восприятия, необходимость выявления нескольких сенсорных сигналов одн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ая сформированность и повышенн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щаем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льного вним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арность основных свойств внимания: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и, распределения, объём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лекаемос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ерт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.различ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ы детей максимальное сосредоточение внимания наблюдается в начале урока, учебного д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ы – сосредоточение внимания наступает не сразу, требуется постепенная врабатываемость, осуществление какой-либо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ть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ппы – наблюдается периодичность сосредоточения внимания на протяжении всего урока; периоды устойчивой произвольности внимания чередуются с рассеянностью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такой ребёнок с ОВЗ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чающийся с ограниченными возможностями здоров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ое лицо, имеющее недостатки в физическом и (или) психологическом развитии, подтвержденные психолого-медико-педагогической комиссией и препятствующие получению образования без создани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ециаль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я произвольного вним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детей с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ятствуют реализации мысли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активизируют сосредоточенность и избирательность 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рудняют реализацию процессов восприятия и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длительный период приёма и переработки сенсорн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ё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тковременной и долговременной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развит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льного и непроизвольного запоми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ольной памяти, неточность и трудность воспроизведения, обусловленная снижением познавательной актив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 сформированы умения использования рациональных, опосредованных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ов запомин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й материал запоминают лучше, чем вербаль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я памя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детей с ЗПР являются одной из основных причин неуспеваемости учащих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е усвоение содержания текстов, таблиц, сх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удержания в уме цели и условия задач, упражнений, других учебных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омер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тия всех форм мышления у каждого конкретного ребёнк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ставить перед собой конкретну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стоятельном решении мыслительных зада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выраженног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очного эта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решении мыслительных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апного планир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мственных действ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нимание важности поиск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ых способ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интеллектуальных задач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уровня сформированности всех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тельных опера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нализа, синтеза, сравнения, классификации, обобщения, перено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еотипность мышления, его шаблон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рушения мыш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детей с ЗПР вызывают затруднения в обу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лохо владеют общепринятыми терминами и понят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 сформировано умение выделять части предметов и устанавливать между ними отно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испытывают очень большие трудности при выстраивании самых простых умозаключений, не умеют рассуждать, делать выводы; стараются избегать таких ситуац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логического мышления дают случайные, необдуманные ответы, проявляют неспособность к анализу условий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снижены продуктивность и динамичность умственной деятельности, отсутствует контроль за результатами сво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онально-волевой сф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формированность произвольной регуляц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или слабость учебно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обладание игровых интересов над учебны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мляем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ая при нарастании проявляется в медлительности или импульс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тивированные расстройств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ро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лезливость, капризность, сонливость, болтливость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а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стойчив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спыльчивость, конфликт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специалис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лизует коррекционное направление в ходе индивидуального подхода к детям на уроке (при объяснении, закреплении учебного материала, а также при оценке знаний учащихс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ол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 диагностику с целью выявления нарушений психического развития ребёнка и определения его индивидуальных потребностей; проводит индивидуальные коррекционные занятия с детьми и консультирует учи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фектол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 индивидуальные и групповые занятия (на практике это делает учител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ие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екомендации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учите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олжно быть осмыслен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должны сталкиваться типы объяснения «от простого к сложному» и «от общего к частному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обучение должно быть не «мультимедийным», а «мультимодальным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ффективном обучении должна использоваться не «интерактивность», а совместная продуктивная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ть задания в соответствии с темпом деятельности и возможностями уче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ть индивидуальные особенности вхождения ребёнка в деятельность (период врабатыва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ть тактику руководства деятельностью ребёнка в связи с динамическими изменениями (при утомлении, пресыщен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дъявлять для выполнения ребёнку сразу более одного задания; если ученику предстоит выполнить сложное задание, следует предлагать его в виде последовательных частей и периодически контролировать ход работы над каждой частью, внося необходимые корректив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групповые методы работы на уроке, при которых каждый ученик делает посильную для него часть задания, выполнение которой ведёт к достижению общего результ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ть паузы активного отдыха с лёгкими физическими упражнениями или расслабл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5480" y="1500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в процессе обучения игровые приёмы, элементы соревнования, дидактические игр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ситуации успеха, в которых ученик имел бы возможность проявить свои сильные сторо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и поощрять любые проявления инициативы и самостоятельности ребё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ть предъявления завышенных и заниженных требований к учен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сти знаковую систему оценивания, поощрять хорошее поведение и успехи в учёбе, хвалить ребёнка, если он успешно справился даже с небольшим зада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ся минимальным количеством отвлекающих предметов в классе (картин, стендов и т.п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можности придерживаться постоянного расписания занятий, т.к. дети с ЗПР отличаются забывчив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 с психологом помогать ребёнку адаптироваться в условиях школы и классном коллекти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о-правовая база введения ФГОС НОО с ОВ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785880" y="1928880"/>
            <a:ext cx="3571920" cy="185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Федеральный государственный образовательный стандарт образования обучающихся с ограниченными возможностями здоров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5000760" y="1928880"/>
            <a:ext cx="3643200" cy="185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Федеральный государственный образовательный стандарт образования обучающихся с умственной отсталостью (интеллектуальной недостаточность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1214280" y="4429080"/>
            <a:ext cx="2714760" cy="150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и науки РФ № 1598 от 19.12.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5500800" y="4429080"/>
            <a:ext cx="2714400" cy="1500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каз Министерства образования и науки РФ № 1599 от 19.12.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9"/>
          <p:cNvSpPr/>
          <p:nvPr/>
        </p:nvSpPr>
        <p:spPr>
          <a:xfrm>
            <a:off x="2357280" y="3786120"/>
            <a:ext cx="42876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низ 11"/>
          <p:cNvSpPr/>
          <p:nvPr/>
        </p:nvSpPr>
        <p:spPr>
          <a:xfrm>
            <a:off x="6643800" y="3786120"/>
            <a:ext cx="4284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ие при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этапное разъяснение зад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е выполнение зад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учащимся инструкции к выполнению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ость к учащимся во время объяснения з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ремена видов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учащихся к перемене вида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ование занятий и физкультурных пау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дополнительного времени для завершения зад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дополнительного времени для сдачи домашнего з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пользование листов с упражнениями, которые требуют минимального запол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упражнений с пропущенными словами/предложен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ение печатных материалов видеоматериа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учащихся печатными копиями заданий, написанных на дос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ое оценивание ответов учащихся с ОВ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дивидуальной шкалы оценок в соответствии с успехами и затраченными усил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ая оценка с целью выведения четвертной отме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е переделать задание, с которым он не справил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переделанных раб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истемы оценок достижений учащих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78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организационные модели реализации ФГОС обучающихся с ОВ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577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714240" y="1857240"/>
            <a:ext cx="2643480" cy="7146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образовательных организ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4286160" y="2214720"/>
            <a:ext cx="2143080" cy="150012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учение в стационарах мед.организаций и соц.защ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6643800" y="3214800"/>
            <a:ext cx="2286000" cy="100008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не образовательных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ятиугольник 9"/>
          <p:cNvSpPr/>
          <p:nvPr/>
        </p:nvSpPr>
        <p:spPr>
          <a:xfrm>
            <a:off x="428760" y="3143160"/>
            <a:ext cx="2857320" cy="71460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альные коррекционные образователь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ятиугольник 10"/>
          <p:cNvSpPr/>
          <p:nvPr/>
        </p:nvSpPr>
        <p:spPr>
          <a:xfrm>
            <a:off x="428760" y="4000680"/>
            <a:ext cx="2857320" cy="64260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70" y="0"/>
                </a:lnTo>
                <a:lnTo>
                  <a:pt x="21600" y="10800"/>
                </a:lnTo>
                <a:lnTo>
                  <a:pt x="1917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ециальные коррекционные классы (группы) в образовательных организац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ятиугольник 11"/>
          <p:cNvSpPr/>
          <p:nvPr/>
        </p:nvSpPr>
        <p:spPr>
          <a:xfrm>
            <a:off x="428760" y="4786200"/>
            <a:ext cx="2928960" cy="64296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29" y="0"/>
                </a:lnTo>
                <a:lnTo>
                  <a:pt x="21600" y="10800"/>
                </a:lnTo>
                <a:lnTo>
                  <a:pt x="192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местное обучение с другими обучающимися в образовательной орган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ятиугольник 12"/>
          <p:cNvSpPr/>
          <p:nvPr/>
        </p:nvSpPr>
        <p:spPr>
          <a:xfrm>
            <a:off x="428760" y="5572080"/>
            <a:ext cx="2857320" cy="71460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ные подразделения образовательных организаций в медучрежд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карточка 15"/>
          <p:cNvSpPr/>
          <p:nvPr/>
        </p:nvSpPr>
        <p:spPr>
          <a:xfrm>
            <a:off x="2286000" y="2643120"/>
            <a:ext cx="1714680" cy="357120"/>
          </a:xfrm>
          <a:prstGeom prst="flowChartPunchedCard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в кла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карточка 16"/>
          <p:cNvSpPr/>
          <p:nvPr/>
        </p:nvSpPr>
        <p:spPr>
          <a:xfrm>
            <a:off x="142920" y="2643120"/>
            <a:ext cx="1714320" cy="357120"/>
          </a:xfrm>
          <a:prstGeom prst="flowChartPunchedCard">
            <a:avLst/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на д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карточка 17"/>
          <p:cNvSpPr/>
          <p:nvPr/>
        </p:nvSpPr>
        <p:spPr>
          <a:xfrm>
            <a:off x="6286680" y="5500800"/>
            <a:ext cx="1857240" cy="500040"/>
          </a:xfrm>
          <a:prstGeom prst="flowChartPunchedCar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образ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карточка 18"/>
          <p:cNvSpPr/>
          <p:nvPr/>
        </p:nvSpPr>
        <p:spPr>
          <a:xfrm>
            <a:off x="6286680" y="4643280"/>
            <a:ext cx="1857240" cy="571680"/>
          </a:xfrm>
          <a:prstGeom prst="flowChartPunchedCard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ейное 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углом 21"/>
          <p:cNvSpPr/>
          <p:nvPr/>
        </p:nvSpPr>
        <p:spPr>
          <a:xfrm rot="10800000">
            <a:off x="3285720" y="2999880"/>
            <a:ext cx="714600" cy="714600"/>
          </a:xfrm>
          <a:custGeom>
            <a:avLst/>
            <a:gdLst/>
            <a:ahLst/>
            <a:rect l="l" t="t" r="r" b="b"/>
            <a:pathLst>
              <a:path w="714375" h="714375">
                <a:moveTo>
                  <a:pt x="0" y="714375"/>
                </a:moveTo>
                <a:lnTo>
                  <a:pt x="0" y="401836"/>
                </a:lnTo>
                <a:cubicBezTo>
                  <a:pt x="0" y="229225"/>
                  <a:pt x="139928" y="89297"/>
                  <a:pt x="312539" y="89297"/>
                </a:cubicBezTo>
                <a:lnTo>
                  <a:pt x="535781" y="89297"/>
                </a:lnTo>
                <a:lnTo>
                  <a:pt x="535781" y="0"/>
                </a:lnTo>
                <a:lnTo>
                  <a:pt x="714375" y="178594"/>
                </a:lnTo>
                <a:lnTo>
                  <a:pt x="535781" y="357188"/>
                </a:lnTo>
                <a:lnTo>
                  <a:pt x="535781" y="267891"/>
                </a:lnTo>
                <a:lnTo>
                  <a:pt x="312539" y="267891"/>
                </a:lnTo>
                <a:cubicBezTo>
                  <a:pt x="238563" y="267891"/>
                  <a:pt x="178594" y="327860"/>
                  <a:pt x="178594" y="401836"/>
                </a:cubicBezTo>
                <a:lnTo>
                  <a:pt x="178594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углом 22"/>
          <p:cNvSpPr/>
          <p:nvPr/>
        </p:nvSpPr>
        <p:spPr>
          <a:xfrm rot="10800000">
            <a:off x="3285720" y="3643200"/>
            <a:ext cx="714600" cy="857520"/>
          </a:xfrm>
          <a:custGeom>
            <a:avLst/>
            <a:gdLst/>
            <a:ahLst/>
            <a:rect l="l" t="t" r="r" b="b"/>
            <a:pathLst>
              <a:path w="714375" h="857250">
                <a:moveTo>
                  <a:pt x="0" y="857250"/>
                </a:moveTo>
                <a:lnTo>
                  <a:pt x="0" y="401836"/>
                </a:lnTo>
                <a:cubicBezTo>
                  <a:pt x="0" y="229225"/>
                  <a:pt x="139928" y="89297"/>
                  <a:pt x="312539" y="89297"/>
                </a:cubicBezTo>
                <a:lnTo>
                  <a:pt x="535781" y="89297"/>
                </a:lnTo>
                <a:lnTo>
                  <a:pt x="535781" y="0"/>
                </a:lnTo>
                <a:lnTo>
                  <a:pt x="714375" y="178594"/>
                </a:lnTo>
                <a:lnTo>
                  <a:pt x="535781" y="357188"/>
                </a:lnTo>
                <a:lnTo>
                  <a:pt x="535781" y="267891"/>
                </a:lnTo>
                <a:lnTo>
                  <a:pt x="312539" y="267891"/>
                </a:lnTo>
                <a:cubicBezTo>
                  <a:pt x="238563" y="267891"/>
                  <a:pt x="178594" y="327860"/>
                  <a:pt x="178594" y="401836"/>
                </a:cubicBezTo>
                <a:lnTo>
                  <a:pt x="178594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углом 23"/>
          <p:cNvSpPr/>
          <p:nvPr/>
        </p:nvSpPr>
        <p:spPr>
          <a:xfrm rot="10800000">
            <a:off x="3357720" y="4428720"/>
            <a:ext cx="642960" cy="857160"/>
          </a:xfrm>
          <a:custGeom>
            <a:avLst/>
            <a:gdLst/>
            <a:ahLst/>
            <a:rect l="l" t="t" r="r" b="b"/>
            <a:pathLst>
              <a:path w="642937" h="857250">
                <a:moveTo>
                  <a:pt x="0" y="857250"/>
                </a:moveTo>
                <a:lnTo>
                  <a:pt x="0" y="361652"/>
                </a:lnTo>
                <a:cubicBezTo>
                  <a:pt x="0" y="206303"/>
                  <a:pt x="125936" y="80367"/>
                  <a:pt x="281285" y="80367"/>
                </a:cubicBezTo>
                <a:lnTo>
                  <a:pt x="482203" y="80367"/>
                </a:lnTo>
                <a:lnTo>
                  <a:pt x="482203" y="0"/>
                </a:lnTo>
                <a:lnTo>
                  <a:pt x="642937" y="160734"/>
                </a:lnTo>
                <a:lnTo>
                  <a:pt x="482203" y="321469"/>
                </a:lnTo>
                <a:lnTo>
                  <a:pt x="482203" y="241101"/>
                </a:lnTo>
                <a:lnTo>
                  <a:pt x="281285" y="241101"/>
                </a:lnTo>
                <a:cubicBezTo>
                  <a:pt x="214707" y="241101"/>
                  <a:pt x="160734" y="295074"/>
                  <a:pt x="160734" y="361652"/>
                </a:cubicBezTo>
                <a:lnTo>
                  <a:pt x="160734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углом 24"/>
          <p:cNvSpPr/>
          <p:nvPr/>
        </p:nvSpPr>
        <p:spPr>
          <a:xfrm rot="10800000">
            <a:off x="3285720" y="5214600"/>
            <a:ext cx="714600" cy="857160"/>
          </a:xfrm>
          <a:custGeom>
            <a:avLst/>
            <a:gdLst/>
            <a:ahLst/>
            <a:rect l="l" t="t" r="r" b="b"/>
            <a:pathLst>
              <a:path w="714375" h="857250">
                <a:moveTo>
                  <a:pt x="0" y="857250"/>
                </a:moveTo>
                <a:lnTo>
                  <a:pt x="0" y="401836"/>
                </a:lnTo>
                <a:cubicBezTo>
                  <a:pt x="0" y="229225"/>
                  <a:pt x="139928" y="89297"/>
                  <a:pt x="312539" y="89297"/>
                </a:cubicBezTo>
                <a:lnTo>
                  <a:pt x="535781" y="89297"/>
                </a:lnTo>
                <a:lnTo>
                  <a:pt x="535781" y="0"/>
                </a:lnTo>
                <a:lnTo>
                  <a:pt x="714375" y="178594"/>
                </a:lnTo>
                <a:lnTo>
                  <a:pt x="535781" y="357188"/>
                </a:lnTo>
                <a:lnTo>
                  <a:pt x="535781" y="267891"/>
                </a:lnTo>
                <a:lnTo>
                  <a:pt x="312539" y="267891"/>
                </a:lnTo>
                <a:cubicBezTo>
                  <a:pt x="238563" y="267891"/>
                  <a:pt x="178594" y="327860"/>
                  <a:pt x="178594" y="401836"/>
                </a:cubicBezTo>
                <a:lnTo>
                  <a:pt x="178594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углом 25"/>
          <p:cNvSpPr/>
          <p:nvPr/>
        </p:nvSpPr>
        <p:spPr>
          <a:xfrm rot="10800000">
            <a:off x="8143920" y="4214520"/>
            <a:ext cx="714240" cy="857160"/>
          </a:xfrm>
          <a:custGeom>
            <a:avLst/>
            <a:gdLst/>
            <a:ahLst/>
            <a:rect l="l" t="t" r="r" b="b"/>
            <a:pathLst>
              <a:path w="714375" h="857250">
                <a:moveTo>
                  <a:pt x="0" y="857250"/>
                </a:moveTo>
                <a:lnTo>
                  <a:pt x="0" y="401836"/>
                </a:lnTo>
                <a:cubicBezTo>
                  <a:pt x="0" y="229225"/>
                  <a:pt x="139928" y="89297"/>
                  <a:pt x="312539" y="89297"/>
                </a:cubicBezTo>
                <a:lnTo>
                  <a:pt x="535781" y="89297"/>
                </a:lnTo>
                <a:lnTo>
                  <a:pt x="535781" y="0"/>
                </a:lnTo>
                <a:lnTo>
                  <a:pt x="714375" y="178594"/>
                </a:lnTo>
                <a:lnTo>
                  <a:pt x="535781" y="357188"/>
                </a:lnTo>
                <a:lnTo>
                  <a:pt x="535781" y="267891"/>
                </a:lnTo>
                <a:lnTo>
                  <a:pt x="312539" y="267891"/>
                </a:lnTo>
                <a:cubicBezTo>
                  <a:pt x="238563" y="267891"/>
                  <a:pt x="178594" y="327860"/>
                  <a:pt x="178594" y="401836"/>
                </a:cubicBezTo>
                <a:lnTo>
                  <a:pt x="178594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углом 26"/>
          <p:cNvSpPr/>
          <p:nvPr/>
        </p:nvSpPr>
        <p:spPr>
          <a:xfrm rot="10800000">
            <a:off x="8143920" y="5000400"/>
            <a:ext cx="714240" cy="857160"/>
          </a:xfrm>
          <a:custGeom>
            <a:avLst/>
            <a:gdLst/>
            <a:ahLst/>
            <a:rect l="l" t="t" r="r" b="b"/>
            <a:pathLst>
              <a:path w="714375" h="857250">
                <a:moveTo>
                  <a:pt x="0" y="857250"/>
                </a:moveTo>
                <a:lnTo>
                  <a:pt x="0" y="401836"/>
                </a:lnTo>
                <a:cubicBezTo>
                  <a:pt x="0" y="229225"/>
                  <a:pt x="139928" y="89297"/>
                  <a:pt x="312539" y="89297"/>
                </a:cubicBezTo>
                <a:lnTo>
                  <a:pt x="535781" y="89297"/>
                </a:lnTo>
                <a:lnTo>
                  <a:pt x="535781" y="0"/>
                </a:lnTo>
                <a:lnTo>
                  <a:pt x="714375" y="178594"/>
                </a:lnTo>
                <a:lnTo>
                  <a:pt x="535781" y="357188"/>
                </a:lnTo>
                <a:lnTo>
                  <a:pt x="535781" y="267891"/>
                </a:lnTo>
                <a:lnTo>
                  <a:pt x="312539" y="267891"/>
                </a:lnTo>
                <a:cubicBezTo>
                  <a:pt x="238563" y="267891"/>
                  <a:pt x="178594" y="327860"/>
                  <a:pt x="178594" y="401836"/>
                </a:cubicBezTo>
                <a:lnTo>
                  <a:pt x="178594" y="857250"/>
                </a:lnTo>
                <a:lnTo>
                  <a:pt x="0" y="85725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обучения детей с ОВЗ в соответствии с требованием Станд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ровень развития ребенка близок к возрастной н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00040" y="2500200"/>
          <a:ext cx="8215200" cy="3727440"/>
        </p:xfrm>
        <a:graphic>
          <a:graphicData uri="http://schemas.openxmlformats.org/drawingml/2006/table">
            <a:tbl>
              <a:tblPr/>
              <a:tblGrid>
                <a:gridCol w="2428920"/>
                <a:gridCol w="5786280"/>
              </a:tblGrid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ормально развивающиеся сверстн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8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ечный результат усвоения содержания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оставим (на момент окончания школы) с результатом образования нормально развивающихся сверст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ок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падают со сроками обучения нормально развивающихся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ид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П и программа коррекционной работы и/или индивидуальный пла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естат. Имеет право на прохождение текущей, промежуточной и государственной итоговой аттестации в иных форм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7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структуре ООП устанавливает действующий ФГО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Программе коррекционной работы – ФГОС для детей с ОВ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 начало обучения ребенка очевидны задержки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5840" y="2428920"/>
          <a:ext cx="8572320" cy="3611520"/>
        </p:xfrm>
        <a:graphic>
          <a:graphicData uri="http://schemas.openxmlformats.org/drawingml/2006/table">
            <a:tbl>
              <a:tblPr/>
              <a:tblGrid>
                <a:gridCol w="2706480"/>
                <a:gridCol w="5865840"/>
              </a:tblGrid>
              <a:tr h="52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верстники со сходными проблемами развития в условиях специальной или общеобразовательной школ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ечный результат усвоения содержания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оставим с результатом образования нормально развивающихся сверст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6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ок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онгирова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ид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рованные образовательные программ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вершению освоения Программы определенного уровня, обучающиеся с ОВЗ получают документы, предусмотренные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дательством по итогам промежуточной и/или итоговой аттест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59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для детей с ОВЗ задает единую структуру АООП, образовательные области и компоненты жизненной и академической компетен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ыраженные нарушения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28760" y="2428920"/>
          <a:ext cx="8429400" cy="3665520"/>
        </p:xfrm>
        <a:graphic>
          <a:graphicData uri="http://schemas.openxmlformats.org/drawingml/2006/table">
            <a:tbl>
              <a:tblPr/>
              <a:tblGrid>
                <a:gridCol w="2735280"/>
                <a:gridCol w="5694120"/>
              </a:tblGrid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вместно с другими обучающимися и в отдельных классах, образовательных организац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ечный результат усвоения содержания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 по конечному результату несопоставимо с образованием нормально развивающихся сверст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ок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онгирова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ид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рованные образовательные программ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ттес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мся с ОВЗ выдается свидетельство об обучении.  Имеет право на прохождение текущей, промежуточной и государственной итоговой аттестации в иных форм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5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для детей с ОВЗ задает единую структуру АООП, образовательные области и компоненты жизненной и академической компетен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начительные, комплексные нарушения разви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85840" y="2428920"/>
          <a:ext cx="8501040" cy="3665520"/>
        </p:xfrm>
        <a:graphic>
          <a:graphicData uri="http://schemas.openxmlformats.org/drawingml/2006/table">
            <a:tbl>
              <a:tblPr/>
              <a:tblGrid>
                <a:gridCol w="2908080"/>
                <a:gridCol w="5592960"/>
              </a:tblGrid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еда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вместно с другими обучающимися и в отдельных классах, образовательных организациях, в условиях семейного восп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ечный результат усвоения содержания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образования ориентирован на индивидуальные возможности обучающего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ок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онгирова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ид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специальные образовательные программ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ттес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ется свидетельство об обучении по образцу и в порядке, которые устанавливаются федеральным органом исполнительной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85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для детей с ОВЗ задает структуру АООП на основе индивидуального плана, образовательные области и компоненты жизненной и академической компетенции. Программа может быть только индивидуальн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ы Стандарта для категорий детей с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28760" y="2214720"/>
          <a:ext cx="8501040" cy="3952800"/>
        </p:xfrm>
        <a:graphic>
          <a:graphicData uri="http://schemas.openxmlformats.org/drawingml/2006/table">
            <a:tbl>
              <a:tblPr/>
              <a:tblGrid>
                <a:gridCol w="4500360"/>
                <a:gridCol w="400068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атегория детей с ОВ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арианты программ ФГОС НОО ОВЗ и ФГОС О У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Глух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, 1.2, 1.3, 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лабослышащ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, 2.2, 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леп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, 3.2, 3.3, 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лабовидящ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, 4.2, 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 тяжёлыми нарушениями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, 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 нарушениями 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, 6.2, 6.3, 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 задержкой психическо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, 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 расстройствами аутистического спек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, 8.2, 8.3, 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 умственной отсталостью (интеллектуальными нарушения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№1599, вариант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№1599, вариант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школа36</cp:lastModifiedBy>
  <dcterms:modified xsi:type="dcterms:W3CDTF">2022-05-05T11:17:44Z</dcterms:modified>
  <cp:revision>751</cp:revision>
  <dc:subject/>
  <dc:title>Diapositiva 1</dc:title>
</cp:coreProperties>
</file>