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AB6D-4D1E-4138-962C-69ADE27B6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9073-586C-496C-9676-EB36A49F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74ED-6B64-484B-9D80-F727DA472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B307-3B71-4F89-B582-FB6FFEEAB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4C64-61EC-4B75-B005-BA01ED3A1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6C25-40C3-4C3B-8B98-49576E07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18B3-BFC9-48F8-A050-B64D27D0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9B97-15C8-411E-98C3-58F83D50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5282-6C33-4275-8EF8-4664F680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8167-B2D0-48D9-986C-B6EB4D1B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737F-F4E6-45A2-93A7-C9DF9B54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B761-98B3-4C35-9005-395E0D98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5449-62D5-428C-9B4C-F416D671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7E58-C4E8-4625-A00C-B031998C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8776-DF1C-48CD-840C-D7B679E6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98FC-2100-430E-A63B-68DCB4824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BB02-9AAF-4DAE-AF1C-BDEC11AF3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FD352-C49F-4DBE-AA31-EA782EA35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F7EAB-03F2-408B-80E3-5F70BD25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2675D-A8B6-4A71-A340-4839C170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22EF5-1E2C-4BA3-9B62-B2E2BAD0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EB76B-2C8B-449E-9821-9029AD26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799C-F8BD-478B-BCCB-F7129357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E666A-D3E5-479D-9934-9BB619B2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E0662-1BE5-45AD-B56A-69A4BDF9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CFB3E-235C-43A0-9AE3-CEB67988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89F4E-186A-498D-8CBF-1635B816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E18EC-82BA-41A9-BA5B-D12EFA3A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ED98D-0D08-4F79-A84B-CC4816E62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C31CB-D3E5-4212-BA6E-FA87AEF1F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27BAD-CB22-48CF-9875-EFE7E4F64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466BD-F56C-41B3-8376-CE14A29E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FB276-3172-4876-9DDF-1CA598BC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0F17-19A6-4403-A011-65A0C351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763FA-F941-49A0-B8DA-936E6E03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99125-050F-4176-B110-368B60EA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65C90-7CEA-4AB3-9681-4530D959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95AFA-CC9D-4EEF-999B-056FB144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2A029-68AC-426F-B445-20CF8081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62484-49AE-4C84-9BCD-DA91DFC7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361AA-8022-43C6-BBCB-E1584876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75F32-4DB5-430A-AFAE-2AD7B429A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6960C-49BE-484F-BE50-76CFDF117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142D-F223-4739-95D0-5625C421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5341-FD67-422D-9433-3ED69D28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ED91-C53E-46C3-866E-F9F35FE9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4AA6-64D6-408D-812B-11CB6F4B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5881-C5DC-4CC1-9B30-86D3E960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EA1C-78E4-4E8F-B8C3-1E6B8B9E445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18E2-2091-4396-BD4D-2C641BE84DD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AE8D-0CE0-49DE-A6FF-AFC7046C1E7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BEBB-0182-456A-AE64-4579AA09E0A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festival.1september.ru/articles/563288/" TargetMode="External"/><Relationship Id="rId2" Type="http://schemas.openxmlformats.org/officeDocument/2006/relationships/hyperlink" Target="http://planetadetstva.net/vospitatelam/pedsovet/teatralizovannye-igry-v-detskom-sadu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12600" y="1122480"/>
            <a:ext cx="9088560" cy="23637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2000160" y="4220640"/>
            <a:ext cx="6786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Презентацию выполнила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Воспитатель Воронина И.Г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г.Нефтегорск. д/с  №6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агнитная доска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Picture 4" descr="C:\Users\Home\Desktop\jck0apNmjh4.jpg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тендовый магнитный театр готов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Picture 4" descr="C:\Users\Home\Desktop\ifWMFty3nxU.jpg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писок литератур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нтипина Е.А. Театрализованная деятельность в детском саду.-М., 2003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енов Г.В. Театр для малышей. – М.: Просвещение, 1968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аханева М.Д. Театрализованные занятия в детском саду:пособие для работников дошкольного учреждения-М.: ТЦ Сфера, 2001 г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етрова Т.И. Театрализованные игры в детском саду6 «школьная пресса» -2000 г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festival.1september.ru/articles/563288/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planetadetstva.net/vospitatelam/pedsovet/teatralizovannye-igry-v-detskom-sadu.htm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ull dir="l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Театр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Театр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- один из самых доступных видов искусства для детей, помогающий решить многие актуальные проблемы педагогики и психологии, связанные с 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- художественным образованием и воспитанием дете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- формированием эстетического вкуса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- нравственным воспитанием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- развитием коммуникативных качеств личност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- воспитанием воли, развитием памяти, воображения, инициативности, фантазии, реч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- созданием положительного эмоционального настроя, снятием напряжённости, решением конфликтных ситуаций через игр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Прямоугольник 3"/>
          <p:cNvSpPr/>
          <p:nvPr/>
        </p:nvSpPr>
        <p:spPr>
          <a:xfrm>
            <a:off x="2286000" y="1028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Театрализованная деятельность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Театрализованная деятельность в детском саду -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зможность раскрытия творческого потенциала ребёнка, воспитания творческой направленности личности. Дети учатся замечать в окружающем мире интересные идеи, воплощать их, создавать свой художественный образ персонажа, у них развиваются творческое воображение, ассоциативное мышление, умение видеть необычное в обыденн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ull dir="l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агнитный театр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ендовый магнитный театр рекомендуется для театральных игр с детьми старшего дошкольного возраст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 показе театрального представления с использованием стендового театра представление разыгрывается на плоской вертикальной поверхности. Для магнитного театра следует использовать магнитную доск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показе представления рекомендуется участие одного – двух человек, чтобы кукловоды не мешали друг друг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ull dir="l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етодическое значение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Магнитный театр-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то развивающая развлекательная игра, побуждающая думать, мыслить и фантазировать. Развивает мелкую моторику, память, логику, воображение, пространственную ориентацию на плоскости, внимание к деталя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 помощью магнитного театра можно легко обыгрывать сложные воспитательные моменты, в доступной игровой форме объяснять и наглядно показывать выход из сложных житейских ситуаци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ull dir="l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Сказка в жизни дошкольников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43040"/>
            <a:ext cx="403848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ля ребенка сказка всегда была и остается не только первым и наиболее доступным средством познания мира, но и способом познания социальных отношений, поведения в ситуациях его повседневной жизни. Каждая сказка несет в себе глубокий смысл и наставления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5" descr="C:\Users\Home\Desktop\1021559163.jpg"/>
          <p:cNvPicPr/>
          <p:nvPr/>
        </p:nvPicPr>
        <p:blipFill>
          <a:blip r:embed="rId1"/>
          <a:stretch/>
        </p:blipFill>
        <p:spPr>
          <a:xfrm>
            <a:off x="4572000" y="1571760"/>
            <a:ext cx="4143240" cy="47149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6858000" y="1920600"/>
            <a:ext cx="1828800" cy="30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ull dir="l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Магнитный театр «Заюшкина избушка». Задачи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Обучающие задачи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1. Уточнить и обогатить знания детей о русских народных сказках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2. Учить узнавать сказку по заданию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3. Учить передавать структуру сказки с помощью моделирования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Развивающие задачи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1. Вспомнить порядок появления героев в сказках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2. Развивать умение действовать согласованно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3. Развивать речь, воображение, фантазию, мышление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Воспитывающие задачи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1. Воспитывать интерес к чтению, любовь к устному народному творчеству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ull dir="l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4617b"/>
                </a:solidFill>
                <a:latin typeface="Calibri"/>
              </a:rPr>
              <a:t>Для работы необходимы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6840" y="1920960"/>
            <a:ext cx="3614760" cy="23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- ножницы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- клей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- картон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onstantia"/>
              </a:rPr>
              <a:t>магнитные листы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(магниты)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7" descr="C:\Users\Home\Desktop\фото-121.jpg"/>
          <p:cNvPicPr/>
          <p:nvPr/>
        </p:nvPicPr>
        <p:blipFill>
          <a:blip r:embed="rId1"/>
          <a:stretch/>
        </p:blipFill>
        <p:spPr>
          <a:xfrm>
            <a:off x="3929040" y="1928880"/>
            <a:ext cx="4857840" cy="39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C:\Users\Home\Desktop\162228775_w640_h640_vinil_magnitny___bez_kleya.jpg"/>
          <p:cNvPicPr/>
          <p:nvPr/>
        </p:nvPicPr>
        <p:blipFill>
          <a:blip r:embed="rId2"/>
          <a:stretch/>
        </p:blipFill>
        <p:spPr>
          <a:xfrm>
            <a:off x="428760" y="4071960"/>
            <a:ext cx="3429000" cy="26067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зготовление фигурок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Picture 4" descr="C:\Users\Home\Desktop\pb115qi1Fws.jpg"/>
          <p:cNvPicPr/>
          <p:nvPr/>
        </p:nvPicPr>
        <p:blipFill>
          <a:blip r:embed="rId1"/>
          <a:stretch/>
        </p:blipFill>
        <p:spPr>
          <a:xfrm>
            <a:off x="3214800" y="1643040"/>
            <a:ext cx="5214960" cy="464364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3"/>
          <p:cNvSpPr/>
          <p:nvPr/>
        </p:nvSpPr>
        <p:spPr>
          <a:xfrm>
            <a:off x="285840" y="1641600"/>
            <a:ext cx="3000240" cy="52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йти и вырезать на картоне  изображения героев, элементы декор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. С обратной стороны каждой фигурки приклеить магн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2T19:14:28Z</dcterms:created>
  <dc:creator>ЛЕНУСИК</dc:creator>
  <dc:description/>
  <dc:language>en-US</dc:language>
  <cp:lastModifiedBy>Ирина</cp:lastModifiedBy>
  <dcterms:modified xsi:type="dcterms:W3CDTF">2021-08-14T14:07:58Z</dcterms:modified>
  <cp:revision>24</cp:revision>
  <dc:subject/>
  <dc:title>Магнитный театр</dc:title>
</cp:coreProperties>
</file>