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D7EA-B5D2-4E7D-81E1-3DC59DFAB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CECC-AD50-4167-BEFF-FBF2F85B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774E-01CB-484D-B23F-56467C821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9AA6-BFEA-49DE-AAF2-672B02761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A601-2914-44F8-B087-2C8A83D64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2746-02D7-42C9-884E-6AAC2DAD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96DA-9D71-4A05-88A5-457A2F57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07BC-DA15-4771-BFD4-C2CE4588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EFAB-6772-45FA-AE5F-BF43E364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AD9A-B437-4EE1-A7DC-FCCFD550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8CB5-A25A-4CA2-BCFD-93FF1E5B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CD9E-C1CB-4CCE-8B54-B590F5F4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4455-B512-495B-ACB4-8E64E863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58CB-E464-4423-B970-E0677C20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6D8B-F03C-4283-BB34-1159CC9D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2D0D-F02F-4B89-8245-C5C751DEA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6E0A-1633-406A-B9B8-9032930FE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E524A-7699-424E-9DDD-C82CB02A7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1F005-EEDA-43E3-BC25-6673758F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1FBE6-905A-4C36-9269-DF24EF5E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79FD4-7E43-4375-B57B-89D4AC01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3020C-4BCB-4238-A485-1B2CA1E0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8C69-9C0E-4C90-938B-9E08638B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BB74A-5F0F-4BEB-B9BB-7F535A42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F6D87-10D0-4136-AF7D-F7F13DF9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E3094-5F9B-4536-8A94-82573B9B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236CA-24A9-4B58-B3C7-666B3EB0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5C68F-7704-428E-8F48-283DE109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01878-25DD-4444-A5B8-F086C92C3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2919F-5258-4B1D-AAD9-03DC1EC42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EED6C-7149-490D-AE81-2F4A3A8F2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51C46-E1C3-4911-8BB0-0764C7346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5855E-7227-4CE8-BE2E-32FC6BBD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11C0-EF76-47F7-80C3-DEEDF584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78F0B-C030-4B69-AADE-B0D061CC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46350-1E8C-4065-8ABF-55A4389F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58423-8084-4362-85BF-F71BB44A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8A390-DB14-4A28-B4FC-466E94E0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7276D-60E8-4508-9BE9-B28206C3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7135B-864F-4E0E-9FCE-5352BE85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771DC-DC45-4E7A-AAB0-D023806A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51CB7-68EB-4A91-92B8-8FC40CFFA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0AE18-B702-4524-B147-490875A67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8FA2-2470-412E-A7D7-326E2F6A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78A4-B302-4816-B1B9-51703702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A033-572C-4DEF-B74F-DBBC03C4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F04A-D01E-4B26-8358-55AB7643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612D-52F6-4953-828C-A1227BD9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15C6-40CB-43EA-8775-D4791D6429B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7426-972B-444A-9116-497BBC2DC5C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AED9-B729-4D04-BA84-57A754F982F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E3F9-BB6D-452E-9C59-031D0728F17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festival.1september.ru/articles/563288/" TargetMode="External"/><Relationship Id="rId2" Type="http://schemas.openxmlformats.org/officeDocument/2006/relationships/hyperlink" Target="http://planetadetstva.net/vospitatelam/pedsovet/teatralizovannye-igry-v-detskom-sadu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12600" y="1122480"/>
            <a:ext cx="9088560" cy="23637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2000160" y="4220640"/>
            <a:ext cx="6786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Презентацию выполнила: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Воспитатель Воронина И.Г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г.Нефтегорск. д/с  №6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Магнитная доска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Picture 4" descr="C:\Users\Home\Desktop\jck0apNmjh4.jpg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тендовый магнитный театр готов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Picture 4" descr="C:\Users\Home\Desktop\ifWMFty3nxU.jpg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писок литератур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нтипина Е.А. Театрализованная деятельность в детском саду.-М., 2003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енов Г.В. Театр для малышей. – М.: Просвещение, 1968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аханева М.Д. Театрализованные занятия в детском саду:пособие для работников дошкольного учреждения-М.: ТЦ Сфера, 2001 г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етрова Т.И. Театрализованные игры в детском саду6 «школьная пресса» -2000 г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festival.1september.ru/articles/563288/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planetadetstva.net/vospitatelam/pedsovet/teatralizovannye-igry-v-detskom-sadu.htm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pull dir="l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Театр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Театр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- один из самых доступных видов искусства для детей, помогающий решить многие актуальные проблемы педагогики и психологии, связанные с 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- художественным образованием и воспитанием дете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- формированием эстетического вкуса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- нравственным воспитанием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- развитием коммуникативных качеств личност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- воспитанием воли, развитием памяти, воображения, инициативности, фантазии, реч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- созданием положительного эмоционального настроя, снятием напряжённости, решением конфликтных ситуаций через игр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Прямоугольник 3"/>
          <p:cNvSpPr/>
          <p:nvPr/>
        </p:nvSpPr>
        <p:spPr>
          <a:xfrm>
            <a:off x="2286000" y="1028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Театрализованная деятельность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Театрализованная деятельность в детском саду -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озможность раскрытия творческого потенциала ребёнка, воспитания творческой направленности личности. Дети учатся замечать в окружающем мире интересные идеи, воплощать их, создавать свой художественный образ персонажа, у них развиваются творческое воображение, ассоциативное мышление, умение видеть необычное в обыденн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pull dir="l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Магнитный театр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тендовый магнитный театр рекомендуется для театральных игр с детьми старшего дошкольного возраст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 показе театрального представления с использованием стендового театра представление разыгрывается на плоской вертикальной поверхности. Для магнитного театра следует использовать магнитную доск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показе представления рекомендуется участие одного – двух человек, чтобы кукловоды не мешали друг друг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pull dir="l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Методическое значение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Магнитный театр-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то развивающая развлекательная игра, побуждающая думать, мыслить и фантазировать. Развивает мелкую моторику, память, логику, воображение, пространственную ориентацию на плоскости, внимание к деталя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 помощью магнитного театра можно легко обыгрывать сложные воспитательные моменты, в доступной игровой форме объяснять и наглядно показывать выход из сложных житейских ситуаци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pull dir="l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Сказка в жизни дошкольников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43040"/>
            <a:ext cx="403848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ля ребенка сказка всегда была и остается не только первым и наиболее доступным средством познания мира, но и способом познания социальных отношений, поведения в ситуациях его повседневной жизни. Каждая сказка несет в себе глубокий смысл и наставления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5" descr="C:\Users\Home\Desktop\1021559163.jpg"/>
          <p:cNvPicPr/>
          <p:nvPr/>
        </p:nvPicPr>
        <p:blipFill>
          <a:blip r:embed="rId1"/>
          <a:stretch/>
        </p:blipFill>
        <p:spPr>
          <a:xfrm>
            <a:off x="4572000" y="1571760"/>
            <a:ext cx="4143240" cy="47149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6858000" y="1920600"/>
            <a:ext cx="1828800" cy="30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pull dir="l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Магнитный театр «Заюшкина избушка». Задачи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Обучающие задачи: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1. Уточнить и обогатить знания детей о русских народных сказках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2. Учить узнавать сказку по заданию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3. Учить передавать структуру сказки с помощью моделирования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Развивающие задачи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1. Вспомнить порядок появления героев в сказках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2. Развивать умение действовать согласованно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3. Развивать речь, воображение, фантазию, мышление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Воспитывающие задачи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1. Воспитывать интерес к чтению, любовь к устному народному творчеству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pull dir="l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04617b"/>
                </a:solidFill>
                <a:latin typeface="Calibri"/>
              </a:rPr>
              <a:t>Для работы необходимы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6840" y="1920960"/>
            <a:ext cx="3614760" cy="23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- ножницы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- клей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- картон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onstantia"/>
              </a:rPr>
              <a:t>магнитные листы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(магниты)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7" descr="C:\Users\Home\Desktop\фото-121.jpg"/>
          <p:cNvPicPr/>
          <p:nvPr/>
        </p:nvPicPr>
        <p:blipFill>
          <a:blip r:embed="rId1"/>
          <a:stretch/>
        </p:blipFill>
        <p:spPr>
          <a:xfrm>
            <a:off x="3929040" y="1928880"/>
            <a:ext cx="4857840" cy="39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C:\Users\Home\Desktop\162228775_w640_h640_vinil_magnitny___bez_kleya.jpg"/>
          <p:cNvPicPr/>
          <p:nvPr/>
        </p:nvPicPr>
        <p:blipFill>
          <a:blip r:embed="rId2"/>
          <a:stretch/>
        </p:blipFill>
        <p:spPr>
          <a:xfrm>
            <a:off x="428760" y="4071960"/>
            <a:ext cx="3429000" cy="26067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зготовление фигурок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8" name="Picture 4" descr="C:\Users\Home\Desktop\pb115qi1Fws.jpg"/>
          <p:cNvPicPr/>
          <p:nvPr/>
        </p:nvPicPr>
        <p:blipFill>
          <a:blip r:embed="rId1"/>
          <a:stretch/>
        </p:blipFill>
        <p:spPr>
          <a:xfrm>
            <a:off x="3214800" y="1643040"/>
            <a:ext cx="5214960" cy="464364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3"/>
          <p:cNvSpPr/>
          <p:nvPr/>
        </p:nvSpPr>
        <p:spPr>
          <a:xfrm>
            <a:off x="285840" y="1641600"/>
            <a:ext cx="3000240" cy="52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йти и вырезать на картоне  изображения героев, элементы декор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2. С обратной стороны каждой фигурки приклеить магн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2T19:14:28Z</dcterms:created>
  <dc:creator>ЛЕНУСИК</dc:creator>
  <dc:description/>
  <dc:language>en-US</dc:language>
  <cp:lastModifiedBy>Ирина</cp:lastModifiedBy>
  <dcterms:modified xsi:type="dcterms:W3CDTF">2021-08-14T14:07:58Z</dcterms:modified>
  <cp:revision>24</cp:revision>
  <dc:subject/>
  <dc:title>Магнитный театр</dc:title>
</cp:coreProperties>
</file>