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gif" ContentType="image/gif"/>
  <Override PartName="/ppt/media/image13.png" ContentType="image/png"/>
  <Override PartName="/ppt/media/image16.gif" ContentType="image/gif"/>
  <Override PartName="/ppt/media/image14.jpeg" ContentType="image/jpeg"/>
  <Override PartName="/ppt/media/image5.png" ContentType="image/png"/>
  <Override PartName="/ppt/media/image2.jpeg" ContentType="image/jpeg"/>
  <Override PartName="/ppt/media/image11.gif" ContentType="image/gif"/>
  <Override PartName="/ppt/media/image15.png" ContentType="image/png"/>
  <Override PartName="/ppt/media/image3.jpeg" ContentType="image/jpeg"/>
  <Override PartName="/ppt/media/image4.jpeg" ContentType="image/jpeg"/>
  <Override PartName="/ppt/media/image8.gif" ContentType="image/gif"/>
  <Override PartName="/ppt/media/image6.jpeg" ContentType="image/jpeg"/>
  <Override PartName="/ppt/media/image1.jpeg" ContentType="image/jpeg"/>
  <Override PartName="/ppt/media/image7.png" ContentType="image/png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r>
              <a:rPr b="0" lang="en-US" sz="4400" spc="-1" strike="noStrike">
                <a:solidFill>
                  <a:srgbClr val="5f5f5f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1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46AB6-63B1-41B1-A241-E3A687DD3A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F58D1B-15AE-4432-B17A-BE44F7736D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3EB8C-7D93-493B-9B60-7BB4C8DB3208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4FE82-065F-4844-8C41-3089FAE351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17932C-DC26-4FE8-8784-1300E32247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B87AAF-D080-4667-A744-E71FA0F815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8A5036-F0F3-4DD4-B015-3C426F340C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745C42-AFD6-401F-BD8B-98ED605EAE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9267CE-B12F-4D5E-9C87-5DA5DEC81C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294890-48E1-44D6-98D2-911A87AA2B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51F6A7-96F7-4D00-BB61-D3197FC3DB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3F7A45-EC44-4226-BF64-B75168BE21A3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270B2C-5B27-449E-B569-E855174E80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9DA78C-7FB9-4619-A96D-44A01A53C0F6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B807EE-2BC0-4FF1-A716-9386C30D8B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B0D282-602C-4C39-BECB-C8F3674CAD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61E377-18BF-498D-85FA-9BA783859D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4AB6BB-D4A9-4135-ABFD-11E93A4823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58A91-71C8-4FAB-882C-4FED9EAF7E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1E4AB1-5182-425A-80E6-141AC1E024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1392120"/>
            <a:ext cx="7311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437920"/>
            <a:ext cx="7311960" cy="19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040" y="4625280"/>
            <a:ext cx="7311960" cy="19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1392120"/>
            <a:ext cx="7311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2437920"/>
            <a:ext cx="3567960" cy="19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0920" y="2437920"/>
            <a:ext cx="3567960" cy="19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4625280"/>
            <a:ext cx="3567960" cy="19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0920" y="4625280"/>
            <a:ext cx="3567960" cy="19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1392120"/>
            <a:ext cx="7311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2437920"/>
            <a:ext cx="2354040" cy="19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6160" y="2437920"/>
            <a:ext cx="2354040" cy="19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58280" y="2437920"/>
            <a:ext cx="2354040" cy="19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040" y="4625280"/>
            <a:ext cx="2354040" cy="19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6160" y="4625280"/>
            <a:ext cx="2354040" cy="19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58280" y="4625280"/>
            <a:ext cx="2354040" cy="19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040" y="1392120"/>
            <a:ext cx="7311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040" y="2437920"/>
            <a:ext cx="73119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1392120"/>
            <a:ext cx="7311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040" y="2437920"/>
            <a:ext cx="731196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1392120"/>
            <a:ext cx="7311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040" y="2437920"/>
            <a:ext cx="356796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0920" y="2437920"/>
            <a:ext cx="356796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1392120"/>
            <a:ext cx="7311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040" y="1417680"/>
            <a:ext cx="7311960" cy="33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1392120"/>
            <a:ext cx="7311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2437920"/>
            <a:ext cx="3567960" cy="19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0920" y="2437920"/>
            <a:ext cx="356796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040" y="4625280"/>
            <a:ext cx="3567960" cy="19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1392120"/>
            <a:ext cx="7311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437920"/>
            <a:ext cx="356796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2437920"/>
            <a:ext cx="3567960" cy="19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0920" y="4625280"/>
            <a:ext cx="3567960" cy="19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1392120"/>
            <a:ext cx="7311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437920"/>
            <a:ext cx="3567960" cy="19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2437920"/>
            <a:ext cx="3567960" cy="19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040" y="4625280"/>
            <a:ext cx="7311960" cy="19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1417680"/>
            <a:ext cx="73119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5f5f5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2437920"/>
            <a:ext cx="731196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15.png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"/>
          <p:cNvSpPr/>
          <p:nvPr/>
        </p:nvSpPr>
        <p:spPr>
          <a:xfrm>
            <a:off x="380880" y="271440"/>
            <a:ext cx="77724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9933"/>
                </a:solidFill>
                <a:latin typeface="Microsoft Sans Serif"/>
              </a:rPr>
              <a:t>«Род имен прилагательных»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2"/>
          <p:cNvSpPr/>
          <p:nvPr/>
        </p:nvSpPr>
        <p:spPr>
          <a:xfrm>
            <a:off x="380880" y="2971800"/>
            <a:ext cx="33530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2"/>
          <a:stretch/>
        </p:blipFill>
        <p:spPr>
          <a:xfrm>
            <a:off x="139680" y="0"/>
            <a:ext cx="88646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914400" y="1417680"/>
            <a:ext cx="80010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7200"/>
            </a:br>
            <a:br>
              <a:rPr sz="7200"/>
            </a:br>
            <a:r>
              <a:rPr b="0" lang="ru-RU" sz="7200" spc="-1" strike="noStrike">
                <a:solidFill>
                  <a:srgbClr val="5f5f5f"/>
                </a:solidFill>
                <a:latin typeface="Times New Roman"/>
              </a:rPr>
              <a:t>жёлт</a:t>
            </a:r>
            <a:r>
              <a:rPr b="0" lang="ru-RU" sz="7200" spc="-1" strike="noStrike">
                <a:solidFill>
                  <a:srgbClr val="ff0000"/>
                </a:solidFill>
                <a:latin typeface="Times New Roman"/>
              </a:rPr>
              <a:t>ый</a:t>
            </a:r>
            <a:r>
              <a:rPr b="0" lang="ru-RU" sz="7200" spc="-1" strike="noStrike">
                <a:solidFill>
                  <a:srgbClr val="5f5f5f"/>
                </a:solidFill>
                <a:latin typeface="Times New Roman"/>
              </a:rPr>
              <a:t> песок</a:t>
            </a:r>
            <a:br>
              <a:rPr sz="7200"/>
            </a:br>
            <a:r>
              <a:rPr b="0" lang="ru-RU" sz="7200" spc="-1" strike="noStrike">
                <a:solidFill>
                  <a:srgbClr val="5f5f5f"/>
                </a:solidFill>
                <a:latin typeface="Times New Roman"/>
              </a:rPr>
              <a:t>жёлт</a:t>
            </a:r>
            <a:r>
              <a:rPr b="0" lang="ru-RU" sz="7200" spc="-1" strike="noStrike">
                <a:solidFill>
                  <a:srgbClr val="ff0000"/>
                </a:solidFill>
                <a:latin typeface="Times New Roman"/>
              </a:rPr>
              <a:t>ая</a:t>
            </a:r>
            <a:r>
              <a:rPr b="0" lang="ru-RU" sz="7200" spc="-1" strike="noStrike">
                <a:solidFill>
                  <a:srgbClr val="5f5f5f"/>
                </a:solidFill>
                <a:latin typeface="Times New Roman"/>
              </a:rPr>
              <a:t> краска</a:t>
            </a:r>
            <a:br>
              <a:rPr sz="7200"/>
            </a:br>
            <a:r>
              <a:rPr b="0" lang="ru-RU" sz="7200" spc="-1" strike="noStrike">
                <a:solidFill>
                  <a:srgbClr val="5f5f5f"/>
                </a:solidFill>
                <a:latin typeface="Times New Roman"/>
              </a:rPr>
              <a:t>жёлт</a:t>
            </a:r>
            <a:r>
              <a:rPr b="0" lang="ru-RU" sz="7200" spc="-1" strike="noStrike">
                <a:solidFill>
                  <a:srgbClr val="ff0000"/>
                </a:solidFill>
                <a:latin typeface="Times New Roman"/>
              </a:rPr>
              <a:t>ое</a:t>
            </a:r>
            <a:r>
              <a:rPr b="0" lang="ru-RU" sz="7200" spc="-1" strike="noStrike">
                <a:solidFill>
                  <a:srgbClr val="5f5f5f"/>
                </a:solidFill>
                <a:latin typeface="Times New Roman"/>
              </a:rPr>
              <a:t> платье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914400" y="1057320"/>
            <a:ext cx="73152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144360" y="1074600"/>
            <a:ext cx="8555040" cy="54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2a6099"/>
                </a:solidFill>
                <a:latin typeface="Times New Roman"/>
              </a:rPr>
              <a:t>Погода стояла ясное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a6099"/>
                </a:solidFill>
                <a:latin typeface="Times New Roman"/>
              </a:rPr>
              <a:t>Мы сели в красивое парусник. Вокруг было синяя мор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a6099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2a6099"/>
                </a:solidFill>
                <a:latin typeface="Times New Roman"/>
              </a:rPr>
              <a:t>Нас ждали интересное приключени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990720" y="5334120"/>
            <a:ext cx="77724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icrosoft Sans Serif"/>
              </a:rPr>
              <a:t>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990720" y="56466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0" y="1071720"/>
          <a:ext cx="8718480" cy="5256000"/>
        </p:xfrm>
        <a:graphic>
          <a:graphicData uri="http://schemas.openxmlformats.org/drawingml/2006/table">
            <a:tbl>
              <a:tblPr/>
              <a:tblGrid>
                <a:gridCol w="4361040"/>
                <a:gridCol w="4357440"/>
              </a:tblGrid>
              <a:tr h="574560"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5f5f5f"/>
                          </a:solidFill>
                          <a:latin typeface="Times New Roman"/>
                          <a:ea typeface="Calibri"/>
                        </a:rPr>
                        <a:t>                                          </a:t>
                      </a: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Имя прилагательн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Что это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Часть реч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На какие вопросы отвечает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Какой? Какая?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Какое? Какие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Что обозначает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Признак предме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С какой частью речи связано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С им. существительны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В предложении является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Второстепенным член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Какую роль играет в речи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Делает её более яркой, красочной, выразительн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69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Calibri"/>
                          <a:ea typeface="Calibri"/>
                        </a:rPr>
                        <a:t>Как изменяется имя прилагательное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69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Calibri"/>
                          <a:ea typeface="Calibri"/>
                        </a:rPr>
                        <a:t>Как определить число и род имени прилагательного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Rectangle 67"/>
          <p:cNvSpPr/>
          <p:nvPr/>
        </p:nvSpPr>
        <p:spPr>
          <a:xfrm>
            <a:off x="0" y="7920"/>
            <a:ext cx="885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 мы узнали об имени прилагательном? Дополните таблиц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68"/>
          <p:cNvSpPr/>
          <p:nvPr/>
        </p:nvSpPr>
        <p:spPr>
          <a:xfrm>
            <a:off x="4286160" y="4786200"/>
            <a:ext cx="457200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1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По числа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algn="ctr">
              <a:lnSpc>
                <a:spcPct val="11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По родам в ед. числ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69"/>
          <p:cNvSpPr/>
          <p:nvPr/>
        </p:nvSpPr>
        <p:spPr>
          <a:xfrm>
            <a:off x="4286160" y="5572080"/>
            <a:ext cx="45720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1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Calibri"/>
              </a:rPr>
              <a:t>По имени существительному, с которым оно связа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914400" y="304920"/>
            <a:ext cx="7315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5f5f5f"/>
                </a:solidFill>
                <a:latin typeface="Microsoft Sans Serif"/>
              </a:rPr>
              <a:t>Рефлекс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914400" y="1600200"/>
            <a:ext cx="7315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5f5f5f"/>
                </a:solidFill>
                <a:latin typeface="Microsoft Sans Serif"/>
              </a:rPr>
              <a:t>Сегодня я узнал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5f5f5f"/>
                </a:solidFill>
                <a:latin typeface="Microsoft Sans Serif"/>
              </a:rPr>
              <a:t>Было трудно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5f5f5f"/>
                </a:solidFill>
                <a:latin typeface="Microsoft Sans Serif"/>
              </a:rPr>
              <a:t>Я понял, что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5f5f5f"/>
                </a:solidFill>
                <a:latin typeface="Microsoft Sans Serif"/>
              </a:rPr>
              <a:t>Я научился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5f5f5f"/>
                </a:solidFill>
                <a:latin typeface="Microsoft Sans Serif"/>
              </a:rPr>
              <a:t>Я смог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5f5f5f"/>
                </a:solidFill>
                <a:latin typeface="Microsoft Sans Serif"/>
              </a:rPr>
              <a:t>Было интересно узнать, что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5f5f5f"/>
                </a:solidFill>
                <a:latin typeface="Microsoft Sans Serif"/>
              </a:rPr>
              <a:t>Меня удивило…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5f5f5f"/>
                </a:solidFill>
                <a:latin typeface="Microsoft Sans Serif"/>
              </a:rPr>
              <a:t>Мне захотелось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990720" y="5091120"/>
            <a:ext cx="77724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990720" y="56466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3"/>
          <a:stretch/>
        </p:blipFill>
        <p:spPr>
          <a:xfrm>
            <a:off x="396720" y="365040"/>
            <a:ext cx="8350560" cy="4084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4"/>
          <a:stretch/>
        </p:blipFill>
        <p:spPr>
          <a:xfrm>
            <a:off x="2033640" y="1782720"/>
            <a:ext cx="4768920" cy="363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1066680" y="509760"/>
            <a:ext cx="73152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84240" y="28440"/>
            <a:ext cx="89154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c9211e"/>
                </a:solidFill>
                <a:latin typeface="Times New Roman"/>
              </a:rPr>
              <a:t>В природе есть солнце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c9211e"/>
                </a:solidFill>
                <a:latin typeface="Times New Roman"/>
              </a:rPr>
              <a:t>Оно светит и всех нас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c9211e"/>
                </a:solidFill>
                <a:latin typeface="Times New Roman"/>
              </a:rPr>
              <a:t>любит и греет. Так пусть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c9211e"/>
                </a:solidFill>
                <a:latin typeface="Times New Roman"/>
              </a:rPr>
              <a:t>же каждый лучик заглянет к нам в клас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c9211e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c9211e"/>
                </a:solidFill>
                <a:latin typeface="Times New Roman"/>
              </a:rPr>
              <a:t>и не только обогреет вас своим теплом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c9211e"/>
                </a:solidFill>
                <a:latin typeface="Times New Roman"/>
              </a:rPr>
              <a:t>но и придаст сил и уверенности в знания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5181480" y="28440"/>
            <a:ext cx="3962520" cy="3356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1981080" y="685800"/>
            <a:ext cx="69343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c9211e"/>
                </a:solidFill>
                <a:latin typeface="Times New Roman"/>
              </a:rPr>
              <a:t>Тает снежок, ожил луж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c9211e"/>
                </a:solidFill>
                <a:latin typeface="Times New Roman"/>
              </a:rPr>
              <a:t>День прибывае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c9211e"/>
                </a:solidFill>
                <a:latin typeface="Times New Roman"/>
              </a:rPr>
              <a:t>Когда это бывает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1981080" y="1630440"/>
            <a:ext cx="69343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2268360" y="2016000"/>
            <a:ext cx="6444000" cy="4780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1368360" y="2217600"/>
            <a:ext cx="5904000" cy="43354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"/>
          <p:cNvSpPr/>
          <p:nvPr/>
        </p:nvSpPr>
        <p:spPr>
          <a:xfrm>
            <a:off x="1800360" y="349200"/>
            <a:ext cx="440820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c9211e"/>
                </a:solidFill>
                <a:latin typeface="Times New Roman"/>
              </a:rPr>
              <a:t>По тонкой нитке ручей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c9211e"/>
                </a:solidFill>
                <a:latin typeface="Times New Roman"/>
              </a:rPr>
              <a:t>Сбежал с пригорка сне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c9211e"/>
                </a:solidFill>
                <a:latin typeface="Times New Roman"/>
              </a:rPr>
              <a:t>И на пригорке вдруг цвет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c9211e"/>
                </a:solidFill>
                <a:latin typeface="Times New Roman"/>
              </a:rPr>
              <a:t>Раскрылся раньше все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990720" y="5091120"/>
            <a:ext cx="77724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990720" y="56466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285840" y="1000080"/>
          <a:ext cx="8718480" cy="5692680"/>
        </p:xfrm>
        <a:graphic>
          <a:graphicData uri="http://schemas.openxmlformats.org/drawingml/2006/table">
            <a:tbl>
              <a:tblPr/>
              <a:tblGrid>
                <a:gridCol w="4357440"/>
                <a:gridCol w="4361040"/>
              </a:tblGrid>
              <a:tr h="723960"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5f5f5f"/>
                          </a:solidFill>
                          <a:latin typeface="Times New Roman"/>
                          <a:ea typeface="Calibri"/>
                        </a:rPr>
                        <a:t>                                          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Имя прилагательно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68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Что это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9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На какие вопросы отвечает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Что обозначает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6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С какой частью речи связано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9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В предложении является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6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Какую роль играет в речи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Rectangle 53"/>
          <p:cNvSpPr/>
          <p:nvPr/>
        </p:nvSpPr>
        <p:spPr>
          <a:xfrm>
            <a:off x="4437000" y="1785960"/>
            <a:ext cx="21895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algn="just">
              <a:lnSpc>
                <a:spcPct val="11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Часть реч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54"/>
          <p:cNvSpPr/>
          <p:nvPr/>
        </p:nvSpPr>
        <p:spPr>
          <a:xfrm>
            <a:off x="4508280" y="2286000"/>
            <a:ext cx="2943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algn="just">
              <a:lnSpc>
                <a:spcPct val="11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Какой?    кака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algn="just">
              <a:lnSpc>
                <a:spcPct val="11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какое?     ка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55"/>
          <p:cNvSpPr/>
          <p:nvPr/>
        </p:nvSpPr>
        <p:spPr>
          <a:xfrm>
            <a:off x="4519800" y="3214800"/>
            <a:ext cx="319968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algn="just">
              <a:lnSpc>
                <a:spcPct val="11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Признак предм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56"/>
          <p:cNvSpPr/>
          <p:nvPr/>
        </p:nvSpPr>
        <p:spPr>
          <a:xfrm>
            <a:off x="4500720" y="3786120"/>
            <a:ext cx="36432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just">
              <a:lnSpc>
                <a:spcPct val="11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С имене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algn="just">
              <a:lnSpc>
                <a:spcPct val="11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существитель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57"/>
          <p:cNvSpPr/>
          <p:nvPr/>
        </p:nvSpPr>
        <p:spPr>
          <a:xfrm>
            <a:off x="4444920" y="4786200"/>
            <a:ext cx="31435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algn="just">
              <a:lnSpc>
                <a:spcPct val="11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Второстепенны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algn="just">
              <a:lnSpc>
                <a:spcPct val="11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член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58"/>
          <p:cNvSpPr/>
          <p:nvPr/>
        </p:nvSpPr>
        <p:spPr>
          <a:xfrm>
            <a:off x="4451040" y="5715000"/>
            <a:ext cx="43916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algn="just">
              <a:lnSpc>
                <a:spcPct val="11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Делает её более ярко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algn="just">
              <a:lnSpc>
                <a:spcPct val="11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выразительной, красоч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59"/>
          <p:cNvSpPr/>
          <p:nvPr/>
        </p:nvSpPr>
        <p:spPr>
          <a:xfrm>
            <a:off x="0" y="-28800"/>
            <a:ext cx="885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 мы уже знаем об имени прилагательном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914400" y="1417680"/>
            <a:ext cx="73152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5f5f5f"/>
                </a:solidFill>
                <a:latin typeface="Microsoft Sans Serif"/>
              </a:rPr>
              <a:t>Минутка чистописа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a933"/>
                </a:solidFill>
                <a:latin typeface="Times New Roman"/>
              </a:rPr>
              <a:t>ая яя   ий ый   ое е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a933"/>
                </a:solidFill>
                <a:latin typeface="Times New Roman"/>
              </a:rPr>
              <a:t>ранняя светлый голубо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a933"/>
                </a:solidFill>
                <a:latin typeface="Times New Roman"/>
              </a:rPr>
              <a:t>Наступила ранняя весн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 rot="1020000">
            <a:off x="253800" y="4986360"/>
            <a:ext cx="1839600" cy="1514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3"/>
          <a:stretch/>
        </p:blipFill>
        <p:spPr>
          <a:xfrm>
            <a:off x="6551640" y="4624560"/>
            <a:ext cx="1776240" cy="16398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1143000" y="1447920"/>
            <a:ext cx="73152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5f5f5f"/>
                </a:solidFill>
                <a:latin typeface="Times New Roman"/>
              </a:rPr>
              <a:t>       </a:t>
            </a:r>
            <a:r>
              <a:rPr b="0" lang="ru-RU" sz="4400" spc="-1" strike="noStrike">
                <a:solidFill>
                  <a:srgbClr val="5f5f5f"/>
                </a:solidFill>
                <a:latin typeface="Times New Roman"/>
              </a:rPr>
              <a:t>Тема урок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0" y="1944720"/>
            <a:ext cx="85392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a933"/>
                </a:solidFill>
                <a:latin typeface="Times New Roman"/>
              </a:rPr>
              <a:t>«Род имён прилагательных»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5f5f5f"/>
                </a:solidFill>
                <a:latin typeface="Times New Roman"/>
              </a:rPr>
              <a:t>Цель: </a:t>
            </a:r>
            <a:r>
              <a:rPr b="0" lang="ru-RU" sz="4800" spc="-1" strike="noStrike">
                <a:solidFill>
                  <a:srgbClr val="00a933"/>
                </a:solidFill>
                <a:latin typeface="Times New Roman"/>
              </a:rPr>
              <a:t>научиться определять род имен прилагательных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7238880" y="5203800"/>
            <a:ext cx="1447920" cy="1593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3"/>
          <a:stretch/>
        </p:blipFill>
        <p:spPr>
          <a:xfrm>
            <a:off x="515880" y="431640"/>
            <a:ext cx="1139760" cy="130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"/>
          <p:cNvSpPr/>
          <p:nvPr/>
        </p:nvSpPr>
        <p:spPr>
          <a:xfrm>
            <a:off x="3049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Microsoft Sans Serif"/>
              </a:rPr>
              <a:t>         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684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700" spc="-1" strike="noStrike">
                <a:solidFill>
                  <a:srgbClr val="5f5f5f"/>
                </a:solidFill>
                <a:latin typeface="Microsoft Sans Serif"/>
              </a:rPr>
              <a:t>      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19080" y="1152360"/>
            <a:ext cx="9124920" cy="568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914400" y="1057320"/>
            <a:ext cx="73152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287280" y="647640"/>
            <a:ext cx="8551800" cy="59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4d4d4d"/>
                </a:solidFill>
                <a:latin typeface="Microsoft Sans Serif"/>
              </a:rPr>
              <a:t> 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158466"/>
                </a:solidFill>
                <a:latin typeface="Times New Roman"/>
              </a:rPr>
              <a:t>жёлтый песок жёлтая краска</a:t>
            </a:r>
            <a:br>
              <a:rPr sz="7200"/>
            </a:br>
            <a:r>
              <a:rPr b="0" lang="ru-RU" sz="7200" spc="-1" strike="noStrike">
                <a:solidFill>
                  <a:srgbClr val="158466"/>
                </a:solidFill>
                <a:latin typeface="Times New Roman"/>
              </a:rPr>
              <a:t>жёлтое платье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OEM</cp:lastModifiedBy>
  <cp:lastPrinted>2021-04-07T09:01:25Z</cp:lastPrinted>
  <dcterms:modified xsi:type="dcterms:W3CDTF">2021-04-08T00:47:13Z</dcterms:modified>
  <cp:revision>174</cp:revision>
  <dc:subject/>
  <dc:title>Name of presentation</dc:title>
</cp:coreProperties>
</file>