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3.png" ContentType="image/png"/>
  <Override PartName="/ppt/media/image16.gif" ContentType="image/gif"/>
  <Override PartName="/ppt/media/image14.jpeg" ContentType="image/jpeg"/>
  <Override PartName="/ppt/media/image5.png" ContentType="image/png"/>
  <Override PartName="/ppt/media/image2.jpeg" ContentType="image/jpeg"/>
  <Override PartName="/ppt/media/image11.gif" ContentType="image/gif"/>
  <Override PartName="/ppt/media/image15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6.jpeg" ContentType="image/jpeg"/>
  <Override PartName="/ppt/media/image1.jpeg" ContentType="image/jpeg"/>
  <Override PartName="/ppt/media/image7.png" ContentType="image/pn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B6B04-BE51-4CF9-B9D3-7B8A2A7E56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017DC-7F17-4751-9ABB-78CAD4113F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63922-B918-4C9C-911C-50007757E167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A53EA-979E-4487-8DEA-30DF8CA395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9695D-6B67-44A5-8246-ECF3344498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9E07E-4C5B-4DF7-A002-584B6DFF2A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6D34E-EB92-4304-A3E2-69667D1E80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DEDA2-4A56-44ED-854E-BC20BF7127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45254-BE88-4B1C-B4A9-413CE158A7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BA100-06B0-477C-9C3D-1EF3862621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F9E6A-6A2B-4E68-9300-ED6DC83645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3BFE5-9402-409C-A89E-B3A8AD6F931F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28C0D-7B4E-4504-8E79-F3CD283071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7F734-620D-41ED-AF02-E1874793952A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57558-DCBF-4AA1-A494-93344FB7D3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0B8F6-F063-49AB-8659-4DF0E35989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B9353-5E39-4402-A1F8-692BEAF985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79255-BFA6-4EC5-8345-7B2C08F17D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07397-82D2-403C-9083-D3D05D792C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F1CB1-847E-4921-BB06-574AD60D99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1392120"/>
            <a:ext cx="7311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437920"/>
            <a:ext cx="73119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040" y="4625280"/>
            <a:ext cx="73119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1392120"/>
            <a:ext cx="7311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437920"/>
            <a:ext cx="35679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0920" y="2437920"/>
            <a:ext cx="35679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625280"/>
            <a:ext cx="35679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0920" y="4625280"/>
            <a:ext cx="35679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392120"/>
            <a:ext cx="7311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437920"/>
            <a:ext cx="235404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6160" y="2437920"/>
            <a:ext cx="235404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58280" y="2437920"/>
            <a:ext cx="235404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040" y="4625280"/>
            <a:ext cx="235404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6160" y="4625280"/>
            <a:ext cx="235404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58280" y="4625280"/>
            <a:ext cx="235404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1392120"/>
            <a:ext cx="7311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040" y="2437920"/>
            <a:ext cx="73119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1392120"/>
            <a:ext cx="7311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040" y="2437920"/>
            <a:ext cx="731196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1392120"/>
            <a:ext cx="7311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040" y="2437920"/>
            <a:ext cx="356796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0920" y="2437920"/>
            <a:ext cx="356796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392120"/>
            <a:ext cx="7311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040" y="1417680"/>
            <a:ext cx="7311960" cy="33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392120"/>
            <a:ext cx="7311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437920"/>
            <a:ext cx="35679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0920" y="2437920"/>
            <a:ext cx="356796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040" y="4625280"/>
            <a:ext cx="35679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1392120"/>
            <a:ext cx="7311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437920"/>
            <a:ext cx="356796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2437920"/>
            <a:ext cx="35679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0920" y="4625280"/>
            <a:ext cx="35679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1392120"/>
            <a:ext cx="7311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437920"/>
            <a:ext cx="35679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2437920"/>
            <a:ext cx="35679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4625280"/>
            <a:ext cx="73119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1417680"/>
            <a:ext cx="73119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437920"/>
            <a:ext cx="731196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380880" y="271440"/>
            <a:ext cx="77724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9933"/>
                </a:solidFill>
                <a:latin typeface="Microsoft Sans Serif"/>
              </a:rPr>
              <a:t>«Род имен прилагательных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380880" y="2971800"/>
            <a:ext cx="33530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2"/>
          <a:stretch/>
        </p:blipFill>
        <p:spPr>
          <a:xfrm>
            <a:off x="139680" y="0"/>
            <a:ext cx="8864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914400" y="1417680"/>
            <a:ext cx="8001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7200"/>
            </a:br>
            <a:br>
              <a:rPr sz="7200"/>
            </a:br>
            <a:r>
              <a:rPr b="0" lang="ru-RU" sz="7200" spc="-1" strike="noStrike">
                <a:solidFill>
                  <a:srgbClr val="5f5f5f"/>
                </a:solidFill>
                <a:latin typeface="Times New Roman"/>
              </a:rPr>
              <a:t>жёлт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ый</a:t>
            </a:r>
            <a:r>
              <a:rPr b="0" lang="ru-RU" sz="7200" spc="-1" strike="noStrike">
                <a:solidFill>
                  <a:srgbClr val="5f5f5f"/>
                </a:solidFill>
                <a:latin typeface="Times New Roman"/>
              </a:rPr>
              <a:t> песок</a:t>
            </a:r>
            <a:br>
              <a:rPr sz="7200"/>
            </a:br>
            <a:r>
              <a:rPr b="0" lang="ru-RU" sz="7200" spc="-1" strike="noStrike">
                <a:solidFill>
                  <a:srgbClr val="5f5f5f"/>
                </a:solidFill>
                <a:latin typeface="Times New Roman"/>
              </a:rPr>
              <a:t>жёлт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ая</a:t>
            </a:r>
            <a:r>
              <a:rPr b="0" lang="ru-RU" sz="7200" spc="-1" strike="noStrike">
                <a:solidFill>
                  <a:srgbClr val="5f5f5f"/>
                </a:solidFill>
                <a:latin typeface="Times New Roman"/>
              </a:rPr>
              <a:t> краска</a:t>
            </a:r>
            <a:br>
              <a:rPr sz="7200"/>
            </a:br>
            <a:r>
              <a:rPr b="0" lang="ru-RU" sz="7200" spc="-1" strike="noStrike">
                <a:solidFill>
                  <a:srgbClr val="5f5f5f"/>
                </a:solidFill>
                <a:latin typeface="Times New Roman"/>
              </a:rPr>
              <a:t>жёлт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</a:rPr>
              <a:t>ое</a:t>
            </a:r>
            <a:r>
              <a:rPr b="0" lang="ru-RU" sz="7200" spc="-1" strike="noStrike">
                <a:solidFill>
                  <a:srgbClr val="5f5f5f"/>
                </a:solidFill>
                <a:latin typeface="Times New Roman"/>
              </a:rPr>
              <a:t> плать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914400" y="1057320"/>
            <a:ext cx="73152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144360" y="1074600"/>
            <a:ext cx="8555040" cy="54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2a6099"/>
                </a:solidFill>
                <a:latin typeface="Times New Roman"/>
              </a:rPr>
              <a:t>Погода стояла ясное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a6099"/>
                </a:solidFill>
                <a:latin typeface="Times New Roman"/>
              </a:rPr>
              <a:t>Мы сели в красивое парусник. Вокруг было синяя мор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a6099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2a6099"/>
                </a:solidFill>
                <a:latin typeface="Times New Roman"/>
              </a:rPr>
              <a:t>Нас ждали интересное приключе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990720" y="533412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990720" y="5646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0" y="1071720"/>
          <a:ext cx="8718480" cy="5256000"/>
        </p:xfrm>
        <a:graphic>
          <a:graphicData uri="http://schemas.openxmlformats.org/drawingml/2006/table">
            <a:tbl>
              <a:tblPr/>
              <a:tblGrid>
                <a:gridCol w="4361040"/>
                <a:gridCol w="4357440"/>
              </a:tblGrid>
              <a:tr h="5745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Calibri"/>
                        </a:rPr>
                        <a:t>                                          </a:t>
                      </a: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мя прилага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Что это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Часть реч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На какие вопросы отвечает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Какой? Какая?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98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Какое? Какие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Что обозначает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Признак предме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С какой частью речи связано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С им. существительны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В предложении является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Второстепенным член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Какую роль играет в речи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Делает её более яркой, красочной, выразительн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69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  <a:ea typeface="Calibri"/>
                        </a:rPr>
                        <a:t>Как изменяется имя прилагательное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69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Calibri"/>
                          <a:ea typeface="Calibri"/>
                        </a:rPr>
                        <a:t>Как определить число и род имени прилагательного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67"/>
          <p:cNvSpPr/>
          <p:nvPr/>
        </p:nvSpPr>
        <p:spPr>
          <a:xfrm>
            <a:off x="0" y="792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мы узнали об имени прилагательном? Дополните таблиц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68"/>
          <p:cNvSpPr/>
          <p:nvPr/>
        </p:nvSpPr>
        <p:spPr>
          <a:xfrm>
            <a:off x="4286160" y="4786200"/>
            <a:ext cx="457200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1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По числ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algn="ctr">
              <a:lnSpc>
                <a:spcPct val="11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По родам в ед. чис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69"/>
          <p:cNvSpPr/>
          <p:nvPr/>
        </p:nvSpPr>
        <p:spPr>
          <a:xfrm>
            <a:off x="4286160" y="5572080"/>
            <a:ext cx="4572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1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По имени существительному, с которым оно связа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914400" y="304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Microsoft Sans Serif"/>
              </a:rPr>
              <a:t>Рефлекс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914400" y="1600200"/>
            <a:ext cx="7315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Microsoft Sans Serif"/>
              </a:rPr>
              <a:t>Сегодня я узнал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Microsoft Sans Serif"/>
              </a:rPr>
              <a:t>Было трудн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Microsoft Sans Serif"/>
              </a:rPr>
              <a:t>Я понял, ч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Microsoft Sans Serif"/>
              </a:rPr>
              <a:t>Я научилс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Microsoft Sans Serif"/>
              </a:rPr>
              <a:t>Я смог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Microsoft Sans Serif"/>
              </a:rPr>
              <a:t>Было интересно узнать, ч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Microsoft Sans Serif"/>
              </a:rPr>
              <a:t>Меня удивило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f5f5f"/>
                </a:solidFill>
                <a:latin typeface="Microsoft Sans Serif"/>
              </a:rPr>
              <a:t>Мне захотелос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990720" y="5091120"/>
            <a:ext cx="7772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990720" y="5646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396720" y="365040"/>
            <a:ext cx="8350560" cy="4084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4"/>
          <a:stretch/>
        </p:blipFill>
        <p:spPr>
          <a:xfrm>
            <a:off x="2033640" y="1782720"/>
            <a:ext cx="4768920" cy="36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1066680" y="509760"/>
            <a:ext cx="73152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84240" y="28440"/>
            <a:ext cx="8915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c9211e"/>
                </a:solidFill>
                <a:latin typeface="Times New Roman"/>
              </a:rPr>
              <a:t>В природе есть солнц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c9211e"/>
                </a:solidFill>
                <a:latin typeface="Times New Roman"/>
              </a:rPr>
              <a:t>Оно светит и всех нас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c9211e"/>
                </a:solidFill>
                <a:latin typeface="Times New Roman"/>
              </a:rPr>
              <a:t>любит и греет. Так пуст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c9211e"/>
                </a:solidFill>
                <a:latin typeface="Times New Roman"/>
              </a:rPr>
              <a:t>же каждый лучик заглянет к нам в кла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c9211e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c9211e"/>
                </a:solidFill>
                <a:latin typeface="Times New Roman"/>
              </a:rPr>
              <a:t>и не только обогреет вас своим теплом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c9211e"/>
                </a:solidFill>
                <a:latin typeface="Times New Roman"/>
              </a:rPr>
              <a:t>но и придаст сил и уверенности в знания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5181480" y="28440"/>
            <a:ext cx="3962520" cy="3356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1981080" y="685800"/>
            <a:ext cx="69343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c9211e"/>
                </a:solidFill>
                <a:latin typeface="Times New Roman"/>
              </a:rPr>
              <a:t>Тает снежок, ожил луж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c9211e"/>
                </a:solidFill>
                <a:latin typeface="Times New Roman"/>
              </a:rPr>
              <a:t>День прибывае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c9211e"/>
                </a:solidFill>
                <a:latin typeface="Times New Roman"/>
              </a:rPr>
              <a:t>Когда это бывает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1981080" y="1630440"/>
            <a:ext cx="6934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2268360" y="2016000"/>
            <a:ext cx="6444000" cy="4780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1368360" y="2217600"/>
            <a:ext cx="5904000" cy="43354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1800360" y="349200"/>
            <a:ext cx="44082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c9211e"/>
                </a:solidFill>
                <a:latin typeface="Times New Roman"/>
              </a:rPr>
              <a:t>По тонкой нитке ручей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c9211e"/>
                </a:solidFill>
                <a:latin typeface="Times New Roman"/>
              </a:rPr>
              <a:t>Сбежал с пригорка сн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c9211e"/>
                </a:solidFill>
                <a:latin typeface="Times New Roman"/>
              </a:rPr>
              <a:t>И на пригорке вдруг цвет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c9211e"/>
                </a:solidFill>
                <a:latin typeface="Times New Roman"/>
              </a:rPr>
              <a:t>Раскрылся раньше все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990720" y="5091120"/>
            <a:ext cx="7772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990720" y="5646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285840" y="1000080"/>
          <a:ext cx="8718480" cy="5692680"/>
        </p:xfrm>
        <a:graphic>
          <a:graphicData uri="http://schemas.openxmlformats.org/drawingml/2006/table">
            <a:tbl>
              <a:tblPr/>
              <a:tblGrid>
                <a:gridCol w="4357440"/>
                <a:gridCol w="4361040"/>
              </a:tblGrid>
              <a:tr h="7239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5f5f5f"/>
                          </a:solidFill>
                          <a:latin typeface="Times New Roman"/>
                          <a:ea typeface="Calibri"/>
                        </a:rPr>
                        <a:t>                                          </a:t>
                      </a: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мя прилагательн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Что это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9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На какие вопросы отвечает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Что обозначает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С какой частью речи связано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9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В предложении является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Какую роль играет в речи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86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Rectangle 53"/>
          <p:cNvSpPr/>
          <p:nvPr/>
        </p:nvSpPr>
        <p:spPr>
          <a:xfrm>
            <a:off x="4437000" y="1785960"/>
            <a:ext cx="21895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algn="just">
              <a:lnSpc>
                <a:spcPct val="11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Часть ре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54"/>
          <p:cNvSpPr/>
          <p:nvPr/>
        </p:nvSpPr>
        <p:spPr>
          <a:xfrm>
            <a:off x="4508280" y="2286000"/>
            <a:ext cx="2943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algn="just">
              <a:lnSpc>
                <a:spcPct val="11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Какой?    кака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algn="just">
              <a:lnSpc>
                <a:spcPct val="11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какое?     ка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55"/>
          <p:cNvSpPr/>
          <p:nvPr/>
        </p:nvSpPr>
        <p:spPr>
          <a:xfrm>
            <a:off x="4519800" y="3214800"/>
            <a:ext cx="31996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algn="just">
              <a:lnSpc>
                <a:spcPct val="11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Признак предм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56"/>
          <p:cNvSpPr/>
          <p:nvPr/>
        </p:nvSpPr>
        <p:spPr>
          <a:xfrm>
            <a:off x="4500720" y="3786120"/>
            <a:ext cx="36432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just">
              <a:lnSpc>
                <a:spcPct val="11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С имен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algn="just">
              <a:lnSpc>
                <a:spcPct val="11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существитель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57"/>
          <p:cNvSpPr/>
          <p:nvPr/>
        </p:nvSpPr>
        <p:spPr>
          <a:xfrm>
            <a:off x="4444920" y="4786200"/>
            <a:ext cx="31435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algn="just">
              <a:lnSpc>
                <a:spcPct val="11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Второстепенны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algn="just">
              <a:lnSpc>
                <a:spcPct val="11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чле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58"/>
          <p:cNvSpPr/>
          <p:nvPr/>
        </p:nvSpPr>
        <p:spPr>
          <a:xfrm>
            <a:off x="4451040" y="5715000"/>
            <a:ext cx="4391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algn="just">
              <a:lnSpc>
                <a:spcPct val="11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Делает её более ярк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algn="just">
              <a:lnSpc>
                <a:spcPct val="11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выразительной, красоч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9"/>
          <p:cNvSpPr/>
          <p:nvPr/>
        </p:nvSpPr>
        <p:spPr>
          <a:xfrm>
            <a:off x="0" y="-28800"/>
            <a:ext cx="88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мы уже знаем об имени прилагательном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914400" y="1417680"/>
            <a:ext cx="7315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Microsoft Sans Serif"/>
              </a:rPr>
              <a:t>Минутка чистопис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a933"/>
                </a:solidFill>
                <a:latin typeface="Times New Roman"/>
              </a:rPr>
              <a:t>ая яя   ий ый   ое е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a933"/>
                </a:solidFill>
                <a:latin typeface="Times New Roman"/>
              </a:rPr>
              <a:t>ранняя светлый голубо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a933"/>
                </a:solidFill>
                <a:latin typeface="Times New Roman"/>
              </a:rPr>
              <a:t>Наступила ранняя весн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 rot="1020000">
            <a:off x="253800" y="4986360"/>
            <a:ext cx="1839600" cy="1514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6551640" y="4624560"/>
            <a:ext cx="1776240" cy="16398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1143000" y="1447920"/>
            <a:ext cx="73152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Times New Roman"/>
              </a:rPr>
              <a:t>       </a:t>
            </a:r>
            <a:r>
              <a:rPr b="0" lang="ru-RU" sz="4400" spc="-1" strike="noStrike">
                <a:solidFill>
                  <a:srgbClr val="5f5f5f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0" y="1944720"/>
            <a:ext cx="85392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a933"/>
                </a:solidFill>
                <a:latin typeface="Times New Roman"/>
              </a:rPr>
              <a:t>«Род имён прилагательных»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5f5f5f"/>
                </a:solidFill>
                <a:latin typeface="Times New Roman"/>
              </a:rPr>
              <a:t>Цель: </a:t>
            </a:r>
            <a:r>
              <a:rPr b="0" lang="ru-RU" sz="4800" spc="-1" strike="noStrike">
                <a:solidFill>
                  <a:srgbClr val="00a933"/>
                </a:solidFill>
                <a:latin typeface="Times New Roman"/>
              </a:rPr>
              <a:t>научиться определять род имен прилагательны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7238880" y="5203800"/>
            <a:ext cx="1447920" cy="1593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515880" y="431640"/>
            <a:ext cx="1139760" cy="13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3049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Microsoft Sans Serif"/>
              </a:rPr>
              <a:t>    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84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f5f5f"/>
                </a:solidFill>
                <a:latin typeface="Microsoft Sans Serif"/>
              </a:rPr>
              <a:t>      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19080" y="1152360"/>
            <a:ext cx="9124920" cy="568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914400" y="1057320"/>
            <a:ext cx="73152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287280" y="647640"/>
            <a:ext cx="8551800" cy="59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4d4d4d"/>
                </a:solidFill>
                <a:latin typeface="Microsoft Sans Serif"/>
              </a:rPr>
              <a:t>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158466"/>
                </a:solidFill>
                <a:latin typeface="Times New Roman"/>
              </a:rPr>
              <a:t>жёлтый песок жёлтая краска</a:t>
            </a:r>
            <a:br>
              <a:rPr sz="7200"/>
            </a:br>
            <a:r>
              <a:rPr b="0" lang="ru-RU" sz="7200" spc="-1" strike="noStrike">
                <a:solidFill>
                  <a:srgbClr val="158466"/>
                </a:solidFill>
                <a:latin typeface="Times New Roman"/>
              </a:rPr>
              <a:t>жёлтое плать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OEM</cp:lastModifiedBy>
  <cp:lastPrinted>2021-04-07T09:01:25Z</cp:lastPrinted>
  <dcterms:modified xsi:type="dcterms:W3CDTF">2021-04-08T00:47:13Z</dcterms:modified>
  <cp:revision>174</cp:revision>
  <dc:subject/>
  <dc:title>Name of presentation</dc:title>
</cp:coreProperties>
</file>