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9D9A8-7554-4760-960D-8093B1D74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54120-9308-43AA-A5FF-BC2D24E3B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80A8D-1B3F-4191-8222-47B32762C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D34BC-A763-48E9-94B1-800286175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82827-6321-42D9-B9E9-66E71E12D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E39F3-4109-4537-9844-F2C5E495F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51832-21C6-4943-9911-072EC1E7E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0D0B8-7BCD-4B88-B9AA-C17A66FC7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CA93C-854E-4C44-8520-44F2F3F98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20731-27A9-4415-92A9-398B66180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556EC-040F-48A5-8542-B47A05EA2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73C83-55A7-47F3-A51A-C9EC24101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6E692-CCBF-4981-9696-103757441D7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26920" y="260280"/>
            <a:ext cx="7772400" cy="43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Муниципальное бюджетное общеобразовательное учреждение «Танзыбейская средняя общеобразовательная школа»</a:t>
            </a:r>
            <a:br>
              <a:rPr sz="2000"/>
            </a:br>
            <a:br>
              <a:rPr sz="20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метапредметных УУД школьников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уроках истории средствами СДО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примере урока истории в 6 классе </a:t>
            </a:r>
            <a:br>
              <a:rPr sz="2800"/>
            </a:b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Владимиро-Суздальское княжество в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II-XIII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в.»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411280" y="4869000"/>
            <a:ext cx="6400800" cy="124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айнова Оксана Анатольевна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читель истории и обществознания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ысшей квалификационной категории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БОУ «Танзыбейская СОШ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9640" y="83628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облемный вопрос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: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чему Владимиро-Суздальское княжество в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II-XIII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в. стало одним из самых могущественных на Руси?</a:t>
            </a:r>
            <a:br>
              <a:rPr sz="2800"/>
            </a:br>
            <a:br>
              <a:rPr sz="2800"/>
            </a:b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Задача на урок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исследуя текст параграфа, выяснить причины усиления Владимиро-Суздальского княжества на Руси в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II-XII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в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4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уализация знаний опорных понятий</a:t>
            </a:r>
            <a:br>
              <a:rPr sz="24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точка №1 (СДО) (5 мин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394920" y="764640"/>
            <a:ext cx="8497800" cy="609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называется политической раздробленностью Руси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считается уделом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понимается под Великим княжеством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представляют собой бояре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выражает феодальная зависимость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является источником политической раздробленности на Руси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такое междоусобица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вы свойства и виды государственного управления на Руси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чем заключалась сущность  объединения Руси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Какое УУД развивается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Анализ объекта с целью выделения признаков (существенных и несущественных) – ЛогПУУД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Умение осознанно и произвольно строить речевое высказывание в устной и письменной форме – ОУПУУД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Умение выделять родо-видовые связи – Лог.ПУУД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Умение формулировать правильно суждение – Ком.УУД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Оценивать продукт своей деятельности по заданным критериям – Рег.УУД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Система заданий в СДО</a:t>
            </a:r>
            <a:br>
              <a:rPr sz="1800"/>
            </a:br>
            <a:r>
              <a:rPr b="1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 Работа с текстом учебни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250560" y="764640"/>
            <a:ext cx="8713800" cy="609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этап: индивидуальный труд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15 мин.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Раскройте смысл  понятий: аскетизм, архитектурный ансамбль, ополье, определите родовой (одна черта)и видовые признаки (две черты) этих понятий в п.13, толковом словаре Ожегова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Покажите на карте и назовите: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территорию и границы Владимиро-Суздальского княжества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крупные реки, столицу, соседей;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сформулируйте 4 суждения на сравнение Владимиро-Суздальского княжества с Киевским, выделяя 2 общих и 2 особенных признака (карточка №3). Сделайте вывод о выгодности географического положения Владимиро-Суздальского княжества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Почему у князя Юрия Владимировича было прозвище Долгорукий?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У Андрея Юрьевича – Боголюбский?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У Всеволода Юрьевича – Большое гнездо?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Вследствие чего правители Владимиро-Суздальского княжества стали самыми могущественными в Древнерусском государстве?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Вследствие чего Владимиро-Суздальское княжество стало одним из самых сильных княжеств в Древнерусском государстве в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II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III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в. Свой ответ выстроить в виде умозаключения (карточка №6)?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Какое УУД развивается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Смысловое чтение как осмысление цели чтения – ОУПУУД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Поиск и извлечение необходимой информации – ОУПУУД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Умение осознанно и произвольно строить речевое высказывание в устной и письменной форме – ОУПУУД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Анализ объекта с целью выделения признаков (существенных и несущественных) – ЛогПУУД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Выбор оснований и критериев для сравнения – ЛогПУУД.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Умение самостоятельно находить ресурсы для решения поставленной задачи – Рег. УУД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" dur="500"/>
                                        <p:tgtEl>
                                          <p:spTgt spid="4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4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" dur="500"/>
                                        <p:tgtEl>
                                          <p:spTgt spid="4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4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47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179280" y="188640"/>
            <a:ext cx="896472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I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этап: простая кооперация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(5 мин.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Задание: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обсудить в группах результаты индивидуального труда и подготовить выступление по теме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1 группа  «Переводчики»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мысл  понятий: аскетизм, архитектурный ансамбль, ополье, определите родовой (одна черта) и видовые признаки (две черты) у этих понятий в п.13, толковом словаре Ожегов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2 группа  «Географы»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— п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азать на карте и назвать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территорию и границы Владимиро-Суздальского княжества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крупные реки, столицу, соседей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сформулируйте 2 суждения на сравнение Владимиро-Суздальского княжества с Киевским, выделяя 1 общий и 1 особенный признаки (карточка №3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3 группа  «Историки»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чему у князя Юрия Владимировича было прозвище Долгорукий?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У Андрея Юрьевича – Боголюбский?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У Всеволода Юрьевича – Большое гнездо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4 группа «Эксперты» -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ледствие чего правители Владимиро-Суздальского княжества стали самыми могущественными в Древнерусском государстве?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доказать, что Владимиро-Суздальское княжество стало одним из самых сильных княжеств в Древнерусском государстве в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II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III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в. ? Свой ответ выстроить в виде умозаключения (карточка №6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Какие УУД развиваются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Составление плана выступления и последовательности действий (Рег.УУД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Умение слушать и вступать в диалог (Ком. УУД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Определение цели и функции участников группы (Ком. УУД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4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4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500"/>
                                        <p:tgtEl>
                                          <p:spTgt spid="4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250560" y="189000"/>
            <a:ext cx="871380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III</a:t>
            </a: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 этап: сложная кооперация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*Выступление групп по своей теме (по 3мин.)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*Возражения, дополнения других групп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*Каждая группа может задать выступающей группе по 1 вопросу-суждения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*Анализ и оценка выступления групп представителями других групп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000000"/>
                </a:solidFill>
                <a:uFillTx/>
                <a:latin typeface="Calibri"/>
              </a:rPr>
              <a:t>Какие УУД развиваются: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Умение осознанно и произвольно строить речевое высказывание в устной и письменной форме (ОУПУУД)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Умение слушать и вступать в диалог (Ком. УУД)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остановка вопросов (Ком. УУД, Лог.УУД)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Управление поведением партнера — контроль, коррекция, оценка действий партнера (Рег.Ком. УУД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5720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V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этап: самооценка инд.труда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«5» – 15 б. и боле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«4» – 12-14 б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«3» – 8-11 б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Какие УУД развиваются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* Контроль и оценка процесса и результата деятельности (учебных достижений) (Ком. УУД, Рег.УУД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" dur="500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7T01:11:26Z</dcterms:created>
  <dc:creator>User</dc:creator>
  <dc:description/>
  <dc:language>en-US</dc:language>
  <cp:lastModifiedBy>User</cp:lastModifiedBy>
  <dcterms:modified xsi:type="dcterms:W3CDTF">2017-06-09T05:43:11Z</dcterms:modified>
  <cp:revision>25</cp:revision>
  <dc:subject/>
  <dc:title>Муниципальное бюджетное общеобразовательное учреждение «Танзыбейская средняя общеобразовательная школа»  Социальное устройство Древней Руси  в XI и начале XII вв.</dc:title>
</cp:coreProperties>
</file>