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8B1-E36E-4EEF-95F9-27887BA6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DE0-765E-4B8E-B981-BC6B4D5D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906-0027-4D18-9F68-0557DE71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225-1D82-45CA-94C6-7DCA4405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302-FE6D-4BCD-AABF-2555A30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F98-8A52-425E-9C35-70AF7CF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5AC-3C84-4205-8471-210F5367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CE0-FA6B-454E-9596-E8094A07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404-8C24-4047-ADC7-F2F6670B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709-CA62-4E7A-AAD0-9A65AD92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413-E3BF-46F5-90F6-261AEF00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E3C-4DAD-42AB-9E9C-9BC48ACF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A93-BADB-4EBF-90BF-BB4E712C5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униципальное бюджетное общеобразовательное учреждение «Танзыбейская средняя общеобразовательная школа»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тапредметных УУД школь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истории средствами СД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мере урока истории в 6 классе </a:t>
            </a:r>
            <a:br>
              <a:rPr sz="28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ладимиро-Суздальское княжество 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йнова Оксана Анатольевн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БОУ «Танзыбейская СОШ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блемный вопро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ладимиро-Суздальское княжество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 стало одним из самых могущественных на Руси?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на уро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следуя текст параграфа, выяснить причины усиления Владимиро-Суздальского княжества на Руси 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-X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знаний опорных понятий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1 (СДО) (5 м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4920" y="764640"/>
            <a:ext cx="8497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называется политической раздробленностью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читается удел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нимается под Великим княжеств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едставляют собой бояр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ражает феодальная зависимос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источником политической раздробленности на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междоусобиц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свойства и виды государственного управления на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лась сущность  объединения Ру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акое УУД развиваетс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Анализ объекта с целью выделения признаков (существенных и несущественных) – Лог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осознанно и произвольно строить речевое высказывание в устной и письменной форме – ОУ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выделять родо-видовые связи – Лог.П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формулировать правильно суждение – Ком.УУ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ценивать продукт своей деятельности по заданным критериям – Рег.У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истема заданий в СДО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 Работа с текстом учеб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56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ап: индивидуальный тру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5 ми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кройте смысл  понятий: аскетизм, архитектурный ансамбль, ополье, определите родовой (одна черта)и видовые признаки (две черты) этих понятий в п.13, толковом словаре Ожего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кажите на карте и назовит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рриторию и границы Владимиро-Суздальского княжест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рупные реки, столицу, соседей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улируйте 4 суждения на сравнение Владимиро-Суздальского княжества с Киевским, выделяя 2 общих и 2 особенных признака (карточка №3). Сделайте вывод о выгодности географического положения Владимиро-Суздальского княжест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чему у князя Юрия Владимировича было прозвище Долгорукий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Андрея Юрьевича – Боголюбский?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Всеволода Юрьевича – Большое гнездо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следствие чего правители Владимиро-Суздальского княжества стали самыми могущественными в Древнерусском государстве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следствие чего Владимиро-Суздальское княжество стало одним из самых сильных княжеств в Древнерусском государстве 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Свой ответ выстроить в виде умозаключения (карточка №6)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ое УУД развиваетс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мысловое чтение как осмысление цели чтения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Поиск и извлечение необходимой информации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осознанно и произвольно строить речевое высказывание в устной и письменной форме – ОУ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Анализ объекта с целью выделения признаков (существенных и несущественных) – ЛогПУУ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ыбор оснований и критериев для сравнения – ЛогПУУД.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самостоятельно находить ресурсы для решения поставленной задачи – Рег.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этап: простая коопер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5 мин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бсудить в группах результаты индивидуального труда и подготовить выступление по тем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1 группа  «Переводч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 понятий: аскетизм, архитектурный ансамбль, ополье, определите родовой (одна черта) и видовые признаки (две черты) у этих понятий в п.13, толковом словаре Ожего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2 группа  «Географы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ть на карте и назва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рриторию и границы Владимиро-Суздальского княж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рупные реки, столицу, сосед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формулируйте 2 суждения на сравнение Владимиро-Суздальского княжества с Киевским, выделяя 1 общий и 1 особенный признаки (карточка №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3 группа  «Истор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 князя Юрия Владимировича было прозвище Долгорук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Андрея Юрьевича – Боголюбск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 Всеволода Юрьевича – Большое гнезд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группа «Эксперты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чего правители Владимиро-Суздальского княжества стали самыми могущественными в Древнерусском государстве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оказать, что Владимиро-Суздальское княжество стало одним из самых сильных княжеств в Древнерусском государств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. ? Свой ответ выстроить в виде умозаключения (карточка №6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ие УУД развиваютс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оставление плана выступления и последовательности действий (Рег.УУД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мение слушать и вступать в диалог (Ком. УУД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Определение цели и функции участников группы (Ком. УУ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0560" y="18900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этап: сложная коопер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Выступление групп по своей теме (по 3мин.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Возражения, дополнения других груп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Каждая группа может задать выступающей группе по 1 вопросу-сужд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*Анализ и оценка выступления групп представителями других груп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Какие УУД развиваютс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осознанно и произвольно строить речевое высказывание в устной и письменной форме (ОУПУУД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мение слушать и вступать в диалог (Ком. УУД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ановка вопросов (Ком. УУД, Лог.УУД)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поведением партнера — контроль, коррекция, оценка действий партнера (Рег.Ком. УУ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этап: самооценка инд.тру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5» – 15 б. и бол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4» – 12-14 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3» – 8-11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акие УУД развив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 Контроль и оценка процесса и результата деятельности (учебных достижений) (Ком. УУД, Рег.УУ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1:11:26Z</dcterms:created>
  <dc:creator>User</dc:creator>
  <dc:description/>
  <dc:language>en-US</dc:language>
  <cp:lastModifiedBy>User</cp:lastModifiedBy>
  <dcterms:modified xsi:type="dcterms:W3CDTF">2017-06-09T05:43:11Z</dcterms:modified>
  <cp:revision>25</cp:revision>
  <dc:subject/>
  <dc:title>Муниципальное бюджетное общеобразовательное учреждение «Танзыбейская средняя общеобразовательная школа»  Социальное устройство Древней Руси  в XI и начале XII вв.</dc:title>
</cp:coreProperties>
</file>