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4.png" ContentType="image/png"/>
  <Override PartName="/ppt/media/image21.jpeg" ContentType="image/jpeg"/>
  <Override PartName="/ppt/media/image28.jpeg" ContentType="image/jpeg"/>
  <Override PartName="/ppt/media/image5.jpeg" ContentType="image/jpeg"/>
  <Override PartName="/ppt/media/image26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1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30.png" ContentType="image/png"/>
  <Override PartName="/ppt/media/image8.jpeg" ContentType="image/jpeg"/>
  <Override PartName="/ppt/media/image29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3.jpeg" ContentType="image/jpeg"/>
  <Override PartName="/ppt/media/image20.png" ContentType="image/png"/>
  <Override PartName="/ppt/media/image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3884760" y="0"/>
            <a:ext cx="297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3360" cy="30844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4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E2214B-108B-45EE-B793-749BF2A282B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9B4F54-C08A-4C7F-9D0D-E86A5F25859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3E7A96-7EB5-4629-952C-264C3B3E4CE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8D0D37-0239-4C75-8383-1476CFDB33B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31CC27-4C45-4831-A062-F7650938D57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CC8D2C-6B34-4B54-8EB4-11B3F2B40A3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C4B1D5-D370-439E-8B78-57F1219136C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C9E4D4-DE8B-40A2-A477-3D187FEAA63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58A165-47F4-41B1-8E9C-E5828073C38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C553EC-32CC-4B09-98F1-49D64E0AB2A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56181D-4F67-4DEB-9283-89A6692DAD6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CCCE09-E36E-4480-8123-BEAC941ECD1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14968A-68C9-4235-9CBA-0C29A5F7D5E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0A3DE2-D63D-4839-A319-8716146ACC2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1FD60E-F2DD-40D1-9AD1-57D1820AFCA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CD392C-9E46-4DEB-9F91-362C3C38FFC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0662A1-ED21-40D0-9FD9-EBC78481DB6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626F7A-3CE1-4831-9D7E-C887CF1D1F8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B954B6-8063-4E89-91AB-9E64B6B9465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6A593F-8C58-4584-B281-C00A11C5ABA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938EED-9E4D-4E6D-ABEF-50121CDF751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918808-D700-4A49-A89F-D468584BF34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508E37-2E96-40C7-9E56-D5EDC7FB7E0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60D4D-550D-4118-9DEA-0FA932CF32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BB08E-E6EC-473F-9AEB-B322FE5EEC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A5537-D57D-4DF6-BEA2-E73BCC321E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DAB4B-E4AF-45B7-B1BF-B1CB18F559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5FA95-430D-4F14-A3BA-FC135DB877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D49D0-1A76-4545-9611-7FA3DBDF94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58C0A-9D20-45B9-9ECB-A65E26E36D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54BC2-7B53-4711-AB4A-D6480A8AAB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D233F-0F30-4D36-AEA0-F28DB31FC2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0F3CD-5150-4C92-A36A-8218914CF0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60EDA-4A8C-4062-81B6-1199105835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4F33F-6639-413C-B6A2-009AD2C4EB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A35346-9EF6-460F-BE6B-4D4514608640}" type="slidenum">
              <a:rPr b="0" lang="ru-RU" sz="14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606600" y="1090440"/>
            <a:ext cx="3493800" cy="4077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"/>
          <p:cNvSpPr/>
          <p:nvPr/>
        </p:nvSpPr>
        <p:spPr>
          <a:xfrm>
            <a:off x="4051440" y="1276200"/>
            <a:ext cx="496872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Надкласс Рыбы. Особенности внешнего и внутреннего строения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1"/>
          <p:cNvSpPr txBox="1"/>
          <p:nvPr/>
        </p:nvSpPr>
        <p:spPr>
          <a:xfrm>
            <a:off x="684360" y="404640"/>
            <a:ext cx="705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Разнообразие плавников</a:t>
            </a:r>
            <a:endParaRPr b="0" lang="en-US" sz="1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3"/>
          <a:stretch/>
        </p:blipFill>
        <p:spPr>
          <a:xfrm>
            <a:off x="4716360" y="1197000"/>
            <a:ext cx="4033800" cy="3029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4"/>
          <a:stretch/>
        </p:blipFill>
        <p:spPr>
          <a:xfrm>
            <a:off x="2484360" y="3645000"/>
            <a:ext cx="3745080" cy="2995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5"/>
          <a:stretch/>
        </p:blipFill>
        <p:spPr>
          <a:xfrm>
            <a:off x="250920" y="1197000"/>
            <a:ext cx="3959280" cy="29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317520" y="4048200"/>
            <a:ext cx="4521240" cy="179748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Мышечная система рыб имеет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Z-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бразные мышцы. Наиболее развиты мышцы спинной части тела. Они прикрепляются к  костям скелета, вместе с ним обеспечивая движение тела, плавников, челюстей, жаберных крыше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169920" y="1573200"/>
            <a:ext cx="75740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2.Позвонки имеют отростки – верхние и ниж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69920" y="1911240"/>
            <a:ext cx="6908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3. Верхние дуги смыкаются, образуя спинномозговой кана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36440" y="2182680"/>
            <a:ext cx="90075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4.Рёбра отграничивают полость тела сверху и с бок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69920" y="2475000"/>
            <a:ext cx="8272440" cy="1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5.Череп – костный, состоит из мозговой коробки, челюстных костей, жаберных дуг, жаберных крыше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36440" y="2976480"/>
            <a:ext cx="8574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6. Парные плавники -  грудные и брюшные – образованы большим количеством мелких кост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69920" y="1311120"/>
            <a:ext cx="90709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1. Позвоночник представлен и разделен на отдел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3228840" y="380880"/>
            <a:ext cx="20383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Georgia"/>
              </a:rPr>
              <a:t>Скеле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1"/>
          <a:stretch/>
        </p:blipFill>
        <p:spPr>
          <a:xfrm>
            <a:off x="1095480" y="3629160"/>
            <a:ext cx="6966000" cy="301788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1"/>
          <p:cNvSpPr txBox="1"/>
          <p:nvPr/>
        </p:nvSpPr>
        <p:spPr>
          <a:xfrm>
            <a:off x="395280" y="0"/>
            <a:ext cx="561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Органы чувств рыб</a:t>
            </a:r>
            <a:endParaRPr b="0" lang="en-US" sz="1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907920"/>
          <a:ext cx="9145440" cy="5905800"/>
        </p:xfrm>
        <a:graphic>
          <a:graphicData uri="http://schemas.openxmlformats.org/drawingml/2006/table">
            <a:tbl>
              <a:tblPr/>
              <a:tblGrid>
                <a:gridCol w="2170080"/>
                <a:gridCol w="4132440"/>
                <a:gridCol w="2842920"/>
              </a:tblGrid>
              <a:tr h="474840">
                <a:tc>
                  <a:txBody>
                    <a:bodyPr lIns="90000" rIns="90000" tIns="64440" bIns="46800" anchor="t">
                      <a:noAutofit/>
                    </a:bodyPr>
                    <a:p>
                      <a:pPr marL="343080" indent="-341640" algn="just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ы чувст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marL="343080" indent="-341640" algn="just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стро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marL="343080" indent="-341640" algn="just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5480">
                <a:tc>
                  <a:txBody>
                    <a:bodyPr lIns="90000" rIns="90000" tIns="71640" bIns="46800" anchor="t">
                      <a:noAutofit/>
                    </a:bodyPr>
                    <a:p>
                      <a:pPr marL="343080" indent="-341640" algn="just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здр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ждая поделена складочкой кожи на два отверстия: через одно вода входит, через другое - выходи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риятие запахов веществ, растворенных в вод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1080">
                <a:tc>
                  <a:txBody>
                    <a:bodyPr lIns="90000" rIns="90000" tIns="75240" bIns="46800" anchor="t">
                      <a:noAutofit/>
                    </a:bodyPr>
                    <a:p>
                      <a:pPr marL="343080" indent="-341640" algn="just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з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ие с плоской поверхностью – роговицей, за ней - хрустал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е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90000" rIns="90000" tIns="71640" bIns="46800" anchor="t">
                      <a:noAutofit/>
                    </a:bodyPr>
                    <a:p>
                      <a:pPr marL="343080" indent="-341640" algn="just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еннее ух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и черепа, к нему подходят слуховые нерв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ыш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9880">
                <a:tc>
                  <a:txBody>
                    <a:bodyPr lIns="90000" rIns="90000" tIns="71640" bIns="46800" anchor="t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равнове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жен рядом с внутренним ухо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8040" bIns="46800" anchor="t">
                      <a:noAutofit/>
                    </a:bodyPr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щущение положения тела, верх и низ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2238480" y="230040"/>
            <a:ext cx="513072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Georgia"/>
              </a:rPr>
              <a:t>Нервная систе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324000" y="3645000"/>
            <a:ext cx="8496000" cy="312408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</p:spPr>
      </p:pic>
      <p:sp>
        <p:nvSpPr>
          <p:cNvPr id="100" name="Text Box 3"/>
          <p:cNvSpPr/>
          <p:nvPr/>
        </p:nvSpPr>
        <p:spPr>
          <a:xfrm>
            <a:off x="141120" y="689040"/>
            <a:ext cx="8606160" cy="28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1.Состоит из головного, спинного мозга и отходящих нерв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2.Головной мозг включает 5  отдел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-перед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-промежуточ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-сред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-продолговатый(перехолит в спинной моз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-мозжеч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1773360" y="523800"/>
            <a:ext cx="558000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Georgia"/>
              </a:rPr>
              <a:t>Кровеносная систе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142920" y="1346040"/>
            <a:ext cx="8605800" cy="28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1. Замкнутая систе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2. Состоит из сердца, сосудов: артерии, вены, капиля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3. Артерии-это сосуды по которым кровь двигается от сердца к орган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4. Вены-это сосуды по которым кровь двигается от органов к сердц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5. Артериальная кровь-это кровь, насыщенная кислород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  <a:ea typeface="Times New Roman"/>
              </a:rPr>
              <a:t>6. Венозная кровь-это кровь насыщенная углекислым газ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Дыхание костных ры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0" y="4800600"/>
            <a:ext cx="9144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рганами дыхания костных рыб являются жабры. В процессе дыхания рыбы пропускают воду через глотку. В результате, вода, проходя через жаберные щели, омывает жабры, в которых совершается газообме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305920" cy="37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"/>
          <p:cNvSpPr/>
          <p:nvPr/>
        </p:nvSpPr>
        <p:spPr>
          <a:xfrm>
            <a:off x="1019160" y="119160"/>
            <a:ext cx="71708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Georgia"/>
              </a:rPr>
              <a:t>Пищеварительная систе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0" y="1052640"/>
            <a:ext cx="91440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663480" y="190440"/>
            <a:ext cx="78282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Georgia"/>
              </a:rPr>
              <a:t>Особенности хрящевых ры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1.Внутренний скелет состоит из хрящей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2.Жаберная щель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3.Не имеют плавательный пузырь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2475000" y="3205080"/>
            <a:ext cx="4278240" cy="32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0" y="87480"/>
            <a:ext cx="9144000" cy="677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1249200" y="293760"/>
            <a:ext cx="68742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Georgia"/>
              </a:rPr>
              <a:t>Выделительная систе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65040" y="1157400"/>
            <a:ext cx="8282160" cy="106740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инные лентовидные первичные почки, лежащие по бокам позвоночника над плавательным пузырём. По внутренним краям тянутся мочеточники, которые объединяются в мочеиспускательный канал ,  а далее в выделительное отверст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179280" y="2141640"/>
            <a:ext cx="8713800" cy="417168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541440" y="-774720"/>
            <a:ext cx="8229600" cy="48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Georgia"/>
              </a:rPr>
              <a:t>Особенности костных рыб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1.Внутренний скелет костный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2.Жаберная щель прикрыта с боков жаберной крышкой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3.Имеется плавательный пузыр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171880" y="3421080"/>
            <a:ext cx="4640040" cy="299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1"/>
          <p:cNvSpPr txBox="1"/>
          <p:nvPr/>
        </p:nvSpPr>
        <p:spPr>
          <a:xfrm>
            <a:off x="395280" y="260280"/>
            <a:ext cx="842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Класс Хрящевые рыбы</a:t>
            </a:r>
            <a:endParaRPr b="0" lang="en-US" sz="1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3"/>
          <a:stretch/>
        </p:blipFill>
        <p:spPr>
          <a:xfrm>
            <a:off x="324000" y="1413000"/>
            <a:ext cx="4564080" cy="3382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4"/>
          <a:stretch/>
        </p:blipFill>
        <p:spPr>
          <a:xfrm>
            <a:off x="4284720" y="3284640"/>
            <a:ext cx="4356000" cy="3267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5651640" y="1413000"/>
            <a:ext cx="2808000" cy="115236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Georgia"/>
              </a:rPr>
              <a:t>Акул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95280" y="5229360"/>
            <a:ext cx="2808360" cy="115236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Georgia"/>
              </a:rPr>
              <a:t>Скат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1"/>
          <p:cNvSpPr txBox="1"/>
          <p:nvPr/>
        </p:nvSpPr>
        <p:spPr>
          <a:xfrm>
            <a:off x="468360" y="404640"/>
            <a:ext cx="8351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Класс Костные Рыбы</a:t>
            </a:r>
            <a:endParaRPr b="0" lang="en-US" sz="1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4476600" cy="3581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4"/>
          <a:stretch/>
        </p:blipFill>
        <p:spPr>
          <a:xfrm>
            <a:off x="4284720" y="3141720"/>
            <a:ext cx="4476600" cy="33624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4976280" y="1846440"/>
            <a:ext cx="36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  <a:ea typeface="Arial"/>
              </a:rPr>
              <a:t>&gt;</a:t>
            </a:r>
            <a:r>
              <a:rPr b="0" lang="ru-RU" sz="4000" spc="-1" strike="noStrike">
                <a:solidFill>
                  <a:srgbClr val="ff6600"/>
                </a:solidFill>
                <a:latin typeface="Georgia"/>
                <a:ea typeface="Arial"/>
              </a:rPr>
              <a:t>19тыс.вид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Внешнее строение рыб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319560" y="2567160"/>
            <a:ext cx="5824440" cy="4252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4602240" y="969840"/>
            <a:ext cx="2744640" cy="159732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</p:spPr>
      </p:pic>
      <p:sp>
        <p:nvSpPr>
          <p:cNvPr id="69" name="Text Box 4"/>
          <p:cNvSpPr/>
          <p:nvPr/>
        </p:nvSpPr>
        <p:spPr>
          <a:xfrm>
            <a:off x="141120" y="998640"/>
            <a:ext cx="353088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бтекаемая форма тела, тело уплощено с боков, подразделяется на голову, туловище, хвос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Тело покрыт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ной чешуё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тонкими костными пластинками, черепицеобразно налегающими одна на другу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Скользкое на ощупь, чешуи прозрачные, имеют гладкий или зазубренный наружный кра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Окраска: верх тёмный, низ светлый. Снаружи чешуйчатый покров защищён слизь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1"/>
          <p:cNvSpPr txBox="1"/>
          <p:nvPr/>
        </p:nvSpPr>
        <p:spPr>
          <a:xfrm>
            <a:off x="684360" y="189000"/>
            <a:ext cx="7632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Многообразие форм</a:t>
            </a:r>
            <a:endParaRPr b="0" lang="en-US" sz="1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3"/>
          <a:stretch/>
        </p:blipFill>
        <p:spPr>
          <a:xfrm>
            <a:off x="324000" y="1125360"/>
            <a:ext cx="3095640" cy="2419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4"/>
          <a:stretch/>
        </p:blipFill>
        <p:spPr>
          <a:xfrm>
            <a:off x="826920" y="3716280"/>
            <a:ext cx="3961080" cy="2779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5"/>
          <a:stretch/>
        </p:blipFill>
        <p:spPr>
          <a:xfrm>
            <a:off x="5435640" y="1268280"/>
            <a:ext cx="3405240" cy="518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1"/>
          <p:cNvSpPr txBox="1"/>
          <p:nvPr/>
        </p:nvSpPr>
        <p:spPr>
          <a:xfrm>
            <a:off x="684360" y="189000"/>
            <a:ext cx="7632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Многообразие окраски</a:t>
            </a:r>
            <a:endParaRPr b="0" lang="en-US" sz="1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5219640" y="1197000"/>
            <a:ext cx="3456000" cy="2597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4"/>
          <a:stretch/>
        </p:blipFill>
        <p:spPr>
          <a:xfrm>
            <a:off x="2987640" y="3357720"/>
            <a:ext cx="4356000" cy="3271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5"/>
          <a:stretch/>
        </p:blipFill>
        <p:spPr>
          <a:xfrm>
            <a:off x="324000" y="1125360"/>
            <a:ext cx="3902040" cy="3121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20:28:10Z</dcterms:created>
  <dc:creator>UserWS</dc:creator>
  <dc:description/>
  <dc:language>en-US</dc:language>
  <cp:lastModifiedBy>Администратор</cp:lastModifiedBy>
  <dcterms:modified xsi:type="dcterms:W3CDTF">2022-05-05T07:03:47Z</dcterms:modified>
  <cp:revision>72</cp:revision>
  <dc:subject/>
  <dc:title>Слайд 1</dc:title>
</cp:coreProperties>
</file>