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36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26.png" ContentType="image/png"/>
  <Override PartName="/ppt/media/image45.wmf" ContentType="image/x-wmf"/>
  <Override PartName="/ppt/media/image51.wmf" ContentType="image/x-wmf"/>
  <Override PartName="/ppt/media/image40.wmf" ContentType="image/x-wmf"/>
  <Override PartName="/ppt/media/image48.jpeg" ContentType="image/jpeg"/>
  <Override PartName="/ppt/media/image52.wmf" ContentType="image/x-wmf"/>
  <Override PartName="/ppt/media/image41.wmf" ContentType="image/x-wmf"/>
  <Override PartName="/ppt/media/image39.wmf" ContentType="image/x-wmf"/>
  <Override PartName="/ppt/media/image53.wmf" ContentType="image/x-wmf"/>
  <Override PartName="/ppt/media/image54.wmf" ContentType="image/x-wmf"/>
  <Override PartName="/ppt/media/image17.wmf" ContentType="image/x-wmf"/>
  <Override PartName="/ppt/media/image43.wmf" ContentType="image/x-wmf"/>
  <Override PartName="/ppt/media/image13.jpeg" ContentType="image/jpeg"/>
  <Override PartName="/ppt/media/image55.wmf" ContentType="image/x-wmf"/>
  <Override PartName="/ppt/media/image44.wmf" ContentType="image/x-wmf"/>
  <Override PartName="/ppt/media/image46.jpeg" ContentType="image/jpeg"/>
  <Override PartName="/ppt/media/image56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1.wmf" ContentType="image/x-wmf"/>
  <Override PartName="/ppt/media/image30.wmf" ContentType="image/x-wmf"/>
  <Override PartName="/ppt/media/image9.png" ContentType="image/png"/>
  <Override PartName="/ppt/media/image42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42C6-98B4-4867-82ED-69533DB81E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A625-45FC-4824-850D-826C8F9613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2710-CBF5-4B86-B9BC-6DD30CA63C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12F6-5389-4DCB-9806-F4BFBA558C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1B66-F517-45B9-A497-38F1376644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A0B9-D45B-4338-9402-3F505FC19E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8056-B146-4B6E-8865-36FFE97BDF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7584-75BA-4322-B1E9-CB2771BC5D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5349-52AD-4F25-BB41-6B36C9F71A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2563-F677-488C-98E0-62EC3291E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BAAD-8556-4F16-BADB-98A8C6642F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FC6E-1350-453A-9A43-34ECC8AF1C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A311-617D-4C35-A168-067012671C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2141-389A-4600-AB30-012050CF97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2469-0ABB-439D-A60F-A0362BA442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D034-C1C1-41CA-B51A-1D71FC88D5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8E03-3F0B-4518-8081-802AE07FE6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352C-47CE-4E3B-8A4B-851C36E308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69F0-A2BC-4896-BA95-DD1103461D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1974-644E-4B07-B1FD-7F6BB7CA0B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9A5B-94DA-41A8-9DDA-918BE90517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8E64-0639-4F2C-BE3C-B0C0CA5115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5BF9-F8BA-442B-824C-357FB3608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4A37-4F8F-42FE-A875-585FE3B958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7F8A-BC2D-44FD-ADA5-2267CFE82C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E8F1-EB17-40AA-8603-BD4363F47A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43BE-F05D-415C-B82B-463D42D83D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D3B9-0CF2-4C8F-B935-0FB2BFE7ED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4D13-8146-4475-B0CB-9DAFC9715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7582-F9A2-4047-8D86-11CB975BCA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5D6B-0202-4B1B-BFDB-1106EC9389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1A31-4B4F-4202-93E1-3F2BF20550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87AA-4190-406C-8AC1-4F0989EF5B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68C2-0FF1-4948-8D82-BA92BD07CD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15B7-B9DA-43A1-9223-A94EC5891D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4CE6-61A2-49E4-B995-8881F27D31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208B-C925-455B-AE50-87330477AD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0BAE-701A-4D4B-8D40-B936C77830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6045-F393-4C66-8DB2-5C8D87ABAE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7E5A-BF00-4B6D-8922-B0EF6C6017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C515-AA25-43E5-B68C-20C9E0465A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366C-E9D8-4C90-B926-4967C6B1D7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94E-4695-4F52-BFAF-218C5158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129-E4E6-4D02-BD09-FF793D50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DAD-7A17-44D8-AF3C-7CD82A3F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6945-9B32-419D-966C-C24A8220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5F97-ECBC-4BAF-9AA7-B42FF16F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34B7-6396-4187-8445-CFCB2822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D300-7B72-42F5-BBD1-F540B048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58D9-A9CE-4D47-9361-4A6C9085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F717-E3C3-4766-AD21-69889169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C267-00D0-4DBA-AEA6-41453961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FDCF-7C2C-4000-939E-C49B329F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F33-3EE3-430B-8A10-2B8396C9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E91E-B7AF-4303-BEED-C6EBE851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959E-BB16-4750-B663-86684650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611B-93E5-417B-ACD5-1BBD437F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DF6A-ACC0-4E6D-A46E-17E20CF9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C2B8-3A1F-4214-A586-2A71B471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199-94F0-41DB-A1AB-21BAC833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667B-97E3-4848-AC11-CB9A326D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8A4-EECF-455A-BD8F-64CCF6BA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F45-57C8-4C2B-B9F6-3934E7AE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6F4-3F59-4DCC-A774-EEDF1C13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031-177E-44ED-B054-BB80409C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19A-49AE-4227-BE80-74328EA9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4F90-762B-4211-9DCA-41B1CDC3C72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2B85-DA8A-4A5A-859E-35CE30F0416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package" Target="../embeddings/oleObject1.docx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8.jpeg"/><Relationship Id="rId5" Type="http://schemas.openxmlformats.org/officeDocument/2006/relationships/image" Target="../media/image48.jpeg"/><Relationship Id="rId6" Type="http://schemas.openxmlformats.org/officeDocument/2006/relationships/image" Target="../media/image48.jpeg"/><Relationship Id="rId7" Type="http://schemas.openxmlformats.org/officeDocument/2006/relationships/image" Target="../media/image48.jpeg"/><Relationship Id="rId8" Type="http://schemas.openxmlformats.org/officeDocument/2006/relationships/package" Target="../embeddings/oleObject1.docx"/><Relationship Id="rId9" Type="http://schemas.openxmlformats.org/officeDocument/2006/relationships/image" Target="../media/image4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package" Target="../embeddings/oleObject1.docx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834C-9787-4F13-8BC7-12AC4134FBD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97160" y="2133360"/>
            <a:ext cx="73404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ельные теорем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ории вероятносте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50920" y="620280"/>
            <a:ext cx="6734160" cy="10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 advTm="0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190D-61EB-4FEE-B681-CF699C8EBF0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торое неравенство Чебышев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Object 8"/>
          <p:cNvGraphicFramePr/>
          <p:nvPr/>
        </p:nvGraphicFramePr>
        <p:xfrm>
          <a:off x="1327320" y="2279520"/>
          <a:ext cx="5292720" cy="30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2279520"/>
                    <a:ext cx="5292720" cy="30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3"/>
          <a:stretch/>
        </p:blipFill>
        <p:spPr>
          <a:xfrm>
            <a:off x="5867280" y="3500280"/>
            <a:ext cx="2225880" cy="244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cover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730D-B4AD-4326-9CB1-1CB28DBE0C4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торое неравенство Чебышева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Object 10"/>
          <p:cNvGraphicFramePr/>
          <p:nvPr/>
        </p:nvGraphicFramePr>
        <p:xfrm>
          <a:off x="971640" y="1916280"/>
          <a:ext cx="7947000" cy="44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16280"/>
                    <a:ext cx="794700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6E91-E4C3-41F4-9267-CB0CE20E0BA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4200" spc="-1" strike="noStrike">
                <a:solidFill>
                  <a:srgbClr val="333399"/>
                </a:solidFill>
                <a:latin typeface="Tahoma"/>
              </a:rPr>
              <a:t>Закон больших чисел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Object 8"/>
          <p:cNvGraphicFramePr/>
          <p:nvPr/>
        </p:nvGraphicFramePr>
        <p:xfrm>
          <a:off x="468360" y="2421000"/>
          <a:ext cx="8061120" cy="301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21000"/>
                    <a:ext cx="80611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0589-776C-4A43-BF6E-EA0FD3BF2EA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2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ов Андрей Андреевич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Марков Андрей Андреевич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уассон Симеон Ден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427640" y="2575080"/>
          <a:ext cx="3024000" cy="1707840"/>
        </p:xfrm>
        <a:graphic>
          <a:graphicData uri="http://schemas.openxmlformats.org/drawingml/2006/table">
            <a:tbl>
              <a:tblPr/>
              <a:tblGrid>
                <a:gridCol w="3024000"/>
              </a:tblGrid>
              <a:tr h="170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Object 13"/>
          <p:cNvGraphicFramePr/>
          <p:nvPr/>
        </p:nvGraphicFramePr>
        <p:xfrm>
          <a:off x="3708360" y="1982880"/>
          <a:ext cx="4649760" cy="40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82880"/>
                    <a:ext cx="46497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Picture 15" descr="Пуассон"/>
          <p:cNvPicPr/>
          <p:nvPr/>
        </p:nvPicPr>
        <p:blipFill>
          <a:blip r:embed="rId3"/>
          <a:stretch/>
        </p:blipFill>
        <p:spPr>
          <a:xfrm>
            <a:off x="826920" y="2349360"/>
            <a:ext cx="2256120" cy="3384720"/>
          </a:xfrm>
          <a:prstGeom prst="rect">
            <a:avLst/>
          </a:prstGeom>
          <a:ln w="0">
            <a:noFill/>
          </a:ln>
        </p:spPr>
      </p:pic>
    </p:spTree>
  </p:cSld>
  <p:transition spd="med" advTm="0">
    <p:cover dir="r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2A67-9013-4244-91D1-A57E573B821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реднее двух случайных величин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4" name="Object 7"/>
          <p:cNvGraphicFramePr/>
          <p:nvPr/>
        </p:nvGraphicFramePr>
        <p:xfrm>
          <a:off x="468360" y="2492280"/>
          <a:ext cx="8291520" cy="332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92280"/>
                    <a:ext cx="829152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8E61-09C5-424A-B3CC-DB151B91A0B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реднее пяти случайных величин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3816360" cy="32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Object 9"/>
          <p:cNvGraphicFramePr/>
          <p:nvPr/>
        </p:nvGraphicFramePr>
        <p:xfrm>
          <a:off x="3852720" y="1841400"/>
          <a:ext cx="4937400" cy="4340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2720" y="1841400"/>
                    <a:ext cx="493740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D62C-4674-4821-95BF-D5DF75AA9CE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800" spc="-1" strike="noStrike">
                <a:solidFill>
                  <a:srgbClr val="333399"/>
                </a:solidFill>
                <a:latin typeface="Tahoma"/>
              </a:rPr>
              <a:t>Сущность закона больших чисел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7" name="Object 6"/>
          <p:cNvGraphicFramePr/>
          <p:nvPr/>
        </p:nvGraphicFramePr>
        <p:xfrm>
          <a:off x="611280" y="2205000"/>
          <a:ext cx="7924680" cy="391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792468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4632-B540-4E70-88E1-35607E3CC8F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Теорема Чебышев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Object 7"/>
          <p:cNvGraphicFramePr/>
          <p:nvPr/>
        </p:nvGraphicFramePr>
        <p:xfrm>
          <a:off x="395280" y="2523960"/>
          <a:ext cx="8280360" cy="265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23960"/>
                    <a:ext cx="8280360" cy="26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B64E-7C98-4A0B-8CBC-9DFEED98231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3000" spc="-1" strike="noStrike">
                <a:solidFill>
                  <a:srgbClr val="333399"/>
                </a:solidFill>
                <a:latin typeface="Tahoma"/>
              </a:rPr>
              <a:t>Доказательство теоремы Чебышев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Object 11"/>
          <p:cNvGraphicFramePr/>
          <p:nvPr/>
        </p:nvGraphicFramePr>
        <p:xfrm>
          <a:off x="1332000" y="1916280"/>
          <a:ext cx="7624800" cy="399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16280"/>
                    <a:ext cx="762480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87C4-A768-4C77-8969-E6F08AF1378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ледствие теоремы Чебышев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450720" y="2475000"/>
          <a:ext cx="8290080" cy="267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2475000"/>
                    <a:ext cx="829008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DB4E-0393-49D1-8B66-E8C4D17873D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55640" y="2133360"/>
            <a:ext cx="79819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некоторых, достаточно широких условиях, суммарное поведение большого числа случайных величин утрачивает случайный характер и становится закономерны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6920" y="980640"/>
            <a:ext cx="6734520" cy="10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Можно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ли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установить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закономерность совокупного поведения случайных величин?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 advTm="0">
    <p:cover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10B7-B447-406E-A48D-AEC7FE93A54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ледствие теоремы Чебышева. Пример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3961080" cy="28083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3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3" name="Object 12"/>
          <p:cNvGraphicFramePr/>
          <p:nvPr/>
        </p:nvGraphicFramePr>
        <p:xfrm>
          <a:off x="5003640" y="2708280"/>
          <a:ext cx="293400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2708280"/>
                    <a:ext cx="2934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22B8-3DF7-4380-8F1A-96EDC2C424E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101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1" lang="ru-RU" sz="2600" spc="-1" strike="noStrike">
                <a:solidFill>
                  <a:srgbClr val="333399"/>
                </a:solidFill>
                <a:latin typeface="Tahoma"/>
              </a:rPr>
              <a:t>Практическое значение теоремы Чебышева.</a:t>
            </a:r>
            <a:br>
              <a:rPr sz="2600"/>
            </a:br>
            <a:r>
              <a:rPr b="1" lang="ru-RU" sz="2600" spc="-1" strike="noStrike">
                <a:solidFill>
                  <a:srgbClr val="333399"/>
                </a:solidFill>
                <a:latin typeface="Tahoma"/>
              </a:rPr>
              <a:t> ПРИМЕР.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" name="Object 9"/>
          <p:cNvGraphicFramePr/>
          <p:nvPr/>
        </p:nvGraphicFramePr>
        <p:xfrm>
          <a:off x="395280" y="2139840"/>
          <a:ext cx="8423280" cy="37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139840"/>
                    <a:ext cx="842328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18F5-05E5-4BBC-A16E-701A9D189E5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101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1" lang="ru-RU" sz="2600" spc="-1" strike="noStrike">
                <a:solidFill>
                  <a:srgbClr val="333399"/>
                </a:solidFill>
                <a:latin typeface="Tahoma"/>
              </a:rPr>
              <a:t>Практическое значение теоремы Чебышева.</a:t>
            </a:r>
            <a:br>
              <a:rPr sz="2600"/>
            </a:br>
            <a:r>
              <a:rPr b="1" lang="ru-RU" sz="2600" spc="-1" strike="noStrike">
                <a:solidFill>
                  <a:srgbClr val="333399"/>
                </a:solidFill>
                <a:latin typeface="Tahoma"/>
              </a:rPr>
              <a:t> ПРИМЕР.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Object 8"/>
          <p:cNvGraphicFramePr/>
          <p:nvPr/>
        </p:nvGraphicFramePr>
        <p:xfrm>
          <a:off x="250920" y="2349360"/>
          <a:ext cx="8464320" cy="34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349360"/>
                    <a:ext cx="846432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EBE2-1000-49E8-B2CB-D09A2AE689A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1" lang="ru-RU" sz="2600" spc="-1" strike="noStrike">
                <a:solidFill>
                  <a:srgbClr val="333399"/>
                </a:solidFill>
                <a:latin typeface="Tahoma"/>
              </a:rPr>
              <a:t>Практическое значение теоремы Чебышева.</a:t>
            </a:r>
            <a:br>
              <a:rPr sz="2600"/>
            </a:br>
            <a:r>
              <a:rPr b="1" lang="ru-RU" sz="2600" spc="-1" strike="noStrike">
                <a:solidFill>
                  <a:srgbClr val="333399"/>
                </a:solidFill>
                <a:latin typeface="Tahoma"/>
              </a:rPr>
              <a:t> ПРИМЕР.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Object 8"/>
          <p:cNvGraphicFramePr/>
          <p:nvPr/>
        </p:nvGraphicFramePr>
        <p:xfrm>
          <a:off x="187200" y="2060640"/>
          <a:ext cx="8394840" cy="395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2060640"/>
                    <a:ext cx="8394840" cy="39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35B2-F60A-41A4-BD24-403270F594F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765000"/>
            <a:ext cx="779292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Якоб Бернулли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1654 - 1705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2950920" cy="295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Object 7"/>
          <p:cNvGraphicFramePr/>
          <p:nvPr/>
        </p:nvGraphicFramePr>
        <p:xfrm>
          <a:off x="4067280" y="2276640"/>
          <a:ext cx="4267080" cy="3390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2276640"/>
                    <a:ext cx="426708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8020-F142-4012-B126-CA03FD6D674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Теорема Бернулл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Object 11"/>
          <p:cNvGraphicFramePr/>
          <p:nvPr/>
        </p:nvGraphicFramePr>
        <p:xfrm>
          <a:off x="266760" y="2276640"/>
          <a:ext cx="85374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2276640"/>
                    <a:ext cx="85374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4734-25C3-4E0E-8A9E-548D7D7D6E0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еорема Бернулл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9" name="Object 8"/>
          <p:cNvGraphicFramePr/>
          <p:nvPr/>
        </p:nvGraphicFramePr>
        <p:xfrm>
          <a:off x="395280" y="2421000"/>
          <a:ext cx="8424720" cy="31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421000"/>
                    <a:ext cx="842472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88F2-40B4-422C-A862-0C30A8C6DCF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еорема Бернулл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4" name="Object 6"/>
          <p:cNvGraphicFramePr/>
          <p:nvPr/>
        </p:nvGraphicFramePr>
        <p:xfrm>
          <a:off x="324000" y="2276640"/>
          <a:ext cx="8424720" cy="372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76640"/>
                    <a:ext cx="8424720" cy="37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406B-2379-4C95-BFBD-681AE01EB47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9280" y="18864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Центральная предельная теорем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Object 6"/>
          <p:cNvGraphicFramePr/>
          <p:nvPr/>
        </p:nvGraphicFramePr>
        <p:xfrm>
          <a:off x="395280" y="2276640"/>
          <a:ext cx="8389800" cy="299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76640"/>
                    <a:ext cx="8389800" cy="29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2497-97EA-461A-B646-ECCD965FAE7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800" spc="-1" strike="noStrike">
                <a:solidFill>
                  <a:srgbClr val="333399"/>
                </a:solidFill>
                <a:latin typeface="Tahoma"/>
              </a:rPr>
              <a:t>Сущность Ц.П.Т.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Object 6"/>
          <p:cNvGraphicFramePr/>
          <p:nvPr/>
        </p:nvGraphicFramePr>
        <p:xfrm>
          <a:off x="328680" y="2133720"/>
          <a:ext cx="8377200" cy="185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2133720"/>
                    <a:ext cx="837720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Picture 7" descr=""/>
          <p:cNvPicPr/>
          <p:nvPr/>
        </p:nvPicPr>
        <p:blipFill>
          <a:blip r:embed="rId3"/>
          <a:stretch/>
        </p:blipFill>
        <p:spPr>
          <a:xfrm>
            <a:off x="5605560" y="3860640"/>
            <a:ext cx="3538440" cy="21909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8"/>
          <p:cNvSpPr/>
          <p:nvPr/>
        </p:nvSpPr>
        <p:spPr>
          <a:xfrm>
            <a:off x="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0" name="Object 10"/>
          <p:cNvGraphicFramePr/>
          <p:nvPr/>
        </p:nvGraphicFramePr>
        <p:xfrm>
          <a:off x="3780000" y="3860640"/>
          <a:ext cx="1323720" cy="194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0000" y="3860640"/>
                    <a:ext cx="132372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2" name="Picture 11" descr=""/>
          <p:cNvPicPr/>
          <p:nvPr/>
        </p:nvPicPr>
        <p:blipFill>
          <a:blip r:embed="rId6"/>
          <a:stretch/>
        </p:blipFill>
        <p:spPr>
          <a:xfrm>
            <a:off x="250920" y="3860640"/>
            <a:ext cx="3457440" cy="2133720"/>
          </a:xfrm>
          <a:prstGeom prst="rect">
            <a:avLst/>
          </a:prstGeom>
          <a:ln w="0">
            <a:noFill/>
          </a:ln>
        </p:spPr>
      </p:pic>
    </p:spTree>
  </p:cSld>
  <p:transition spd="med" advTm="0">
    <p:cover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8135-C441-42E0-8347-CB55CC93271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Центральные предельные теоремы (Ц.П.Т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Ц.П.Т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класс теорем в теории вероятностей, утверждающих, чт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умма достаточно большого количества слабо зависимых случайных величи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еющих примерно одинаковые масштабы (ни одно из слагаемых не доминирует, не вносит в сумму определяющего вклада), имеет распредел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близкое к нормальном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0">
    <p:cover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2037-83A3-443D-9EE6-7418F2CC2D0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800"/>
            </a:br>
            <a:r>
              <a:rPr b="0" lang="ru-RU" sz="3800" spc="-1" strike="noStrike">
                <a:solidFill>
                  <a:srgbClr val="333399"/>
                </a:solidFill>
                <a:latin typeface="Tahoma"/>
              </a:rPr>
              <a:t>Ляпунов Александр Михайлович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427640" y="2575080"/>
          <a:ext cx="3024000" cy="1707840"/>
        </p:xfrm>
        <a:graphic>
          <a:graphicData uri="http://schemas.openxmlformats.org/drawingml/2006/table">
            <a:tbl>
              <a:tblPr/>
              <a:tblGrid>
                <a:gridCol w="3024000"/>
              </a:tblGrid>
              <a:tr h="17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8" name="Picture 12" descr="a214"/>
          <p:cNvPicPr/>
          <p:nvPr/>
        </p:nvPicPr>
        <p:blipFill>
          <a:blip r:embed="rId1"/>
          <a:stretch/>
        </p:blipFill>
        <p:spPr>
          <a:xfrm>
            <a:off x="684360" y="2133720"/>
            <a:ext cx="320976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Object 13"/>
          <p:cNvGraphicFramePr/>
          <p:nvPr/>
        </p:nvGraphicFramePr>
        <p:xfrm>
          <a:off x="4356000" y="1989000"/>
          <a:ext cx="4181400" cy="445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0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989000"/>
                    <a:ext cx="41814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4144-9943-41A7-A1A6-F1CC5EAB741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101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актическое значение Ц.П.Т.   ПРИМЕР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5" name="Object 8"/>
          <p:cNvGraphicFramePr/>
          <p:nvPr/>
        </p:nvGraphicFramePr>
        <p:xfrm>
          <a:off x="611280" y="2060640"/>
          <a:ext cx="7956360" cy="376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7956360" cy="37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706C-75DD-495D-9CDF-592E636B7C9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8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орема Ляпунова.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27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4" name="Object 31"/>
          <p:cNvGraphicFramePr/>
          <p:nvPr/>
        </p:nvGraphicFramePr>
        <p:xfrm>
          <a:off x="1258920" y="1773360"/>
          <a:ext cx="6624720" cy="44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73360"/>
                    <a:ext cx="66247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Rectangle 32"/>
          <p:cNvSpPr/>
          <p:nvPr/>
        </p:nvSpPr>
        <p:spPr>
          <a:xfrm>
            <a:off x="4970520" y="656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0">
    <p:cover dir="r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6562-B93D-4173-9811-C2E06C70469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8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орема Ляпунова.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4970520" y="656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5" name="Object 11"/>
          <p:cNvGraphicFramePr/>
          <p:nvPr/>
        </p:nvGraphicFramePr>
        <p:xfrm>
          <a:off x="287280" y="2133720"/>
          <a:ext cx="8532720" cy="33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2133720"/>
                    <a:ext cx="853272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B740-1A82-460F-B956-7865EC19F99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8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еорема Ляпунова. Пример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4970520" y="656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5" name="Object 11"/>
          <p:cNvGraphicFramePr/>
          <p:nvPr/>
        </p:nvGraphicFramePr>
        <p:xfrm>
          <a:off x="395280" y="1989000"/>
          <a:ext cx="8388360" cy="41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89000"/>
                    <a:ext cx="8388360" cy="41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BDDF-3703-47FD-A0BF-C1CCEB52511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800"/>
            </a:b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ледствие</a:t>
            </a: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еоремы Ляпунова.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4970520" y="656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5" name="Object 12"/>
          <p:cNvGraphicFramePr/>
          <p:nvPr/>
        </p:nvGraphicFramePr>
        <p:xfrm>
          <a:off x="1042920" y="2421000"/>
          <a:ext cx="6854760" cy="25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421000"/>
                    <a:ext cx="68547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41DD-95D3-4F14-9EA4-2C5467C0D19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8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Теорема Ляпунова. Пример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4103640" cy="295272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5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4" name="Object 9"/>
          <p:cNvGraphicFramePr/>
          <p:nvPr/>
        </p:nvGraphicFramePr>
        <p:xfrm>
          <a:off x="1487520" y="1987560"/>
          <a:ext cx="5718240" cy="2230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87520" y="1987560"/>
                    <a:ext cx="571824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Rectangle 10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7" name="Object 11"/>
          <p:cNvGraphicFramePr/>
          <p:nvPr/>
        </p:nvGraphicFramePr>
        <p:xfrm>
          <a:off x="4960800" y="2852640"/>
          <a:ext cx="3543480" cy="240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8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60800" y="2852640"/>
                    <a:ext cx="354348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9CF6-22D0-4B97-BE2B-4E19597EA55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Муавр Абрахам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148" descr="496publication_5"/>
          <p:cNvPicPr/>
          <p:nvPr/>
        </p:nvPicPr>
        <p:blipFill>
          <a:blip r:embed="rId1"/>
          <a:stretch/>
        </p:blipFill>
        <p:spPr>
          <a:xfrm>
            <a:off x="1042920" y="2492280"/>
            <a:ext cx="2303640" cy="28800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Line 53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4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55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56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Line 57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58"/>
          <p:cNvSpPr/>
          <p:nvPr/>
        </p:nvSpPr>
        <p:spPr>
          <a:xfrm>
            <a:off x="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59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60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61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62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63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64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6" name="Group 80"/>
          <p:cNvGrpSpPr/>
          <p:nvPr/>
        </p:nvGrpSpPr>
        <p:grpSpPr>
          <a:xfrm>
            <a:off x="-2147484240" y="958680"/>
            <a:ext cx="730080" cy="4941720"/>
            <a:chOff x="-2147484240" y="958680"/>
            <a:chExt cx="730080" cy="4941720"/>
          </a:xfrm>
        </p:grpSpPr>
        <p:sp>
          <p:nvSpPr>
            <p:cNvPr id="367" name="Rectangle 42"/>
            <p:cNvSpPr/>
            <p:nvPr/>
          </p:nvSpPr>
          <p:spPr>
            <a:xfrm>
              <a:off x="-214693668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Rectangle 35"/>
            <p:cNvSpPr/>
            <p:nvPr/>
          </p:nvSpPr>
          <p:spPr>
            <a:xfrm>
              <a:off x="-2147119200" y="1476360"/>
              <a:ext cx="182520" cy="442404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ru-RU" sz="7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</a:t>
              </a: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Rectangle 34"/>
            <p:cNvSpPr/>
            <p:nvPr/>
          </p:nvSpPr>
          <p:spPr>
            <a:xfrm>
              <a:off x="-214730172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Rectangle 32"/>
            <p:cNvSpPr/>
            <p:nvPr/>
          </p:nvSpPr>
          <p:spPr>
            <a:xfrm>
              <a:off x="-214748424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Rectangle 31"/>
            <p:cNvSpPr/>
            <p:nvPr/>
          </p:nvSpPr>
          <p:spPr>
            <a:xfrm>
              <a:off x="-2146936680" y="958680"/>
              <a:ext cx="182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21"/>
            <p:cNvSpPr/>
            <p:nvPr/>
          </p:nvSpPr>
          <p:spPr>
            <a:xfrm>
              <a:off x="-2147484240" y="958680"/>
              <a:ext cx="547560" cy="51768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"/>
              </a:b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Line 43"/>
            <p:cNvSpPr/>
            <p:nvPr/>
          </p:nvSpPr>
          <p:spPr>
            <a:xfrm>
              <a:off x="-2147484240" y="958680"/>
              <a:ext cx="73008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44"/>
            <p:cNvSpPr/>
            <p:nvPr/>
          </p:nvSpPr>
          <p:spPr>
            <a:xfrm>
              <a:off x="-2147484240" y="5900400"/>
              <a:ext cx="365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Line 45"/>
            <p:cNvSpPr/>
            <p:nvPr/>
          </p:nvSpPr>
          <p:spPr>
            <a:xfrm>
              <a:off x="-2147484240" y="958680"/>
              <a:ext cx="0" cy="49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Line 46"/>
            <p:cNvSpPr/>
            <p:nvPr/>
          </p:nvSpPr>
          <p:spPr>
            <a:xfrm>
              <a:off x="-2146754160" y="958680"/>
              <a:ext cx="0" cy="49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Line 49"/>
            <p:cNvSpPr/>
            <p:nvPr/>
          </p:nvSpPr>
          <p:spPr>
            <a:xfrm>
              <a:off x="-2147484240" y="147636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Line 65"/>
            <p:cNvSpPr/>
            <p:nvPr/>
          </p:nvSpPr>
          <p:spPr>
            <a:xfrm>
              <a:off x="-2147119200" y="1476360"/>
              <a:ext cx="36504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Line 67"/>
            <p:cNvSpPr/>
            <p:nvPr/>
          </p:nvSpPr>
          <p:spPr>
            <a:xfrm>
              <a:off x="-2147119200" y="590040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0" name="Line 69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70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Line 71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72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73"/>
          <p:cNvSpPr/>
          <p:nvPr/>
        </p:nvSpPr>
        <p:spPr>
          <a:xfrm>
            <a:off x="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Line 74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Line 75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76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77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Line 78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Picture 19" descr="496publication_5"/>
          <p:cNvPicPr/>
          <p:nvPr/>
        </p:nvPicPr>
        <p:blipFill>
          <a:blip r:embed="rId2"/>
          <a:stretch/>
        </p:blipFill>
        <p:spPr>
          <a:xfrm>
            <a:off x="-2147484240" y="153828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391" name="Line 119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120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121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122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123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Line 124"/>
          <p:cNvSpPr/>
          <p:nvPr/>
        </p:nvSpPr>
        <p:spPr>
          <a:xfrm>
            <a:off x="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Line 125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126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Line 127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128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Line 129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130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146"/>
          <p:cNvGrpSpPr/>
          <p:nvPr/>
        </p:nvGrpSpPr>
        <p:grpSpPr>
          <a:xfrm>
            <a:off x="-2147484240" y="958680"/>
            <a:ext cx="730080" cy="4941720"/>
            <a:chOff x="-2147484240" y="958680"/>
            <a:chExt cx="730080" cy="4941720"/>
          </a:xfrm>
        </p:grpSpPr>
        <p:sp>
          <p:nvSpPr>
            <p:cNvPr id="404" name="Rectangle 108"/>
            <p:cNvSpPr/>
            <p:nvPr/>
          </p:nvSpPr>
          <p:spPr>
            <a:xfrm>
              <a:off x="-214693668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Rectangle 101"/>
            <p:cNvSpPr/>
            <p:nvPr/>
          </p:nvSpPr>
          <p:spPr>
            <a:xfrm>
              <a:off x="-2147119200" y="1476360"/>
              <a:ext cx="182520" cy="442404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ru-RU" sz="7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</a:t>
              </a: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Rectangle 100"/>
            <p:cNvSpPr/>
            <p:nvPr/>
          </p:nvSpPr>
          <p:spPr>
            <a:xfrm>
              <a:off x="-214730172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Rectangle 98"/>
            <p:cNvSpPr/>
            <p:nvPr/>
          </p:nvSpPr>
          <p:spPr>
            <a:xfrm>
              <a:off x="-214748424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Rectangle 97"/>
            <p:cNvSpPr/>
            <p:nvPr/>
          </p:nvSpPr>
          <p:spPr>
            <a:xfrm>
              <a:off x="-2146936680" y="958680"/>
              <a:ext cx="182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Rectangle 87"/>
            <p:cNvSpPr/>
            <p:nvPr/>
          </p:nvSpPr>
          <p:spPr>
            <a:xfrm>
              <a:off x="-2147484240" y="958680"/>
              <a:ext cx="547560" cy="51768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"/>
              </a:b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Line 109"/>
            <p:cNvSpPr/>
            <p:nvPr/>
          </p:nvSpPr>
          <p:spPr>
            <a:xfrm>
              <a:off x="-2147484240" y="958680"/>
              <a:ext cx="73008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Line 110"/>
            <p:cNvSpPr/>
            <p:nvPr/>
          </p:nvSpPr>
          <p:spPr>
            <a:xfrm>
              <a:off x="-2147484240" y="5900400"/>
              <a:ext cx="365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Line 111"/>
            <p:cNvSpPr/>
            <p:nvPr/>
          </p:nvSpPr>
          <p:spPr>
            <a:xfrm>
              <a:off x="-2147484240" y="958680"/>
              <a:ext cx="0" cy="49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Line 112"/>
            <p:cNvSpPr/>
            <p:nvPr/>
          </p:nvSpPr>
          <p:spPr>
            <a:xfrm>
              <a:off x="-2146754160" y="958680"/>
              <a:ext cx="0" cy="49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Line 115"/>
            <p:cNvSpPr/>
            <p:nvPr/>
          </p:nvSpPr>
          <p:spPr>
            <a:xfrm>
              <a:off x="-2147484240" y="147636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Line 131"/>
            <p:cNvSpPr/>
            <p:nvPr/>
          </p:nvSpPr>
          <p:spPr>
            <a:xfrm>
              <a:off x="-2147119200" y="1476360"/>
              <a:ext cx="36504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Line 133"/>
            <p:cNvSpPr/>
            <p:nvPr/>
          </p:nvSpPr>
          <p:spPr>
            <a:xfrm>
              <a:off x="-2147119200" y="590040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7" name="Line 135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Line 136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Line 137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Line 138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Line 139"/>
          <p:cNvSpPr/>
          <p:nvPr/>
        </p:nvSpPr>
        <p:spPr>
          <a:xfrm>
            <a:off x="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Line 140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Line 141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Line 142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Line 143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Line 144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Picture 85" descr="496publication_5"/>
          <p:cNvPicPr/>
          <p:nvPr/>
        </p:nvPicPr>
        <p:blipFill>
          <a:blip r:embed="rId3"/>
          <a:stretch/>
        </p:blipFill>
        <p:spPr>
          <a:xfrm>
            <a:off x="-2147484240" y="153828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9"/>
          <p:cNvSpPr/>
          <p:nvPr/>
        </p:nvSpPr>
        <p:spPr>
          <a:xfrm>
            <a:off x="4032360" y="654840"/>
            <a:ext cx="44748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3920" rIns="2239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333333"/>
                </a:solidFill>
                <a:latin typeface="Arial"/>
              </a:rPr>
              <a:t>← </a:t>
            </a:r>
            <a:r>
              <a:rPr b="0" lang="ru-RU" sz="200" spc="-1" strike="noStrike">
                <a:solidFill>
                  <a:srgbClr val="333333"/>
                </a:solidFill>
                <a:latin typeface="Arial"/>
              </a:rPr>
              <a:t>предыдущая </a:t>
            </a:r>
            <a:endParaRPr b="0" lang="en-US" sz="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29" name="Object 151"/>
          <p:cNvGraphicFramePr/>
          <p:nvPr/>
        </p:nvGraphicFramePr>
        <p:xfrm>
          <a:off x="3924360" y="2349360"/>
          <a:ext cx="4392720" cy="3905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30" name="Object 15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4360" y="2349360"/>
                    <a:ext cx="439272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B838-474B-4673-B35A-F90D499CC66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Лаплас Пьер Симон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4" name="Picture 349" descr="3382"/>
          <p:cNvPicPr/>
          <p:nvPr/>
        </p:nvPicPr>
        <p:blipFill>
          <a:blip r:embed="rId1"/>
          <a:stretch/>
        </p:blipFill>
        <p:spPr>
          <a:xfrm>
            <a:off x="539640" y="1989000"/>
            <a:ext cx="3216240" cy="381636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Line 7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Line 8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Line 9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Line 10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Line 11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Line 12"/>
          <p:cNvSpPr/>
          <p:nvPr/>
        </p:nvSpPr>
        <p:spPr>
          <a:xfrm>
            <a:off x="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Line 13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Line 14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15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16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17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18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8" name="Group 19"/>
          <p:cNvGrpSpPr/>
          <p:nvPr/>
        </p:nvGrpSpPr>
        <p:grpSpPr>
          <a:xfrm>
            <a:off x="-2147484240" y="958680"/>
            <a:ext cx="730080" cy="4941720"/>
            <a:chOff x="-2147484240" y="958680"/>
            <a:chExt cx="730080" cy="4941720"/>
          </a:xfrm>
        </p:grpSpPr>
        <p:sp>
          <p:nvSpPr>
            <p:cNvPr id="449" name="Rectangle 20"/>
            <p:cNvSpPr/>
            <p:nvPr/>
          </p:nvSpPr>
          <p:spPr>
            <a:xfrm>
              <a:off x="-214693668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Rectangle 21"/>
            <p:cNvSpPr/>
            <p:nvPr/>
          </p:nvSpPr>
          <p:spPr>
            <a:xfrm>
              <a:off x="-2147119200" y="1476360"/>
              <a:ext cx="182520" cy="442404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ru-RU" sz="7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</a:t>
              </a: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22"/>
            <p:cNvSpPr/>
            <p:nvPr/>
          </p:nvSpPr>
          <p:spPr>
            <a:xfrm>
              <a:off x="-214730172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23"/>
            <p:cNvSpPr/>
            <p:nvPr/>
          </p:nvSpPr>
          <p:spPr>
            <a:xfrm>
              <a:off x="-214748424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Rectangle 24"/>
            <p:cNvSpPr/>
            <p:nvPr/>
          </p:nvSpPr>
          <p:spPr>
            <a:xfrm>
              <a:off x="-2146936680" y="958680"/>
              <a:ext cx="182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25"/>
            <p:cNvSpPr/>
            <p:nvPr/>
          </p:nvSpPr>
          <p:spPr>
            <a:xfrm>
              <a:off x="-2147484240" y="958680"/>
              <a:ext cx="547560" cy="51768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"/>
              </a:b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26"/>
            <p:cNvSpPr/>
            <p:nvPr/>
          </p:nvSpPr>
          <p:spPr>
            <a:xfrm>
              <a:off x="-2147484240" y="958680"/>
              <a:ext cx="73008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>
              <a:off x="-2147484240" y="5900400"/>
              <a:ext cx="365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Line 28"/>
            <p:cNvSpPr/>
            <p:nvPr/>
          </p:nvSpPr>
          <p:spPr>
            <a:xfrm>
              <a:off x="-2147484240" y="958680"/>
              <a:ext cx="0" cy="49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Line 29"/>
            <p:cNvSpPr/>
            <p:nvPr/>
          </p:nvSpPr>
          <p:spPr>
            <a:xfrm>
              <a:off x="-2146754160" y="958680"/>
              <a:ext cx="0" cy="49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Line 30"/>
            <p:cNvSpPr/>
            <p:nvPr/>
          </p:nvSpPr>
          <p:spPr>
            <a:xfrm>
              <a:off x="-2147484240" y="147636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Line 31"/>
            <p:cNvSpPr/>
            <p:nvPr/>
          </p:nvSpPr>
          <p:spPr>
            <a:xfrm>
              <a:off x="-2147119200" y="1476360"/>
              <a:ext cx="36504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Line 32"/>
            <p:cNvSpPr/>
            <p:nvPr/>
          </p:nvSpPr>
          <p:spPr>
            <a:xfrm>
              <a:off x="-2147119200" y="590040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2" name="Line 33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34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35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Line 36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37"/>
          <p:cNvSpPr/>
          <p:nvPr/>
        </p:nvSpPr>
        <p:spPr>
          <a:xfrm>
            <a:off x="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38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Line 39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40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41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42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2" name="Picture 43" descr="496publication_5"/>
          <p:cNvPicPr/>
          <p:nvPr/>
        </p:nvPicPr>
        <p:blipFill>
          <a:blip r:embed="rId2"/>
          <a:stretch/>
        </p:blipFill>
        <p:spPr>
          <a:xfrm>
            <a:off x="-2147484240" y="153828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473" name="Line 44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45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Line 46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47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Line 48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49"/>
          <p:cNvSpPr/>
          <p:nvPr/>
        </p:nvSpPr>
        <p:spPr>
          <a:xfrm>
            <a:off x="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50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51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52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53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54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55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5" name="Group 56"/>
          <p:cNvGrpSpPr/>
          <p:nvPr/>
        </p:nvGrpSpPr>
        <p:grpSpPr>
          <a:xfrm>
            <a:off x="-2147484240" y="958680"/>
            <a:ext cx="730080" cy="4941720"/>
            <a:chOff x="-2147484240" y="958680"/>
            <a:chExt cx="730080" cy="4941720"/>
          </a:xfrm>
        </p:grpSpPr>
        <p:sp>
          <p:nvSpPr>
            <p:cNvPr id="486" name="Rectangle 57"/>
            <p:cNvSpPr/>
            <p:nvPr/>
          </p:nvSpPr>
          <p:spPr>
            <a:xfrm>
              <a:off x="-214693668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Rectangle 58"/>
            <p:cNvSpPr/>
            <p:nvPr/>
          </p:nvSpPr>
          <p:spPr>
            <a:xfrm>
              <a:off x="-2147119200" y="1476360"/>
              <a:ext cx="182520" cy="442404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ru-RU" sz="7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</a:t>
              </a: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Rectangle 59"/>
            <p:cNvSpPr/>
            <p:nvPr/>
          </p:nvSpPr>
          <p:spPr>
            <a:xfrm>
              <a:off x="-214730172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Rectangle 60"/>
            <p:cNvSpPr/>
            <p:nvPr/>
          </p:nvSpPr>
          <p:spPr>
            <a:xfrm>
              <a:off x="-214748424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" name="Rectangle 61"/>
            <p:cNvSpPr/>
            <p:nvPr/>
          </p:nvSpPr>
          <p:spPr>
            <a:xfrm>
              <a:off x="-2146936680" y="958680"/>
              <a:ext cx="182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Rectangle 62"/>
            <p:cNvSpPr/>
            <p:nvPr/>
          </p:nvSpPr>
          <p:spPr>
            <a:xfrm>
              <a:off x="-2147484240" y="958680"/>
              <a:ext cx="547560" cy="51768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"/>
              </a:b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" name="Line 63"/>
            <p:cNvSpPr/>
            <p:nvPr/>
          </p:nvSpPr>
          <p:spPr>
            <a:xfrm>
              <a:off x="-2147484240" y="958680"/>
              <a:ext cx="73008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Line 64"/>
            <p:cNvSpPr/>
            <p:nvPr/>
          </p:nvSpPr>
          <p:spPr>
            <a:xfrm>
              <a:off x="-2147484240" y="5900400"/>
              <a:ext cx="365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Line 65"/>
            <p:cNvSpPr/>
            <p:nvPr/>
          </p:nvSpPr>
          <p:spPr>
            <a:xfrm>
              <a:off x="-2147484240" y="958680"/>
              <a:ext cx="0" cy="49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Line 66"/>
            <p:cNvSpPr/>
            <p:nvPr/>
          </p:nvSpPr>
          <p:spPr>
            <a:xfrm>
              <a:off x="-2146754160" y="958680"/>
              <a:ext cx="0" cy="49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Line 67"/>
            <p:cNvSpPr/>
            <p:nvPr/>
          </p:nvSpPr>
          <p:spPr>
            <a:xfrm>
              <a:off x="-2147484240" y="147636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Line 68"/>
            <p:cNvSpPr/>
            <p:nvPr/>
          </p:nvSpPr>
          <p:spPr>
            <a:xfrm>
              <a:off x="-2147119200" y="1476360"/>
              <a:ext cx="36504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Line 69"/>
            <p:cNvSpPr/>
            <p:nvPr/>
          </p:nvSpPr>
          <p:spPr>
            <a:xfrm>
              <a:off x="-2147119200" y="590040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Line 70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Line 71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Line 72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73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74"/>
          <p:cNvSpPr/>
          <p:nvPr/>
        </p:nvSpPr>
        <p:spPr>
          <a:xfrm>
            <a:off x="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75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76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Line 77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Line 78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Line 79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9" name="Picture 80" descr="496publication_5"/>
          <p:cNvPicPr/>
          <p:nvPr/>
        </p:nvPicPr>
        <p:blipFill>
          <a:blip r:embed="rId3"/>
          <a:stretch/>
        </p:blipFill>
        <p:spPr>
          <a:xfrm>
            <a:off x="-2147484240" y="153828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81"/>
          <p:cNvSpPr/>
          <p:nvPr/>
        </p:nvSpPr>
        <p:spPr>
          <a:xfrm>
            <a:off x="4032360" y="654840"/>
            <a:ext cx="44748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3920" rIns="2239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333333"/>
                </a:solidFill>
                <a:latin typeface="Arial"/>
              </a:rPr>
              <a:t>← </a:t>
            </a:r>
            <a:r>
              <a:rPr b="0" lang="ru-RU" sz="200" spc="-1" strike="noStrike">
                <a:solidFill>
                  <a:srgbClr val="333333"/>
                </a:solidFill>
                <a:latin typeface="Arial"/>
              </a:rPr>
              <a:t>предыдущая </a:t>
            </a:r>
            <a:endParaRPr b="0" lang="en-US" sz="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122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123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124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125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Line 126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Line 127"/>
          <p:cNvSpPr/>
          <p:nvPr/>
        </p:nvSpPr>
        <p:spPr>
          <a:xfrm>
            <a:off x="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Line 128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Line 129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Line 130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Line 131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Line 132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Line 133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3" name="Group 149"/>
          <p:cNvGrpSpPr/>
          <p:nvPr/>
        </p:nvGrpSpPr>
        <p:grpSpPr>
          <a:xfrm>
            <a:off x="-2147484240" y="-4060800"/>
            <a:ext cx="730080" cy="14981040"/>
            <a:chOff x="-2147484240" y="-4060800"/>
            <a:chExt cx="730080" cy="14981040"/>
          </a:xfrm>
        </p:grpSpPr>
        <p:sp>
          <p:nvSpPr>
            <p:cNvPr id="524" name="Rectangle 111"/>
            <p:cNvSpPr/>
            <p:nvPr/>
          </p:nvSpPr>
          <p:spPr>
            <a:xfrm>
              <a:off x="-214693668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Rectangle 104"/>
            <p:cNvSpPr/>
            <p:nvPr/>
          </p:nvSpPr>
          <p:spPr>
            <a:xfrm>
              <a:off x="-2147119200" y="-3543120"/>
              <a:ext cx="182520" cy="1446336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ru-RU" sz="24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</a:t>
              </a: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Rectangle 103"/>
            <p:cNvSpPr/>
            <p:nvPr/>
          </p:nvSpPr>
          <p:spPr>
            <a:xfrm>
              <a:off x="-214730172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Rectangle 101"/>
            <p:cNvSpPr/>
            <p:nvPr/>
          </p:nvSpPr>
          <p:spPr>
            <a:xfrm>
              <a:off x="-214748424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Rectangle 100"/>
            <p:cNvSpPr/>
            <p:nvPr/>
          </p:nvSpPr>
          <p:spPr>
            <a:xfrm>
              <a:off x="-2146936680" y="-4060800"/>
              <a:ext cx="18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Rectangle 90"/>
            <p:cNvSpPr/>
            <p:nvPr/>
          </p:nvSpPr>
          <p:spPr>
            <a:xfrm>
              <a:off x="-2147484240" y="-4060800"/>
              <a:ext cx="547560" cy="51732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"/>
              </a:b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Line 112"/>
            <p:cNvSpPr/>
            <p:nvPr/>
          </p:nvSpPr>
          <p:spPr>
            <a:xfrm>
              <a:off x="-2147484240" y="-4060800"/>
              <a:ext cx="73008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Line 113"/>
            <p:cNvSpPr/>
            <p:nvPr/>
          </p:nvSpPr>
          <p:spPr>
            <a:xfrm>
              <a:off x="-2147484240" y="10920240"/>
              <a:ext cx="365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114"/>
            <p:cNvSpPr/>
            <p:nvPr/>
          </p:nvSpPr>
          <p:spPr>
            <a:xfrm>
              <a:off x="-2147484240" y="-4060800"/>
              <a:ext cx="0" cy="149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115"/>
            <p:cNvSpPr/>
            <p:nvPr/>
          </p:nvSpPr>
          <p:spPr>
            <a:xfrm>
              <a:off x="-2146754160" y="-4060800"/>
              <a:ext cx="0" cy="149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118"/>
            <p:cNvSpPr/>
            <p:nvPr/>
          </p:nvSpPr>
          <p:spPr>
            <a:xfrm>
              <a:off x="-2147484240" y="-354312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134"/>
            <p:cNvSpPr/>
            <p:nvPr/>
          </p:nvSpPr>
          <p:spPr>
            <a:xfrm>
              <a:off x="-2147119200" y="-3543120"/>
              <a:ext cx="36504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Line 136"/>
            <p:cNvSpPr/>
            <p:nvPr/>
          </p:nvSpPr>
          <p:spPr>
            <a:xfrm>
              <a:off x="-2147119200" y="1092024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7" name="Line 138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Line 139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Line 140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Line 141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Line 142"/>
          <p:cNvSpPr/>
          <p:nvPr/>
        </p:nvSpPr>
        <p:spPr>
          <a:xfrm>
            <a:off x="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Line 143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Line 144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Line 145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146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Line 147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7" name="Picture 88" descr="3382"/>
          <p:cNvPicPr/>
          <p:nvPr/>
        </p:nvPicPr>
        <p:blipFill>
          <a:blip r:embed="rId4"/>
          <a:stretch/>
        </p:blipFill>
        <p:spPr>
          <a:xfrm>
            <a:off x="-2147484240" y="-3481560"/>
            <a:ext cx="3209760" cy="3810240"/>
          </a:xfrm>
          <a:prstGeom prst="rect">
            <a:avLst/>
          </a:prstGeom>
          <a:ln w="0">
            <a:noFill/>
          </a:ln>
        </p:spPr>
      </p:pic>
      <p:sp>
        <p:nvSpPr>
          <p:cNvPr id="548" name="Line 188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189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Line 190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Line 191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Line 192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Line 193"/>
          <p:cNvSpPr/>
          <p:nvPr/>
        </p:nvSpPr>
        <p:spPr>
          <a:xfrm>
            <a:off x="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194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195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196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197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Line 198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Line 199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0" name="Group 215"/>
          <p:cNvGrpSpPr/>
          <p:nvPr/>
        </p:nvGrpSpPr>
        <p:grpSpPr>
          <a:xfrm>
            <a:off x="-2147484240" y="-4060800"/>
            <a:ext cx="730080" cy="14981040"/>
            <a:chOff x="-2147484240" y="-4060800"/>
            <a:chExt cx="730080" cy="14981040"/>
          </a:xfrm>
        </p:grpSpPr>
        <p:sp>
          <p:nvSpPr>
            <p:cNvPr id="561" name="Rectangle 177"/>
            <p:cNvSpPr/>
            <p:nvPr/>
          </p:nvSpPr>
          <p:spPr>
            <a:xfrm>
              <a:off x="-214693668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Rectangle 170"/>
            <p:cNvSpPr/>
            <p:nvPr/>
          </p:nvSpPr>
          <p:spPr>
            <a:xfrm>
              <a:off x="-2147119200" y="-3543120"/>
              <a:ext cx="182520" cy="1446336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ru-RU" sz="24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</a:t>
              </a: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Rectangle 169"/>
            <p:cNvSpPr/>
            <p:nvPr/>
          </p:nvSpPr>
          <p:spPr>
            <a:xfrm>
              <a:off x="-214730172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Rectangle 167"/>
            <p:cNvSpPr/>
            <p:nvPr/>
          </p:nvSpPr>
          <p:spPr>
            <a:xfrm>
              <a:off x="-214748424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Rectangle 166"/>
            <p:cNvSpPr/>
            <p:nvPr/>
          </p:nvSpPr>
          <p:spPr>
            <a:xfrm>
              <a:off x="-2146936680" y="-4060800"/>
              <a:ext cx="18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Rectangle 156"/>
            <p:cNvSpPr/>
            <p:nvPr/>
          </p:nvSpPr>
          <p:spPr>
            <a:xfrm>
              <a:off x="-2147484240" y="-4060800"/>
              <a:ext cx="547560" cy="51732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"/>
              </a:b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178"/>
            <p:cNvSpPr/>
            <p:nvPr/>
          </p:nvSpPr>
          <p:spPr>
            <a:xfrm>
              <a:off x="-2147484240" y="-4060800"/>
              <a:ext cx="73008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179"/>
            <p:cNvSpPr/>
            <p:nvPr/>
          </p:nvSpPr>
          <p:spPr>
            <a:xfrm>
              <a:off x="-2147484240" y="10920240"/>
              <a:ext cx="365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180"/>
            <p:cNvSpPr/>
            <p:nvPr/>
          </p:nvSpPr>
          <p:spPr>
            <a:xfrm>
              <a:off x="-2147484240" y="-4060800"/>
              <a:ext cx="0" cy="149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181"/>
            <p:cNvSpPr/>
            <p:nvPr/>
          </p:nvSpPr>
          <p:spPr>
            <a:xfrm>
              <a:off x="-2146754160" y="-4060800"/>
              <a:ext cx="0" cy="149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Line 184"/>
            <p:cNvSpPr/>
            <p:nvPr/>
          </p:nvSpPr>
          <p:spPr>
            <a:xfrm>
              <a:off x="-2147484240" y="-354312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Line 200"/>
            <p:cNvSpPr/>
            <p:nvPr/>
          </p:nvSpPr>
          <p:spPr>
            <a:xfrm>
              <a:off x="-2147119200" y="-3543120"/>
              <a:ext cx="36504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Line 202"/>
            <p:cNvSpPr/>
            <p:nvPr/>
          </p:nvSpPr>
          <p:spPr>
            <a:xfrm>
              <a:off x="-2147119200" y="1092024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4" name="Line 204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205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206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207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208"/>
          <p:cNvSpPr/>
          <p:nvPr/>
        </p:nvSpPr>
        <p:spPr>
          <a:xfrm>
            <a:off x="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Line 209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Line 210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Line 211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Line 212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Line 213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" name="Picture 154" descr="3382"/>
          <p:cNvPicPr/>
          <p:nvPr/>
        </p:nvPicPr>
        <p:blipFill>
          <a:blip r:embed="rId5"/>
          <a:stretch/>
        </p:blipFill>
        <p:spPr>
          <a:xfrm>
            <a:off x="-2147484240" y="-3481560"/>
            <a:ext cx="3209760" cy="3810240"/>
          </a:xfrm>
          <a:prstGeom prst="rect">
            <a:avLst/>
          </a:prstGeom>
          <a:ln w="0">
            <a:noFill/>
          </a:ln>
        </p:spPr>
      </p:pic>
      <p:sp>
        <p:nvSpPr>
          <p:cNvPr id="585" name="Line 254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Line 255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Line 256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Line 257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Line 258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Line 259"/>
          <p:cNvSpPr/>
          <p:nvPr/>
        </p:nvSpPr>
        <p:spPr>
          <a:xfrm>
            <a:off x="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Line 260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Line 261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Line 262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Line 263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Line 264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Line 265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7" name="Group 281"/>
          <p:cNvGrpSpPr/>
          <p:nvPr/>
        </p:nvGrpSpPr>
        <p:grpSpPr>
          <a:xfrm>
            <a:off x="-2147484240" y="-4060800"/>
            <a:ext cx="730080" cy="14981040"/>
            <a:chOff x="-2147484240" y="-4060800"/>
            <a:chExt cx="730080" cy="14981040"/>
          </a:xfrm>
        </p:grpSpPr>
        <p:sp>
          <p:nvSpPr>
            <p:cNvPr id="598" name="Rectangle 243"/>
            <p:cNvSpPr/>
            <p:nvPr/>
          </p:nvSpPr>
          <p:spPr>
            <a:xfrm>
              <a:off x="-214693668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Rectangle 236"/>
            <p:cNvSpPr/>
            <p:nvPr/>
          </p:nvSpPr>
          <p:spPr>
            <a:xfrm>
              <a:off x="-2147119200" y="-3543120"/>
              <a:ext cx="182520" cy="1446336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ru-RU" sz="24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</a:t>
              </a: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Rectangle 235"/>
            <p:cNvSpPr/>
            <p:nvPr/>
          </p:nvSpPr>
          <p:spPr>
            <a:xfrm>
              <a:off x="-214730172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Rectangle 233"/>
            <p:cNvSpPr/>
            <p:nvPr/>
          </p:nvSpPr>
          <p:spPr>
            <a:xfrm>
              <a:off x="-214748424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Rectangle 232"/>
            <p:cNvSpPr/>
            <p:nvPr/>
          </p:nvSpPr>
          <p:spPr>
            <a:xfrm>
              <a:off x="-2146936680" y="-4060800"/>
              <a:ext cx="18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Rectangle 222"/>
            <p:cNvSpPr/>
            <p:nvPr/>
          </p:nvSpPr>
          <p:spPr>
            <a:xfrm>
              <a:off x="-2147484240" y="-4060800"/>
              <a:ext cx="547560" cy="51732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"/>
              </a:b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Line 244"/>
            <p:cNvSpPr/>
            <p:nvPr/>
          </p:nvSpPr>
          <p:spPr>
            <a:xfrm>
              <a:off x="-2147484240" y="-4060800"/>
              <a:ext cx="73008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Line 245"/>
            <p:cNvSpPr/>
            <p:nvPr/>
          </p:nvSpPr>
          <p:spPr>
            <a:xfrm>
              <a:off x="-2147484240" y="10920240"/>
              <a:ext cx="365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Line 246"/>
            <p:cNvSpPr/>
            <p:nvPr/>
          </p:nvSpPr>
          <p:spPr>
            <a:xfrm>
              <a:off x="-2147484240" y="-4060800"/>
              <a:ext cx="0" cy="149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Line 247"/>
            <p:cNvSpPr/>
            <p:nvPr/>
          </p:nvSpPr>
          <p:spPr>
            <a:xfrm>
              <a:off x="-2146754160" y="-4060800"/>
              <a:ext cx="0" cy="149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Line 250"/>
            <p:cNvSpPr/>
            <p:nvPr/>
          </p:nvSpPr>
          <p:spPr>
            <a:xfrm>
              <a:off x="-2147484240" y="-354312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Line 266"/>
            <p:cNvSpPr/>
            <p:nvPr/>
          </p:nvSpPr>
          <p:spPr>
            <a:xfrm>
              <a:off x="-2147119200" y="-3543120"/>
              <a:ext cx="36504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268"/>
            <p:cNvSpPr/>
            <p:nvPr/>
          </p:nvSpPr>
          <p:spPr>
            <a:xfrm>
              <a:off x="-2147119200" y="1092024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1" name="Line 270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Line 271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Line 272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Line 273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Line 274"/>
          <p:cNvSpPr/>
          <p:nvPr/>
        </p:nvSpPr>
        <p:spPr>
          <a:xfrm>
            <a:off x="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Line 275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Line 276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Line 277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Line 278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Line 279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1" name="Picture 220" descr="3382"/>
          <p:cNvPicPr/>
          <p:nvPr/>
        </p:nvPicPr>
        <p:blipFill>
          <a:blip r:embed="rId6"/>
          <a:stretch/>
        </p:blipFill>
        <p:spPr>
          <a:xfrm>
            <a:off x="-2147484240" y="-3481560"/>
            <a:ext cx="3209760" cy="3810240"/>
          </a:xfrm>
          <a:prstGeom prst="rect">
            <a:avLst/>
          </a:prstGeom>
          <a:ln w="0">
            <a:noFill/>
          </a:ln>
        </p:spPr>
      </p:pic>
      <p:sp>
        <p:nvSpPr>
          <p:cNvPr id="622" name="Line 320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Line 321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322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Line 323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Line 324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325"/>
          <p:cNvSpPr/>
          <p:nvPr/>
        </p:nvSpPr>
        <p:spPr>
          <a:xfrm>
            <a:off x="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326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327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328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Line 329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330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331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4" name="Group 347"/>
          <p:cNvGrpSpPr/>
          <p:nvPr/>
        </p:nvGrpSpPr>
        <p:grpSpPr>
          <a:xfrm>
            <a:off x="-2147484240" y="-4060800"/>
            <a:ext cx="730080" cy="14981040"/>
            <a:chOff x="-2147484240" y="-4060800"/>
            <a:chExt cx="730080" cy="14981040"/>
          </a:xfrm>
        </p:grpSpPr>
        <p:sp>
          <p:nvSpPr>
            <p:cNvPr id="635" name="Rectangle 309"/>
            <p:cNvSpPr/>
            <p:nvPr/>
          </p:nvSpPr>
          <p:spPr>
            <a:xfrm>
              <a:off x="-214693668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Rectangle 302"/>
            <p:cNvSpPr/>
            <p:nvPr/>
          </p:nvSpPr>
          <p:spPr>
            <a:xfrm>
              <a:off x="-2147119200" y="-3543120"/>
              <a:ext cx="182520" cy="1446336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ru-RU" sz="24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</a:t>
              </a: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Rectangle 301"/>
            <p:cNvSpPr/>
            <p:nvPr/>
          </p:nvSpPr>
          <p:spPr>
            <a:xfrm>
              <a:off x="-214730172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Rectangle 299"/>
            <p:cNvSpPr/>
            <p:nvPr/>
          </p:nvSpPr>
          <p:spPr>
            <a:xfrm>
              <a:off x="-214748424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Rectangle 298"/>
            <p:cNvSpPr/>
            <p:nvPr/>
          </p:nvSpPr>
          <p:spPr>
            <a:xfrm>
              <a:off x="-2146936680" y="-4060800"/>
              <a:ext cx="18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Rectangle 288"/>
            <p:cNvSpPr/>
            <p:nvPr/>
          </p:nvSpPr>
          <p:spPr>
            <a:xfrm>
              <a:off x="-2147484240" y="-4060800"/>
              <a:ext cx="547560" cy="51732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"/>
              </a:b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Line 310"/>
            <p:cNvSpPr/>
            <p:nvPr/>
          </p:nvSpPr>
          <p:spPr>
            <a:xfrm>
              <a:off x="-2147484240" y="-4060800"/>
              <a:ext cx="73008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Line 311"/>
            <p:cNvSpPr/>
            <p:nvPr/>
          </p:nvSpPr>
          <p:spPr>
            <a:xfrm>
              <a:off x="-2147484240" y="10920240"/>
              <a:ext cx="365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312"/>
            <p:cNvSpPr/>
            <p:nvPr/>
          </p:nvSpPr>
          <p:spPr>
            <a:xfrm>
              <a:off x="-2147484240" y="-4060800"/>
              <a:ext cx="0" cy="149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Line 313"/>
            <p:cNvSpPr/>
            <p:nvPr/>
          </p:nvSpPr>
          <p:spPr>
            <a:xfrm>
              <a:off x="-2146754160" y="-4060800"/>
              <a:ext cx="0" cy="149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Line 316"/>
            <p:cNvSpPr/>
            <p:nvPr/>
          </p:nvSpPr>
          <p:spPr>
            <a:xfrm>
              <a:off x="-2147484240" y="-354312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Line 332"/>
            <p:cNvSpPr/>
            <p:nvPr/>
          </p:nvSpPr>
          <p:spPr>
            <a:xfrm>
              <a:off x="-2147119200" y="-3543120"/>
              <a:ext cx="36504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Line 334"/>
            <p:cNvSpPr/>
            <p:nvPr/>
          </p:nvSpPr>
          <p:spPr>
            <a:xfrm>
              <a:off x="-2147119200" y="1092024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8" name="Line 336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Line 337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338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339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340"/>
          <p:cNvSpPr/>
          <p:nvPr/>
        </p:nvSpPr>
        <p:spPr>
          <a:xfrm>
            <a:off x="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341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Line 342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343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Line 344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Line 345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8" name="Picture 286" descr="3382"/>
          <p:cNvPicPr/>
          <p:nvPr/>
        </p:nvPicPr>
        <p:blipFill>
          <a:blip r:embed="rId7"/>
          <a:stretch/>
        </p:blipFill>
        <p:spPr>
          <a:xfrm>
            <a:off x="-2147484240" y="-3481560"/>
            <a:ext cx="320976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9" name="Object 352"/>
          <p:cNvGraphicFramePr/>
          <p:nvPr/>
        </p:nvGraphicFramePr>
        <p:xfrm>
          <a:off x="4284720" y="1844640"/>
          <a:ext cx="3836880" cy="4535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60" name="Object 35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84720" y="1844640"/>
                    <a:ext cx="383688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FDFA-1C38-4FFB-B3F1-158F21B34D6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19280" y="18864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Ц.П.Т. Биномиальное распределение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4" name="Picture 6" descr=""/>
          <p:cNvPicPr/>
          <p:nvPr/>
        </p:nvPicPr>
        <p:blipFill>
          <a:blip r:embed="rId1"/>
          <a:stretch/>
        </p:blipFill>
        <p:spPr>
          <a:xfrm>
            <a:off x="3059280" y="3789360"/>
            <a:ext cx="2950920" cy="19461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2952720" cy="20592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"/>
          <p:cNvPicPr/>
          <p:nvPr/>
        </p:nvPicPr>
        <p:blipFill>
          <a:blip r:embed="rId3"/>
          <a:stretch/>
        </p:blipFill>
        <p:spPr>
          <a:xfrm>
            <a:off x="6012000" y="3789360"/>
            <a:ext cx="2844720" cy="19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7" name="Object 9"/>
          <p:cNvGraphicFramePr/>
          <p:nvPr/>
        </p:nvGraphicFramePr>
        <p:xfrm>
          <a:off x="291960" y="2060640"/>
          <a:ext cx="8839440" cy="15606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68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960" y="2060640"/>
                    <a:ext cx="88394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16BA-852F-4D3A-91A1-7FC17A9863C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Зако́н больши́х чи́се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теории вероятностей утверждает, что эмпирическое среднее (среднее арифметическое) достаточно большой конечной выборки из фиксированного распределения близко к теоретическому среднему (математическому ожиданию) этого распредел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0">
    <p:cover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80FF-16F9-4A93-BBBF-7D40A2E40C5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26560" y="765000"/>
            <a:ext cx="8101080" cy="9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Локальная теорема Муавра-Лапласа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3" name="Object 7"/>
          <p:cNvGraphicFramePr/>
          <p:nvPr/>
        </p:nvGraphicFramePr>
        <p:xfrm>
          <a:off x="2987640" y="1916280"/>
          <a:ext cx="5289480" cy="435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916280"/>
                    <a:ext cx="528948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BBBF-71BB-4EB2-8EDE-1AC29E895D4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Локальная теорема Муавра-Лапласа. Пример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9" name="Object 7"/>
          <p:cNvGraphicFramePr/>
          <p:nvPr/>
        </p:nvGraphicFramePr>
        <p:xfrm>
          <a:off x="1116000" y="2133720"/>
          <a:ext cx="7632720" cy="383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133720"/>
                    <a:ext cx="763272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4B7F-9515-4D1B-94FE-6858C6787B5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26560" y="765000"/>
            <a:ext cx="8101080" cy="9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нтегральная теорема Муавра-Лапласа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85" name="Object 7"/>
          <p:cNvGraphicFramePr/>
          <p:nvPr/>
        </p:nvGraphicFramePr>
        <p:xfrm>
          <a:off x="395280" y="2060640"/>
          <a:ext cx="8532720" cy="39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853272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1984-1064-498B-B5FB-976EB66FF52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нтегральная теорема Муавра-Лапласа. Пример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Object 8"/>
          <p:cNvGraphicFramePr/>
          <p:nvPr/>
        </p:nvGraphicFramePr>
        <p:xfrm>
          <a:off x="900000" y="1989000"/>
          <a:ext cx="7632720" cy="41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89000"/>
                    <a:ext cx="76327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32D6-44DB-4B7D-967E-83A9068EE45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8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Чебышев Пафнутий Львови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12" descr="chebysh"/>
          <p:cNvPicPr/>
          <p:nvPr/>
        </p:nvPicPr>
        <p:blipFill>
          <a:blip r:embed="rId1"/>
          <a:stretch/>
        </p:blipFill>
        <p:spPr>
          <a:xfrm>
            <a:off x="395280" y="2349360"/>
            <a:ext cx="282564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13"/>
          <p:cNvGraphicFramePr/>
          <p:nvPr/>
        </p:nvGraphicFramePr>
        <p:xfrm>
          <a:off x="4284720" y="2136600"/>
          <a:ext cx="4254480" cy="4448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720" y="2136600"/>
                    <a:ext cx="4254480" cy="44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4A25-721D-48CB-A0BC-C8C9E1B5C43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2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ов Андрей Андреевич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Марков Андрей Андреевич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Марков Андрей Андреевич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427640" y="2575080"/>
          <a:ext cx="3024000" cy="1707840"/>
        </p:xfrm>
        <a:graphic>
          <a:graphicData uri="http://schemas.openxmlformats.org/drawingml/2006/table">
            <a:tbl>
              <a:tblPr/>
              <a:tblGrid>
                <a:gridCol w="3024000"/>
              </a:tblGrid>
              <a:tr h="170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Picture 12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290844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Object 13"/>
          <p:cNvGraphicFramePr/>
          <p:nvPr/>
        </p:nvGraphicFramePr>
        <p:xfrm>
          <a:off x="3708360" y="1989000"/>
          <a:ext cx="4680000" cy="4081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1989000"/>
                    <a:ext cx="4680000" cy="40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2B96-D732-44A8-B317-1CFF13FB326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ервое неравенство Чебышева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(неравенство Маркова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9" name="Object 38"/>
          <p:cNvGraphicFramePr/>
          <p:nvPr/>
        </p:nvGraphicFramePr>
        <p:xfrm>
          <a:off x="1619280" y="2276640"/>
          <a:ext cx="5956200" cy="309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5956200" cy="30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F7AF-350D-47F8-AC96-15A789CB110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ервое неравенство Чебышева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Object 44"/>
          <p:cNvGraphicFramePr/>
          <p:nvPr/>
        </p:nvGraphicFramePr>
        <p:xfrm>
          <a:off x="2048040" y="2208240"/>
          <a:ext cx="5852880" cy="363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208240"/>
                    <a:ext cx="585288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CAFE-EEB4-41BA-9A54-F2EBBAD31C4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800"/>
            </a:b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ервое неравенство Чебышева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ИМЕР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Object 8"/>
          <p:cNvGraphicFramePr/>
          <p:nvPr/>
        </p:nvGraphicFramePr>
        <p:xfrm>
          <a:off x="1835280" y="1844640"/>
          <a:ext cx="6291000" cy="43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844640"/>
                    <a:ext cx="629100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7:24:04Z</dcterms:created>
  <dc:creator>Pretender</dc:creator>
  <dc:description/>
  <dc:language>en-US</dc:language>
  <cp:lastModifiedBy>Александра</cp:lastModifiedBy>
  <dcterms:modified xsi:type="dcterms:W3CDTF">2022-02-24T05:44:22Z</dcterms:modified>
  <cp:revision>100</cp:revision>
  <dc:subject/>
  <dc:title>Slide 1</dc:title>
</cp:coreProperties>
</file>