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36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26.png" ContentType="image/png"/>
  <Override PartName="/ppt/media/image45.wmf" ContentType="image/x-wmf"/>
  <Override PartName="/ppt/media/image51.wmf" ContentType="image/x-wmf"/>
  <Override PartName="/ppt/media/image40.wmf" ContentType="image/x-wmf"/>
  <Override PartName="/ppt/media/image48.jpeg" ContentType="image/jpeg"/>
  <Override PartName="/ppt/media/image52.wmf" ContentType="image/x-wmf"/>
  <Override PartName="/ppt/media/image41.wmf" ContentType="image/x-wmf"/>
  <Override PartName="/ppt/media/image39.wmf" ContentType="image/x-wmf"/>
  <Override PartName="/ppt/media/image53.wmf" ContentType="image/x-wmf"/>
  <Override PartName="/ppt/media/image54.wmf" ContentType="image/x-wmf"/>
  <Override PartName="/ppt/media/image17.wmf" ContentType="image/x-wmf"/>
  <Override PartName="/ppt/media/image43.wmf" ContentType="image/x-wmf"/>
  <Override PartName="/ppt/media/image13.jpeg" ContentType="image/jpeg"/>
  <Override PartName="/ppt/media/image55.wmf" ContentType="image/x-wmf"/>
  <Override PartName="/ppt/media/image44.wmf" ContentType="image/x-wmf"/>
  <Override PartName="/ppt/media/image46.jpeg" ContentType="image/jpeg"/>
  <Override PartName="/ppt/media/image56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1.wmf" ContentType="image/x-wmf"/>
  <Override PartName="/ppt/media/image30.wmf" ContentType="image/x-wmf"/>
  <Override PartName="/ppt/media/image9.png" ContentType="image/png"/>
  <Override PartName="/ppt/media/image42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F43E-96CF-4606-A72C-5D38F1CB2D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8B38-C763-4C34-BB6A-D76DDE0852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75A8-C1FB-448F-8524-28D6507C7D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5F3C-9B3B-4B12-A958-D353577FFB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520D-F404-4D19-9B43-47E488AC09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6509-0550-4E40-9B04-DDA2E02BA3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410C-FA1C-486B-A2BB-558C6032C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B68A-EBEB-43A8-AE45-E856AC74F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F7C5-3475-4E6A-ADF7-4670844136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0CBD-7B41-4D8C-88EC-BF967B2633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028C-2516-4DCC-B5F8-D784061966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D9F3-1163-41A2-8438-ADA0CF5C8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170D-B9CD-4D9E-93EB-6A379816C4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C3DD-A242-4D45-BC3F-76E439E365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0736-584B-4F36-AD76-EEC0F12B1F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96A3-59E5-4FE6-BA83-B0A6ECEB5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5C0B-63C4-4427-83C6-638333C2A8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1148-73AC-4B25-AA77-02A2E780A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5CA5-71E4-4A80-81CD-158AE291C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F002-EB76-44DF-9EDF-224DAF07BD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4106-CF7C-4B32-AD39-7B0BB464DC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E568-98DC-4122-84C5-1ABFFE855C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9B34-0C2C-480D-9F91-C6C458097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9D3C-0606-44D9-B7AE-5D0A8555C5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1F81-3CA9-43B6-ABBD-5B0452BA57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0590-FAC1-4A45-B7DC-074E60A23D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65E7-585B-43BE-A6B0-F410FE6498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9A6F-5939-472A-B5F3-58C486CA16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1C13-5498-4B79-840B-A9FFE036F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92E3-433E-4CCE-BF10-D7129EABED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F5BC-10EB-4230-B111-F9DF95EA0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76FA-BDE2-4218-9A14-9214B3FCFB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7FB9-E0F9-4D4B-828B-47D4D298DB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6AB4-49B6-4420-9511-B51A693696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087F-7139-4590-AD07-C45B9A3F7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4AD5-D895-4128-B2CC-9D7F4EDFF5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FFFA-B696-4182-8D4D-2472488E62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3688-1A27-4025-B429-06BDF0130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448D-7761-456E-A9C0-A36C02D3E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647C-AE54-4E54-BA82-6C719BA9EA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78FD-6BE0-4090-A39C-3B442D487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510E-F693-4FB0-81BA-5C599F416C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D2D-EFB7-429D-A7E7-B909168A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4BD-1D52-4AA8-90BC-81D3CAA8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AF5-4FCD-4532-A340-6AE718CE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800-8464-454D-80AA-0B2AE5A9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09D3-73BC-4B6F-8B36-36FFBDBC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EDB9-9B47-469F-A14D-5D196E25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096C-E90F-41EF-8A2F-5C10080C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DFDA-355D-4717-9945-633D291E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4F48-1973-4455-A102-40FEF3A4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98C0-F671-489D-AF59-A0BAAFFB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A3B2-2845-475B-B229-7BA07554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7E5-0A71-4FB6-8A4F-59455BDE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9E7E-EDB0-4F71-9C44-F517DE8C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A09A-880A-4EFD-AF02-969200F7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92B9-2FE5-45C7-88E8-9D1C4B00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E382-AEC8-4CF1-BB52-93746890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27D5-D109-4D0B-A066-D09E5F76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1FD-CDEC-4F84-B2C0-A47721F3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BC4-7759-4AF7-A2F4-CF35FD71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377-DDA6-4A64-89B7-76F99ED8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3B7-29A0-4454-BFEB-E7EEF37B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E29-6348-4A68-8617-955F5847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4264-2D5D-46E3-A6C7-F2DBED23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F26B-2598-4ACC-8143-0771BA41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95B4-DA4C-4774-A6D8-2009AD993BE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8E6E-7834-4516-B31D-F211A0AED64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8.jpeg"/><Relationship Id="rId5" Type="http://schemas.openxmlformats.org/officeDocument/2006/relationships/image" Target="../media/image48.jpeg"/><Relationship Id="rId6" Type="http://schemas.openxmlformats.org/officeDocument/2006/relationships/image" Target="../media/image48.jpeg"/><Relationship Id="rId7" Type="http://schemas.openxmlformats.org/officeDocument/2006/relationships/image" Target="../media/image48.jpeg"/><Relationship Id="rId8" Type="http://schemas.openxmlformats.org/officeDocument/2006/relationships/package" Target="../embeddings/oleObject1.docx"/><Relationship Id="rId9" Type="http://schemas.openxmlformats.org/officeDocument/2006/relationships/image" Target="../media/image49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package" Target="../embeddings/oleObject1.docx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C6FD-7A87-4CF2-B22A-32EBAC0BFC0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97160" y="2133360"/>
            <a:ext cx="73404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ельные теорем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ории вероятносте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50920" y="620280"/>
            <a:ext cx="673416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 advTm="0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7FBC-EF3E-4176-B633-6D9EAF5B20E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торое неравенство Чебышев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Object 8"/>
          <p:cNvGraphicFramePr/>
          <p:nvPr/>
        </p:nvGraphicFramePr>
        <p:xfrm>
          <a:off x="1327320" y="2279520"/>
          <a:ext cx="5292720" cy="30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2279520"/>
                    <a:ext cx="5292720" cy="30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3"/>
          <a:stretch/>
        </p:blipFill>
        <p:spPr>
          <a:xfrm>
            <a:off x="5867280" y="3500280"/>
            <a:ext cx="2225880" cy="244800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r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1D03-CBD5-455D-9456-BA5C22B5A43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торое неравенство Чебышева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Object 10"/>
          <p:cNvGraphicFramePr/>
          <p:nvPr/>
        </p:nvGraphicFramePr>
        <p:xfrm>
          <a:off x="971640" y="1916280"/>
          <a:ext cx="794700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16280"/>
                    <a:ext cx="794700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AC91-EFE4-4299-9E26-772B0994DB7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4200" spc="-1" strike="noStrike">
                <a:solidFill>
                  <a:srgbClr val="333399"/>
                </a:solidFill>
                <a:latin typeface="Tahoma"/>
              </a:rPr>
              <a:t>Закон больших чисел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Object 8"/>
          <p:cNvGraphicFramePr/>
          <p:nvPr/>
        </p:nvGraphicFramePr>
        <p:xfrm>
          <a:off x="468360" y="2421000"/>
          <a:ext cx="8061120" cy="30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21000"/>
                    <a:ext cx="80611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D02B-2812-4378-BA00-721C865EF2B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в Андрей Андреевич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арков Андрей Андреевич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уассон Симеон Ден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27640" y="2575080"/>
          <a:ext cx="3024000" cy="170784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170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Object 13"/>
          <p:cNvGraphicFramePr/>
          <p:nvPr/>
        </p:nvGraphicFramePr>
        <p:xfrm>
          <a:off x="3708360" y="1982880"/>
          <a:ext cx="4649760" cy="40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982880"/>
                    <a:ext cx="46497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Picture 15" descr="Пуассон"/>
          <p:cNvPicPr/>
          <p:nvPr/>
        </p:nvPicPr>
        <p:blipFill>
          <a:blip r:embed="rId3"/>
          <a:stretch/>
        </p:blipFill>
        <p:spPr>
          <a:xfrm>
            <a:off x="826920" y="2349360"/>
            <a:ext cx="2256120" cy="338472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r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0FD2-FB34-46A1-8D2A-66EC45D9FBC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реднее двух случайных величин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Object 7"/>
          <p:cNvGraphicFramePr/>
          <p:nvPr/>
        </p:nvGraphicFramePr>
        <p:xfrm>
          <a:off x="468360" y="2492280"/>
          <a:ext cx="8291520" cy="332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492280"/>
                    <a:ext cx="829152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E57A-E37A-4531-A08C-195AD93CD2A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реднее пяти случайных величин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816360" cy="32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Object 9"/>
          <p:cNvGraphicFramePr/>
          <p:nvPr/>
        </p:nvGraphicFramePr>
        <p:xfrm>
          <a:off x="3852720" y="1841400"/>
          <a:ext cx="4937400" cy="4340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2720" y="1841400"/>
                    <a:ext cx="493740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B832-CA2C-423A-8707-A1F7BCC6BE6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800" spc="-1" strike="noStrike">
                <a:solidFill>
                  <a:srgbClr val="333399"/>
                </a:solidFill>
                <a:latin typeface="Tahoma"/>
              </a:rPr>
              <a:t>Сущность закона больших чисел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7" name="Object 6"/>
          <p:cNvGraphicFramePr/>
          <p:nvPr/>
        </p:nvGraphicFramePr>
        <p:xfrm>
          <a:off x="611280" y="2205000"/>
          <a:ext cx="7924680" cy="39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792468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8F4D-896F-4CC3-B0A5-7E1C7562EE1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Теорема Чебышев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Object 7"/>
          <p:cNvGraphicFramePr/>
          <p:nvPr/>
        </p:nvGraphicFramePr>
        <p:xfrm>
          <a:off x="395280" y="2523960"/>
          <a:ext cx="8280360" cy="265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523960"/>
                    <a:ext cx="8280360" cy="26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B0B4-A355-4058-97A8-B68165919E5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3000" spc="-1" strike="noStrike">
                <a:solidFill>
                  <a:srgbClr val="333399"/>
                </a:solidFill>
                <a:latin typeface="Tahoma"/>
              </a:rPr>
              <a:t>Доказательство теоремы Чебышев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Object 11"/>
          <p:cNvGraphicFramePr/>
          <p:nvPr/>
        </p:nvGraphicFramePr>
        <p:xfrm>
          <a:off x="1332000" y="1916280"/>
          <a:ext cx="7624800" cy="399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762480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EC1D-73A9-42E8-8137-ABCB34655A1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ледствие теоремы Чебышев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450720" y="2475000"/>
          <a:ext cx="8290080" cy="26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2475000"/>
                    <a:ext cx="829008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5BD8-B452-4173-B042-D3E195C5A3A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2133360"/>
            <a:ext cx="79819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некоторых, достаточно широких условиях, суммарное поведение большого числа случайных величин утрачивает случайный характер и становится закономерны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6920" y="980640"/>
            <a:ext cx="673452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Можно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ли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установить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закономерность совокупного поведения случайных величин?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med" advTm="0">
    <p:cover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B8C4-CE42-46C0-9743-92399E8E094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ледствие теоремы Чебышева. Пример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3961080" cy="2808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3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3" name="Object 12"/>
          <p:cNvGraphicFramePr/>
          <p:nvPr/>
        </p:nvGraphicFramePr>
        <p:xfrm>
          <a:off x="5003640" y="2708280"/>
          <a:ext cx="293400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2708280"/>
                    <a:ext cx="2934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B455-618A-48F9-985D-D76176ACCCF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101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1" lang="ru-RU" sz="2600" spc="-1" strike="noStrike">
                <a:solidFill>
                  <a:srgbClr val="333399"/>
                </a:solidFill>
                <a:latin typeface="Tahoma"/>
              </a:rPr>
              <a:t>Практическое значение теоремы Чебышева.</a:t>
            </a:r>
            <a:br>
              <a:rPr sz="2600"/>
            </a:br>
            <a:r>
              <a:rPr b="1" lang="ru-RU" sz="2600" spc="-1" strike="noStrike">
                <a:solidFill>
                  <a:srgbClr val="333399"/>
                </a:solidFill>
                <a:latin typeface="Tahoma"/>
              </a:rPr>
              <a:t> ПРИМЕР.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" name="Object 9"/>
          <p:cNvGraphicFramePr/>
          <p:nvPr/>
        </p:nvGraphicFramePr>
        <p:xfrm>
          <a:off x="395280" y="2139840"/>
          <a:ext cx="8423280" cy="37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139840"/>
                    <a:ext cx="842328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3CFA-F5D2-41AB-94A1-8535B171021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101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1" lang="ru-RU" sz="2600" spc="-1" strike="noStrike">
                <a:solidFill>
                  <a:srgbClr val="333399"/>
                </a:solidFill>
                <a:latin typeface="Tahoma"/>
              </a:rPr>
              <a:t>Практическое значение теоремы Чебышева.</a:t>
            </a:r>
            <a:br>
              <a:rPr sz="2600"/>
            </a:br>
            <a:r>
              <a:rPr b="1" lang="ru-RU" sz="2600" spc="-1" strike="noStrike">
                <a:solidFill>
                  <a:srgbClr val="333399"/>
                </a:solidFill>
                <a:latin typeface="Tahoma"/>
              </a:rPr>
              <a:t> ПРИМЕР.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Object 8"/>
          <p:cNvGraphicFramePr/>
          <p:nvPr/>
        </p:nvGraphicFramePr>
        <p:xfrm>
          <a:off x="250920" y="2349360"/>
          <a:ext cx="8464320" cy="34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84643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4130-3C28-4EBA-B894-8D4196BCDDA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1" lang="ru-RU" sz="2600" spc="-1" strike="noStrike">
                <a:solidFill>
                  <a:srgbClr val="333399"/>
                </a:solidFill>
                <a:latin typeface="Tahoma"/>
              </a:rPr>
              <a:t>Практическое значение теоремы Чебышева.</a:t>
            </a:r>
            <a:br>
              <a:rPr sz="2600"/>
            </a:br>
            <a:r>
              <a:rPr b="1" lang="ru-RU" sz="2600" spc="-1" strike="noStrike">
                <a:solidFill>
                  <a:srgbClr val="333399"/>
                </a:solidFill>
                <a:latin typeface="Tahoma"/>
              </a:rPr>
              <a:t> ПРИМЕР.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1" name="Object 8"/>
          <p:cNvGraphicFramePr/>
          <p:nvPr/>
        </p:nvGraphicFramePr>
        <p:xfrm>
          <a:off x="187200" y="2060640"/>
          <a:ext cx="8394840" cy="395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2060640"/>
                    <a:ext cx="8394840" cy="39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3542-2903-4F38-97FB-7E1F83EB7A3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765000"/>
            <a:ext cx="779292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Якоб Бернулли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1654 - 170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2950920" cy="295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Object 7"/>
          <p:cNvGraphicFramePr/>
          <p:nvPr/>
        </p:nvGraphicFramePr>
        <p:xfrm>
          <a:off x="4067280" y="2276640"/>
          <a:ext cx="4267080" cy="3390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2276640"/>
                    <a:ext cx="426708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6D5D-5C7F-40F8-B40C-E3443BD76D6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Теорема Бернулл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Object 11"/>
          <p:cNvGraphicFramePr/>
          <p:nvPr/>
        </p:nvGraphicFramePr>
        <p:xfrm>
          <a:off x="266760" y="2276640"/>
          <a:ext cx="8537400" cy="252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276640"/>
                    <a:ext cx="853740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2452-9948-4B98-AC35-B3DCA90F474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еорема Бернулл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9" name="Object 8"/>
          <p:cNvGraphicFramePr/>
          <p:nvPr/>
        </p:nvGraphicFramePr>
        <p:xfrm>
          <a:off x="395280" y="2421000"/>
          <a:ext cx="8424720" cy="31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421000"/>
                    <a:ext cx="842472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88E1-2951-4E8B-AD53-9700EA0732B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19280" y="-36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еорема Бернулл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4" name="Object 6"/>
          <p:cNvGraphicFramePr/>
          <p:nvPr/>
        </p:nvGraphicFramePr>
        <p:xfrm>
          <a:off x="324000" y="2276640"/>
          <a:ext cx="8424720" cy="372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76640"/>
                    <a:ext cx="842472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CAC2-FCDF-4268-BF17-768EE9EE974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18864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нтральная предельная теорем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Object 6"/>
          <p:cNvGraphicFramePr/>
          <p:nvPr/>
        </p:nvGraphicFramePr>
        <p:xfrm>
          <a:off x="395280" y="2276640"/>
          <a:ext cx="8389800" cy="299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6640"/>
                    <a:ext cx="838980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BB46-F236-4826-A1FD-04BB5F3C1F3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800" spc="-1" strike="noStrike">
                <a:solidFill>
                  <a:srgbClr val="333399"/>
                </a:solidFill>
                <a:latin typeface="Tahoma"/>
              </a:rPr>
              <a:t>Сущность Ц.П.Т.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Object 6"/>
          <p:cNvGraphicFramePr/>
          <p:nvPr/>
        </p:nvGraphicFramePr>
        <p:xfrm>
          <a:off x="328680" y="2133720"/>
          <a:ext cx="8377200" cy="185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2133720"/>
                    <a:ext cx="837720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7" descr=""/>
          <p:cNvPicPr/>
          <p:nvPr/>
        </p:nvPicPr>
        <p:blipFill>
          <a:blip r:embed="rId3"/>
          <a:stretch/>
        </p:blipFill>
        <p:spPr>
          <a:xfrm>
            <a:off x="5605560" y="3860640"/>
            <a:ext cx="3538440" cy="2190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0" y="16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Object 10"/>
          <p:cNvGraphicFramePr/>
          <p:nvPr/>
        </p:nvGraphicFramePr>
        <p:xfrm>
          <a:off x="3780000" y="3860640"/>
          <a:ext cx="1323720" cy="194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3860640"/>
                    <a:ext cx="132372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2" name="Picture 11" descr=""/>
          <p:cNvPicPr/>
          <p:nvPr/>
        </p:nvPicPr>
        <p:blipFill>
          <a:blip r:embed="rId6"/>
          <a:stretch/>
        </p:blipFill>
        <p:spPr>
          <a:xfrm>
            <a:off x="250920" y="3860640"/>
            <a:ext cx="3457440" cy="2133720"/>
          </a:xfrm>
          <a:prstGeom prst="rect">
            <a:avLst/>
          </a:prstGeom>
          <a:ln w="0">
            <a:noFill/>
          </a:ln>
        </p:spPr>
      </p:pic>
    </p:spTree>
  </p:cSld>
  <p:transition spd="med" advTm="0">
    <p:cover dir="r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3DB1-4609-45BB-857A-A44C8D156C2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Центральные предельные теоремы (Ц.П.Т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Ц.П.Т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класс теорем в теории вероятностей, утверждающих, чт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умма достаточно большого количества слабо зависимых случайных величи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еющих примерно одинаковые масштабы (ни одно из слагаемых не доминирует, не вносит в сумму определяющего вклада), имеет распределен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близкое к нормально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0">
    <p:cover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30EB-3CFB-4E30-9709-21763E0447C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3800" spc="-1" strike="noStrike">
                <a:solidFill>
                  <a:srgbClr val="333399"/>
                </a:solidFill>
                <a:latin typeface="Tahoma"/>
              </a:rPr>
              <a:t>Ляпунов Александр Михайлович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427640" y="2575080"/>
          <a:ext cx="3024000" cy="170784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17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8" name="Picture 12" descr="a214"/>
          <p:cNvPicPr/>
          <p:nvPr/>
        </p:nvPicPr>
        <p:blipFill>
          <a:blip r:embed="rId1"/>
          <a:stretch/>
        </p:blipFill>
        <p:spPr>
          <a:xfrm>
            <a:off x="684360" y="2133720"/>
            <a:ext cx="320976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Object 13"/>
          <p:cNvGraphicFramePr/>
          <p:nvPr/>
        </p:nvGraphicFramePr>
        <p:xfrm>
          <a:off x="4356000" y="1989000"/>
          <a:ext cx="4181400" cy="445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989000"/>
                    <a:ext cx="41814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BC2B-59BB-49D0-8C22-57DE5E9281B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101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актическое значение Ц.П.Т.   ПРИМЕР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Object 8"/>
          <p:cNvGraphicFramePr/>
          <p:nvPr/>
        </p:nvGraphicFramePr>
        <p:xfrm>
          <a:off x="611280" y="2060640"/>
          <a:ext cx="7956360" cy="37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7956360" cy="37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E18F-9FE7-4AE5-960C-D4C74754C65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орема Ляпунова.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27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4" name="Object 31"/>
          <p:cNvGraphicFramePr/>
          <p:nvPr/>
        </p:nvGraphicFramePr>
        <p:xfrm>
          <a:off x="1258920" y="1773360"/>
          <a:ext cx="6624720" cy="44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73360"/>
                    <a:ext cx="66247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Rectangle 32"/>
          <p:cNvSpPr/>
          <p:nvPr/>
        </p:nvSpPr>
        <p:spPr>
          <a:xfrm>
            <a:off x="4970520" y="656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0">
    <p:cover dir="r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0A87-B1F3-4DC1-B16C-AD3629F6939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орема Ляпунова.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4970520" y="656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5" name="Object 11"/>
          <p:cNvGraphicFramePr/>
          <p:nvPr/>
        </p:nvGraphicFramePr>
        <p:xfrm>
          <a:off x="287280" y="2133720"/>
          <a:ext cx="8532720" cy="33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2133720"/>
                    <a:ext cx="853272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7921-9B18-4429-825D-0863FE42F5D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орема Ляпунова. Пример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4970520" y="656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5" name="Object 11"/>
          <p:cNvGraphicFramePr/>
          <p:nvPr/>
        </p:nvGraphicFramePr>
        <p:xfrm>
          <a:off x="395280" y="1989000"/>
          <a:ext cx="8388360" cy="41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838836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3FC6-2C02-419A-91E9-160DC7E6CF1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ледствие</a:t>
            </a: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теоремы Ляпунова.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4970520" y="656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5" name="Object 12"/>
          <p:cNvGraphicFramePr/>
          <p:nvPr/>
        </p:nvGraphicFramePr>
        <p:xfrm>
          <a:off x="1042920" y="2421000"/>
          <a:ext cx="6854760" cy="25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421000"/>
                    <a:ext cx="68547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5326-9DA2-434F-9402-2A8A9B6AE1A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орема Ляпунова. Пример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4103640" cy="295272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5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4" name="Object 9"/>
          <p:cNvGraphicFramePr/>
          <p:nvPr/>
        </p:nvGraphicFramePr>
        <p:xfrm>
          <a:off x="1487520" y="1987560"/>
          <a:ext cx="5718240" cy="223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5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87520" y="1987560"/>
                    <a:ext cx="571824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10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7" name="Object 11"/>
          <p:cNvGraphicFramePr/>
          <p:nvPr/>
        </p:nvGraphicFramePr>
        <p:xfrm>
          <a:off x="4960800" y="2852640"/>
          <a:ext cx="3543480" cy="24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60800" y="2852640"/>
                    <a:ext cx="354348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34E6-C606-4B98-9975-1D4E0C908D3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уавр Абрахам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148" descr="496publication_5"/>
          <p:cNvPicPr/>
          <p:nvPr/>
        </p:nvPicPr>
        <p:blipFill>
          <a:blip r:embed="rId1"/>
          <a:stretch/>
        </p:blipFill>
        <p:spPr>
          <a:xfrm>
            <a:off x="1042920" y="2492280"/>
            <a:ext cx="2303640" cy="288000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53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4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55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56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57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58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59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60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1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62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63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64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6" name="Group 80"/>
          <p:cNvGrpSpPr/>
          <p:nvPr/>
        </p:nvGrpSpPr>
        <p:grpSpPr>
          <a:xfrm>
            <a:off x="-2147484240" y="958680"/>
            <a:ext cx="730080" cy="4941720"/>
            <a:chOff x="-2147484240" y="958680"/>
            <a:chExt cx="730080" cy="4941720"/>
          </a:xfrm>
        </p:grpSpPr>
        <p:sp>
          <p:nvSpPr>
            <p:cNvPr id="367" name="Rectangle 42"/>
            <p:cNvSpPr/>
            <p:nvPr/>
          </p:nvSpPr>
          <p:spPr>
            <a:xfrm>
              <a:off x="-214693668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-2147119200" y="1476360"/>
              <a:ext cx="182520" cy="442404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7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34"/>
            <p:cNvSpPr/>
            <p:nvPr/>
          </p:nvSpPr>
          <p:spPr>
            <a:xfrm>
              <a:off x="-214730172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32"/>
            <p:cNvSpPr/>
            <p:nvPr/>
          </p:nvSpPr>
          <p:spPr>
            <a:xfrm>
              <a:off x="-214748424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31"/>
            <p:cNvSpPr/>
            <p:nvPr/>
          </p:nvSpPr>
          <p:spPr>
            <a:xfrm>
              <a:off x="-2146936680" y="958680"/>
              <a:ext cx="182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21"/>
            <p:cNvSpPr/>
            <p:nvPr/>
          </p:nvSpPr>
          <p:spPr>
            <a:xfrm>
              <a:off x="-2147484240" y="958680"/>
              <a:ext cx="547560" cy="5176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Line 43"/>
            <p:cNvSpPr/>
            <p:nvPr/>
          </p:nvSpPr>
          <p:spPr>
            <a:xfrm>
              <a:off x="-2147484240" y="95868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44"/>
            <p:cNvSpPr/>
            <p:nvPr/>
          </p:nvSpPr>
          <p:spPr>
            <a:xfrm>
              <a:off x="-2147484240" y="590040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Line 45"/>
            <p:cNvSpPr/>
            <p:nvPr/>
          </p:nvSpPr>
          <p:spPr>
            <a:xfrm>
              <a:off x="-214748424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Line 46"/>
            <p:cNvSpPr/>
            <p:nvPr/>
          </p:nvSpPr>
          <p:spPr>
            <a:xfrm>
              <a:off x="-214675416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Line 49"/>
            <p:cNvSpPr/>
            <p:nvPr/>
          </p:nvSpPr>
          <p:spPr>
            <a:xfrm>
              <a:off x="-2147484240" y="147636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Line 65"/>
            <p:cNvSpPr/>
            <p:nvPr/>
          </p:nvSpPr>
          <p:spPr>
            <a:xfrm>
              <a:off x="-2147119200" y="147636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Line 67"/>
            <p:cNvSpPr/>
            <p:nvPr/>
          </p:nvSpPr>
          <p:spPr>
            <a:xfrm>
              <a:off x="-2147119200" y="590040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0" name="Line 69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70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71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72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73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74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75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76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77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78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19" descr="496publication_5"/>
          <p:cNvPicPr/>
          <p:nvPr/>
        </p:nvPicPr>
        <p:blipFill>
          <a:blip r:embed="rId2"/>
          <a:stretch/>
        </p:blipFill>
        <p:spPr>
          <a:xfrm>
            <a:off x="-2147484240" y="153828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391" name="Line 119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120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121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122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123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Line 124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Line 125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126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127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128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Line 129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130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146"/>
          <p:cNvGrpSpPr/>
          <p:nvPr/>
        </p:nvGrpSpPr>
        <p:grpSpPr>
          <a:xfrm>
            <a:off x="-2147484240" y="958680"/>
            <a:ext cx="730080" cy="4941720"/>
            <a:chOff x="-2147484240" y="958680"/>
            <a:chExt cx="730080" cy="4941720"/>
          </a:xfrm>
        </p:grpSpPr>
        <p:sp>
          <p:nvSpPr>
            <p:cNvPr id="404" name="Rectangle 108"/>
            <p:cNvSpPr/>
            <p:nvPr/>
          </p:nvSpPr>
          <p:spPr>
            <a:xfrm>
              <a:off x="-214693668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01"/>
            <p:cNvSpPr/>
            <p:nvPr/>
          </p:nvSpPr>
          <p:spPr>
            <a:xfrm>
              <a:off x="-2147119200" y="1476360"/>
              <a:ext cx="182520" cy="442404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7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100"/>
            <p:cNvSpPr/>
            <p:nvPr/>
          </p:nvSpPr>
          <p:spPr>
            <a:xfrm>
              <a:off x="-214730172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98"/>
            <p:cNvSpPr/>
            <p:nvPr/>
          </p:nvSpPr>
          <p:spPr>
            <a:xfrm>
              <a:off x="-214748424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97"/>
            <p:cNvSpPr/>
            <p:nvPr/>
          </p:nvSpPr>
          <p:spPr>
            <a:xfrm>
              <a:off x="-2146936680" y="958680"/>
              <a:ext cx="182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87"/>
            <p:cNvSpPr/>
            <p:nvPr/>
          </p:nvSpPr>
          <p:spPr>
            <a:xfrm>
              <a:off x="-2147484240" y="958680"/>
              <a:ext cx="547560" cy="5176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09"/>
            <p:cNvSpPr/>
            <p:nvPr/>
          </p:nvSpPr>
          <p:spPr>
            <a:xfrm>
              <a:off x="-2147484240" y="95868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10"/>
            <p:cNvSpPr/>
            <p:nvPr/>
          </p:nvSpPr>
          <p:spPr>
            <a:xfrm>
              <a:off x="-2147484240" y="590040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Line 111"/>
            <p:cNvSpPr/>
            <p:nvPr/>
          </p:nvSpPr>
          <p:spPr>
            <a:xfrm>
              <a:off x="-214748424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Line 112"/>
            <p:cNvSpPr/>
            <p:nvPr/>
          </p:nvSpPr>
          <p:spPr>
            <a:xfrm>
              <a:off x="-214675416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Line 115"/>
            <p:cNvSpPr/>
            <p:nvPr/>
          </p:nvSpPr>
          <p:spPr>
            <a:xfrm>
              <a:off x="-2147484240" y="147636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Line 131"/>
            <p:cNvSpPr/>
            <p:nvPr/>
          </p:nvSpPr>
          <p:spPr>
            <a:xfrm>
              <a:off x="-2147119200" y="147636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Line 133"/>
            <p:cNvSpPr/>
            <p:nvPr/>
          </p:nvSpPr>
          <p:spPr>
            <a:xfrm>
              <a:off x="-2147119200" y="590040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7" name="Line 135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Line 136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Line 137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Line 138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Line 139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140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141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142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Line 143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Line 144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85" descr="496publication_5"/>
          <p:cNvPicPr/>
          <p:nvPr/>
        </p:nvPicPr>
        <p:blipFill>
          <a:blip r:embed="rId3"/>
          <a:stretch/>
        </p:blipFill>
        <p:spPr>
          <a:xfrm>
            <a:off x="-2147484240" y="153828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9"/>
          <p:cNvSpPr/>
          <p:nvPr/>
        </p:nvSpPr>
        <p:spPr>
          <a:xfrm>
            <a:off x="4032360" y="654840"/>
            <a:ext cx="44748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3920" rIns="2239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333333"/>
                </a:solidFill>
                <a:latin typeface="Arial"/>
              </a:rPr>
              <a:t>← </a:t>
            </a:r>
            <a:r>
              <a:rPr b="0" lang="ru-RU" sz="200" spc="-1" strike="noStrike">
                <a:solidFill>
                  <a:srgbClr val="333333"/>
                </a:solidFill>
                <a:latin typeface="Arial"/>
              </a:rPr>
              <a:t>предыдущая </a:t>
            </a: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9" name="Object 151"/>
          <p:cNvGraphicFramePr/>
          <p:nvPr/>
        </p:nvGraphicFramePr>
        <p:xfrm>
          <a:off x="3924360" y="2349360"/>
          <a:ext cx="4392720" cy="3905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30" name="Object 15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2349360"/>
                    <a:ext cx="439272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C495-63C9-4BF9-81B5-E3B117E499F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Лаплас Пьер Симон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349" descr="3382"/>
          <p:cNvPicPr/>
          <p:nvPr/>
        </p:nvPicPr>
        <p:blipFill>
          <a:blip r:embed="rId1"/>
          <a:stretch/>
        </p:blipFill>
        <p:spPr>
          <a:xfrm>
            <a:off x="539640" y="1989000"/>
            <a:ext cx="3216240" cy="381636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Line 7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8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9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10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11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12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13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Line 14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15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16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8" name="Group 19"/>
          <p:cNvGrpSpPr/>
          <p:nvPr/>
        </p:nvGrpSpPr>
        <p:grpSpPr>
          <a:xfrm>
            <a:off x="-2147484240" y="958680"/>
            <a:ext cx="730080" cy="4941720"/>
            <a:chOff x="-2147484240" y="958680"/>
            <a:chExt cx="730080" cy="4941720"/>
          </a:xfrm>
        </p:grpSpPr>
        <p:sp>
          <p:nvSpPr>
            <p:cNvPr id="449" name="Rectangle 20"/>
            <p:cNvSpPr/>
            <p:nvPr/>
          </p:nvSpPr>
          <p:spPr>
            <a:xfrm>
              <a:off x="-214693668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21"/>
            <p:cNvSpPr/>
            <p:nvPr/>
          </p:nvSpPr>
          <p:spPr>
            <a:xfrm>
              <a:off x="-2147119200" y="1476360"/>
              <a:ext cx="182520" cy="442404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7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22"/>
            <p:cNvSpPr/>
            <p:nvPr/>
          </p:nvSpPr>
          <p:spPr>
            <a:xfrm>
              <a:off x="-214730172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23"/>
            <p:cNvSpPr/>
            <p:nvPr/>
          </p:nvSpPr>
          <p:spPr>
            <a:xfrm>
              <a:off x="-214748424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Rectangle 24"/>
            <p:cNvSpPr/>
            <p:nvPr/>
          </p:nvSpPr>
          <p:spPr>
            <a:xfrm>
              <a:off x="-2146936680" y="958680"/>
              <a:ext cx="182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25"/>
            <p:cNvSpPr/>
            <p:nvPr/>
          </p:nvSpPr>
          <p:spPr>
            <a:xfrm>
              <a:off x="-2147484240" y="958680"/>
              <a:ext cx="547560" cy="5176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26"/>
            <p:cNvSpPr/>
            <p:nvPr/>
          </p:nvSpPr>
          <p:spPr>
            <a:xfrm>
              <a:off x="-2147484240" y="95868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>
              <a:off x="-2147484240" y="590040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28"/>
            <p:cNvSpPr/>
            <p:nvPr/>
          </p:nvSpPr>
          <p:spPr>
            <a:xfrm>
              <a:off x="-214748424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Line 29"/>
            <p:cNvSpPr/>
            <p:nvPr/>
          </p:nvSpPr>
          <p:spPr>
            <a:xfrm>
              <a:off x="-214675416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Line 30"/>
            <p:cNvSpPr/>
            <p:nvPr/>
          </p:nvSpPr>
          <p:spPr>
            <a:xfrm>
              <a:off x="-2147484240" y="147636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Line 31"/>
            <p:cNvSpPr/>
            <p:nvPr/>
          </p:nvSpPr>
          <p:spPr>
            <a:xfrm>
              <a:off x="-2147119200" y="147636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Line 32"/>
            <p:cNvSpPr/>
            <p:nvPr/>
          </p:nvSpPr>
          <p:spPr>
            <a:xfrm>
              <a:off x="-2147119200" y="590040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" name="Line 33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34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35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Line 36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37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38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Line 39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40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41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42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2" name="Picture 43" descr="496publication_5"/>
          <p:cNvPicPr/>
          <p:nvPr/>
        </p:nvPicPr>
        <p:blipFill>
          <a:blip r:embed="rId2"/>
          <a:stretch/>
        </p:blipFill>
        <p:spPr>
          <a:xfrm>
            <a:off x="-2147484240" y="153828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473" name="Line 44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45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Line 46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47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Line 48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49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50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51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52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53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54"/>
          <p:cNvSpPr/>
          <p:nvPr/>
        </p:nvSpPr>
        <p:spPr>
          <a:xfrm>
            <a:off x="-2147484240" y="95868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55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5" name="Group 56"/>
          <p:cNvGrpSpPr/>
          <p:nvPr/>
        </p:nvGrpSpPr>
        <p:grpSpPr>
          <a:xfrm>
            <a:off x="-2147484240" y="958680"/>
            <a:ext cx="730080" cy="4941720"/>
            <a:chOff x="-2147484240" y="958680"/>
            <a:chExt cx="730080" cy="4941720"/>
          </a:xfrm>
        </p:grpSpPr>
        <p:sp>
          <p:nvSpPr>
            <p:cNvPr id="486" name="Rectangle 57"/>
            <p:cNvSpPr/>
            <p:nvPr/>
          </p:nvSpPr>
          <p:spPr>
            <a:xfrm>
              <a:off x="-214693668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Rectangle 58"/>
            <p:cNvSpPr/>
            <p:nvPr/>
          </p:nvSpPr>
          <p:spPr>
            <a:xfrm>
              <a:off x="-2147119200" y="1476360"/>
              <a:ext cx="182520" cy="442404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75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Rectangle 59"/>
            <p:cNvSpPr/>
            <p:nvPr/>
          </p:nvSpPr>
          <p:spPr>
            <a:xfrm>
              <a:off x="-214730172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Rectangle 60"/>
            <p:cNvSpPr/>
            <p:nvPr/>
          </p:nvSpPr>
          <p:spPr>
            <a:xfrm>
              <a:off x="-2147484240" y="1476360"/>
              <a:ext cx="18252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" name="Rectangle 61"/>
            <p:cNvSpPr/>
            <p:nvPr/>
          </p:nvSpPr>
          <p:spPr>
            <a:xfrm>
              <a:off x="-2146936680" y="958680"/>
              <a:ext cx="182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Rectangle 62"/>
            <p:cNvSpPr/>
            <p:nvPr/>
          </p:nvSpPr>
          <p:spPr>
            <a:xfrm>
              <a:off x="-2147484240" y="958680"/>
              <a:ext cx="547560" cy="51768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" name="Line 63"/>
            <p:cNvSpPr/>
            <p:nvPr/>
          </p:nvSpPr>
          <p:spPr>
            <a:xfrm>
              <a:off x="-2147484240" y="95868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Line 64"/>
            <p:cNvSpPr/>
            <p:nvPr/>
          </p:nvSpPr>
          <p:spPr>
            <a:xfrm>
              <a:off x="-2147484240" y="590040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Line 65"/>
            <p:cNvSpPr/>
            <p:nvPr/>
          </p:nvSpPr>
          <p:spPr>
            <a:xfrm>
              <a:off x="-214748424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Line 66"/>
            <p:cNvSpPr/>
            <p:nvPr/>
          </p:nvSpPr>
          <p:spPr>
            <a:xfrm>
              <a:off x="-2146754160" y="958680"/>
              <a:ext cx="0" cy="4941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Line 67"/>
            <p:cNvSpPr/>
            <p:nvPr/>
          </p:nvSpPr>
          <p:spPr>
            <a:xfrm>
              <a:off x="-2147484240" y="147636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68"/>
            <p:cNvSpPr/>
            <p:nvPr/>
          </p:nvSpPr>
          <p:spPr>
            <a:xfrm>
              <a:off x="-2147119200" y="147636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69"/>
            <p:cNvSpPr/>
            <p:nvPr/>
          </p:nvSpPr>
          <p:spPr>
            <a:xfrm>
              <a:off x="-2147119200" y="590040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Line 70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Line 71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Line 72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Line 73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74"/>
          <p:cNvSpPr/>
          <p:nvPr/>
        </p:nvSpPr>
        <p:spPr>
          <a:xfrm>
            <a:off x="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75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76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Line 77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Line 78"/>
          <p:cNvSpPr/>
          <p:nvPr/>
        </p:nvSpPr>
        <p:spPr>
          <a:xfrm>
            <a:off x="-2147484240" y="9954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79"/>
          <p:cNvSpPr/>
          <p:nvPr/>
        </p:nvSpPr>
        <p:spPr>
          <a:xfrm>
            <a:off x="-2147484240" y="103176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9" name="Picture 80" descr="496publication_5"/>
          <p:cNvPicPr/>
          <p:nvPr/>
        </p:nvPicPr>
        <p:blipFill>
          <a:blip r:embed="rId3"/>
          <a:stretch/>
        </p:blipFill>
        <p:spPr>
          <a:xfrm>
            <a:off x="-2147484240" y="1538280"/>
            <a:ext cx="952560" cy="11905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81"/>
          <p:cNvSpPr/>
          <p:nvPr/>
        </p:nvSpPr>
        <p:spPr>
          <a:xfrm>
            <a:off x="4032360" y="654840"/>
            <a:ext cx="44748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3920" rIns="2239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333333"/>
                </a:solidFill>
                <a:latin typeface="Arial"/>
              </a:rPr>
              <a:t>← </a:t>
            </a:r>
            <a:r>
              <a:rPr b="0" lang="ru-RU" sz="200" spc="-1" strike="noStrike">
                <a:solidFill>
                  <a:srgbClr val="333333"/>
                </a:solidFill>
                <a:latin typeface="Arial"/>
              </a:rPr>
              <a:t>предыдущая </a:t>
            </a: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122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123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124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25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Line 126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Line 127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Line 128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Line 129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Line 130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Line 131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Line 132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Line 133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3" name="Group 149"/>
          <p:cNvGrpSpPr/>
          <p:nvPr/>
        </p:nvGrpSpPr>
        <p:grpSpPr>
          <a:xfrm>
            <a:off x="-2147484240" y="-4060800"/>
            <a:ext cx="730080" cy="14981040"/>
            <a:chOff x="-2147484240" y="-4060800"/>
            <a:chExt cx="730080" cy="14981040"/>
          </a:xfrm>
        </p:grpSpPr>
        <p:sp>
          <p:nvSpPr>
            <p:cNvPr id="524" name="Rectangle 111"/>
            <p:cNvSpPr/>
            <p:nvPr/>
          </p:nvSpPr>
          <p:spPr>
            <a:xfrm>
              <a:off x="-214693668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Rectangle 104"/>
            <p:cNvSpPr/>
            <p:nvPr/>
          </p:nvSpPr>
          <p:spPr>
            <a:xfrm>
              <a:off x="-2147119200" y="-3543120"/>
              <a:ext cx="182520" cy="1446336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24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Rectangle 103"/>
            <p:cNvSpPr/>
            <p:nvPr/>
          </p:nvSpPr>
          <p:spPr>
            <a:xfrm>
              <a:off x="-214730172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Rectangle 101"/>
            <p:cNvSpPr/>
            <p:nvPr/>
          </p:nvSpPr>
          <p:spPr>
            <a:xfrm>
              <a:off x="-214748424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Rectangle 100"/>
            <p:cNvSpPr/>
            <p:nvPr/>
          </p:nvSpPr>
          <p:spPr>
            <a:xfrm>
              <a:off x="-2146936680" y="-4060800"/>
              <a:ext cx="18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Rectangle 90"/>
            <p:cNvSpPr/>
            <p:nvPr/>
          </p:nvSpPr>
          <p:spPr>
            <a:xfrm>
              <a:off x="-2147484240" y="-4060800"/>
              <a:ext cx="547560" cy="51732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112"/>
            <p:cNvSpPr/>
            <p:nvPr/>
          </p:nvSpPr>
          <p:spPr>
            <a:xfrm>
              <a:off x="-2147484240" y="-406080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113"/>
            <p:cNvSpPr/>
            <p:nvPr/>
          </p:nvSpPr>
          <p:spPr>
            <a:xfrm>
              <a:off x="-2147484240" y="1092024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114"/>
            <p:cNvSpPr/>
            <p:nvPr/>
          </p:nvSpPr>
          <p:spPr>
            <a:xfrm>
              <a:off x="-214748424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115"/>
            <p:cNvSpPr/>
            <p:nvPr/>
          </p:nvSpPr>
          <p:spPr>
            <a:xfrm>
              <a:off x="-214675416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118"/>
            <p:cNvSpPr/>
            <p:nvPr/>
          </p:nvSpPr>
          <p:spPr>
            <a:xfrm>
              <a:off x="-2147484240" y="-354312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134"/>
            <p:cNvSpPr/>
            <p:nvPr/>
          </p:nvSpPr>
          <p:spPr>
            <a:xfrm>
              <a:off x="-2147119200" y="-354312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136"/>
            <p:cNvSpPr/>
            <p:nvPr/>
          </p:nvSpPr>
          <p:spPr>
            <a:xfrm>
              <a:off x="-2147119200" y="1092024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7" name="Line 138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Line 139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Line 140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Line 141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Line 142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Line 143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144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145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146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Line 147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" name="Picture 88" descr="3382"/>
          <p:cNvPicPr/>
          <p:nvPr/>
        </p:nvPicPr>
        <p:blipFill>
          <a:blip r:embed="rId4"/>
          <a:stretch/>
        </p:blipFill>
        <p:spPr>
          <a:xfrm>
            <a:off x="-2147484240" y="-3481560"/>
            <a:ext cx="3209760" cy="3810240"/>
          </a:xfrm>
          <a:prstGeom prst="rect">
            <a:avLst/>
          </a:prstGeom>
          <a:ln w="0">
            <a:noFill/>
          </a:ln>
        </p:spPr>
      </p:pic>
      <p:sp>
        <p:nvSpPr>
          <p:cNvPr id="548" name="Line 188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189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Line 190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Line 191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Line 192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Line 193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194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195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196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197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Line 198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Line 199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0" name="Group 215"/>
          <p:cNvGrpSpPr/>
          <p:nvPr/>
        </p:nvGrpSpPr>
        <p:grpSpPr>
          <a:xfrm>
            <a:off x="-2147484240" y="-4060800"/>
            <a:ext cx="730080" cy="14981040"/>
            <a:chOff x="-2147484240" y="-4060800"/>
            <a:chExt cx="730080" cy="14981040"/>
          </a:xfrm>
        </p:grpSpPr>
        <p:sp>
          <p:nvSpPr>
            <p:cNvPr id="561" name="Rectangle 177"/>
            <p:cNvSpPr/>
            <p:nvPr/>
          </p:nvSpPr>
          <p:spPr>
            <a:xfrm>
              <a:off x="-214693668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Rectangle 170"/>
            <p:cNvSpPr/>
            <p:nvPr/>
          </p:nvSpPr>
          <p:spPr>
            <a:xfrm>
              <a:off x="-2147119200" y="-3543120"/>
              <a:ext cx="182520" cy="1446336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24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Rectangle 169"/>
            <p:cNvSpPr/>
            <p:nvPr/>
          </p:nvSpPr>
          <p:spPr>
            <a:xfrm>
              <a:off x="-214730172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Rectangle 167"/>
            <p:cNvSpPr/>
            <p:nvPr/>
          </p:nvSpPr>
          <p:spPr>
            <a:xfrm>
              <a:off x="-214748424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Rectangle 166"/>
            <p:cNvSpPr/>
            <p:nvPr/>
          </p:nvSpPr>
          <p:spPr>
            <a:xfrm>
              <a:off x="-2146936680" y="-4060800"/>
              <a:ext cx="18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Rectangle 156"/>
            <p:cNvSpPr/>
            <p:nvPr/>
          </p:nvSpPr>
          <p:spPr>
            <a:xfrm>
              <a:off x="-2147484240" y="-4060800"/>
              <a:ext cx="547560" cy="51732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178"/>
            <p:cNvSpPr/>
            <p:nvPr/>
          </p:nvSpPr>
          <p:spPr>
            <a:xfrm>
              <a:off x="-2147484240" y="-406080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179"/>
            <p:cNvSpPr/>
            <p:nvPr/>
          </p:nvSpPr>
          <p:spPr>
            <a:xfrm>
              <a:off x="-2147484240" y="1092024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180"/>
            <p:cNvSpPr/>
            <p:nvPr/>
          </p:nvSpPr>
          <p:spPr>
            <a:xfrm>
              <a:off x="-214748424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181"/>
            <p:cNvSpPr/>
            <p:nvPr/>
          </p:nvSpPr>
          <p:spPr>
            <a:xfrm>
              <a:off x="-214675416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184"/>
            <p:cNvSpPr/>
            <p:nvPr/>
          </p:nvSpPr>
          <p:spPr>
            <a:xfrm>
              <a:off x="-2147484240" y="-354312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Line 200"/>
            <p:cNvSpPr/>
            <p:nvPr/>
          </p:nvSpPr>
          <p:spPr>
            <a:xfrm>
              <a:off x="-2147119200" y="-354312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Line 202"/>
            <p:cNvSpPr/>
            <p:nvPr/>
          </p:nvSpPr>
          <p:spPr>
            <a:xfrm>
              <a:off x="-2147119200" y="1092024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4" name="Line 204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205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206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207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208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Line 209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Line 210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Line 211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Line 212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213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" name="Picture 154" descr="3382"/>
          <p:cNvPicPr/>
          <p:nvPr/>
        </p:nvPicPr>
        <p:blipFill>
          <a:blip r:embed="rId5"/>
          <a:stretch/>
        </p:blipFill>
        <p:spPr>
          <a:xfrm>
            <a:off x="-2147484240" y="-3481560"/>
            <a:ext cx="3209760" cy="3810240"/>
          </a:xfrm>
          <a:prstGeom prst="rect">
            <a:avLst/>
          </a:prstGeom>
          <a:ln w="0">
            <a:noFill/>
          </a:ln>
        </p:spPr>
      </p:pic>
      <p:sp>
        <p:nvSpPr>
          <p:cNvPr id="585" name="Line 254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255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Line 256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Line 257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Line 258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Line 259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Line 260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Line 261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Line 262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Line 263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Line 264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Line 265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7" name="Group 281"/>
          <p:cNvGrpSpPr/>
          <p:nvPr/>
        </p:nvGrpSpPr>
        <p:grpSpPr>
          <a:xfrm>
            <a:off x="-2147484240" y="-4060800"/>
            <a:ext cx="730080" cy="14981040"/>
            <a:chOff x="-2147484240" y="-4060800"/>
            <a:chExt cx="730080" cy="14981040"/>
          </a:xfrm>
        </p:grpSpPr>
        <p:sp>
          <p:nvSpPr>
            <p:cNvPr id="598" name="Rectangle 243"/>
            <p:cNvSpPr/>
            <p:nvPr/>
          </p:nvSpPr>
          <p:spPr>
            <a:xfrm>
              <a:off x="-214693668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Rectangle 236"/>
            <p:cNvSpPr/>
            <p:nvPr/>
          </p:nvSpPr>
          <p:spPr>
            <a:xfrm>
              <a:off x="-2147119200" y="-3543120"/>
              <a:ext cx="182520" cy="1446336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24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Rectangle 235"/>
            <p:cNvSpPr/>
            <p:nvPr/>
          </p:nvSpPr>
          <p:spPr>
            <a:xfrm>
              <a:off x="-214730172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Rectangle 233"/>
            <p:cNvSpPr/>
            <p:nvPr/>
          </p:nvSpPr>
          <p:spPr>
            <a:xfrm>
              <a:off x="-214748424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Rectangle 232"/>
            <p:cNvSpPr/>
            <p:nvPr/>
          </p:nvSpPr>
          <p:spPr>
            <a:xfrm>
              <a:off x="-2146936680" y="-4060800"/>
              <a:ext cx="18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Rectangle 222"/>
            <p:cNvSpPr/>
            <p:nvPr/>
          </p:nvSpPr>
          <p:spPr>
            <a:xfrm>
              <a:off x="-2147484240" y="-4060800"/>
              <a:ext cx="547560" cy="51732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244"/>
            <p:cNvSpPr/>
            <p:nvPr/>
          </p:nvSpPr>
          <p:spPr>
            <a:xfrm>
              <a:off x="-2147484240" y="-406080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245"/>
            <p:cNvSpPr/>
            <p:nvPr/>
          </p:nvSpPr>
          <p:spPr>
            <a:xfrm>
              <a:off x="-2147484240" y="1092024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246"/>
            <p:cNvSpPr/>
            <p:nvPr/>
          </p:nvSpPr>
          <p:spPr>
            <a:xfrm>
              <a:off x="-214748424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247"/>
            <p:cNvSpPr/>
            <p:nvPr/>
          </p:nvSpPr>
          <p:spPr>
            <a:xfrm>
              <a:off x="-214675416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250"/>
            <p:cNvSpPr/>
            <p:nvPr/>
          </p:nvSpPr>
          <p:spPr>
            <a:xfrm>
              <a:off x="-2147484240" y="-354312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266"/>
            <p:cNvSpPr/>
            <p:nvPr/>
          </p:nvSpPr>
          <p:spPr>
            <a:xfrm>
              <a:off x="-2147119200" y="-354312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268"/>
            <p:cNvSpPr/>
            <p:nvPr/>
          </p:nvSpPr>
          <p:spPr>
            <a:xfrm>
              <a:off x="-2147119200" y="1092024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1" name="Line 270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Line 271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Line 272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Line 273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Line 274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Line 275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Line 276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Line 277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Line 278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Line 279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1" name="Picture 220" descr="3382"/>
          <p:cNvPicPr/>
          <p:nvPr/>
        </p:nvPicPr>
        <p:blipFill>
          <a:blip r:embed="rId6"/>
          <a:stretch/>
        </p:blipFill>
        <p:spPr>
          <a:xfrm>
            <a:off x="-2147484240" y="-3481560"/>
            <a:ext cx="3209760" cy="3810240"/>
          </a:xfrm>
          <a:prstGeom prst="rect">
            <a:avLst/>
          </a:prstGeom>
          <a:ln w="0">
            <a:noFill/>
          </a:ln>
        </p:spPr>
      </p:pic>
      <p:sp>
        <p:nvSpPr>
          <p:cNvPr id="622" name="Line 320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Line 321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322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Line 323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Line 324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325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326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327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328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Line 329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330"/>
          <p:cNvSpPr/>
          <p:nvPr/>
        </p:nvSpPr>
        <p:spPr>
          <a:xfrm>
            <a:off x="-2147484240" y="-406080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331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4" name="Group 347"/>
          <p:cNvGrpSpPr/>
          <p:nvPr/>
        </p:nvGrpSpPr>
        <p:grpSpPr>
          <a:xfrm>
            <a:off x="-2147484240" y="-4060800"/>
            <a:ext cx="730080" cy="14981040"/>
            <a:chOff x="-2147484240" y="-4060800"/>
            <a:chExt cx="730080" cy="14981040"/>
          </a:xfrm>
        </p:grpSpPr>
        <p:sp>
          <p:nvSpPr>
            <p:cNvPr id="635" name="Rectangle 309"/>
            <p:cNvSpPr/>
            <p:nvPr/>
          </p:nvSpPr>
          <p:spPr>
            <a:xfrm>
              <a:off x="-214693668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302"/>
            <p:cNvSpPr/>
            <p:nvPr/>
          </p:nvSpPr>
          <p:spPr>
            <a:xfrm>
              <a:off x="-2147119200" y="-3543120"/>
              <a:ext cx="182520" cy="1446336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 </a:t>
              </a:r>
              <a:r>
                <a:rPr b="0" lang="ru-RU" sz="24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</a:t>
              </a:r>
              <a:r>
                <a:rPr b="0" lang="ru-RU" sz="1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301"/>
            <p:cNvSpPr/>
            <p:nvPr/>
          </p:nvSpPr>
          <p:spPr>
            <a:xfrm>
              <a:off x="-214730172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299"/>
            <p:cNvSpPr/>
            <p:nvPr/>
          </p:nvSpPr>
          <p:spPr>
            <a:xfrm>
              <a:off x="-2147484240" y="-3543120"/>
              <a:ext cx="182520" cy="144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298"/>
            <p:cNvSpPr/>
            <p:nvPr/>
          </p:nvSpPr>
          <p:spPr>
            <a:xfrm>
              <a:off x="-2146936680" y="-4060800"/>
              <a:ext cx="18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288"/>
            <p:cNvSpPr/>
            <p:nvPr/>
          </p:nvSpPr>
          <p:spPr>
            <a:xfrm>
              <a:off x="-2147484240" y="-4060800"/>
              <a:ext cx="547560" cy="517320"/>
            </a:xfrm>
            <a:prstGeom prst="rect">
              <a:avLst/>
            </a:prstGeom>
            <a:solidFill>
              <a:srgbClr val="e8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00"/>
              </a:b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Line 310"/>
            <p:cNvSpPr/>
            <p:nvPr/>
          </p:nvSpPr>
          <p:spPr>
            <a:xfrm>
              <a:off x="-2147484240" y="-4060800"/>
              <a:ext cx="73008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Line 311"/>
            <p:cNvSpPr/>
            <p:nvPr/>
          </p:nvSpPr>
          <p:spPr>
            <a:xfrm>
              <a:off x="-2147484240" y="10920240"/>
              <a:ext cx="3650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312"/>
            <p:cNvSpPr/>
            <p:nvPr/>
          </p:nvSpPr>
          <p:spPr>
            <a:xfrm>
              <a:off x="-214748424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313"/>
            <p:cNvSpPr/>
            <p:nvPr/>
          </p:nvSpPr>
          <p:spPr>
            <a:xfrm>
              <a:off x="-2146754160" y="-4060800"/>
              <a:ext cx="0" cy="149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316"/>
            <p:cNvSpPr/>
            <p:nvPr/>
          </p:nvSpPr>
          <p:spPr>
            <a:xfrm>
              <a:off x="-2147484240" y="-354312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332"/>
            <p:cNvSpPr/>
            <p:nvPr/>
          </p:nvSpPr>
          <p:spPr>
            <a:xfrm>
              <a:off x="-2147119200" y="-3543120"/>
              <a:ext cx="365040" cy="0"/>
            </a:xfrm>
            <a:prstGeom prst="line">
              <a:avLst/>
            </a:prstGeom>
            <a:ln cap="rnd"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Line 334"/>
            <p:cNvSpPr/>
            <p:nvPr/>
          </p:nvSpPr>
          <p:spPr>
            <a:xfrm>
              <a:off x="-2147119200" y="10920240"/>
              <a:ext cx="365040" cy="0"/>
            </a:xfrm>
            <a:prstGeom prst="line">
              <a:avLst/>
            </a:prstGeom>
            <a:ln cap="rnd" w="0">
              <a:solidFill>
                <a:srgbClr val="d2cdd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8" name="Line 336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Line 337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338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339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340"/>
          <p:cNvSpPr/>
          <p:nvPr/>
        </p:nvSpPr>
        <p:spPr>
          <a:xfrm>
            <a:off x="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341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342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343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Line 344"/>
          <p:cNvSpPr/>
          <p:nvPr/>
        </p:nvSpPr>
        <p:spPr>
          <a:xfrm>
            <a:off x="-2147484240" y="-4024440"/>
            <a:ext cx="0" cy="0"/>
          </a:xfrm>
          <a:prstGeom prst="line">
            <a:avLst/>
          </a:prstGeom>
          <a:ln cap="rnd"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Line 345"/>
          <p:cNvSpPr/>
          <p:nvPr/>
        </p:nvSpPr>
        <p:spPr>
          <a:xfrm>
            <a:off x="-2147484240" y="-3987720"/>
            <a:ext cx="0" cy="0"/>
          </a:xfrm>
          <a:prstGeom prst="line">
            <a:avLst/>
          </a:prstGeom>
          <a:ln cap="rnd" w="0">
            <a:solidFill>
              <a:srgbClr val="d2cdd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8" name="Picture 286" descr="3382"/>
          <p:cNvPicPr/>
          <p:nvPr/>
        </p:nvPicPr>
        <p:blipFill>
          <a:blip r:embed="rId7"/>
          <a:stretch/>
        </p:blipFill>
        <p:spPr>
          <a:xfrm>
            <a:off x="-2147484240" y="-3481560"/>
            <a:ext cx="320976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9" name="Object 352"/>
          <p:cNvGraphicFramePr/>
          <p:nvPr/>
        </p:nvGraphicFramePr>
        <p:xfrm>
          <a:off x="4284720" y="1844640"/>
          <a:ext cx="3836880" cy="453564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60" name="Object 35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84720" y="1844640"/>
                    <a:ext cx="38368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AD35-DE2D-47AD-A10D-9133ECCB959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19280" y="18864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Ц.П.Т. Биномиальное распределение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4" name="Picture 6" descr=""/>
          <p:cNvPicPr/>
          <p:nvPr/>
        </p:nvPicPr>
        <p:blipFill>
          <a:blip r:embed="rId1"/>
          <a:stretch/>
        </p:blipFill>
        <p:spPr>
          <a:xfrm>
            <a:off x="3059280" y="3789360"/>
            <a:ext cx="2950920" cy="194616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2952720" cy="20592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"/>
          <p:cNvPicPr/>
          <p:nvPr/>
        </p:nvPicPr>
        <p:blipFill>
          <a:blip r:embed="rId3"/>
          <a:stretch/>
        </p:blipFill>
        <p:spPr>
          <a:xfrm>
            <a:off x="6012000" y="3789360"/>
            <a:ext cx="2844720" cy="19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7" name="Object 9"/>
          <p:cNvGraphicFramePr/>
          <p:nvPr/>
        </p:nvGraphicFramePr>
        <p:xfrm>
          <a:off x="291960" y="2060640"/>
          <a:ext cx="8839440" cy="1560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68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960" y="2060640"/>
                    <a:ext cx="88394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390C-8B8B-42F2-B49A-B635F41191C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Зако́н больши́х чи́се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теории вероятностей утверждает, что эмпирическое среднее (среднее арифметическое) достаточно большой конечной выборки из фиксированного распределения близко к теоретическому среднему (математическому ожиданию) этого распредел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0">
    <p:cover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6F1E-F0DC-4EFA-A7C9-375CF6B0941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8101080" cy="9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Локальная теорема Муавра-Лапласа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3" name="Object 7"/>
          <p:cNvGraphicFramePr/>
          <p:nvPr/>
        </p:nvGraphicFramePr>
        <p:xfrm>
          <a:off x="2987640" y="1916280"/>
          <a:ext cx="5289480" cy="435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916280"/>
                    <a:ext cx="528948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41A8-3C17-4229-8CA6-984B6592D65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окальная теорема Муавра-Лапласа. Пример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9" name="Object 7"/>
          <p:cNvGraphicFramePr/>
          <p:nvPr/>
        </p:nvGraphicFramePr>
        <p:xfrm>
          <a:off x="1116000" y="2133720"/>
          <a:ext cx="7632720" cy="383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133720"/>
                    <a:ext cx="763272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CE3B-888E-4734-B264-CC35BFDA599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8101080" cy="9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нтегральная теорема Муавра-Лапласа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91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85" name="Object 7"/>
          <p:cNvGraphicFramePr/>
          <p:nvPr/>
        </p:nvGraphicFramePr>
        <p:xfrm>
          <a:off x="395280" y="2060640"/>
          <a:ext cx="8532720" cy="39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060640"/>
                    <a:ext cx="853272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9DBE-EDD8-4877-97F2-C6B1D937DD8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нтегральная теорема Муавра-Лапласа. Пример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Object 8"/>
          <p:cNvGraphicFramePr/>
          <p:nvPr/>
        </p:nvGraphicFramePr>
        <p:xfrm>
          <a:off x="900000" y="1989000"/>
          <a:ext cx="7632720" cy="41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89000"/>
                    <a:ext cx="76327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69E6-9202-4B69-BB17-9FEF3F83814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ебышев Пафнутий Львови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12" descr="chebysh"/>
          <p:cNvPicPr/>
          <p:nvPr/>
        </p:nvPicPr>
        <p:blipFill>
          <a:blip r:embed="rId1"/>
          <a:stretch/>
        </p:blipFill>
        <p:spPr>
          <a:xfrm>
            <a:off x="395280" y="2349360"/>
            <a:ext cx="282564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13"/>
          <p:cNvGraphicFramePr/>
          <p:nvPr/>
        </p:nvGraphicFramePr>
        <p:xfrm>
          <a:off x="4284720" y="2136600"/>
          <a:ext cx="4254480" cy="4448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2136600"/>
                    <a:ext cx="4254480" cy="44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6A99-404F-4C7D-ADA6-32D827964B3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79292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в Андрей Андреевич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Марков Андрей Андреевич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Марков Андрей Андреевич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427640" y="2575080"/>
          <a:ext cx="3024000" cy="1707840"/>
        </p:xfrm>
        <a:graphic>
          <a:graphicData uri="http://schemas.openxmlformats.org/drawingml/2006/table">
            <a:tbl>
              <a:tblPr/>
              <a:tblGrid>
                <a:gridCol w="3024000"/>
              </a:tblGrid>
              <a:tr h="170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Picture 12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290844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Object 13"/>
          <p:cNvGraphicFramePr/>
          <p:nvPr/>
        </p:nvGraphicFramePr>
        <p:xfrm>
          <a:off x="3708360" y="1989000"/>
          <a:ext cx="4680000" cy="4081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1989000"/>
                    <a:ext cx="4680000" cy="40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7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B8B8-B0DC-4874-A9B7-72991ACB689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ервое неравенство Чебышева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   (неравенство Маркова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Object 38"/>
          <p:cNvGraphicFramePr/>
          <p:nvPr/>
        </p:nvGraphicFramePr>
        <p:xfrm>
          <a:off x="1619280" y="2276640"/>
          <a:ext cx="5956200" cy="309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595620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51EE-68C1-4EC7-9F45-F0A7D39E6F0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ервое неравенство Чебышева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Object 44"/>
          <p:cNvGraphicFramePr/>
          <p:nvPr/>
        </p:nvGraphicFramePr>
        <p:xfrm>
          <a:off x="2048040" y="2208240"/>
          <a:ext cx="5852880" cy="363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208240"/>
                    <a:ext cx="585288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2E4E-D1E7-467A-B773-628EA61E7CF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      </a:t>
            </a:r>
            <a:br>
              <a:rPr sz="4800"/>
            </a:br>
            <a:r>
              <a:rPr b="0" lang="ru-RU" sz="4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ервое неравенство Чебышева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ИМЕР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533520" y="304920"/>
            <a:ext cx="655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Предельные теоремы теории вероятност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Object 8"/>
          <p:cNvGraphicFramePr/>
          <p:nvPr/>
        </p:nvGraphicFramePr>
        <p:xfrm>
          <a:off x="1835280" y="1844640"/>
          <a:ext cx="6291000" cy="43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44640"/>
                    <a:ext cx="629100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0">
    <p:cover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7:24:04Z</dcterms:created>
  <dc:creator>Pretender</dc:creator>
  <dc:description/>
  <dc:language>en-US</dc:language>
  <cp:lastModifiedBy>Александра</cp:lastModifiedBy>
  <dcterms:modified xsi:type="dcterms:W3CDTF">2022-02-24T05:44:22Z</dcterms:modified>
  <cp:revision>100</cp:revision>
  <dc:subject/>
  <dc:title>Slide 1</dc:title>
</cp:coreProperties>
</file>