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E488-2520-4B16-A79E-BBFD66ADD3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75F1-BB92-4214-9814-264CAB93AA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9C20-7B5F-4781-90DA-30AD35E5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FD33-E6AA-4F8C-8640-3199244A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601E-CBDB-4F74-98AD-DAA43A290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63D2-DCFE-449D-9385-6CD11CCB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A60A-2955-4148-84EA-7E789726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3137-2A48-4017-939A-D7B8BEA9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ECE3-93A0-49D4-AD32-E7E0A9AC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20CC-810D-40FA-9F40-C52CB6A9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B6C3-7796-4003-81D1-67352412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0E31-3451-41B9-AB23-9317A8E5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94B1-54B1-4932-BF70-1020C29E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2718-46AB-4A6B-B01A-5F3BE9F4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5B80-E6F6-47BF-8D16-FAC39C32B5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http://www.metod-kopilka.ru/images/doc/62/63287/img0.jpg"/>
          <p:cNvPicPr/>
          <p:nvPr/>
        </p:nvPicPr>
        <p:blipFill>
          <a:blip r:embed="rId2"/>
          <a:stretch/>
        </p:blipFill>
        <p:spPr>
          <a:xfrm>
            <a:off x="1357200" y="1071720"/>
            <a:ext cx="6286680" cy="4286160"/>
          </a:xfrm>
          <a:prstGeom prst="rect">
            <a:avLst/>
          </a:prstGeom>
          <a:ln w="0">
            <a:noFill/>
          </a:ln>
        </p:spPr>
      </p:pic>
      <p:pic>
        <p:nvPicPr>
          <p:cNvPr id="52" name="Starye_pesni_o_glavnom_-_Horoshie_devchata_muzofon.tv.mp3" descr=""/>
          <p:cNvPicPr/>
          <p:nvPr/>
        </p:nvPicPr>
        <p:blipFill>
          <a:blip r:embed="rId3"/>
          <a:stretch/>
        </p:blipFill>
        <p:spPr>
          <a:xfrm>
            <a:off x="9144000" y="56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https://i.mycdn.me/image?id=852675249179&amp;t=0&amp;plc=WEB&amp;tkn=*h1uRzvUoJ2vGaOWd2v1mL8F3xKc"/>
          <p:cNvPicPr/>
          <p:nvPr/>
        </p:nvPicPr>
        <p:blipFill>
          <a:blip r:embed="rId2"/>
          <a:stretch/>
        </p:blipFill>
        <p:spPr>
          <a:xfrm>
            <a:off x="1500120" y="1071720"/>
            <a:ext cx="614376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https://i.mycdn.me/image?id=852675260187&amp;t=0&amp;plc=WEB&amp;tkn=*D8ypuiuGUHAtqKN8n08KBYOzWrc"/>
          <p:cNvPicPr/>
          <p:nvPr/>
        </p:nvPicPr>
        <p:blipFill>
          <a:blip r:embed="rId2"/>
          <a:stretch/>
        </p:blipFill>
        <p:spPr>
          <a:xfrm>
            <a:off x="1500120" y="1071720"/>
            <a:ext cx="607212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https://i.mycdn.me/image?id=852675269659&amp;t=0&amp;plc=WEB&amp;tkn=*2ZmwfHsL-Qx1VMyOUKKpq9LuxOo"/>
          <p:cNvPicPr/>
          <p:nvPr/>
        </p:nvPicPr>
        <p:blipFill>
          <a:blip r:embed="rId2"/>
          <a:stretch/>
        </p:blipFill>
        <p:spPr>
          <a:xfrm>
            <a:off x="1500120" y="1071720"/>
            <a:ext cx="607212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https://i.mycdn.me/image?id=852675376411&amp;t=0&amp;plc=WEB&amp;tkn=*U0o37kkyYVZqQzXzET63Z80CghQ"/>
          <p:cNvPicPr/>
          <p:nvPr/>
        </p:nvPicPr>
        <p:blipFill>
          <a:blip r:embed="rId2"/>
          <a:stretch/>
        </p:blipFill>
        <p:spPr>
          <a:xfrm>
            <a:off x="1500120" y="1071720"/>
            <a:ext cx="614376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https://i.mycdn.me/image?id=852675421467&amp;t=0&amp;plc=WEB&amp;tkn=*XygB1x93Sie7BJ942KADciuqhlY"/>
          <p:cNvPicPr/>
          <p:nvPr/>
        </p:nvPicPr>
        <p:blipFill>
          <a:blip r:embed="rId2"/>
          <a:stretch/>
        </p:blipFill>
        <p:spPr>
          <a:xfrm>
            <a:off x="1428840" y="1000080"/>
            <a:ext cx="6143400" cy="45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4" descr="https://i.mycdn.me/image?id=852675625499&amp;t=0&amp;plc=WEB&amp;tkn=*9PMwtd8Y1jDQS75_VjXt3LEw_4Q"/>
          <p:cNvPicPr/>
          <p:nvPr/>
        </p:nvPicPr>
        <p:blipFill>
          <a:blip r:embed="rId2"/>
          <a:stretch/>
        </p:blipFill>
        <p:spPr>
          <a:xfrm>
            <a:off x="1428840" y="1071720"/>
            <a:ext cx="614340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https://i.mycdn.me/image?id=852675636763&amp;t=0&amp;plc=WEB&amp;tkn=*jJjLgS2iy4wlE6tg05sqPxbPk2k"/>
          <p:cNvPicPr/>
          <p:nvPr/>
        </p:nvPicPr>
        <p:blipFill>
          <a:blip r:embed="rId2"/>
          <a:stretch/>
        </p:blipFill>
        <p:spPr>
          <a:xfrm>
            <a:off x="1500120" y="1071720"/>
            <a:ext cx="607212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https://i.mycdn.me/image?id=852675973659&amp;t=0&amp;plc=WEB&amp;tkn=*SQ-kJ73WfZfZN59VFDdIOpTsGyc"/>
          <p:cNvPicPr/>
          <p:nvPr/>
        </p:nvPicPr>
        <p:blipFill>
          <a:blip r:embed="rId2"/>
          <a:stretch/>
        </p:blipFill>
        <p:spPr>
          <a:xfrm>
            <a:off x="1500120" y="1071720"/>
            <a:ext cx="614376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https://i.mycdn.me/image?id=852675978779&amp;t=0&amp;plc=WEB&amp;tkn=*7bD_BJSgOQkfhX6GH18EeDW4koQ"/>
          <p:cNvPicPr/>
          <p:nvPr/>
        </p:nvPicPr>
        <p:blipFill>
          <a:blip r:embed="rId2"/>
          <a:stretch/>
        </p:blipFill>
        <p:spPr>
          <a:xfrm>
            <a:off x="1500120" y="1071720"/>
            <a:ext cx="614376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4" descr="https://i.mycdn.me/image?id=852676163867&amp;t=0&amp;plc=WEB&amp;tkn=*yhVlYZHcQPrmebo6QrFSiy1599A"/>
          <p:cNvPicPr/>
          <p:nvPr/>
        </p:nvPicPr>
        <p:blipFill>
          <a:blip r:embed="rId2"/>
          <a:stretch/>
        </p:blipFill>
        <p:spPr>
          <a:xfrm>
            <a:off x="1500120" y="1071720"/>
            <a:ext cx="614376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https://i.mycdn.me/image?id=852674284827&amp;t=0&amp;plc=WEB&amp;tkn=*KeDu6X0RAj_xEU4_5mAL4cL7U9E"/>
          <p:cNvPicPr/>
          <p:nvPr/>
        </p:nvPicPr>
        <p:blipFill>
          <a:blip r:embed="rId2"/>
          <a:srcRect l="16113" t="30745" r="0" b="0"/>
          <a:stretch/>
        </p:blipFill>
        <p:spPr>
          <a:xfrm>
            <a:off x="1571760" y="1071720"/>
            <a:ext cx="600048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4" descr="https://i.mycdn.me/image?id=852676208411&amp;t=0&amp;plc=WEB&amp;tkn=*2nbh0pOo3sKaIdFHxiA6WMwN18w"/>
          <p:cNvPicPr/>
          <p:nvPr/>
        </p:nvPicPr>
        <p:blipFill>
          <a:blip r:embed="rId2"/>
          <a:stretch/>
        </p:blipFill>
        <p:spPr>
          <a:xfrm>
            <a:off x="1500120" y="1071720"/>
            <a:ext cx="614376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4" descr="https://i.mycdn.me/image?id=852676211995&amp;t=0&amp;plc=WEB&amp;tkn=*IB1zCt0ELgxPwxp1rDBLlWRCIZY"/>
          <p:cNvPicPr/>
          <p:nvPr/>
        </p:nvPicPr>
        <p:blipFill>
          <a:blip r:embed="rId2"/>
          <a:stretch/>
        </p:blipFill>
        <p:spPr>
          <a:xfrm>
            <a:off x="1500120" y="1071720"/>
            <a:ext cx="614376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4" descr="https://i.mycdn.me/image?id=852676305179&amp;t=0&amp;plc=WEB&amp;tkn=*otsp4ICYqdMchGuuhwSO6MBPIbo"/>
          <p:cNvPicPr/>
          <p:nvPr/>
        </p:nvPicPr>
        <p:blipFill>
          <a:blip r:embed="rId2"/>
          <a:stretch/>
        </p:blipFill>
        <p:spPr>
          <a:xfrm>
            <a:off x="1500120" y="1071720"/>
            <a:ext cx="607212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4" descr="https://i.mycdn.me/image?id=852676312603&amp;t=0&amp;plc=WEB&amp;tkn=*T7asOmzoLwat_DjosRrejPkd368"/>
          <p:cNvPicPr/>
          <p:nvPr/>
        </p:nvPicPr>
        <p:blipFill>
          <a:blip r:embed="rId2"/>
          <a:stretch/>
        </p:blipFill>
        <p:spPr>
          <a:xfrm>
            <a:off x="1428840" y="1071720"/>
            <a:ext cx="621504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4" descr="https://i.mycdn.me/image?id=852676315675&amp;t=0&amp;plc=WEB&amp;tkn=*AtenCga9CCpxnwNQBdcXQR-2nT4"/>
          <p:cNvPicPr/>
          <p:nvPr/>
        </p:nvPicPr>
        <p:blipFill>
          <a:blip r:embed="rId2"/>
          <a:stretch/>
        </p:blipFill>
        <p:spPr>
          <a:xfrm>
            <a:off x="1500120" y="1071720"/>
            <a:ext cx="607212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4" descr="https://i.mycdn.me/image?id=852676319003&amp;t=0&amp;plc=WEB&amp;tkn=*FPITTxHAQ0icUntd9qUPTodXmk8"/>
          <p:cNvPicPr/>
          <p:nvPr/>
        </p:nvPicPr>
        <p:blipFill>
          <a:blip r:embed="rId2"/>
          <a:stretch/>
        </p:blipFill>
        <p:spPr>
          <a:xfrm>
            <a:off x="1500120" y="1071720"/>
            <a:ext cx="607212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4" descr="https://i.mycdn.me/image?id=852676332315&amp;t=0&amp;plc=WEB&amp;tkn=*iMZnjHiHQ5hkI4iR2nWPEm2V1hg"/>
          <p:cNvPicPr/>
          <p:nvPr/>
        </p:nvPicPr>
        <p:blipFill>
          <a:blip r:embed="rId2"/>
          <a:stretch/>
        </p:blipFill>
        <p:spPr>
          <a:xfrm>
            <a:off x="1500120" y="1071720"/>
            <a:ext cx="607212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4" descr="https://i.mycdn.me/image?id=852676346651&amp;t=0&amp;plc=WEB&amp;tkn=*4Hqnf424LcGG2Eeb0Q2-Hi04dZg"/>
          <p:cNvPicPr/>
          <p:nvPr/>
        </p:nvPicPr>
        <p:blipFill>
          <a:blip r:embed="rId2"/>
          <a:stretch/>
        </p:blipFill>
        <p:spPr>
          <a:xfrm>
            <a:off x="1500120" y="1071720"/>
            <a:ext cx="614376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https://i.mycdn.me/image?id=852674501147&amp;t=0&amp;plc=WEB&amp;tkn=*IcA4jL4Zh56DBHyLRrNjFrQMW3M"/>
          <p:cNvPicPr/>
          <p:nvPr/>
        </p:nvPicPr>
        <p:blipFill>
          <a:blip r:embed="rId2"/>
          <a:srcRect l="11392" t="18520" r="7777" b="10742"/>
          <a:stretch/>
        </p:blipFill>
        <p:spPr>
          <a:xfrm>
            <a:off x="1500120" y="1071720"/>
            <a:ext cx="607212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https://i.mycdn.me/image?id=852674520859&amp;t=0&amp;plc=WEB&amp;tkn=*I_Kjku-cylc1mGHKC3IOEfZ9uHg"/>
          <p:cNvPicPr/>
          <p:nvPr/>
        </p:nvPicPr>
        <p:blipFill>
          <a:blip r:embed="rId2"/>
          <a:srcRect l="0" t="11853" r="19444" b="12225"/>
          <a:stretch/>
        </p:blipFill>
        <p:spPr>
          <a:xfrm>
            <a:off x="1500120" y="1071720"/>
            <a:ext cx="614376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5" descr="https://i.mycdn.me/image?id=852674522395&amp;t=0&amp;plc=WEB&amp;tkn=*GZEulHdarBxsmllV6MLs_a0bk-4"/>
          <p:cNvPicPr/>
          <p:nvPr/>
        </p:nvPicPr>
        <p:blipFill>
          <a:blip r:embed="rId2"/>
          <a:stretch/>
        </p:blipFill>
        <p:spPr>
          <a:xfrm>
            <a:off x="1500120" y="1071720"/>
            <a:ext cx="614376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https://i.mycdn.me/image?id=852674523419&amp;t=0&amp;plc=WEB&amp;tkn=*vLTRQF3orziBpAfTXaF8F3d5SAQ"/>
          <p:cNvPicPr/>
          <p:nvPr/>
        </p:nvPicPr>
        <p:blipFill>
          <a:blip r:embed="rId2"/>
          <a:stretch/>
        </p:blipFill>
        <p:spPr>
          <a:xfrm>
            <a:off x="1500120" y="1071720"/>
            <a:ext cx="607212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https://i.mycdn.me/image?id=852674714139&amp;t=0&amp;plc=WEB&amp;tkn=*zDdrJYCNH1jkibP2sqcJNxC6uVI"/>
          <p:cNvPicPr/>
          <p:nvPr/>
        </p:nvPicPr>
        <p:blipFill>
          <a:blip r:embed="rId2"/>
          <a:stretch/>
        </p:blipFill>
        <p:spPr>
          <a:xfrm>
            <a:off x="1500120" y="1071720"/>
            <a:ext cx="614376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https://i.mycdn.me/image?id=852674721051&amp;t=0&amp;plc=WEB&amp;tkn=*7l6o0Gohyk_HE32amW3H6xMHld8"/>
          <p:cNvPicPr/>
          <p:nvPr/>
        </p:nvPicPr>
        <p:blipFill>
          <a:blip r:embed="rId2"/>
          <a:stretch/>
        </p:blipFill>
        <p:spPr>
          <a:xfrm>
            <a:off x="1500120" y="1071720"/>
            <a:ext cx="607212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4" descr="https://i.mycdn.me/image?id=852674723099&amp;t=0&amp;plc=WEB&amp;tkn=*gif-KlCgONiWQs1BKV318VJHitk"/>
          <p:cNvPicPr/>
          <p:nvPr/>
        </p:nvPicPr>
        <p:blipFill>
          <a:blip r:embed="rId2"/>
          <a:stretch/>
        </p:blipFill>
        <p:spPr>
          <a:xfrm>
            <a:off x="1500120" y="1071720"/>
            <a:ext cx="6072120" cy="450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20:37:06Z</dcterms:created>
  <dc:creator>Andrey</dc:creator>
  <dc:description/>
  <dc:language>en-US</dc:language>
  <cp:lastModifiedBy>Dexp Aquilon O159</cp:lastModifiedBy>
  <dcterms:modified xsi:type="dcterms:W3CDTF">2017-08-22T21:09:43Z</dcterms:modified>
  <cp:revision>23</cp:revision>
  <dc:subject/>
  <dc:title>Слайд 1</dc:title>
</cp:coreProperties>
</file>