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4.jpeg" ContentType="image/jpeg"/>
  <Override PartName="/ppt/media/image19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3.png" ContentType="image/png"/>
  <Override PartName="/ppt/media/image17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27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50109-6984-4FB7-AC5A-65C1799373B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5CF37-3375-4E39-8390-08311FC5828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D0630-AE7E-4A05-8DCC-6DA1436D5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D385B-A0A9-4B03-B144-EA5A5AB8A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3AC16-5FE1-40E5-A43B-FAAB0F372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1F4C1-53B7-44BD-BE54-00562D6FE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6BE55-6B4F-4F67-96A6-D71534E11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7337A-5D67-463F-BC16-BBE55F6DA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B64D5-1329-4968-B3CD-8AF1B2D7B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541CD-F14A-4B8B-AF95-C9A49204C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77CB1-D312-4B2B-8963-D05EE29AC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B029A-F9D7-4AF7-BAE5-0F4D9B667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8855F-64DF-48D0-953A-255EEF94C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FD46A-F59D-4457-9820-FF6495BF6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1FDBB-250B-48D9-A97F-333939287F1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" descr="C:\Users\Артём\Desktop\шаблоны для презентаций\25.jpg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7" descr="http://www.metod-kopilka.ru/images/doc/62/63287/img0.jpg"/>
          <p:cNvPicPr/>
          <p:nvPr/>
        </p:nvPicPr>
        <p:blipFill>
          <a:blip r:embed="rId2"/>
          <a:stretch/>
        </p:blipFill>
        <p:spPr>
          <a:xfrm>
            <a:off x="1357200" y="1071720"/>
            <a:ext cx="6286680" cy="4286160"/>
          </a:xfrm>
          <a:prstGeom prst="rect">
            <a:avLst/>
          </a:prstGeom>
          <a:ln w="0">
            <a:noFill/>
          </a:ln>
        </p:spPr>
      </p:pic>
      <p:pic>
        <p:nvPicPr>
          <p:cNvPr id="52" name="Starye_pesni_o_glavnom_-_Horoshie_devchata_muzofon.tv.mp3" descr=""/>
          <p:cNvPicPr/>
          <p:nvPr/>
        </p:nvPicPr>
        <p:blipFill>
          <a:blip r:embed="rId3"/>
          <a:stretch/>
        </p:blipFill>
        <p:spPr>
          <a:xfrm>
            <a:off x="9144000" y="56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4000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2" descr="C:\Users\Артём\Desktop\шаблоны для презентаций\25.jpg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67360"/>
          </a:xfrm>
          <a:prstGeom prst="rect">
            <a:avLst/>
          </a:prstGeom>
          <a:ln w="0">
            <a:noFill/>
          </a:ln>
        </p:spPr>
      </p:pic>
      <p:pic>
        <p:nvPicPr>
          <p:cNvPr id="88" name="Рисунок 4" descr="https://i.mycdn.me/image?id=852675249179&amp;t=0&amp;plc=WEB&amp;tkn=*h1uRzvUoJ2vGaOWd2v1mL8F3xKc"/>
          <p:cNvPicPr/>
          <p:nvPr/>
        </p:nvPicPr>
        <p:blipFill>
          <a:blip r:embed="rId2"/>
          <a:stretch/>
        </p:blipFill>
        <p:spPr>
          <a:xfrm>
            <a:off x="1500120" y="1071720"/>
            <a:ext cx="6143760" cy="442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" descr="C:\Users\Артём\Desktop\шаблоны для презентаций\25.jpg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67360"/>
          </a:xfrm>
          <a:prstGeom prst="rect">
            <a:avLst/>
          </a:prstGeom>
          <a:ln w="0">
            <a:noFill/>
          </a:ln>
        </p:spPr>
      </p:pic>
      <p:pic>
        <p:nvPicPr>
          <p:cNvPr id="92" name="Рисунок 5" descr="https://i.mycdn.me/image?id=852675260187&amp;t=0&amp;plc=WEB&amp;tkn=*D8ypuiuGUHAtqKN8n08KBYOzWrc"/>
          <p:cNvPicPr/>
          <p:nvPr/>
        </p:nvPicPr>
        <p:blipFill>
          <a:blip r:embed="rId2"/>
          <a:stretch/>
        </p:blipFill>
        <p:spPr>
          <a:xfrm>
            <a:off x="1500120" y="1071720"/>
            <a:ext cx="6072120" cy="45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2" descr="C:\Users\Артём\Desktop\шаблоны для презентаций\25.jpg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67360"/>
          </a:xfrm>
          <a:prstGeom prst="rect">
            <a:avLst/>
          </a:prstGeom>
          <a:ln w="0">
            <a:noFill/>
          </a:ln>
        </p:spPr>
      </p:pic>
      <p:pic>
        <p:nvPicPr>
          <p:cNvPr id="96" name="Рисунок 4" descr="https://i.mycdn.me/image?id=852675269659&amp;t=0&amp;plc=WEB&amp;tkn=*2ZmwfHsL-Qx1VMyOUKKpq9LuxOo"/>
          <p:cNvPicPr/>
          <p:nvPr/>
        </p:nvPicPr>
        <p:blipFill>
          <a:blip r:embed="rId2"/>
          <a:stretch/>
        </p:blipFill>
        <p:spPr>
          <a:xfrm>
            <a:off x="1500120" y="1071720"/>
            <a:ext cx="6072120" cy="45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2" descr="C:\Users\Артём\Desktop\шаблоны для презентаций\25.jpg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67360"/>
          </a:xfrm>
          <a:prstGeom prst="rect">
            <a:avLst/>
          </a:prstGeom>
          <a:ln w="0">
            <a:noFill/>
          </a:ln>
        </p:spPr>
      </p:pic>
      <p:pic>
        <p:nvPicPr>
          <p:cNvPr id="100" name="Рисунок 4" descr="https://i.mycdn.me/image?id=852675376411&amp;t=0&amp;plc=WEB&amp;tkn=*U0o37kkyYVZqQzXzET63Z80CghQ"/>
          <p:cNvPicPr/>
          <p:nvPr/>
        </p:nvPicPr>
        <p:blipFill>
          <a:blip r:embed="rId2"/>
          <a:stretch/>
        </p:blipFill>
        <p:spPr>
          <a:xfrm>
            <a:off x="1500120" y="1071720"/>
            <a:ext cx="6143760" cy="45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2" descr="C:\Users\Артём\Desktop\шаблоны для презентаций\25.jpg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67360"/>
          </a:xfrm>
          <a:prstGeom prst="rect">
            <a:avLst/>
          </a:prstGeom>
          <a:ln w="0">
            <a:noFill/>
          </a:ln>
        </p:spPr>
      </p:pic>
      <p:pic>
        <p:nvPicPr>
          <p:cNvPr id="104" name="Рисунок 4" descr="https://i.mycdn.me/image?id=852675421467&amp;t=0&amp;plc=WEB&amp;tkn=*XygB1x93Sie7BJ942KADciuqhlY"/>
          <p:cNvPicPr/>
          <p:nvPr/>
        </p:nvPicPr>
        <p:blipFill>
          <a:blip r:embed="rId2"/>
          <a:stretch/>
        </p:blipFill>
        <p:spPr>
          <a:xfrm>
            <a:off x="1428840" y="1000080"/>
            <a:ext cx="6143400" cy="450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2" descr="C:\Users\Артём\Desktop\шаблоны для презентаций\25.jpg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67360"/>
          </a:xfrm>
          <a:prstGeom prst="rect">
            <a:avLst/>
          </a:prstGeom>
          <a:ln w="0">
            <a:noFill/>
          </a:ln>
        </p:spPr>
      </p:pic>
      <p:pic>
        <p:nvPicPr>
          <p:cNvPr id="108" name="Рисунок 4" descr="https://i.mycdn.me/image?id=852675625499&amp;t=0&amp;plc=WEB&amp;tkn=*9PMwtd8Y1jDQS75_VjXt3LEw_4Q"/>
          <p:cNvPicPr/>
          <p:nvPr/>
        </p:nvPicPr>
        <p:blipFill>
          <a:blip r:embed="rId2"/>
          <a:stretch/>
        </p:blipFill>
        <p:spPr>
          <a:xfrm>
            <a:off x="1428840" y="1071720"/>
            <a:ext cx="6143400" cy="45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2" descr="C:\Users\Артём\Desktop\шаблоны для презентаций\25.jpg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67360"/>
          </a:xfrm>
          <a:prstGeom prst="rect">
            <a:avLst/>
          </a:prstGeom>
          <a:ln w="0">
            <a:noFill/>
          </a:ln>
        </p:spPr>
      </p:pic>
      <p:pic>
        <p:nvPicPr>
          <p:cNvPr id="112" name="Рисунок 4" descr="https://i.mycdn.me/image?id=852675636763&amp;t=0&amp;plc=WEB&amp;tkn=*jJjLgS2iy4wlE6tg05sqPxbPk2k"/>
          <p:cNvPicPr/>
          <p:nvPr/>
        </p:nvPicPr>
        <p:blipFill>
          <a:blip r:embed="rId2"/>
          <a:stretch/>
        </p:blipFill>
        <p:spPr>
          <a:xfrm>
            <a:off x="1500120" y="1071720"/>
            <a:ext cx="6072120" cy="45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2" descr="C:\Users\Артём\Desktop\шаблоны для презентаций\25.jpg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67360"/>
          </a:xfrm>
          <a:prstGeom prst="rect">
            <a:avLst/>
          </a:prstGeom>
          <a:ln w="0">
            <a:noFill/>
          </a:ln>
        </p:spPr>
      </p:pic>
      <p:pic>
        <p:nvPicPr>
          <p:cNvPr id="116" name="Рисунок 4" descr="https://i.mycdn.me/image?id=852675973659&amp;t=0&amp;plc=WEB&amp;tkn=*SQ-kJ73WfZfZN59VFDdIOpTsGyc"/>
          <p:cNvPicPr/>
          <p:nvPr/>
        </p:nvPicPr>
        <p:blipFill>
          <a:blip r:embed="rId2"/>
          <a:stretch/>
        </p:blipFill>
        <p:spPr>
          <a:xfrm>
            <a:off x="1500120" y="1071720"/>
            <a:ext cx="6143760" cy="45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2" descr="C:\Users\Артём\Desktop\шаблоны для презентаций\25.jpg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67360"/>
          </a:xfrm>
          <a:prstGeom prst="rect">
            <a:avLst/>
          </a:prstGeom>
          <a:ln w="0">
            <a:noFill/>
          </a:ln>
        </p:spPr>
      </p:pic>
      <p:pic>
        <p:nvPicPr>
          <p:cNvPr id="120" name="Рисунок 4" descr="https://i.mycdn.me/image?id=852675978779&amp;t=0&amp;plc=WEB&amp;tkn=*7bD_BJSgOQkfhX6GH18EeDW4koQ"/>
          <p:cNvPicPr/>
          <p:nvPr/>
        </p:nvPicPr>
        <p:blipFill>
          <a:blip r:embed="rId2"/>
          <a:stretch/>
        </p:blipFill>
        <p:spPr>
          <a:xfrm>
            <a:off x="1500120" y="1071720"/>
            <a:ext cx="6143760" cy="45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2" descr="C:\Users\Артём\Desktop\шаблоны для презентаций\25.jpg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67360"/>
          </a:xfrm>
          <a:prstGeom prst="rect">
            <a:avLst/>
          </a:prstGeom>
          <a:ln w="0">
            <a:noFill/>
          </a:ln>
        </p:spPr>
      </p:pic>
      <p:pic>
        <p:nvPicPr>
          <p:cNvPr id="124" name="Рисунок 4" descr="https://i.mycdn.me/image?id=852676163867&amp;t=0&amp;plc=WEB&amp;tkn=*yhVlYZHcQPrmebo6QrFSiy1599A"/>
          <p:cNvPicPr/>
          <p:nvPr/>
        </p:nvPicPr>
        <p:blipFill>
          <a:blip r:embed="rId2"/>
          <a:stretch/>
        </p:blipFill>
        <p:spPr>
          <a:xfrm>
            <a:off x="1500120" y="1071720"/>
            <a:ext cx="6143760" cy="45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" descr="C:\Users\Артём\Desktop\шаблоны для презентаций\25.jpg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6736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4" descr="https://i.mycdn.me/image?id=852674284827&amp;t=0&amp;plc=WEB&amp;tkn=*KeDu6X0RAj_xEU4_5mAL4cL7U9E"/>
          <p:cNvPicPr/>
          <p:nvPr/>
        </p:nvPicPr>
        <p:blipFill>
          <a:blip r:embed="rId2"/>
          <a:srcRect l="16113" t="30745" r="0" b="0"/>
          <a:stretch/>
        </p:blipFill>
        <p:spPr>
          <a:xfrm>
            <a:off x="1571760" y="1071720"/>
            <a:ext cx="6000480" cy="442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2" descr="C:\Users\Артём\Desktop\шаблоны для презентаций\25.jpg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67360"/>
          </a:xfrm>
          <a:prstGeom prst="rect">
            <a:avLst/>
          </a:prstGeom>
          <a:ln w="0">
            <a:noFill/>
          </a:ln>
        </p:spPr>
      </p:pic>
      <p:pic>
        <p:nvPicPr>
          <p:cNvPr id="128" name="Рисунок 4" descr="https://i.mycdn.me/image?id=852676208411&amp;t=0&amp;plc=WEB&amp;tkn=*2nbh0pOo3sKaIdFHxiA6WMwN18w"/>
          <p:cNvPicPr/>
          <p:nvPr/>
        </p:nvPicPr>
        <p:blipFill>
          <a:blip r:embed="rId2"/>
          <a:stretch/>
        </p:blipFill>
        <p:spPr>
          <a:xfrm>
            <a:off x="1500120" y="1071720"/>
            <a:ext cx="6143760" cy="45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2" descr="C:\Users\Артём\Desktop\шаблоны для презентаций\25.jpg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67360"/>
          </a:xfrm>
          <a:prstGeom prst="rect">
            <a:avLst/>
          </a:prstGeom>
          <a:ln w="0">
            <a:noFill/>
          </a:ln>
        </p:spPr>
      </p:pic>
      <p:pic>
        <p:nvPicPr>
          <p:cNvPr id="132" name="Рисунок 4" descr="https://i.mycdn.me/image?id=852676211995&amp;t=0&amp;plc=WEB&amp;tkn=*IB1zCt0ELgxPwxp1rDBLlWRCIZY"/>
          <p:cNvPicPr/>
          <p:nvPr/>
        </p:nvPicPr>
        <p:blipFill>
          <a:blip r:embed="rId2"/>
          <a:stretch/>
        </p:blipFill>
        <p:spPr>
          <a:xfrm>
            <a:off x="1500120" y="1071720"/>
            <a:ext cx="6143760" cy="442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2" descr="C:\Users\Артём\Desktop\шаблоны для презентаций\25.jpg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67360"/>
          </a:xfrm>
          <a:prstGeom prst="rect">
            <a:avLst/>
          </a:prstGeom>
          <a:ln w="0">
            <a:noFill/>
          </a:ln>
        </p:spPr>
      </p:pic>
      <p:pic>
        <p:nvPicPr>
          <p:cNvPr id="136" name="Рисунок 4" descr="https://i.mycdn.me/image?id=852676305179&amp;t=0&amp;plc=WEB&amp;tkn=*otsp4ICYqdMchGuuhwSO6MBPIbo"/>
          <p:cNvPicPr/>
          <p:nvPr/>
        </p:nvPicPr>
        <p:blipFill>
          <a:blip r:embed="rId2"/>
          <a:stretch/>
        </p:blipFill>
        <p:spPr>
          <a:xfrm>
            <a:off x="1500120" y="1071720"/>
            <a:ext cx="6072120" cy="45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2" descr="C:\Users\Артём\Desktop\шаблоны для презентаций\25.jpg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67360"/>
          </a:xfrm>
          <a:prstGeom prst="rect">
            <a:avLst/>
          </a:prstGeom>
          <a:ln w="0">
            <a:noFill/>
          </a:ln>
        </p:spPr>
      </p:pic>
      <p:pic>
        <p:nvPicPr>
          <p:cNvPr id="140" name="Рисунок 4" descr="https://i.mycdn.me/image?id=852676312603&amp;t=0&amp;plc=WEB&amp;tkn=*T7asOmzoLwat_DjosRrejPkd368"/>
          <p:cNvPicPr/>
          <p:nvPr/>
        </p:nvPicPr>
        <p:blipFill>
          <a:blip r:embed="rId2"/>
          <a:stretch/>
        </p:blipFill>
        <p:spPr>
          <a:xfrm>
            <a:off x="1428840" y="1071720"/>
            <a:ext cx="6215040" cy="442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2" descr="C:\Users\Артём\Desktop\шаблоны для презентаций\25.jpg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67360"/>
          </a:xfrm>
          <a:prstGeom prst="rect">
            <a:avLst/>
          </a:prstGeom>
          <a:ln w="0">
            <a:noFill/>
          </a:ln>
        </p:spPr>
      </p:pic>
      <p:pic>
        <p:nvPicPr>
          <p:cNvPr id="144" name="Рисунок 4" descr="https://i.mycdn.me/image?id=852676315675&amp;t=0&amp;plc=WEB&amp;tkn=*AtenCga9CCpxnwNQBdcXQR-2nT4"/>
          <p:cNvPicPr/>
          <p:nvPr/>
        </p:nvPicPr>
        <p:blipFill>
          <a:blip r:embed="rId2"/>
          <a:stretch/>
        </p:blipFill>
        <p:spPr>
          <a:xfrm>
            <a:off x="1500120" y="1071720"/>
            <a:ext cx="6072120" cy="45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2" descr="C:\Users\Артём\Desktop\шаблоны для презентаций\25.jpg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67360"/>
          </a:xfrm>
          <a:prstGeom prst="rect">
            <a:avLst/>
          </a:prstGeom>
          <a:ln w="0">
            <a:noFill/>
          </a:ln>
        </p:spPr>
      </p:pic>
      <p:pic>
        <p:nvPicPr>
          <p:cNvPr id="148" name="Рисунок 4" descr="https://i.mycdn.me/image?id=852676319003&amp;t=0&amp;plc=WEB&amp;tkn=*FPITTxHAQ0icUntd9qUPTodXmk8"/>
          <p:cNvPicPr/>
          <p:nvPr/>
        </p:nvPicPr>
        <p:blipFill>
          <a:blip r:embed="rId2"/>
          <a:stretch/>
        </p:blipFill>
        <p:spPr>
          <a:xfrm>
            <a:off x="1500120" y="1071720"/>
            <a:ext cx="6072120" cy="45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2" descr="C:\Users\Артём\Desktop\шаблоны для презентаций\25.jpg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67360"/>
          </a:xfrm>
          <a:prstGeom prst="rect">
            <a:avLst/>
          </a:prstGeom>
          <a:ln w="0">
            <a:noFill/>
          </a:ln>
        </p:spPr>
      </p:pic>
      <p:pic>
        <p:nvPicPr>
          <p:cNvPr id="152" name="Рисунок 4" descr="https://i.mycdn.me/image?id=852676332315&amp;t=0&amp;plc=WEB&amp;tkn=*iMZnjHiHQ5hkI4iR2nWPEm2V1hg"/>
          <p:cNvPicPr/>
          <p:nvPr/>
        </p:nvPicPr>
        <p:blipFill>
          <a:blip r:embed="rId2"/>
          <a:stretch/>
        </p:blipFill>
        <p:spPr>
          <a:xfrm>
            <a:off x="1500120" y="1071720"/>
            <a:ext cx="6072120" cy="45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2" descr="C:\Users\Артём\Desktop\шаблоны для презентаций\25.jpg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67360"/>
          </a:xfrm>
          <a:prstGeom prst="rect">
            <a:avLst/>
          </a:prstGeom>
          <a:ln w="0">
            <a:noFill/>
          </a:ln>
        </p:spPr>
      </p:pic>
      <p:pic>
        <p:nvPicPr>
          <p:cNvPr id="156" name="Рисунок 4" descr="https://i.mycdn.me/image?id=852676346651&amp;t=0&amp;plc=WEB&amp;tkn=*4Hqnf424LcGG2Eeb0Q2-Hi04dZg"/>
          <p:cNvPicPr/>
          <p:nvPr/>
        </p:nvPicPr>
        <p:blipFill>
          <a:blip r:embed="rId2"/>
          <a:stretch/>
        </p:blipFill>
        <p:spPr>
          <a:xfrm>
            <a:off x="1500120" y="1071720"/>
            <a:ext cx="6143760" cy="45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" descr="C:\Users\Артём\Desktop\шаблоны для презентаций\25.jpg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6736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4" descr="https://i.mycdn.me/image?id=852674501147&amp;t=0&amp;plc=WEB&amp;tkn=*IcA4jL4Zh56DBHyLRrNjFrQMW3M"/>
          <p:cNvPicPr/>
          <p:nvPr/>
        </p:nvPicPr>
        <p:blipFill>
          <a:blip r:embed="rId2"/>
          <a:srcRect l="11392" t="18520" r="7777" b="10742"/>
          <a:stretch/>
        </p:blipFill>
        <p:spPr>
          <a:xfrm>
            <a:off x="1500120" y="1071720"/>
            <a:ext cx="6072120" cy="442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" descr="C:\Users\Артём\Desktop\шаблоны для презентаций\25.jpg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6736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4" descr="https://i.mycdn.me/image?id=852674520859&amp;t=0&amp;plc=WEB&amp;tkn=*I_Kjku-cylc1mGHKC3IOEfZ9uHg"/>
          <p:cNvPicPr/>
          <p:nvPr/>
        </p:nvPicPr>
        <p:blipFill>
          <a:blip r:embed="rId2"/>
          <a:srcRect l="0" t="11853" r="19444" b="12225"/>
          <a:stretch/>
        </p:blipFill>
        <p:spPr>
          <a:xfrm>
            <a:off x="1500120" y="1071720"/>
            <a:ext cx="6143760" cy="442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2" descr="C:\Users\Артём\Desktop\шаблоны для презентаций\25.jpg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67360"/>
          </a:xfrm>
          <a:prstGeom prst="rect">
            <a:avLst/>
          </a:prstGeom>
          <a:ln w="0">
            <a:noFill/>
          </a:ln>
        </p:spPr>
      </p:pic>
      <p:pic>
        <p:nvPicPr>
          <p:cNvPr id="68" name="Рисунок 5" descr="https://i.mycdn.me/image?id=852674522395&amp;t=0&amp;plc=WEB&amp;tkn=*GZEulHdarBxsmllV6MLs_a0bk-4"/>
          <p:cNvPicPr/>
          <p:nvPr/>
        </p:nvPicPr>
        <p:blipFill>
          <a:blip r:embed="rId2"/>
          <a:stretch/>
        </p:blipFill>
        <p:spPr>
          <a:xfrm>
            <a:off x="1500120" y="1071720"/>
            <a:ext cx="6143760" cy="442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2" descr="C:\Users\Артём\Desktop\шаблоны для презентаций\25.jpg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67360"/>
          </a:xfrm>
          <a:prstGeom prst="rect">
            <a:avLst/>
          </a:prstGeom>
          <a:ln w="0">
            <a:noFill/>
          </a:ln>
        </p:spPr>
      </p:pic>
      <p:pic>
        <p:nvPicPr>
          <p:cNvPr id="72" name="Рисунок 4" descr="https://i.mycdn.me/image?id=852674523419&amp;t=0&amp;plc=WEB&amp;tkn=*vLTRQF3orziBpAfTXaF8F3d5SAQ"/>
          <p:cNvPicPr/>
          <p:nvPr/>
        </p:nvPicPr>
        <p:blipFill>
          <a:blip r:embed="rId2"/>
          <a:stretch/>
        </p:blipFill>
        <p:spPr>
          <a:xfrm>
            <a:off x="1500120" y="1071720"/>
            <a:ext cx="6072120" cy="442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2" descr="C:\Users\Артём\Desktop\шаблоны для презентаций\25.jpg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67360"/>
          </a:xfrm>
          <a:prstGeom prst="rect">
            <a:avLst/>
          </a:prstGeom>
          <a:ln w="0">
            <a:noFill/>
          </a:ln>
        </p:spPr>
      </p:pic>
      <p:pic>
        <p:nvPicPr>
          <p:cNvPr id="76" name="Рисунок 4" descr="https://i.mycdn.me/image?id=852674714139&amp;t=0&amp;plc=WEB&amp;tkn=*zDdrJYCNH1jkibP2sqcJNxC6uVI"/>
          <p:cNvPicPr/>
          <p:nvPr/>
        </p:nvPicPr>
        <p:blipFill>
          <a:blip r:embed="rId2"/>
          <a:stretch/>
        </p:blipFill>
        <p:spPr>
          <a:xfrm>
            <a:off x="1500120" y="1071720"/>
            <a:ext cx="6143760" cy="442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" descr="C:\Users\Артём\Desktop\шаблоны для презентаций\25.jpg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67360"/>
          </a:xfrm>
          <a:prstGeom prst="rect">
            <a:avLst/>
          </a:prstGeom>
          <a:ln w="0">
            <a:noFill/>
          </a:ln>
        </p:spPr>
      </p:pic>
      <p:pic>
        <p:nvPicPr>
          <p:cNvPr id="80" name="Рисунок 4" descr="https://i.mycdn.me/image?id=852674721051&amp;t=0&amp;plc=WEB&amp;tkn=*7l6o0Gohyk_HE32amW3H6xMHld8"/>
          <p:cNvPicPr/>
          <p:nvPr/>
        </p:nvPicPr>
        <p:blipFill>
          <a:blip r:embed="rId2"/>
          <a:stretch/>
        </p:blipFill>
        <p:spPr>
          <a:xfrm>
            <a:off x="1500120" y="1071720"/>
            <a:ext cx="6072120" cy="442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2" descr="C:\Users\Артём\Desktop\шаблоны для презентаций\25.jpg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67360"/>
          </a:xfrm>
          <a:prstGeom prst="rect">
            <a:avLst/>
          </a:prstGeom>
          <a:ln w="0">
            <a:noFill/>
          </a:ln>
        </p:spPr>
      </p:pic>
      <p:pic>
        <p:nvPicPr>
          <p:cNvPr id="84" name="Рисунок 4" descr="https://i.mycdn.me/image?id=852674723099&amp;t=0&amp;plc=WEB&amp;tkn=*gif-KlCgONiWQs1BKV318VJHitk"/>
          <p:cNvPicPr/>
          <p:nvPr/>
        </p:nvPicPr>
        <p:blipFill>
          <a:blip r:embed="rId2"/>
          <a:stretch/>
        </p:blipFill>
        <p:spPr>
          <a:xfrm>
            <a:off x="1500120" y="1071720"/>
            <a:ext cx="6072120" cy="4500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5T20:37:06Z</dcterms:created>
  <dc:creator>Andrey</dc:creator>
  <dc:description/>
  <dc:language>en-US</dc:language>
  <cp:lastModifiedBy>Dexp Aquilon O159</cp:lastModifiedBy>
  <dcterms:modified xsi:type="dcterms:W3CDTF">2017-08-22T21:09:43Z</dcterms:modified>
  <cp:revision>23</cp:revision>
  <dc:subject/>
  <dc:title>Слайд 1</dc:title>
</cp:coreProperties>
</file>