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7.wmf" ContentType="image/x-wmf"/>
  <Override PartName="/ppt/media/image16.gif" ContentType="image/gif"/>
  <Override PartName="/ppt/media/image1.wmf" ContentType="image/x-wmf"/>
  <Override PartName="/ppt/media/image9.jpeg" ContentType="image/jpeg"/>
  <Override PartName="/ppt/media/image15.gif" ContentType="image/gif"/>
  <Override PartName="/ppt/media/image14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458-8844-47D5-9D30-CDB35367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47D-0B76-4E2B-8985-2149DB8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FA5-5683-45AE-AC58-0EB5F35C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916-065B-4909-ADBF-077AE3E5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2676-70CB-4A48-BD75-776B56D0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A9F-5F46-4926-853A-06A7B76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E991-3D6D-4835-95B3-4375E70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F184-EB71-4D48-B6A7-14776577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1228-DF35-446F-92BF-C6483C06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5461-6750-4737-BA26-E631ABE4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1ED0-732B-4B92-AB03-EC16B39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204-5AF8-446F-8225-27E527D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B577-F1EC-4BCB-A2D8-808D027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A03-3A9B-496B-842A-2C5F9A2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6C4-1ABF-44C4-835C-2CC6BD5C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AA4A-22D2-4BF2-A5DF-FB46BCEB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3A4E-33BF-4EE1-9DAC-47B6AC39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86B-A0F7-402D-8B22-A24BBCA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ABA-3546-454A-8856-02425177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881-1401-41F7-B7C9-E2B537B0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AE5-1E14-41B3-83D8-F4240C0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D00-B00D-41D8-9E04-A70B97B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7B2-1D79-49B1-9344-4287F24C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720-4EB7-4A0D-A48D-CEC1B3D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0F25-9B01-40ED-ABD4-EB421E83C1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A1D8-955A-45D6-B414-705B746430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69832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bc40"/>
                </a:solidFill>
                <a:latin typeface="Bookman Old Style"/>
              </a:rPr>
              <a:t>Области применения компьютерной графики</a:t>
            </a:r>
            <a:endParaRPr b="0" lang="en-US" sz="4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3" name="Picture 4" descr="Закат"/>
          <p:cNvPicPr/>
          <p:nvPr/>
        </p:nvPicPr>
        <p:blipFill>
          <a:blip r:embed="rId1"/>
          <a:stretch/>
        </p:blipFill>
        <p:spPr>
          <a:xfrm>
            <a:off x="539640" y="549360"/>
            <a:ext cx="2160720" cy="146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240695"/>
          <p:cNvPicPr/>
          <p:nvPr/>
        </p:nvPicPr>
        <p:blipFill>
          <a:blip r:embed="rId2"/>
          <a:stretch/>
        </p:blipFill>
        <p:spPr>
          <a:xfrm>
            <a:off x="5076720" y="4724280"/>
            <a:ext cx="2160720" cy="145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inguin"/>
          <p:cNvPicPr/>
          <p:nvPr/>
        </p:nvPicPr>
        <p:blipFill>
          <a:blip r:embed="rId3"/>
          <a:stretch/>
        </p:blipFill>
        <p:spPr>
          <a:xfrm>
            <a:off x="611280" y="4724280"/>
            <a:ext cx="2160360" cy="138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дракон"/>
          <p:cNvPicPr/>
          <p:nvPr/>
        </p:nvPicPr>
        <p:blipFill>
          <a:blip r:embed="rId4"/>
          <a:stretch/>
        </p:blipFill>
        <p:spPr>
          <a:xfrm>
            <a:off x="5003640" y="549360"/>
            <a:ext cx="2160720" cy="1439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250920" y="6243480"/>
            <a:ext cx="7345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ГБОУ школа №536: Морозова Т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4bc40"/>
                </a:solidFill>
                <a:latin typeface="Bookman Old Style"/>
              </a:rPr>
              <a:t>Ресурсы: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екторная графика. www.visualteach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меры применения компьютерной графики. www.museum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пьютерная графика и ее виды. www.brandmedia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. П. Леонтьев. Новейшая энциклопедия ПК. Изд-во “Олма -  пресс образование».М. 2004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. А. Залогова. “Компьютерная графика». Бином. Лаборатория знаний. М.200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68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ше время редко найдется школьник, который бы не играл в компьютерные игры или хотя бы не видел, как в них играют другие. На экране монитора, как на телеэкране, бегают человечки, летают самолеты, мчатся гоночные машины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го только нет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, фильмы, рекламные ролики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ли это направления применения компьютерной графики в современной жизни чело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bc40"/>
                </a:solidFill>
                <a:latin typeface="Bookman Old Style"/>
              </a:rPr>
              <a:t>     </a:t>
            </a:r>
            <a:r>
              <a:rPr b="1" lang="ru-RU" sz="4400" spc="-1" strike="noStrike">
                <a:solidFill>
                  <a:srgbClr val="f4bc40"/>
                </a:solidFill>
                <a:latin typeface="Bookman Old Style"/>
              </a:rPr>
              <a:t>Деловая  графика</a:t>
            </a:r>
            <a:endParaRPr b="0" lang="en-US" sz="44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11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а область компьютерной графики предназнач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оздания иллюстраций, часто используемых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е различных учреждений. Плановые показате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четная документация, статистические сводки – в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ы, для которых с помощью деловой граф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ются иллюстратив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ы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аще вс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графики, кругов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олбчат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аграммы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а деловой граф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ычно включаются в сост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чных процесс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лектронных таблиц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1"/>
          <p:cNvGraphicFramePr/>
          <p:nvPr/>
        </p:nvGraphicFramePr>
        <p:xfrm>
          <a:off x="3995640" y="2997360"/>
          <a:ext cx="384804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997360"/>
                    <a:ext cx="384804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Конструкторская графика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489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ется в работе инженеро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рукторов, изобретателей новой тех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вид компьютерной графики является обязательным элементом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матизации проектирования (САПР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фика в САПР используется для подгот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хнических чертежей проектируем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а в сочетании с расчет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проводить в наглядной форме пои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й конструкции, наиболе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ачной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но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а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нозиров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ствия, к которы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привести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р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90_07"/>
          <p:cNvPicPr/>
          <p:nvPr/>
        </p:nvPicPr>
        <p:blipFill>
          <a:blip r:embed="rId1"/>
          <a:stretch/>
        </p:blipFill>
        <p:spPr>
          <a:xfrm>
            <a:off x="684360" y="4724280"/>
            <a:ext cx="2952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4898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Иллюстративная</a:t>
            </a:r>
            <a:br>
              <a:rPr sz="3600"/>
            </a:b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 графика</a:t>
            </a:r>
            <a:br>
              <a:rPr sz="3600"/>
            </a:b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787040"/>
            <a:ext cx="73864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люстративной граф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ют человек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компью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оизвольного рисов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чения подобно тому, как 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делает на бумаге с помощ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андашей, кисточек, красок, циркулей, лине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угих  инструментов. Простей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 иллюстратив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и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чес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дак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FD00306_"/>
          <p:cNvPicPr/>
          <p:nvPr/>
        </p:nvPicPr>
        <p:blipFill>
          <a:blip r:embed="rId1"/>
          <a:stretch/>
        </p:blipFill>
        <p:spPr>
          <a:xfrm>
            <a:off x="4932360" y="1700280"/>
            <a:ext cx="25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21480" cy="14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Художественная и рекламная графика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сравнительно новая отрасль, но уже ставш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улярной                во многом благодаря телевидению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компьютера созд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ламные ролики, компьютерны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ы,  видеоуроки,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еопрезентации и мног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ое. Графические пакеты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х целей требуют больш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урсов компьютера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действию и памят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личительной особенностью этого класса явл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создания реалистических изображ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оздания реалистических изображений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ческих пакетах этой категории использу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ый математический аппа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рекл"/>
          <p:cNvPicPr/>
          <p:nvPr/>
        </p:nvPicPr>
        <p:blipFill>
          <a:blip r:embed="rId1"/>
          <a:srcRect l="0" t="0" r="0" b="6899"/>
          <a:stretch/>
        </p:blipFill>
        <p:spPr>
          <a:xfrm rot="20962800">
            <a:off x="611280" y="2133720"/>
            <a:ext cx="25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4772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Научная графика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направление появилось сам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. Назначение – нагляд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ение объектов нау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й, графическая обрабо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ов расчетов, пр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ительных экспери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нагляд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е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SPHERE_4"/>
          <p:cNvPicPr/>
          <p:nvPr/>
        </p:nvPicPr>
        <p:blipFill>
          <a:blip r:embed="rId1"/>
          <a:stretch/>
        </p:blipFill>
        <p:spPr>
          <a:xfrm>
            <a:off x="3780000" y="4076640"/>
            <a:ext cx="36018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Компьютерная анимация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3864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о «анимация» обозначае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живление». Компьютер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имация - это пол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жущихся изображений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ране дисплее. Художн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ет на экране рисунки начальног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чного положения движущихся объек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ромежуточные состояния рассчитывае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ает компьютер, выполняя расч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рающиеся на математическое опис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ого вида движения. Полученные рисун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имые последовательно на эк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 определенной частотой, созд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люзию  дви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mouse[1]"/>
          <p:cNvPicPr/>
          <p:nvPr/>
        </p:nvPicPr>
        <p:blipFill>
          <a:blip r:embed="rId1"/>
          <a:stretch/>
        </p:blipFill>
        <p:spPr>
          <a:xfrm>
            <a:off x="324000" y="907920"/>
            <a:ext cx="2108160" cy="223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108"/>
          <p:cNvPicPr/>
          <p:nvPr/>
        </p:nvPicPr>
        <p:blipFill>
          <a:blip r:embed="rId2"/>
          <a:stretch/>
        </p:blipFill>
        <p:spPr>
          <a:xfrm>
            <a:off x="5867280" y="515772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И в заключении...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73868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компьютерной графики определяется различными факторами, среди которых наиболее существен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реальные потребности пользователей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достижения в области аппаратного и программного обеспеч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компьютерной графики определяет её степень применения во все сферы жизни современного общества. В последние годы компьютерная графика всё больше и больше используется в различных отраслях промышленности, в науке и образовании, бизнесе, мультипликации и т.д. Люди самых разных профессий применяют компьютерную графику в своей работе. Среди ни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дожник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зайне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рукто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ециалисты по компьютерной верст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чики рекла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дик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тограф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ециалисты в области теле– и видеомонтаж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тел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лье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ые и педаг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j0195384"/>
          <p:cNvPicPr/>
          <p:nvPr/>
        </p:nvPicPr>
        <p:blipFill>
          <a:blip r:embed="rId1"/>
          <a:stretch/>
        </p:blipFill>
        <p:spPr>
          <a:xfrm>
            <a:off x="5364000" y="3716280"/>
            <a:ext cx="2200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1:05:48Z</dcterms:created>
  <dc:creator>Billi</dc:creator>
  <dc:description/>
  <dc:language>en-US</dc:language>
  <cp:lastModifiedBy>morozova</cp:lastModifiedBy>
  <dcterms:modified xsi:type="dcterms:W3CDTF">2022-05-06T11:27:33Z</dcterms:modified>
  <cp:revision>18</cp:revision>
  <dc:subject/>
  <dc:title>Средства работы с графикой</dc:title>
</cp:coreProperties>
</file>