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17.wmf" ContentType="image/x-wmf"/>
  <Override PartName="/ppt/media/image16.gif" ContentType="image/gif"/>
  <Override PartName="/ppt/media/image1.wmf" ContentType="image/x-wmf"/>
  <Override PartName="/ppt/media/image9.jpeg" ContentType="image/jpeg"/>
  <Override PartName="/ppt/media/image15.gif" ContentType="image/gif"/>
  <Override PartName="/ppt/media/image14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4C7-046F-4727-86A7-0AD2D8CF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35A-81DF-47B1-9874-E481611C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6C1-E1B4-4784-91E8-59D97D38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438-7E92-4AB9-A94A-C518196E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6F19-34FE-40FD-B49F-AA489A0C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D8FB-BD9B-4E98-B28C-A676142F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2DC5-6653-44A3-8827-DFBFD2EB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7D7A-37E3-46A7-8FE3-E4342757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9C54-1094-4245-A792-467B86D2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77FB-0BEE-493E-8519-3ED09A5E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60F0-3F06-4025-BE0F-EA342C8B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905-800D-4333-906D-D3F072B4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1EA6-AFF4-4A01-9C67-AFE8452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5312-06BF-45E6-91D4-1BE4E4C9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972A-8833-45A2-869B-E83092C2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14F5-112A-43CD-A926-F0FC7846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D381-7F09-4E76-A471-64B37733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2F4-4E31-45BB-958B-21C98F5E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42E-6EF0-4922-928F-172052AC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129-1F37-4049-A050-CB36131D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D99-8C41-4B92-B55D-961A38BF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AFB-FB67-466B-B26C-73C3C3C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FBC-11C0-4E36-9037-EC6C2F6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087-F7D5-45C7-A761-44F2E429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161D-ABB6-4BBA-8ED7-D41F47F4BB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c6cad"/>
                </a:gs>
                <a:gs pos="50000">
                  <a:srgbClr val="9280cc"/>
                </a:gs>
                <a:gs pos="100000">
                  <a:srgbClr val="7c6c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57254b"/>
                </a:gs>
                <a:gs pos="50000">
                  <a:srgbClr val="bd51a1"/>
                </a:gs>
                <a:gs pos="100000">
                  <a:srgbClr val="57254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ED9-9BDB-423E-AE3C-936F24FBC6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69832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bc40"/>
                </a:solidFill>
                <a:latin typeface="Bookman Old Style"/>
              </a:rPr>
              <a:t>Области применения компьютерной графики</a:t>
            </a:r>
            <a:endParaRPr b="0" lang="en-US" sz="4400" spc="-1" strike="noStrike">
              <a:solidFill>
                <a:srgbClr val="f4bc40"/>
              </a:solidFill>
              <a:latin typeface="Arial"/>
            </a:endParaRPr>
          </a:p>
        </p:txBody>
      </p:sp>
      <p:pic>
        <p:nvPicPr>
          <p:cNvPr id="193" name="Picture 4" descr="Закат"/>
          <p:cNvPicPr/>
          <p:nvPr/>
        </p:nvPicPr>
        <p:blipFill>
          <a:blip r:embed="rId1"/>
          <a:stretch/>
        </p:blipFill>
        <p:spPr>
          <a:xfrm>
            <a:off x="539640" y="549360"/>
            <a:ext cx="2160720" cy="146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0240695"/>
          <p:cNvPicPr/>
          <p:nvPr/>
        </p:nvPicPr>
        <p:blipFill>
          <a:blip r:embed="rId2"/>
          <a:stretch/>
        </p:blipFill>
        <p:spPr>
          <a:xfrm>
            <a:off x="5076720" y="4724280"/>
            <a:ext cx="2160720" cy="1457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inguin"/>
          <p:cNvPicPr/>
          <p:nvPr/>
        </p:nvPicPr>
        <p:blipFill>
          <a:blip r:embed="rId3"/>
          <a:stretch/>
        </p:blipFill>
        <p:spPr>
          <a:xfrm>
            <a:off x="611280" y="4724280"/>
            <a:ext cx="2160360" cy="138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дракон"/>
          <p:cNvPicPr/>
          <p:nvPr/>
        </p:nvPicPr>
        <p:blipFill>
          <a:blip r:embed="rId4"/>
          <a:stretch/>
        </p:blipFill>
        <p:spPr>
          <a:xfrm>
            <a:off x="5003640" y="549360"/>
            <a:ext cx="2160720" cy="14396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250920" y="6243480"/>
            <a:ext cx="7345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ГБОУ школа №536: Морозова Т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4bc40"/>
                </a:solidFill>
                <a:latin typeface="Bookman Old Style"/>
              </a:rPr>
              <a:t>Ресурсы: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екторная графика. www.visualteach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меры применения компьютерной графики. www.museum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мпьютерная графика и ее виды. www.brandmedia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. П. Леонтьев. Новейшая энциклопедия ПК. Изд-во “Олма -  пресс образование».М. 2004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. А. Залогова. “Компьютерная графика». Бином. Лаборатория знаний. М.2005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68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ше время редко найдется школьник, который бы не играл в компьютерные игры или хотя бы не видел, как в них играют другие. На экране монитора, как на телеэкране, бегают человечки, летают самолеты, мчатся гоночные машины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го только нет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, фильмы, рекламные ролики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ли это направления применения компьютерной графики в современной жизни челове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4bc40"/>
                </a:solidFill>
                <a:latin typeface="Bookman Old Style"/>
              </a:rPr>
              <a:t>     </a:t>
            </a:r>
            <a:r>
              <a:rPr b="1" lang="ru-RU" sz="4400" spc="-1" strike="noStrike">
                <a:solidFill>
                  <a:srgbClr val="f4bc40"/>
                </a:solidFill>
                <a:latin typeface="Bookman Old Style"/>
              </a:rPr>
              <a:t>Деловая  графика</a:t>
            </a:r>
            <a:endParaRPr b="0" lang="en-US" sz="44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11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а область компьютерной графики предназнач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оздания иллюстраций, часто используемых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е различных учреждений. Плановые показател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четная документация, статистические сводки – в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кты, для которых с помощью деловой граф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ются иллюстратив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ы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аще все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то графики, круговы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толбчат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диаграммы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ства деловой граф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ычно включаются в сост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чных процессо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электронных таблиц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11"/>
          <p:cNvGraphicFramePr/>
          <p:nvPr/>
        </p:nvGraphicFramePr>
        <p:xfrm>
          <a:off x="3995640" y="2997360"/>
          <a:ext cx="384804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997360"/>
                    <a:ext cx="384804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Конструкторская графика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74898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ется в работе инженеров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рукторов, изобретателей новой тех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вид компьютерной графики является обязательным элементом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томатизации проектирования (САПР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рафика в САПР используется для подгот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ехнических чертежей проектируем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а в сочетании с расчет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ет проводить в наглядной форме пои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тимальной конструкции, наиболе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ачной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онов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ал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нозирова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дствия, к которы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т привести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р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90_07"/>
          <p:cNvPicPr/>
          <p:nvPr/>
        </p:nvPicPr>
        <p:blipFill>
          <a:blip r:embed="rId1"/>
          <a:stretch/>
        </p:blipFill>
        <p:spPr>
          <a:xfrm>
            <a:off x="684360" y="4724280"/>
            <a:ext cx="29527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4898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Иллюстративная</a:t>
            </a:r>
            <a:br>
              <a:rPr sz="3600"/>
            </a:b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 графика</a:t>
            </a:r>
            <a:br>
              <a:rPr sz="3600"/>
            </a:b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787040"/>
            <a:ext cx="738648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ые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люстративной графи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ют человек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компью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роизвольного рисова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чения подобно тому, как 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делает на бумаге с помощ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андашей, кисточек, красок, циркулей, лине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ругих  инструментов. Простейш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а иллюстратив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фики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рафичес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едак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FD00306_"/>
          <p:cNvPicPr/>
          <p:nvPr/>
        </p:nvPicPr>
        <p:blipFill>
          <a:blip r:embed="rId1"/>
          <a:stretch/>
        </p:blipFill>
        <p:spPr>
          <a:xfrm>
            <a:off x="4932360" y="1700280"/>
            <a:ext cx="2592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521480" cy="14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Художественная и рекламная графика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сравнительно новая отрасль, но уже ставш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улярной                во многом благодаря телевидению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компьютера создаю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ламные ролики, компьютерны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гры,  видеоуроки,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еопрезентации и мног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ое. Графические пакеты д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х целей требуют больш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урсов компьютера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стродействию и памят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личительной особенностью этого класса явля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сть создания реалистических изображ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оздания реалистических изображений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афических пакетах этой категории использу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ный математический аппар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рекл"/>
          <p:cNvPicPr/>
          <p:nvPr/>
        </p:nvPicPr>
        <p:blipFill>
          <a:blip r:embed="rId1"/>
          <a:srcRect l="0" t="0" r="0" b="6899"/>
          <a:stretch/>
        </p:blipFill>
        <p:spPr>
          <a:xfrm rot="20962800">
            <a:off x="611280" y="2133720"/>
            <a:ext cx="2592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4772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Научная графика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направление появилось сам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. Назначение – нагляд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ление объектов нау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й, графическая обрабо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ов расчетов, провед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ительных экспери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наглядн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ставлени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результа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SPHERE_4"/>
          <p:cNvPicPr/>
          <p:nvPr/>
        </p:nvPicPr>
        <p:blipFill>
          <a:blip r:embed="rId1"/>
          <a:stretch/>
        </p:blipFill>
        <p:spPr>
          <a:xfrm>
            <a:off x="3780000" y="4076640"/>
            <a:ext cx="36018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Компьютерная анимация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7386480" cy="57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о «анимация» обозначае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живление». Компьютерна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имация - это получ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ижущихся изображений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ране дисплее. Художн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ет на экране рисунки начального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ечного положения движущихся объек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ромежуточные состояния рассчитывает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ображает компьютер, выполняя расч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рающиеся на математическое опис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ого вида движения. Полученные рисун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имые последовательно на эк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 определенной частотой, созда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люзию  дви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mouse[1]"/>
          <p:cNvPicPr/>
          <p:nvPr/>
        </p:nvPicPr>
        <p:blipFill>
          <a:blip r:embed="rId1"/>
          <a:stretch/>
        </p:blipFill>
        <p:spPr>
          <a:xfrm>
            <a:off x="324000" y="907920"/>
            <a:ext cx="2108160" cy="2232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108"/>
          <p:cNvPicPr/>
          <p:nvPr/>
        </p:nvPicPr>
        <p:blipFill>
          <a:blip r:embed="rId2"/>
          <a:stretch/>
        </p:blipFill>
        <p:spPr>
          <a:xfrm>
            <a:off x="5867280" y="5157720"/>
            <a:ext cx="1800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c40"/>
                </a:solidFill>
                <a:latin typeface="Bookman Old Style"/>
              </a:rPr>
              <a:t>И в заключении...</a:t>
            </a:r>
            <a:br>
              <a:rPr sz="3600"/>
            </a:br>
            <a:r>
              <a:rPr b="0" lang="ru-RU" sz="3600" spc="-1" strike="noStrike">
                <a:solidFill>
                  <a:srgbClr val="f4bc40"/>
                </a:solidFill>
                <a:latin typeface="Bookman Old Style"/>
              </a:rPr>
              <a:t> </a:t>
            </a:r>
            <a:endParaRPr b="0" lang="en-US" sz="36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73868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компьютерной графики определяется различными факторами, среди которых наиболее существен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 реальные потребности пользователей 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достижения в области аппаратного и программного обеспеч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витие компьютерной графики определяет её степень применения во все сферы жизни современного общества. В последние годы компьютерная графика всё больше и больше используется в различных отраслях промышленности, в науке и образовании, бизнесе, мультипликации и т.д. Люди самых разных профессий применяют компьютерную графику в своей работе. Среди них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дожник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изайне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рукто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ециалисты по компьютерной верстк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чики реклам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дики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отограф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ециалисты в области теле– и видеомонтаж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следовател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лье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ые и педаго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j0195384"/>
          <p:cNvPicPr/>
          <p:nvPr/>
        </p:nvPicPr>
        <p:blipFill>
          <a:blip r:embed="rId1"/>
          <a:stretch/>
        </p:blipFill>
        <p:spPr>
          <a:xfrm>
            <a:off x="5364000" y="3716280"/>
            <a:ext cx="2200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1:05:48Z</dcterms:created>
  <dc:creator>Billi</dc:creator>
  <dc:description/>
  <dc:language>en-US</dc:language>
  <cp:lastModifiedBy>morozova</cp:lastModifiedBy>
  <dcterms:modified xsi:type="dcterms:W3CDTF">2022-05-06T11:27:33Z</dcterms:modified>
  <cp:revision>18</cp:revision>
  <dc:subject/>
  <dc:title>Средства работы с графикой</dc:title>
</cp:coreProperties>
</file>