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0E6-551B-4087-B22A-1E5E70CB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E4F-8D8B-45D2-985D-8C544505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840-E960-4810-99C1-0B496A54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9EE-93FF-49B1-A2FD-FFE17FBB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9A05-45A3-4AF1-8711-A7B3B87C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9C08-883D-4AB1-B4D4-9DD432C5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6FD7-1D74-49B2-A9D8-DBA825D5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018D-B6F9-4B90-A5E8-3FE72B1D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C998-E042-4E57-B689-517BE4A0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D0EE-FEED-4B38-AE72-F3DEAB38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1B5D-7746-467C-A4C4-CE05CB81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74A-B65F-4ADE-A97F-CF009B20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45DE-E36D-40C7-8C54-FDA694B7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4EE8-3925-4ADA-817F-2302CD33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289F-B4BB-41F8-B580-055629D7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CE97-848A-45E7-B33C-C3EB5012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116B-D683-4BD4-BA43-B54C153B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71256-75DA-4438-A2A5-85419D09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42D9C-D406-480C-800F-E5D9085D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5E4BF-BCF0-463F-B79E-A340C80D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5C833-6607-4E9D-AC4C-F56603F8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1D72E-F79C-4F87-AA47-3695FF89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81C-E0EE-48DB-AEE8-6FC26655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5B9E3-7A86-40F6-86F4-B2639E8C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F1BC3-8D74-4BEA-B5DD-5045AF80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8C88C-B6C1-4970-B2B9-B37ACAE6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93293-F38F-435F-8A6E-40F2952D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C4B2B-051E-4FCF-9974-AB646DB7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6FC9F-DB41-4F47-8B7E-B794F7D8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EEAD3-9170-4943-88D6-CBBE5918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9CC3C-304B-44AD-862E-AD84A735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CA772-8A07-4FF5-88BB-11790D17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6C634-94D3-4CED-A171-48B9943E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0F1-26E9-40B4-A792-26957941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21191-F80C-4EC0-9563-BAA75E50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B1BD-64A7-41B6-8E20-5BD3793C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FD0E2-03B9-4D2E-BD2B-42E991C4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5242-211D-4730-AA6C-5D6EAE3E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7D66-AED5-4D66-BE49-703B679F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BE710-E41F-4D00-9A46-3A7B6C73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2633E-E187-441B-A165-31D245E0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5E080-15EF-4AD2-AF9E-7A434DCD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4762-6516-495D-961B-7932E3C0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FF319-D927-4693-BFA5-CD47DCB3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5D7-4E1A-429F-8418-8DCDAF83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4A1F1-3824-4161-9C7F-4C6D5CC7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925407-C0B8-462A-BC2E-D1372715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DBFC3-9E44-4FAC-87B7-678DF2BD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22D28-8D81-49BF-96DB-F5249513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16346-A0B2-425F-8526-48D8B2EB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902E8-081A-493D-8ED2-522AD8AA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642A2-DA92-433B-8E63-1B44647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91837-D7A3-43E2-8A68-B6AE841F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14532-545D-4E2E-91C7-9581A835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6D04C-B10B-4DA3-A51C-3052F7EB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C18-3FE7-4F7D-92A3-602C544A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EB145-2AD1-4DD6-B919-3C8E5AA3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F8B97-949D-45EA-84A5-252CA18D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3D288-14BE-4C86-821F-EC102ADF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98FFC-912F-4696-94D7-2C29B7BC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361CB-DA1C-4069-82F9-75F732FD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C142F-B498-4132-A739-E9A41E1B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2994A-18A7-4F2C-AF77-54D37FEC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A6D8FE-EB61-4475-9E7E-9FAF095F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579FE1-7C69-4A2E-9A89-614839C9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C07C5-0E96-4816-A311-85C06684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0BB-33E2-4C15-AF53-0C1AC45C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AA931-621D-4AA4-AC97-D143958F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364AB-C1DB-4AC6-A60F-46C1F3AC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64914-FEED-4F6D-A34D-D178B6CA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80661-99D5-4F33-ACEE-51F6A09A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B4E27-537F-47C4-9C78-1C041A1C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5877A-52F3-4112-A171-B5DAB1AB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7D4FC-715D-4759-B79B-DB33B337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55C27-7E42-4D37-BB1C-D3EE9F3B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AD37E-4CF3-4CCD-9DCE-9B937998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23211F-5BC0-41F1-8C76-53F6B09D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E16-AF7B-48F0-BBA0-2FA64F98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5D021B-ADEC-4E4F-8734-CF9F229A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7E09B-1A15-417F-89C9-4AF94FF2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E09BF-6894-4301-8298-ED872181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C0AE11-91EC-4AE7-8A80-DB5D1C91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FC2F8-7D2D-4013-AD41-01B85605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A89-D8C6-4F10-829D-4B819C25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850A-1C1F-4007-961B-EDD9176E36B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9E66-CD00-4460-9E73-378803144E3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64D2-6658-4272-BE07-22CEC5DB84A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5F6A-7FFA-4ECB-BFBD-5B6AC686D7F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9BCD-2F98-4B50-8B01-2961A441D5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42D5-F418-45FD-B398-BF15E7DD418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D963-9D52-485D-A86C-F2C639D147D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zfRdzjiz0Tk" TargetMode="External"/><Relationship Id="rId2" Type="http://schemas.openxmlformats.org/officeDocument/2006/relationships/hyperlink" Target="https://cloud.mail.ru/public/fujH/jcwhsccnT" TargetMode="External"/><Relationship Id="rId3" Type="http://schemas.openxmlformats.org/officeDocument/2006/relationships/hyperlink" Target="https://cloud.mail.ru/public/rwVz/to1fRZs15" TargetMode="External"/><Relationship Id="rId4" Type="http://schemas.openxmlformats.org/officeDocument/2006/relationships/hyperlink" Target="https://cloud.mail.ru/public/eFKg/URzrztSQi" TargetMode="External"/><Relationship Id="rId5" Type="http://schemas.openxmlformats.org/officeDocument/2006/relationships/hyperlink" Target="https://cloud.mail.ru/public/8rTs/uauw2MNiy" TargetMode="External"/><Relationship Id="rId6" Type="http://schemas.openxmlformats.org/officeDocument/2006/relationships/hyperlink" Target="https://tatfrontu.ru/gallery2/v/kazan-muzei-pamyatniki-memorialy/muzey-komz/dsc09639.jpg.html" TargetMode="External"/><Relationship Id="rId7" Type="http://schemas.openxmlformats.org/officeDocument/2006/relationships/hyperlink" Target="https://it-cube64.ru/2021/02/20/virtualnaja-jekskursija-muzej-boevoj-i-trudovoj-slavy/" TargetMode="External"/><Relationship Id="rId8" Type="http://schemas.openxmlformats.org/officeDocument/2006/relationships/hyperlink" Target="https://it-cube64.ru/2021/02/20/virtualnaja-jekskursija-muzej-boevoj-i-trudovoj-slavy/" TargetMode="External"/><Relationship Id="rId9" Type="http://schemas.openxmlformats.org/officeDocument/2006/relationships/hyperlink" Target="https://cloud.mail.ru/public/X971/371iRSRcB" TargetMode="External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57120"/>
            <a:ext cx="61722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ПЕДАГОГИЧЕСКИЙ ПРОЕКТ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ОРГАНИЗАЦИЯ ПРЕДМЕТНОЙ НЕДЕЛИ ПО ТЕХНОЛОГИИ НА ТЕМУ: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«ДОЛГ ПАМЯТИ: </a:t>
            </a: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РУДОВОЙ ПОДВИГ СОВЕТСКОГО НАРОДА В ГОДЫ ВЕЛИКОЙ ОТЕЧЕСТВЕННОЙ ВОЙНЫ»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28920" y="4429080"/>
            <a:ext cx="628632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Авторы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Гришина Т.А., учитель технологии МБОУ «Школа№144»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Шаяхметова А.Г., учитель технологии МБОУ «Гимназия №183»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Казанцев Р.А., учитель технологии МБОУ «Гимназия №183»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ЗМОЖНЫЕ РИСК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хватка денежных средст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лохое самочувствие участников проек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стабильная эпидемиологическая обстанов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ЦЕНКА ЭФФЕКТИВНОСТИ ПРОЕКТА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(ИНСТРУМЕНТЫ,КРИТЕРИИ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56760" y="1600200"/>
            <a:ext cx="8286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межпредметных связей в области технологии и истории для активизации познавательной активности учащих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величение количества учащихся, изъявивших желание заниматься техническим творчеством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олнение базы учеников, желающих участвовать во Всероссийской олимпиаде по технологии в области технического моделир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ЗАПЛАНИРОВАННЫЕ (ПОЛУЧЕННЫЕ) РЕЗУЛЬТАТЫ ЭФФЕКТИВНОСТИ ВНЕДРЕНИЯ ФСК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56760" y="1600200"/>
            <a:ext cx="8286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результате проведённых мероприятий учащиеся выполнили творческие задания по поиску исторических фактов , изготовлению творческих проектов связанных с изготовлением макетов технических средств (самолётов , танков),стенгазет , посвящённых тематике нед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личество учащихся, изъявивших желание заниматься техническим творчеством выросло 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0 % по результатам анкетир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полнена база учеников, желающих участвовать во Всероссийской олимпиаде по технологии в области технического моделирования, которое увеличилось на 15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ы готовы ответить на Ваши вопрос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КТУАЛЬНОСТЬ ПРОЕК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ктуальность проекта рассматривается нами  как необходимость развития у учащихся мотивации к занятиям  техническим творчеств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 результатам нашего исследования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олько 20 % учащихся  школы увлекаются техническим творчеством, моделирование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сего 30% знают о технологических достижениях нашей страны в период Великой отечественной войны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ктивизация познавательной активности развивается через  яркие примеры из истории нашей страны.  Целесообразно развивать эту активность на примере технологических достижений нашей Родины в период Великой отечественной войн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ЕВАЯ АУДИТОРИЯ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ащиеся 5 - 8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КТИВНЫЕ УЧАСТНИКИ ПРОЕКТ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дминистрация школ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ителя технолог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ителя истор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дагог- организато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иблиотекарь школ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тераны- труженики ты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всесторонне развитой личности  на примере технологических достижений нашей Родины в период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в области технического моделирования с помощью межпредметных технологий (связь технологии с историе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влечение учащихся к техническому проектирова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ствовать повышению активности учащихся к участию в конкурсах, олимпиадах, конференциях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ЭТАПЫ РЕАЛИЗАЦИИ ПРОЕКТ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дготовительный этап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ка программы и плана методической нед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влечение участников проекта к реализац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кетирование учащихс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новной этап реализации согласно плану мероприят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ключительный этап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ведение итог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раждение активных участнико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проведённых мероприят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640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ПЛАН МЕРОПРИЯТИЙ МЕТОДИЧЕСКОЙ  НЕДЕЛИ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08000" y="493560"/>
          <a:ext cx="8929800" cy="6248520"/>
        </p:xfrm>
        <a:graphic>
          <a:graphicData uri="http://schemas.openxmlformats.org/drawingml/2006/table">
            <a:tbl>
              <a:tblPr/>
              <a:tblGrid>
                <a:gridCol w="1463760"/>
                <a:gridCol w="6514920"/>
                <a:gridCol w="9511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ень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4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ктуальный кинопоказ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ильм «Крылья Победы»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1"/>
                        </a:rPr>
                        <a:t>https://www.youtube.com/watch?v=zfRdzjiz0T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21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род мастеров. Творческие мастерск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стер-класс «Крылья Победы» (макет самолёта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2"/>
                        </a:rPr>
                        <a:t>https://cloud.mail.ru/public/fujH/jcwhscc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стер-класс «Подарок ветерану»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3"/>
                        </a:rPr>
                        <a:t>https://cloud.mail.ru/public/rwVz/to1fRZs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нкурс стенгазет «Всё для фронта, всё для победы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21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нь виктор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кторина «По дорогам войны»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4"/>
                        </a:rPr>
                        <a:t>https://cloud.mail.ru/public/eFKg/URzrztSQ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кторина «Всё для фронта, всё для победы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5"/>
                        </a:rPr>
                        <a:t>https://cloud.mail.ru/public/8rTs/uauw2MNiy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67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нь экскурс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туальная экскурсия в музей Казанского оптико-механического завода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6"/>
                        </a:rPr>
                        <a:t>https://tatfrontu.ru/gallery2/v/kazan-muzei-pamyatniki-memorialy/muzey-komz/dsc09639.jpg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туальная экскурсия в «Музей боевой и трудовой славы» Центра </a:t>
                      </a:r>
                      <a:r>
                        <a:rPr b="0" lang="ru-RU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7"/>
                        </a:rPr>
                        <a:t>«Созвездие»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8"/>
                        </a:rPr>
                        <a:t>https://it-cube64.ru/2021/02/20/virtualnaja-jekskursija-muzej-boevoj-i-trudovoj-slavy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6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уб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треча с тружениками ты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ставка творческих проектов учащихся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9"/>
                        </a:rPr>
                        <a:t>https://cloud.mail.ru/public/X971/371iRSR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НЕОБХОДИМЫЕ РЕСУРС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о-материальная база школ(актовый зал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о-материальная база кабинетов технологии( столярное оборудование, швейное оборудовани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ворческая лаборатория учителей технологии и истор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струменты(лобзик ,иглы,ножницы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нцтовары( клей,карандаши,краски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ходные материалы(бумага, фанера, ткан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7T13:53:14Z</dcterms:created>
  <dc:creator>Айгуль Илсуровна</dc:creator>
  <dc:description/>
  <dc:language>en-US</dc:language>
  <cp:lastModifiedBy>Windows User</cp:lastModifiedBy>
  <dcterms:modified xsi:type="dcterms:W3CDTF">2022-04-20T14:41:18Z</dcterms:modified>
  <cp:revision>90</cp:revision>
  <dc:subject/>
  <dc:title>Педагогический проект  Организация предметной недели по технологии на тему:  «Долг памяти:  Трудовой подвиг советского народа в годы Великой отечественной войны»</dc:title>
</cp:coreProperties>
</file>