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B99-261F-4743-8DF1-C0199CED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A32-1D1E-4DB2-B81D-4B10E03E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B75-5A92-46F8-BCE9-8566006D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E488-D76C-4132-B34B-F8532748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C0ED-0F25-4454-9CD5-7B3A2A2B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6630-E0AB-4DF5-ABD3-FA6BD331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F6D7-1013-4623-8C8B-BC645440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3A9B-4976-4B25-B848-0F0889BA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4FFD-60BC-4F81-A7CF-CE72A3C5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66B8-F8A3-4B68-BF2C-58E1E69B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AD04-4F6E-4FCB-9219-CE6E9D2D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834A-4CBA-4297-82A8-098BCA55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5893-153E-4F9E-85AF-D31CFD30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6466-7337-498C-99BC-5A1F20C9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88D7-876B-4719-9E09-11491D44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9D21-E23E-4211-9BE6-589FE619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AC98-3C73-4B09-A5A6-ACA82F45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88FFB-44B5-460D-BC00-B26282AC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33529-040E-4D6B-B742-9CD87807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2A486-A200-4F14-9BBB-E4FCA7C2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492EC-0621-4D12-BFC9-577154D5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A1D18-7FC8-48BE-BB03-4909B72D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F851-A978-44DF-9BD1-307CCC93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BD86F7-FBD1-467B-8641-CB9C9FB6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E8A76-089F-48E0-B872-6EC33773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B2396-EE1B-48C0-92EE-83377741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FE334-3EBA-4AED-869C-B77D9B17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BDD41-CBB5-45D9-9B0B-2DAE3AE2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DAB64-47FD-4605-A70E-58F52864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AD92AF-D179-468E-9C88-2ABD05C2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90167-3081-4348-AB53-B5E4BFB9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3ADF0-0335-4444-8D14-12C0AFF6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FC5FB-5E25-4546-AA51-D3827A1E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D382-D41D-458A-B518-94D9FBC4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6A7DE-F399-4DDA-83F2-DB32487F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CE483-4BF0-4048-9E07-EC83447E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971CF-8368-4DCD-82CE-1DABB3C5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F0876-A442-4672-BFF8-68C3E3D4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06687-548D-4086-A246-6D282E54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504D9-4561-430A-AC05-82121A22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1DBF4-B6B6-4434-883C-3B57BF92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CF33C-94CD-435E-96E4-2DE534ED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AB102-9CF2-4F2D-AD2E-6223FD60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8DB863-CC7E-4E0A-B84D-00F57255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581-2B1D-481B-AF88-DD132C0F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4CC7E3-56B1-49A1-A9E0-17E81BCE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B72857-AE2C-487A-93F8-17B21415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D4271-E7D2-47D3-880B-68B42FCE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15747C-965C-47D8-81C8-16FBFB5C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9BB711-B8DA-49D0-B70F-5DA0C440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E50387-8475-4BE2-B512-D9A2D6B8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E22642-682D-41CA-96A2-B8FCC8DE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F8FF7-718A-4770-916C-CDC54100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53573-6C95-4444-A2F3-64A981EC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86C3CB-EBA5-48C7-BE90-2DCC53FD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D1F5-98D3-4C63-B5E3-8457E0DB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F600F-9DB9-4766-B302-948ED392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F1DD9C-4186-4919-9B56-4A8638A1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D4A32E-8B70-4915-B030-B2B61D4D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9F7FBE-0ED6-4EDA-BEA3-72378A45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616521-D007-41C8-BBFB-3D8B8260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442902-2D05-4700-8EEA-590E7418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40A298-0EE3-4429-B3ED-779BACC5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E8435C-F308-4E03-9AA3-7667D425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0E552E-B959-4AD2-B667-988A808C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178DC-DAE2-46E3-B323-6E16F0D2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FCF5-4F26-4B1A-BA3F-B7B37E70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341B74-1A39-4303-A73E-77D25561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96C322-27E0-4D1C-9156-D81002BB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2E165D-0241-4939-809F-5D9D2084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AC8661-08AC-4018-A758-DE1A1051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1D86DD-3001-4485-A949-A11CE7A6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873715-3F3C-42A2-A212-A4CBC927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1F6EBC-12BB-4DEF-B737-C380A63D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FA1266-103D-4319-9DAD-D39E4E70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13DEE2-D566-4C4C-A027-9E979835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1B4B66-5395-48AB-A347-1550FC41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311-EDA5-4FC7-942D-57526F3B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4252BF-A4D0-4A11-BEA4-88E9091C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24CAD2-3F9C-407B-B962-B1D1A4F0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920C30-083C-4C81-8BFB-726D52AF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D5876A-2D11-475C-ABB6-EAEBB837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D97A29-3F40-40D4-9D14-5307ECFD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4A50-ECD0-467D-A6B1-4E11F251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AB6C-01C2-496A-ACDD-6330FF17DE8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FB98-2589-49D4-8F3C-BB240A40665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03A9-290A-4725-93C6-2BDFD1327A8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E8AA-0490-4907-ADD9-751B167DB57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B621-962D-4EB0-9101-E46BBABE5FE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843D-0438-4648-A517-A0CF0510754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3D3F-18D8-40A9-B5D2-593C024B2E5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zfRdzjiz0Tk" TargetMode="External"/><Relationship Id="rId2" Type="http://schemas.openxmlformats.org/officeDocument/2006/relationships/hyperlink" Target="https://cloud.mail.ru/public/fujH/jcwhsccnT" TargetMode="External"/><Relationship Id="rId3" Type="http://schemas.openxmlformats.org/officeDocument/2006/relationships/hyperlink" Target="https://cloud.mail.ru/public/rwVz/to1fRZs15" TargetMode="External"/><Relationship Id="rId4" Type="http://schemas.openxmlformats.org/officeDocument/2006/relationships/hyperlink" Target="https://cloud.mail.ru/public/eFKg/URzrztSQi" TargetMode="External"/><Relationship Id="rId5" Type="http://schemas.openxmlformats.org/officeDocument/2006/relationships/hyperlink" Target="https://cloud.mail.ru/public/8rTs/uauw2MNiy" TargetMode="External"/><Relationship Id="rId6" Type="http://schemas.openxmlformats.org/officeDocument/2006/relationships/hyperlink" Target="https://tatfrontu.ru/gallery2/v/kazan-muzei-pamyatniki-memorialy/muzey-komz/dsc09639.jpg.html" TargetMode="External"/><Relationship Id="rId7" Type="http://schemas.openxmlformats.org/officeDocument/2006/relationships/hyperlink" Target="https://it-cube64.ru/2021/02/20/virtualnaja-jekskursija-muzej-boevoj-i-trudovoj-slavy/" TargetMode="External"/><Relationship Id="rId8" Type="http://schemas.openxmlformats.org/officeDocument/2006/relationships/hyperlink" Target="https://it-cube64.ru/2021/02/20/virtualnaja-jekskursija-muzej-boevoj-i-trudovoj-slavy/" TargetMode="External"/><Relationship Id="rId9" Type="http://schemas.openxmlformats.org/officeDocument/2006/relationships/hyperlink" Target="https://cloud.mail.ru/public/X971/371iRSRcB" TargetMode="External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57120"/>
            <a:ext cx="617220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ПЕДАГОГИЧЕСКИЙ ПРОЕКТ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ОРГАНИЗАЦИЯ ПРЕДМЕТНОЙ НЕДЕЛИ ПО ТЕХНОЛОГИИ НА ТЕМУ: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«ДОЛГ ПАМЯТИ: </a:t>
            </a: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ТРУДОВОЙ ПОДВИГ СОВЕТСКОГО НАРОДА В ГОДЫ ВЕЛИКОЙ ОТЕЧЕСТВЕННОЙ ВОЙНЫ»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428920" y="4429080"/>
            <a:ext cx="6286320" cy="19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Авторы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Гришина Т.А., учитель технологии МБОУ «Школа№144»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Шаяхметова А.Г., учитель технологии МБОУ «Гимназия №183»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Казанцев Р.А., учитель технологии МБОУ «Гимназия №183»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ОЗМОЖНЫЕ РИСК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хватка денежных средст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лохое самочувствие участников проек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стабильная эпидемиологическая обстанов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ЦЕНКА ЭФФЕКТИВНОСТИ ПРОЕКТА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(ИНСТРУМЕНТЫ,КРИТЕРИИ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56760" y="1600200"/>
            <a:ext cx="8286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ование межпредметных связей в области технологии и истории для активизации познавательной активности учащих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величение количества учащихся, изъявивших желание заниматься техническим творчеством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полнение базы учеников, желающих участвовать во Всероссийской олимпиаде по технологии в области технического моделир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ЗАПЛАНИРОВАННЫЕ (ПОЛУЧЕННЫЕ) РЕЗУЛЬТАТЫ ЭФФЕКТИВНОСТИ ВНЕДРЕНИЯ ФСК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56760" y="1600200"/>
            <a:ext cx="8286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результате проведённых мероприятий учащиеся выполнили творческие задания по поиску исторических фактов , изготовлению творческих проектов связанных с изготовлением макетов технических средств (самолётов , танков),стенгазет , посвящённых тематике недел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личество учащихся, изъявивших желание заниматься техническим творчеством выросло н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0 % по результатам анкетир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ополнена база учеников, желающих участвовать во Всероссийской олимпиаде по технологии в области технического моделирования, которое увеличилось на 15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ы готовы ответить на Ваши вопрос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КТУАЛЬНОСТЬ ПРОЕКТ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Актуальность проекта рассматривается нами  как необходимость развития у учащихся мотивации к занятиям  техническим творчество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 результатам нашего исследования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только 20 % учащихся  школы увлекаются техническим творчеством, моделированием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сего 30% знают о технологических достижениях нашей страны в период Великой отечественной войны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Активизация познавательной активности развивается через  яркие примеры из истории нашей страны.  Целесообразно развивать эту активность на примере технологических достижений нашей Родины в период Великой отечественной войны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ЕЛЕВАЯ АУДИТОРИЯ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ащиеся 5 - 8 класс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КТИВНЫЕ УЧАСТНИКИ ПРОЕКТ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дминистрация школ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ителя технолог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ителя истор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дагог- организато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иблиотекарь школ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етераны- труженики ты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ЕЛ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ирование всесторонне развитой личности  на примере технологических достижений нашей Родины в период Великой отечественной войн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Ч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витие творческих способностей в области технического моделирования с помощью межпредметных технологий (связь технологии с историе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влечение учащихся к техническому проектировани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особствовать повышению активности учащихся к участию в конкурсах, олимпиадах, конференциях и д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ЭТАПЫ РЕАЛИЗАЦИИ ПРОЕКТ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907560"/>
            <a:ext cx="746748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дготовительный этап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работка программы и плана методической недел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влечение участников проекта к реализац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кетирование учащихс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сновной этап реализации согласно плану мероприят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ключительный этап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ведение итог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граждение активных участнико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 проведённых мероприят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640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ПЛАН МЕРОПРИЯТИЙ МЕТОДИЧЕСКОЙ  НЕДЕЛИ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08000" y="493560"/>
          <a:ext cx="8929800" cy="6248520"/>
        </p:xfrm>
        <a:graphic>
          <a:graphicData uri="http://schemas.openxmlformats.org/drawingml/2006/table">
            <a:tbl>
              <a:tblPr/>
              <a:tblGrid>
                <a:gridCol w="1463760"/>
                <a:gridCol w="6514920"/>
                <a:gridCol w="9511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День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Меропри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54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неде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ктуальный кинопоказ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ильм «Крылья Победы» </a:t>
                      </a:r>
                      <a:r>
                        <a:rPr b="0" lang="en-US" sz="1400" spc="-1" strike="noStrike" u="sng">
                          <a:solidFill>
                            <a:srgbClr val="d2611c"/>
                          </a:solidFill>
                          <a:uFillTx/>
                          <a:latin typeface="Century Schoolbook"/>
                          <a:hlinkClick r:id="rId1"/>
                        </a:rPr>
                        <a:t>https://www.youtube.com/watch?v=zfRdzjiz0T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21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тор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ород мастеров. Творческие мастерск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стер-класс «Крылья Победы» (макет самолёта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1400" spc="-1" strike="noStrike" u="sng">
                          <a:solidFill>
                            <a:srgbClr val="d2611c"/>
                          </a:solidFill>
                          <a:uFillTx/>
                          <a:latin typeface="Century Schoolbook"/>
                          <a:hlinkClick r:id="rId2"/>
                        </a:rPr>
                        <a:t>https://cloud.mail.ru/public/fujH/jcwhscc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стер-класс «Подарок ветерану» </a:t>
                      </a:r>
                      <a:r>
                        <a:rPr b="0" lang="en-US" sz="1400" spc="-1" strike="noStrike" u="sng">
                          <a:solidFill>
                            <a:srgbClr val="d2611c"/>
                          </a:solidFill>
                          <a:uFillTx/>
                          <a:latin typeface="Century Schoolbook"/>
                          <a:hlinkClick r:id="rId3"/>
                        </a:rPr>
                        <a:t>https://cloud.mail.ru/public/rwVz/to1fRZs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р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нкурс стенгазет «Всё для фронта, всё для победы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21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етв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ень виктор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кторина «По дорогам войны» </a:t>
                      </a:r>
                      <a:r>
                        <a:rPr b="0" lang="en-US" sz="1400" spc="-1" strike="noStrike" u="sng">
                          <a:solidFill>
                            <a:srgbClr val="d2611c"/>
                          </a:solidFill>
                          <a:uFillTx/>
                          <a:latin typeface="Century Schoolbook"/>
                          <a:hlinkClick r:id="rId4"/>
                        </a:rPr>
                        <a:t>https://cloud.mail.ru/public/eFKg/URzrztSQ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кторина «Всё для фронта, всё для победы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d2611c"/>
                          </a:solidFill>
                          <a:uFillTx/>
                          <a:latin typeface="Century Schoolbook"/>
                          <a:hlinkClick r:id="rId5"/>
                        </a:rPr>
                        <a:t>https://cloud.mail.ru/public/8rTs/uauw2MNiy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67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ят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ень экскурс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ртуальная экскурсия в музей Казанского оптико-механического завода </a:t>
                      </a:r>
                      <a:r>
                        <a:rPr b="0" lang="en-US" sz="1400" spc="-1" strike="noStrike" u="sng">
                          <a:solidFill>
                            <a:srgbClr val="d2611c"/>
                          </a:solidFill>
                          <a:uFillTx/>
                          <a:latin typeface="Century Schoolbook"/>
                          <a:hlinkClick r:id="rId6"/>
                        </a:rPr>
                        <a:t>https://tatfrontu.ru/gallery2/v/kazan-muzei-pamyatniki-memorialy/muzey-komz/dsc09639.jpg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ртуальная экскурсия в «Музей боевой и трудовой славы» Центра </a:t>
                      </a:r>
                      <a:r>
                        <a:rPr b="0" lang="ru-RU" sz="1400" spc="-1" strike="noStrike" u="sng">
                          <a:solidFill>
                            <a:srgbClr val="d2611c"/>
                          </a:solidFill>
                          <a:uFillTx/>
                          <a:latin typeface="Century Schoolbook"/>
                          <a:hlinkClick r:id="rId7"/>
                        </a:rPr>
                        <a:t>«Созвездие» </a:t>
                      </a:r>
                      <a:r>
                        <a:rPr b="0" lang="en-US" sz="1400" spc="-1" strike="noStrike" u="sng">
                          <a:solidFill>
                            <a:srgbClr val="d2611c"/>
                          </a:solidFill>
                          <a:uFillTx/>
                          <a:latin typeface="Century Schoolbook"/>
                          <a:hlinkClick r:id="rId8"/>
                        </a:rPr>
                        <a:t>https://it-cube64.ru/2021/02/20/virtualnaja-jekskursija-muzej-boevoj-i-trudovoj-slavy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6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уб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стреча с тружениками ты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ставка творческих проектов учащихся </a:t>
                      </a:r>
                      <a:r>
                        <a:rPr b="0" lang="en-US" sz="1400" spc="-1" strike="noStrike" u="sng">
                          <a:solidFill>
                            <a:srgbClr val="d2611c"/>
                          </a:solidFill>
                          <a:uFillTx/>
                          <a:latin typeface="Century Schoolbook"/>
                          <a:hlinkClick r:id="rId9"/>
                        </a:rPr>
                        <a:t>https://cloud.mail.ru/public/X971/371iRSRc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НЕОБХОДИМЫЕ РЕСУРСЫ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о-материальная база школ(актовый зал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о-материальная база кабинетов технологии( столярное оборудование, швейное оборудовани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ворческая лаборатория учителей технологии и истор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струменты(лобзик ,иглы,ножницы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нцтовары( клей,карандаши,краски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ходные материалы(бумага, фанера, ткань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7T13:53:14Z</dcterms:created>
  <dc:creator>Айгуль Илсуровна</dc:creator>
  <dc:description/>
  <dc:language>en-US</dc:language>
  <cp:lastModifiedBy>Windows User</cp:lastModifiedBy>
  <dcterms:modified xsi:type="dcterms:W3CDTF">2022-04-20T14:41:18Z</dcterms:modified>
  <cp:revision>90</cp:revision>
  <dc:subject/>
  <dc:title>Педагогический проект  Организация предметной недели по технологии на тему:  «Долг памяти:  Трудовой подвиг советского народа в годы Великой отечественной войны»</dc:title>
</cp:coreProperties>
</file>