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CE5B-ACDA-48C0-A648-5521B55514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0B16-3453-428E-8564-3258CEAF98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1107-86D0-45AA-A748-4CFA902FB7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C276-EB15-4C2D-8D8C-513E446154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7E6B-137A-405F-AA14-93808B95E9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4E0E-2AAA-4959-8562-5E3141ABDC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56EB-6F08-4814-A277-CB5844943D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AD7C-8CED-429A-8E3B-20185492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509-1858-4136-8D07-DB512213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74F0F-3264-4B3F-B599-741F0303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9BEF1-036F-46E2-AF73-F53B943D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3ED3B-13DB-4D04-BE20-79C3BFF4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3C4E1-D482-4073-ACE1-0C5B32DA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BE117-3411-43BE-9379-31B6D76E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AB349-DBFD-4512-A3BB-9E0D2BF6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60EB5-5492-462F-BCAC-0F604052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CE5B4-6F0D-4C2D-8026-21E63517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5F45C-6D6C-4202-8D19-8C3FFFA3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9D810-BE98-43DE-97A2-6A22712C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D52-17BC-4984-BAE9-186BCCA3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B81EA-BC7E-4CD9-A005-F77CD918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FE8A0-CF04-4892-A02A-EB9BFADB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2220A-38EE-4056-B2E8-C5EB14DF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CF033-0DC8-4A38-A49B-48CD6C8A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436E0-994E-4E64-82A7-D052BFD6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C4F7D-371A-4249-A974-28A1BC2C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8C14E-7869-4B0F-9194-CC48FDAF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7EE9B-1035-411B-B78B-9AD46EF2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19BA3-A805-43D8-95EB-19CECFFF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36D31-D519-4993-BF43-C295D6DF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CE64-25CE-4989-BF88-21FD165C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18B39-ED18-4E38-A143-4C8D0B98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6BCDE-B062-42B0-A85C-A2DD296F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0C1E6-2389-48EE-9B94-74AD16F2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57BBD-92B0-49EB-B55A-2ED76F3B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F90A6-9F92-4B27-A68F-605FFBC0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70B2D-6FE5-48C9-BF67-0A2FC1E1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E7D18-DB78-4A71-A4FB-FE5FD914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D2D6D-CFC3-451F-BDCE-EF9C64B9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408E9-77E4-4B1E-BBA6-3CB47A79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1C39D-40FD-4915-AF04-68591C84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50C4-9830-4728-A8B1-76783352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DA754-ED09-4594-93D5-D73226A7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5C2B2-2FCC-4694-8DF6-AF9CCE27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9B609-A849-45EE-8DB5-539E576E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F940E-9DDA-48FF-80E5-CF24BCA5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08B3B-2055-47F4-BEAA-E6AF9A72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276B2-A5B6-44D6-94F2-07772F19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5EDF6-765C-4109-BDCC-2EA09AE4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AF175-41FD-4C30-A30C-22DC089A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CE9A7-749B-4B5E-AAC2-C16E0F3F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31720-588D-4DE3-A450-92038C83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96EA-D4C5-42D7-8B5A-879951EF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9D7A0-5BA5-43B2-887A-4F22D640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431AF-D766-4EFA-BDE9-198E31A2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B8697-2669-4D9D-918A-F029FA8D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FA132-CEAF-498E-9ECE-4D7B9DF1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A2EB3-142A-4D7E-9A15-712DD8A8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9303B2-DB78-4481-9EB8-CA813A31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D0542-54CC-437D-B987-4C865B2B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634B65-499B-4A29-84D6-DD1F44A3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649F31-1406-4225-8F91-972D57B0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6FB14-8993-4F13-8775-1B98C9D1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2C67-9EC0-48CE-8737-EF6CEF7E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6F7AA-D242-4419-9416-EA52C1FD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E885F-AF9C-45F5-98DD-855DE326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3D457-95FD-4080-878C-7D566DB3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0EF00-062F-4EAB-9805-7EBFB488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35D100-7760-4227-9714-9C45D648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D5277F-A28A-4518-9F01-BE6A40F4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38FA6C-5AD1-4AAB-BBC1-2972E1C8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B4DBD1-D49B-4326-8BF6-DAE58D79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7692EE-FB0E-4331-81CA-62AB988E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1E8D6C-7A16-483F-A73F-9A93A1AE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304B-90A8-48F5-92EC-CA7C491F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7DF619-E734-430F-8F18-E6F17735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44EFB-5A90-4771-8327-B45D6268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132C2-94BF-489E-ABC0-CF6D1B02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DBB52E-536A-4DE2-BB34-9B894E8F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71DAA-D3F7-4265-B34F-0AA17B2A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3A1B43-4165-4CAF-AFCB-0FA9298F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7AC58-2FDC-4680-A40E-51FA9713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059220-1A94-4B2E-BF82-FC6EF4A4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A49483-CCBB-4DB5-BCC7-71302900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2F66-45D8-42CD-8F30-8388A5A6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A5A6-88C0-4A19-AF9A-F5D0ADE4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697C-0A7A-45CE-8E30-16FA6B7C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0F2-4074-484A-9E80-31AF23CF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E8D2-0429-45B3-BE77-E5DFE246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A305-D52B-46D1-86C0-F0E03E05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BA5C-CE2E-4F50-A146-A6F731ED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B27B-84BA-4182-A18D-76E6845C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7038-3552-4747-BC0B-217BE81E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A08F0-0F5F-4BDB-A2FF-0242298C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8F64D-6627-45FC-B6C1-FC50393F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C9774-ED0E-40A2-B359-D71E6945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043D0-95CC-41D2-A28F-BF6D38D5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4BBCD-2625-4A41-B97E-0804BD0E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1809-9DF8-4580-885B-86560881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6D77A-42A3-4D55-892D-F7565E73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AF778-DFEB-45F1-A92E-A33B5DAA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E385E-5DBC-489E-A41D-2518A86E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810D7-DD76-46CE-9FA8-71EE1F08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291C-FBE2-4447-B213-5E4334CA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0F21B-6E08-44FF-AB9A-A133C64A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4131D-581C-4A90-A55F-01B66692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01667-D021-4F83-8169-9D844EF1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CCAB1-98E0-415F-80C7-BE014EDD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F80B1-51D0-43F8-B649-2ECFC4EC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55A-8E6B-48C0-9F83-590C8CC1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7D0B6-8A3D-4A26-8806-C7196865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03B06-032A-48A2-BF5D-F76E9D56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BE1DC-AEBD-41E3-82EE-544BA5DA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81C5D-DC93-4EB8-B196-DEC81D2E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E6A55-A471-4F06-849A-E4123027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0E972-CF3C-43DD-821E-CD2A95E6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C1B66-E734-4863-A2A5-A635AEF5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2140A-EBFD-4564-B3E8-E04C6987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4E094-8E49-4FD2-AA16-A8E333CE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41D96-CEA5-4C4A-88E9-F67C84DC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6ED1-AEFC-44CC-9DFD-FCAD9C54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9DD62-5ECC-40DF-B39E-2CE9F655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32178-4FD0-4CB5-A6EC-8CA02C5E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99BC2-D15F-46AF-AFDE-98ADC4FC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5F2F5-3F75-4515-A847-B1BC7275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7EFC7-1601-4C27-BFC6-3AC52EC3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2FFCE-F2F8-487A-842E-38935910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DBFB0-94E2-43DC-8D3F-1AFDFA01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4E481-10EB-4B70-A3F7-A27843B6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B0E7D-9401-4E9E-9D79-CBA594CE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42EE7-2186-4963-BC64-FBF4A059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3A8B-C588-40F9-9BFD-5989A458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10F61-3F3C-4BC8-9535-7BFA7015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848F5-8A45-4DB8-BFF3-1DEAD8AE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B385C-74EA-436A-87BC-26F07CD0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0E139-3102-4028-82AF-291B919D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7FC56-39D4-4D6A-ABE6-9B495BAA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2A440-E79B-476B-BCC5-635C0A0C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5CD00-9849-49A3-A62B-8CD29DA8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1CA51-061D-491A-BE14-58598248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0BA3A-DFCC-4B69-B885-8BDE2703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632BE-8F6B-4635-943B-9F11A58A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0052-D051-4620-A1CC-A503C173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4DD38-D8BC-438A-95E1-74CE101E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51138-69E9-4D26-9183-99762BDA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431B7-1CA1-4857-ABC9-BCF9E159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7A449-2538-4F17-9A85-655CF2A1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25452-4513-43DC-8346-DCCB602F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EFAD4-F980-485A-9C7B-CB5CEFBF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DB936-C6F0-4685-B835-FFB30A67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B19C0-DC5D-4DDE-990C-E77C47F0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968C8-13A7-4FB1-BFFB-37EC74A0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4EA2E-909E-4E7C-BB01-C509C192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FF4-264E-4D32-85D1-2D959761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5E3A6-1234-48EE-A196-069DCAFB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2B745-29E5-4BBB-BEA6-1CE3EF9B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E5399-7FAB-4DFC-9052-A717365B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45DAE-76A5-419B-91A1-9C8312C8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B6697-E4FA-4590-BC6D-B82419DD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92F2D-82EF-406B-9F58-92B36C7C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40BF5-AFCD-4083-8B32-1E734095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BC201-DE3C-4F0E-90A3-E4CC8EE7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C17CB-EAC1-4EBD-9EAB-AB831B60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6AEAE-F53A-4FFD-BDDE-200D7E36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B48-53F9-4A90-A381-A07E5C66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61BD6-77E7-484D-8474-C8DADB14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081DE-5ED0-4236-87DA-ED0B14B5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5C952-B039-4B5E-837F-20BE0E65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EBC5E-C3DB-48EF-B47C-0E4CA52B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6225A-6BE9-4CD2-8B72-263ACB7B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052CE-C835-4CFE-962D-C3721DC7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11D63-0BD9-4FD7-8ADC-A650541C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B4008-3081-49DD-9045-57ABCAC7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66280-2FB9-44AC-9D1E-7DE42277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4559C-3F3F-46B5-911D-C658D0ED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fbeec9"/>
                  </a:gs>
                  <a:gs pos="100000">
                    <a:srgbClr val="f3e7c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4d9b7"/>
                  </a:gs>
                  <a:gs pos="50000">
                    <a:srgbClr val="fbeec9"/>
                  </a:gs>
                  <a:gs pos="100000">
                    <a:srgbClr val="e4d9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08D2-1674-4AD9-9309-AE112DA762A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5596-63E3-4FDA-9E27-FBA1555088C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3E3E-3C02-4B34-8915-5DC1594237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31B1-FE6C-44CD-8A93-A2C7F2CFB20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D0C7-3ACE-4268-AA8C-FBDF1AE0E7E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E541-1612-4C63-820C-52DF91034C6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fbee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fbeec9"/>
                  </a:gs>
                  <a:gs pos="100000">
                    <a:srgbClr val="f3e7c3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e4d9b7"/>
                  </a:gs>
                  <a:gs pos="50000">
                    <a:srgbClr val="fbeec9"/>
                  </a:gs>
                  <a:gs pos="100000">
                    <a:srgbClr val="e4d9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8167-7A1C-40BD-9B96-B7C74D7EE3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DD18-6CAF-4B25-AE61-24692123DA8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45FB-54C2-4F50-9316-42573DA8576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D546-E773-46A8-BFCA-83780D05AAD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FF3F-D825-4DD4-B6A8-9754C990631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921D-F424-42F9-BE95-EC18A77C64F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46A6-1845-476E-A6AD-3D13F7FF14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4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d1f1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201B-562A-4D75-81E5-87612EB8401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Вредные привычки. Алкоголь.</a:t>
            </a:r>
            <a:endParaRPr b="0" lang="en-US" sz="4800" spc="-1" strike="noStrike">
              <a:solidFill>
                <a:srgbClr val="4e3b30"/>
              </a:solidFill>
              <a:latin typeface="Tahoma"/>
            </a:endParaRPr>
          </a:p>
        </p:txBody>
      </p:sp>
      <p:sp>
        <p:nvSpPr>
          <p:cNvPr id="884" name="Text Box 7"/>
          <p:cNvSpPr/>
          <p:nvPr/>
        </p:nvSpPr>
        <p:spPr>
          <a:xfrm>
            <a:off x="3886200" y="29718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</a:rPr>
              <a:t>Автор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: Лебедева Мария Сергеевна.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5" name="Picture 9" descr="Новый рисунок (1)"/>
          <p:cNvPicPr/>
          <p:nvPr/>
        </p:nvPicPr>
        <p:blipFill>
          <a:blip r:embed="rId1"/>
          <a:stretch/>
        </p:blipFill>
        <p:spPr>
          <a:xfrm>
            <a:off x="380880" y="23623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886" name="Text Box 10"/>
          <p:cNvSpPr/>
          <p:nvPr/>
        </p:nvSpPr>
        <p:spPr>
          <a:xfrm>
            <a:off x="3733920" y="6248520"/>
            <a:ext cx="19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ahoma"/>
              </a:rPr>
              <a:t>2022</a:t>
            </a:r>
            <a:r>
              <a:rPr b="1" lang="ru-RU" sz="24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7" name=""/>
          <p:cNvGraphicFramePr/>
          <p:nvPr/>
        </p:nvGraphicFramePr>
        <p:xfrm>
          <a:off x="457200" y="304920"/>
          <a:ext cx="8458200" cy="533376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865080"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дн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езн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86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Есть чипсы и пить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ca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y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Читать близко книг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Курить и пи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Сидеть долго за компьютер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Употреблять наркотик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Ругаться нецензурной бранью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Заниматься спорт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Гулять на свежем воздух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Читать и учитьс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Спать не меньше 9 часо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Чистить зуб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Есть овощи и фрукт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2120" marR="42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889" name="Picture 5" descr="C:\Users\ПАКОВЗ\Desktop\2.jpg"/>
          <p:cNvPicPr/>
          <p:nvPr/>
        </p:nvPicPr>
        <p:blipFill>
          <a:blip r:embed="rId1"/>
          <a:stretch/>
        </p:blipFill>
        <p:spPr>
          <a:xfrm>
            <a:off x="249120" y="457200"/>
            <a:ext cx="81709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891" name="Picture 2" descr="C:\Users\ПАКОВЗ\Desktop\3.jpg"/>
          <p:cNvPicPr/>
          <p:nvPr/>
        </p:nvPicPr>
        <p:blipFill>
          <a:blip r:embed="rId1"/>
          <a:stretch/>
        </p:blipFill>
        <p:spPr>
          <a:xfrm>
            <a:off x="152280" y="609480"/>
            <a:ext cx="88012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2" descr="C:\Users\ПАКОВЗ\Desktop\5.jpg"/>
          <p:cNvPicPr/>
          <p:nvPr/>
        </p:nvPicPr>
        <p:blipFill>
          <a:blip r:embed="rId1"/>
          <a:stretch/>
        </p:blipFill>
        <p:spPr>
          <a:xfrm>
            <a:off x="609480" y="1066680"/>
            <a:ext cx="3359160" cy="320040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3" descr="C:\Users\ПАКОВЗ\Desktop\4.jpg"/>
          <p:cNvPicPr/>
          <p:nvPr/>
        </p:nvPicPr>
        <p:blipFill>
          <a:blip r:embed="rId2"/>
          <a:stretch/>
        </p:blipFill>
        <p:spPr>
          <a:xfrm>
            <a:off x="4362480" y="1066680"/>
            <a:ext cx="3429000" cy="3200400"/>
          </a:xfrm>
          <a:prstGeom prst="rect">
            <a:avLst/>
          </a:prstGeom>
          <a:ln w="0">
            <a:noFill/>
          </a:ln>
        </p:spPr>
      </p:pic>
      <p:sp>
        <p:nvSpPr>
          <p:cNvPr id="894" name="TextBox 6"/>
          <p:cNvSpPr/>
          <p:nvPr/>
        </p:nvSpPr>
        <p:spPr>
          <a:xfrm>
            <a:off x="609480" y="4800600"/>
            <a:ext cx="76201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НОЛ           СОЛНЫШКО 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2" descr="C:\Users\ПАКОВЗ\Desktop\1.jpg"/>
          <p:cNvPicPr/>
          <p:nvPr/>
        </p:nvPicPr>
        <p:blipFill>
          <a:blip r:embed="rId1"/>
          <a:stretch/>
        </p:blipFill>
        <p:spPr>
          <a:xfrm>
            <a:off x="838080" y="838080"/>
            <a:ext cx="3235320" cy="4600800"/>
          </a:xfrm>
          <a:prstGeom prst="rect">
            <a:avLst/>
          </a:prstGeom>
          <a:ln w="0">
            <a:noFill/>
          </a:ln>
        </p:spPr>
      </p:pic>
      <p:sp>
        <p:nvSpPr>
          <p:cNvPr id="896" name="TextBox 5"/>
          <p:cNvSpPr/>
          <p:nvPr/>
        </p:nvSpPr>
        <p:spPr>
          <a:xfrm>
            <a:off x="4267080" y="762120"/>
            <a:ext cx="44960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себя в роли экспертов-криминалис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фоторобот выпивающего челове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27" descr=""/>
          <p:cNvPicPr/>
          <p:nvPr/>
        </p:nvPicPr>
        <p:blipFill>
          <a:blip r:embed="rId1"/>
          <a:stretch/>
        </p:blipFill>
        <p:spPr>
          <a:xfrm>
            <a:off x="6570720" y="4959360"/>
            <a:ext cx="2344680" cy="122220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26" descr=""/>
          <p:cNvPicPr/>
          <p:nvPr/>
        </p:nvPicPr>
        <p:blipFill>
          <a:blip r:embed="rId2"/>
          <a:stretch/>
        </p:blipFill>
        <p:spPr>
          <a:xfrm>
            <a:off x="7174080" y="2394000"/>
            <a:ext cx="1601640" cy="199548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25" descr=""/>
          <p:cNvPicPr/>
          <p:nvPr/>
        </p:nvPicPr>
        <p:blipFill>
          <a:blip r:embed="rId3"/>
          <a:stretch/>
        </p:blipFill>
        <p:spPr>
          <a:xfrm>
            <a:off x="0" y="272880"/>
            <a:ext cx="2190600" cy="156708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24" descr=""/>
          <p:cNvPicPr/>
          <p:nvPr/>
        </p:nvPicPr>
        <p:blipFill>
          <a:blip r:embed="rId4"/>
          <a:stretch/>
        </p:blipFill>
        <p:spPr>
          <a:xfrm>
            <a:off x="0" y="2619360"/>
            <a:ext cx="2351160" cy="161928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23" descr=""/>
          <p:cNvPicPr/>
          <p:nvPr/>
        </p:nvPicPr>
        <p:blipFill>
          <a:blip r:embed="rId5"/>
          <a:stretch/>
        </p:blipFill>
        <p:spPr>
          <a:xfrm>
            <a:off x="1355760" y="4340160"/>
            <a:ext cx="1808280" cy="176220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22" descr=""/>
          <p:cNvPicPr/>
          <p:nvPr/>
        </p:nvPicPr>
        <p:blipFill>
          <a:blip r:embed="rId6"/>
          <a:stretch/>
        </p:blipFill>
        <p:spPr>
          <a:xfrm>
            <a:off x="3417840" y="4460760"/>
            <a:ext cx="2454480" cy="1689120"/>
          </a:xfrm>
          <a:prstGeom prst="rect">
            <a:avLst/>
          </a:prstGeom>
          <a:ln w="0">
            <a:noFill/>
          </a:ln>
        </p:spPr>
      </p:pic>
      <p:sp>
        <p:nvSpPr>
          <p:cNvPr id="903" name="WordArt 6"/>
          <p:cNvSpPr txBox="1"/>
          <p:nvPr/>
        </p:nvSpPr>
        <p:spPr>
          <a:xfrm>
            <a:off x="431640" y="2165400"/>
            <a:ext cx="13622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удок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4" name="WordArt 7"/>
          <p:cNvSpPr txBox="1"/>
          <p:nvPr/>
        </p:nvSpPr>
        <p:spPr>
          <a:xfrm>
            <a:off x="345960" y="4238640"/>
            <a:ext cx="11336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чень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5" name="WordArt 8"/>
          <p:cNvSpPr txBox="1"/>
          <p:nvPr/>
        </p:nvSpPr>
        <p:spPr>
          <a:xfrm>
            <a:off x="1119240" y="6132600"/>
            <a:ext cx="11714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рдц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6" name="WordArt 9"/>
          <p:cNvSpPr txBox="1"/>
          <p:nvPr/>
        </p:nvSpPr>
        <p:spPr>
          <a:xfrm>
            <a:off x="3200400" y="6188040"/>
            <a:ext cx="2352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ловной мозг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7" name="WordArt 10"/>
          <p:cNvSpPr txBox="1"/>
          <p:nvPr/>
        </p:nvSpPr>
        <p:spPr>
          <a:xfrm>
            <a:off x="2031840" y="219240"/>
            <a:ext cx="683100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алкоголь</a:t>
            </a:r>
            <a:endParaRPr b="1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1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поражает</a:t>
            </a:r>
            <a:endParaRPr b="1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08" name="AutoShape 12"/>
          <p:cNvSpPr/>
          <p:nvPr/>
        </p:nvSpPr>
        <p:spPr>
          <a:xfrm rot="4858800">
            <a:off x="3729600" y="5400"/>
            <a:ext cx="360360" cy="3317760"/>
          </a:xfrm>
          <a:prstGeom prst="downArrow">
            <a:avLst>
              <a:gd name="adj1" fmla="val 50000"/>
              <a:gd name="adj2" fmla="val 2301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AutoShape 13"/>
          <p:cNvSpPr/>
          <p:nvPr/>
        </p:nvSpPr>
        <p:spPr>
          <a:xfrm rot="3889800">
            <a:off x="3816720" y="513720"/>
            <a:ext cx="360360" cy="3848040"/>
          </a:xfrm>
          <a:prstGeom prst="downArrow">
            <a:avLst>
              <a:gd name="adj1" fmla="val 50000"/>
              <a:gd name="adj2" fmla="val 266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AutoShape 14"/>
          <p:cNvSpPr/>
          <p:nvPr/>
        </p:nvSpPr>
        <p:spPr>
          <a:xfrm rot="3140400">
            <a:off x="4087440" y="917640"/>
            <a:ext cx="360360" cy="4256280"/>
          </a:xfrm>
          <a:prstGeom prst="downArrow">
            <a:avLst>
              <a:gd name="adj1" fmla="val 50000"/>
              <a:gd name="adj2" fmla="val 2952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AutoShape 15"/>
          <p:cNvSpPr/>
          <p:nvPr/>
        </p:nvSpPr>
        <p:spPr>
          <a:xfrm rot="1973400">
            <a:off x="5344920" y="1676520"/>
            <a:ext cx="360360" cy="2751120"/>
          </a:xfrm>
          <a:prstGeom prst="downArrow">
            <a:avLst>
              <a:gd name="adj1" fmla="val 50000"/>
              <a:gd name="adj2" fmla="val 1908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WordArt 18"/>
          <p:cNvSpPr txBox="1"/>
          <p:nvPr/>
        </p:nvSpPr>
        <p:spPr>
          <a:xfrm>
            <a:off x="7524720" y="4484520"/>
            <a:ext cx="9241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ч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3" name="WordArt 19"/>
          <p:cNvSpPr txBox="1"/>
          <p:nvPr/>
        </p:nvSpPr>
        <p:spPr>
          <a:xfrm>
            <a:off x="7128000" y="6199200"/>
            <a:ext cx="11332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рени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4" name="AutoShape 20"/>
          <p:cNvSpPr/>
          <p:nvPr/>
        </p:nvSpPr>
        <p:spPr>
          <a:xfrm rot="19440600">
            <a:off x="6951600" y="1763280"/>
            <a:ext cx="360360" cy="862200"/>
          </a:xfrm>
          <a:prstGeom prst="downArrow">
            <a:avLst>
              <a:gd name="adj1" fmla="val 50000"/>
              <a:gd name="adj2" fmla="val 598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AutoShape 21"/>
          <p:cNvSpPr/>
          <p:nvPr/>
        </p:nvSpPr>
        <p:spPr>
          <a:xfrm rot="21016800">
            <a:off x="6595920" y="1903320"/>
            <a:ext cx="360360" cy="3024360"/>
          </a:xfrm>
          <a:prstGeom prst="downArrow">
            <a:avLst>
              <a:gd name="adj1" fmla="val 50000"/>
              <a:gd name="adj2" fmla="val 2098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4" descr="P1000105"/>
          <p:cNvPicPr/>
          <p:nvPr/>
        </p:nvPicPr>
        <p:blipFill>
          <a:blip r:embed="rId1"/>
          <a:stretch/>
        </p:blipFill>
        <p:spPr>
          <a:xfrm>
            <a:off x="781200" y="3068640"/>
            <a:ext cx="3576600" cy="32400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4" descr="3"/>
          <p:cNvPicPr/>
          <p:nvPr/>
        </p:nvPicPr>
        <p:blipFill>
          <a:blip r:embed="rId2"/>
          <a:stretch/>
        </p:blipFill>
        <p:spPr>
          <a:xfrm>
            <a:off x="5072040" y="3357720"/>
            <a:ext cx="3057480" cy="276372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Употребление спиртных напитков подростками не достигнувших 18 лет – ЗАПРЕЩЕННО!!!</a:t>
            </a:r>
            <a:br>
              <a:rPr sz="2500"/>
            </a:br>
            <a:br>
              <a:rPr sz="2500"/>
            </a:b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ШТРАФ  - 1500 – 2000 РУБЛЕЙ</a:t>
            </a:r>
            <a:br>
              <a:rPr sz="2500"/>
            </a:br>
            <a:endParaRPr b="0" lang="en-US" sz="3200" spc="-1" strike="noStrike">
              <a:solidFill>
                <a:srgbClr val="4e3b3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Прямоугольник 4"/>
          <p:cNvSpPr/>
          <p:nvPr/>
        </p:nvSpPr>
        <p:spPr>
          <a:xfrm>
            <a:off x="1214280" y="500040"/>
            <a:ext cx="6329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0" name="Picture 5" descr=""/>
          <p:cNvPicPr/>
          <p:nvPr/>
        </p:nvPicPr>
        <p:blipFill>
          <a:blip r:embed="rId1"/>
          <a:srcRect l="0" t="0" r="0" b="10527"/>
          <a:stretch/>
        </p:blipFill>
        <p:spPr>
          <a:xfrm>
            <a:off x="285840" y="1357200"/>
            <a:ext cx="3500280" cy="4929480"/>
          </a:xfrm>
          <a:prstGeom prst="rect">
            <a:avLst/>
          </a:prstGeom>
          <a:ln w="0">
            <a:noFill/>
          </a:ln>
        </p:spPr>
      </p:pic>
      <p:sp>
        <p:nvSpPr>
          <p:cNvPr id="921" name="Прямоугольник 6"/>
          <p:cNvSpPr/>
          <p:nvPr/>
        </p:nvSpPr>
        <p:spPr>
          <a:xfrm>
            <a:off x="4343400" y="1857240"/>
            <a:ext cx="441972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Мы – за здоровье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Мы – за счастье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Мы против боли, несчастья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За трезвый разум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За ясность мысли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За детство, юность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За радость жизни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5:45:40Z</dcterms:created>
  <dc:creator>Школа</dc:creator>
  <dc:description/>
  <dc:language>en-US</dc:language>
  <cp:lastModifiedBy>ПАКОВЗ</cp:lastModifiedBy>
  <dcterms:modified xsi:type="dcterms:W3CDTF">2022-05-06T07:08:57Z</dcterms:modified>
  <cp:revision>1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