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3C09-9FDC-4CF1-80DE-100C65FFA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026-E3DD-4ED0-9861-4DA504674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CF98-2FDF-406E-A0CC-7690D7C87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C13C-E474-4633-A09D-A58E04A9F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2F6D-2C3D-4318-B86C-BD5A3F972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50C8-83CE-4420-8DE6-7E361AF53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4548-0599-469D-9315-172DD2AE1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DA1-369B-4B01-B4F6-DC86E3B3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DA9-34FA-4811-81C6-9988BB3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D3F74-E60A-48B7-8176-E27A5616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F0A3-8532-4E65-A312-C3C2826F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E2324-092C-433A-91B5-DB34119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0242B-EE2D-4787-B445-C0E9DD0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72DEB-B0D5-48DB-B86A-FB02F00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48919-7843-4D70-831A-70C29606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687B6-CDC2-4E07-9223-3A62FD0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393A8-CB2D-4829-8554-234C39C8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05941-6CE7-4000-BCB2-F645A22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33CC3-B247-4408-B932-96823C71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921-C683-4D5E-9893-F6C90132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67A2E-E49A-47FA-8103-9C31554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E9BDD-FAD9-42CD-86D2-B9AD0650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02F21-688B-4E6D-A452-9DFDEF6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98D86-3AA3-4F96-948B-B13B3DC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9F900-DE34-458A-8873-C9E2485D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1F3CD-4B7F-4400-B88A-1C4EE93C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95913-559B-402A-BA94-3CCA72F4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14E22-6271-4079-A1A9-B98DF043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0D6B2-9A16-4656-9DFC-29DEB0A2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7FCD0-1EFE-4E81-BDBD-03D948E4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26D-EEDE-42EC-A75A-5E245CE1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D12A8-50AE-469E-934B-558C3F85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5B628-A849-4ACF-A802-B443BEE7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ADE3-A830-4A68-B1EA-0F3399B3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36A78-5DBC-4E92-BEED-F40262D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6601E-3585-49DC-92BA-DABD2A4C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FCCAB-8F8B-40DE-84B0-EFEE05F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1AE90-C01F-49E7-A65D-DD243B15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F347-24C1-4E4C-83B2-8E3EC51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BB36A-F3C6-4CD3-A2B1-CD72349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FF829-D0F5-4C6E-A470-91F4822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CE0-A1EC-413D-AF72-D45C8FD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DCE2A-BCDE-4DDC-9865-4BF381E5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2B09-E348-4948-9BA9-7A2A438E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90CA-AD54-4774-A5E4-24B42C31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39BB6-ECED-493F-A791-B76C871C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BFB62-18AB-4B4E-AD25-D27BA0B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8B3F6-C72B-4AD4-9A28-6451E8F5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BAFB6-B155-4EC1-9FB7-54CB010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C3E7B-EA3F-4434-9EE5-658B5581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95193-7E1C-4509-9CD5-F9388F3E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29EB8-DC50-4D54-8841-1BEFC0E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0E46-1E9F-4591-B9FA-4FB78812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BC7D5-3F79-417E-8288-70F3E08D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20136-CB93-40B5-BB40-E9F09CB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5BFA0-30FC-4A0D-9459-F70C009C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4757D-3CF0-4E66-A3C0-035F0727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3E9EA-D212-44D2-8AA4-07F9146F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8FCE4-619D-41B0-BA12-491C4CEC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81AFD-DAA8-498E-A10A-27A981E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F060C-EE5D-4B23-8AA2-E32B2D46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BD9F4-FE08-4BDE-850C-49F16D37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C66CF-18A0-4187-B3BF-5E69B9D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A31E-7B11-4EB6-9A84-94EE1F0A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391BA-D384-4B5E-A9DE-9568C03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44202-4819-41ED-AF44-33761E0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1483C-0158-4DD8-89A5-C8185FA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F1807-6268-4046-A74E-AD47829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B3423-ED13-4602-B63B-BC8D7C02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BE473-014C-4A9B-B4D2-8CBAE599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D9E18-200F-4D08-AE08-66EE9C53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AE9CD-E609-46FC-A328-25863B81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B840D-44A8-4D90-BBD2-09398435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9E937-9154-470E-A033-D1B9E34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5A6D-85C9-427F-BFFD-9574394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71C43-FC76-47A9-ABDE-389AAC7A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4B0BB-002B-413C-AA22-AD8684A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29ED2-E114-4EC9-9216-88B7AC27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EE167-0D9C-4B7E-826B-0443A70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7736F-27AA-46E0-BCF2-B0185612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AC6D7-59EB-4B07-9010-86ED46B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F30C2-7EA3-45AA-ABBD-EA892014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A179C-A1DA-4E60-BF9A-213ADF68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C30F9-42DF-4D2A-B00F-8AB6ABDA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66F4-766A-49C2-A48A-9EF4FA47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4CB5-BB44-40D9-966F-57A6B42C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6B41-04E8-46D2-A8BA-90D1728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FA4-8300-4257-802F-503A715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E380-6947-41C1-A517-DAB701F7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A64-955D-409D-BA1D-08E3A6A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805-388C-499B-AD58-3E0D124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A109-8C31-4987-A8AE-ECA2B79D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C89B-1F43-4804-9233-7FA66581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F0D5-F27B-4601-B185-7A53D608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E9F4-A03A-4164-964F-BDD3312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BCB2-F947-4C45-8813-8FD15400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9890-D87E-49B3-B81F-E23BA1FB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EA9B-5096-4DFB-BA79-3260501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D42-0C6A-4C52-B6C5-2FFD1A85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243D-C9AA-47A4-AC69-A44B7F8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C1E4-C825-4DE8-98A5-CAC45A8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457A-10F9-44DB-9F55-7ADFEFA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3049-03AE-434C-A108-135D1AFB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6F9B-6510-490A-843F-2A7AEC2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5CC5-837D-4791-832C-728792BC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5709-71DF-4FD3-9ED7-80D067A7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069B-0B7C-4788-ACAB-84BD0E5B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FF12-C278-44C4-B61A-472F2D07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1169-DED8-4B00-AECE-5D672186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6EC-25CE-4CB1-A729-027561BF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658C-1AE7-499C-9F74-40D48E2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DF4E-BAA8-4173-8046-93376164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EEE1-8C02-4107-8C27-24F552B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C7C7-AE97-49B1-B609-B19ADCD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CE37-49E1-4627-9558-92A3429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2DAD-B3F7-4239-A706-E26CF221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F5FF-510F-49EE-B296-8A5663A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C6D5-6A94-4CAC-B0E9-FDB52D1A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F5CF-8576-4AAB-AFF0-484F6A9F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4091E-808F-4AB3-BF88-028F3591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CDF-10B1-472F-ABF9-685F0C8C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DDA5-B9CB-405A-8478-12F7487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64B5-2ADC-4B3E-BA07-78DCECB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03D8-91FF-40CA-B7F3-F187D18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FDB3-0976-4143-A4DC-03ED257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57C8-93A7-4E86-89EA-840254F7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8B17-9C32-4B10-8589-7CC158F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582E-6D13-40C3-B59F-AD0BC3A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630D3-9B7E-49C7-A019-CBD34406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A8C3-5D28-40F0-8F3C-C8A50FF4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407E9-8911-4274-9032-B73B496C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F0D-80FF-4C67-84D9-39CF50D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1944-4191-4423-878A-C8B1229A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107F-DAEB-45C0-A18B-14BD83E5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C0D10-6DAB-40EE-917F-13E3149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BBA6-3460-488F-BE77-6FECBCE7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56DC-9B78-4CBD-9765-4697641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69A7D-6E2B-437D-9C15-2D8B6829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959A0-6BD7-4CAD-82BE-F41FC0A0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5E4B-44FC-4AD0-8BD0-F6DE5BAE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36FF-D9AA-437F-8CEE-9D6BAF8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ABD3-DCAB-486A-838F-571EC764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E53-C47B-4676-B065-151FAF1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76EE-F07C-4AEE-9480-3AAD2C6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3444-D33B-4355-B3E3-E4FDEB6E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AAB6C-9CBC-4C3B-B160-93CE55AC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6EE8-85B4-48F2-B2C9-6F7E50C7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2A77-86B2-4CC4-B287-64EE5F22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6D2B-184B-47B6-B3DB-CF95A920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4C5E-676E-4241-8E9F-9528888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DD93-A1AB-46B3-A7D5-463EF751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9C41-BB4E-450B-9B34-BC5EF6C2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5AE3-D9F8-442A-9D78-E89AD143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121-AEC5-4DE1-BC66-B318743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025F-13F0-415C-92A3-4FFA919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834B-9250-4C23-A057-3A2975A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6724B-5F1D-45B7-B7FE-5F33D71F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3058-3384-4C1A-AB85-81071188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BB74-7DAD-4C21-9CBC-765F8B3F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4E9B-C11B-4954-891D-28FD8F37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A480E-A189-4B4B-BBA2-F0E3A92E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CD7B9-3BD2-4E28-9111-C0A32F9E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1F4F-45C7-4BC5-991D-02AFBEBC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F81CA-6023-4614-A8B3-6B059AF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047-3B64-44D9-805A-8F8ED8A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3FFA-15AC-44C1-9B7B-5E6F04AA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94105-7B99-48FE-8221-851E481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C8104-B822-4F7A-9A4B-6D224AC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D31DC-8575-4947-A108-17B76AA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6F2AE-5392-41A4-A722-4157F3F2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8FA9E-8517-4A2B-982B-A81E8414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FCC9D-C16C-4D3C-8B72-B4D989C2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BA9CF-FC1B-4C85-8AC5-200F7821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467C8-A22D-44D6-80B0-C2F76C4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0D43E-0873-4866-AD3F-5F3D9B9E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beec9"/>
                  </a:gs>
                  <a:gs pos="100000">
                    <a:srgbClr val="f3e7c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4d9b7"/>
                  </a:gs>
                  <a:gs pos="50000">
                    <a:srgbClr val="fbeec9"/>
                  </a:gs>
                  <a:gs pos="100000">
                    <a:srgbClr val="e4d9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CA9-F1B1-41F7-96C1-3CDC328382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B14D-4BB3-4AB3-A809-89666222A1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0A4-1F59-4E2C-96D3-FC4DC424FE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2E51-3AAF-48E8-BC4B-7AC0199F6E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F731-B3BD-45E8-9D2A-8B8B6B7A9E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4F6-C44E-4CAF-93A2-FA35A7ACC9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beec9"/>
                  </a:gs>
                  <a:gs pos="100000">
                    <a:srgbClr val="f3e7c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4d9b7"/>
                  </a:gs>
                  <a:gs pos="50000">
                    <a:srgbClr val="fbeec9"/>
                  </a:gs>
                  <a:gs pos="100000">
                    <a:srgbClr val="e4d9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6BF-DBF9-449A-86DD-3DA7447CD5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1092-7764-4115-B018-993C96D7DA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1177-42B5-46DC-96CF-98041D240E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F7DC-2E9B-4FAD-90D6-40C44463B2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65A2-3B13-4A48-BB08-E02F307AB1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32F-7961-4F55-987E-6007B9629A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DDF-5670-42E3-8525-7D6E54666A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07E6-F93C-45F6-B739-DF8B81943B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Вредные привычки. Алкоголь.</a:t>
            </a:r>
            <a:endParaRPr b="0" lang="en-US" sz="48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84" name="Text Box 7"/>
          <p:cNvSpPr/>
          <p:nvPr/>
        </p:nvSpPr>
        <p:spPr>
          <a:xfrm>
            <a:off x="3886200" y="29718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Автор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: Лебедева Мария Сергеевна.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5" name="Picture 9" descr="Новый рисунок (1)"/>
          <p:cNvPicPr/>
          <p:nvPr/>
        </p:nvPicPr>
        <p:blipFill>
          <a:blip r:embed="rId1"/>
          <a:stretch/>
        </p:blipFill>
        <p:spPr>
          <a:xfrm>
            <a:off x="380880" y="23623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10"/>
          <p:cNvSpPr/>
          <p:nvPr/>
        </p:nvSpPr>
        <p:spPr>
          <a:xfrm>
            <a:off x="3733920" y="624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ahoma"/>
              </a:rPr>
              <a:t>2022</a:t>
            </a:r>
            <a:r>
              <a:rPr b="1" lang="ru-RU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7" name=""/>
          <p:cNvGraphicFramePr/>
          <p:nvPr/>
        </p:nvGraphicFramePr>
        <p:xfrm>
          <a:off x="457200" y="304920"/>
          <a:ext cx="8458200" cy="533376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8650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8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Есть чипсы и пи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Читать близко кни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урить и пи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идеть долго за компьютер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Употреблять наркоти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угаться нецензурной брань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Заниматься спорт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Гулять на свежем воздух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Читать и уч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пать не меньше 9 час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Чистить зуб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Есть овощи и фрук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89" name="Picture 5" descr="C:\Users\ПАКОВЗ\Desktop\2.jpg"/>
          <p:cNvPicPr/>
          <p:nvPr/>
        </p:nvPicPr>
        <p:blipFill>
          <a:blip r:embed="rId1"/>
          <a:stretch/>
        </p:blipFill>
        <p:spPr>
          <a:xfrm>
            <a:off x="249120" y="457200"/>
            <a:ext cx="81709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91" name="Picture 2" descr="C:\Users\ПАКОВЗ\Desktop\3.jpg"/>
          <p:cNvPicPr/>
          <p:nvPr/>
        </p:nvPicPr>
        <p:blipFill>
          <a:blip r:embed="rId1"/>
          <a:stretch/>
        </p:blipFill>
        <p:spPr>
          <a:xfrm>
            <a:off x="152280" y="609480"/>
            <a:ext cx="8801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C:\Users\ПАКОВЗ\Desktop\5.jpg"/>
          <p:cNvPicPr/>
          <p:nvPr/>
        </p:nvPicPr>
        <p:blipFill>
          <a:blip r:embed="rId1"/>
          <a:stretch/>
        </p:blipFill>
        <p:spPr>
          <a:xfrm>
            <a:off x="609480" y="1066680"/>
            <a:ext cx="3359160" cy="3200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3" descr="C:\Users\ПАКОВЗ\Desktop\4.jpg"/>
          <p:cNvPicPr/>
          <p:nvPr/>
        </p:nvPicPr>
        <p:blipFill>
          <a:blip r:embed="rId2"/>
          <a:stretch/>
        </p:blipFill>
        <p:spPr>
          <a:xfrm>
            <a:off x="4362480" y="106668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894" name="TextBox 6"/>
          <p:cNvSpPr/>
          <p:nvPr/>
        </p:nvSpPr>
        <p:spPr>
          <a:xfrm>
            <a:off x="609480" y="4800600"/>
            <a:ext cx="7620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          СОЛНЫШКО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C:\Users\ПАКОВЗ\Desktop\1.jpg"/>
          <p:cNvPicPr/>
          <p:nvPr/>
        </p:nvPicPr>
        <p:blipFill>
          <a:blip r:embed="rId1"/>
          <a:stretch/>
        </p:blipFill>
        <p:spPr>
          <a:xfrm>
            <a:off x="838080" y="838080"/>
            <a:ext cx="3235320" cy="46008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5"/>
          <p:cNvSpPr/>
          <p:nvPr/>
        </p:nvSpPr>
        <p:spPr>
          <a:xfrm>
            <a:off x="4267080" y="762120"/>
            <a:ext cx="44960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ебя в роли экспертов-криминалис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фоторобот выпивающего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7" descr=""/>
          <p:cNvPicPr/>
          <p:nvPr/>
        </p:nvPicPr>
        <p:blipFill>
          <a:blip r:embed="rId1"/>
          <a:stretch/>
        </p:blipFill>
        <p:spPr>
          <a:xfrm>
            <a:off x="6570720" y="4959360"/>
            <a:ext cx="2344680" cy="12222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6" descr=""/>
          <p:cNvPicPr/>
          <p:nvPr/>
        </p:nvPicPr>
        <p:blipFill>
          <a:blip r:embed="rId2"/>
          <a:stretch/>
        </p:blipFill>
        <p:spPr>
          <a:xfrm>
            <a:off x="7174080" y="2394000"/>
            <a:ext cx="1601640" cy="19954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5" descr=""/>
          <p:cNvPicPr/>
          <p:nvPr/>
        </p:nvPicPr>
        <p:blipFill>
          <a:blip r:embed="rId3"/>
          <a:stretch/>
        </p:blipFill>
        <p:spPr>
          <a:xfrm>
            <a:off x="0" y="272880"/>
            <a:ext cx="2190600" cy="156708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4" descr=""/>
          <p:cNvPicPr/>
          <p:nvPr/>
        </p:nvPicPr>
        <p:blipFill>
          <a:blip r:embed="rId4"/>
          <a:stretch/>
        </p:blipFill>
        <p:spPr>
          <a:xfrm>
            <a:off x="0" y="2619360"/>
            <a:ext cx="2351160" cy="161928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3" descr=""/>
          <p:cNvPicPr/>
          <p:nvPr/>
        </p:nvPicPr>
        <p:blipFill>
          <a:blip r:embed="rId5"/>
          <a:stretch/>
        </p:blipFill>
        <p:spPr>
          <a:xfrm>
            <a:off x="1355760" y="4340160"/>
            <a:ext cx="1808280" cy="17622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2" descr=""/>
          <p:cNvPicPr/>
          <p:nvPr/>
        </p:nvPicPr>
        <p:blipFill>
          <a:blip r:embed="rId6"/>
          <a:stretch/>
        </p:blipFill>
        <p:spPr>
          <a:xfrm>
            <a:off x="3417840" y="4460760"/>
            <a:ext cx="2454480" cy="1689120"/>
          </a:xfrm>
          <a:prstGeom prst="rect">
            <a:avLst/>
          </a:prstGeom>
          <a:ln w="0">
            <a:noFill/>
          </a:ln>
        </p:spPr>
      </p:pic>
      <p:sp>
        <p:nvSpPr>
          <p:cNvPr id="903" name="WordArt 6"/>
          <p:cNvSpPr txBox="1"/>
          <p:nvPr/>
        </p:nvSpPr>
        <p:spPr>
          <a:xfrm>
            <a:off x="431640" y="2165400"/>
            <a:ext cx="1362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удо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4" name="WordArt 7"/>
          <p:cNvSpPr txBox="1"/>
          <p:nvPr/>
        </p:nvSpPr>
        <p:spPr>
          <a:xfrm>
            <a:off x="345960" y="4238640"/>
            <a:ext cx="113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чен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5" name="WordArt 8"/>
          <p:cNvSpPr txBox="1"/>
          <p:nvPr/>
        </p:nvSpPr>
        <p:spPr>
          <a:xfrm>
            <a:off x="1119240" y="6132600"/>
            <a:ext cx="1171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6" name="WordArt 9"/>
          <p:cNvSpPr txBox="1"/>
          <p:nvPr/>
        </p:nvSpPr>
        <p:spPr>
          <a:xfrm>
            <a:off x="3200400" y="6188040"/>
            <a:ext cx="235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ной моз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7" name="WordArt 10"/>
          <p:cNvSpPr txBox="1"/>
          <p:nvPr/>
        </p:nvSpPr>
        <p:spPr>
          <a:xfrm>
            <a:off x="2031840" y="219240"/>
            <a:ext cx="6831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алкоголь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оражает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8" name="AutoShape 12"/>
          <p:cNvSpPr/>
          <p:nvPr/>
        </p:nvSpPr>
        <p:spPr>
          <a:xfrm rot="4858800">
            <a:off x="3729600" y="5400"/>
            <a:ext cx="360360" cy="3317760"/>
          </a:xfrm>
          <a:prstGeom prst="downArrow">
            <a:avLst>
              <a:gd name="adj1" fmla="val 50000"/>
              <a:gd name="adj2" fmla="val 2301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AutoShape 13"/>
          <p:cNvSpPr/>
          <p:nvPr/>
        </p:nvSpPr>
        <p:spPr>
          <a:xfrm rot="3889800">
            <a:off x="3816720" y="513720"/>
            <a:ext cx="360360" cy="3848040"/>
          </a:xfrm>
          <a:prstGeom prst="downArrow">
            <a:avLst>
              <a:gd name="adj1" fmla="val 50000"/>
              <a:gd name="adj2" fmla="val 266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AutoShape 14"/>
          <p:cNvSpPr/>
          <p:nvPr/>
        </p:nvSpPr>
        <p:spPr>
          <a:xfrm rot="3140400">
            <a:off x="4087440" y="917640"/>
            <a:ext cx="360360" cy="4256280"/>
          </a:xfrm>
          <a:prstGeom prst="downArrow">
            <a:avLst>
              <a:gd name="adj1" fmla="val 50000"/>
              <a:gd name="adj2" fmla="val 2952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AutoShape 15"/>
          <p:cNvSpPr/>
          <p:nvPr/>
        </p:nvSpPr>
        <p:spPr>
          <a:xfrm rot="1973400">
            <a:off x="5344920" y="1676520"/>
            <a:ext cx="360360" cy="2751120"/>
          </a:xfrm>
          <a:prstGeom prst="downArrow">
            <a:avLst>
              <a:gd name="adj1" fmla="val 50000"/>
              <a:gd name="adj2" fmla="val 1908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WordArt 18"/>
          <p:cNvSpPr txBox="1"/>
          <p:nvPr/>
        </p:nvSpPr>
        <p:spPr>
          <a:xfrm>
            <a:off x="7524720" y="4484520"/>
            <a:ext cx="924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3" name="WordArt 19"/>
          <p:cNvSpPr txBox="1"/>
          <p:nvPr/>
        </p:nvSpPr>
        <p:spPr>
          <a:xfrm>
            <a:off x="7128000" y="6199200"/>
            <a:ext cx="1133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р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4" name="AutoShape 20"/>
          <p:cNvSpPr/>
          <p:nvPr/>
        </p:nvSpPr>
        <p:spPr>
          <a:xfrm rot="19440600">
            <a:off x="6951600" y="1763280"/>
            <a:ext cx="360360" cy="862200"/>
          </a:xfrm>
          <a:prstGeom prst="downArrow">
            <a:avLst>
              <a:gd name="adj1" fmla="val 50000"/>
              <a:gd name="adj2" fmla="val 59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AutoShape 21"/>
          <p:cNvSpPr/>
          <p:nvPr/>
        </p:nvSpPr>
        <p:spPr>
          <a:xfrm rot="21016800">
            <a:off x="6595920" y="1903320"/>
            <a:ext cx="360360" cy="3024360"/>
          </a:xfrm>
          <a:prstGeom prst="downArrow">
            <a:avLst>
              <a:gd name="adj1" fmla="val 50000"/>
              <a:gd name="adj2" fmla="val 209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P1000105"/>
          <p:cNvPicPr/>
          <p:nvPr/>
        </p:nvPicPr>
        <p:blipFill>
          <a:blip r:embed="rId1"/>
          <a:stretch/>
        </p:blipFill>
        <p:spPr>
          <a:xfrm>
            <a:off x="781200" y="3068640"/>
            <a:ext cx="3576600" cy="32400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" descr="3"/>
          <p:cNvPicPr/>
          <p:nvPr/>
        </p:nvPicPr>
        <p:blipFill>
          <a:blip r:embed="rId2"/>
          <a:stretch/>
        </p:blipFill>
        <p:spPr>
          <a:xfrm>
            <a:off x="5072040" y="3357720"/>
            <a:ext cx="3057480" cy="276372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потребление спиртных напитков подростками не достигнувших 18 лет – ЗАПРЕЩЕННО!!!</a:t>
            </a: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ШТРАФ  - 1500 – 2000 РУБЛЕЙ</a:t>
            </a:r>
            <a:br>
              <a:rPr sz="2500"/>
            </a:br>
            <a:endParaRPr b="0" lang="en-US" sz="3200" spc="-1" strike="noStrike">
              <a:solidFill>
                <a:srgbClr val="4e3b3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4"/>
          <p:cNvSpPr/>
          <p:nvPr/>
        </p:nvSpPr>
        <p:spPr>
          <a:xfrm>
            <a:off x="1214280" y="500040"/>
            <a:ext cx="6329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0" name="Picture 5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285840" y="1357200"/>
            <a:ext cx="3500280" cy="4929480"/>
          </a:xfrm>
          <a:prstGeom prst="rect">
            <a:avLst/>
          </a:prstGeom>
          <a:ln w="0">
            <a:noFill/>
          </a:ln>
        </p:spPr>
      </p:pic>
      <p:sp>
        <p:nvSpPr>
          <p:cNvPr id="921" name="Прямоугольник 6"/>
          <p:cNvSpPr/>
          <p:nvPr/>
        </p:nvSpPr>
        <p:spPr>
          <a:xfrm>
            <a:off x="4343400" y="1857240"/>
            <a:ext cx="441972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Мы – за здоровь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Мы – за счасть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Мы против боли, несчастья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трезвый разу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ясность мысли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детство, юност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радость жизни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5:45:40Z</dcterms:created>
  <dc:creator>Школа</dc:creator>
  <dc:description/>
  <dc:language>en-US</dc:language>
  <cp:lastModifiedBy>ПАКОВЗ</cp:lastModifiedBy>
  <dcterms:modified xsi:type="dcterms:W3CDTF">2022-05-06T07:08:57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