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5FE-8119-46AA-9DE6-7D2875C8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035-3C67-463F-A0D8-337282CC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FDE-9677-4DC6-9DE8-6A4B781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A3B-305F-4875-8660-48A1C72A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BDB-065F-4F75-9DD4-DCEB2141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646E-ED5D-4677-A2C2-7969C09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79DC-7E70-4ED3-B9FE-33795D2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38B-0E38-423A-9626-67EB282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199C-2E8B-484F-9860-D7D3340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333000"/>
            <a:ext cx="75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D0D2-2046-408E-B489-C0764457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433A-0845-4AAD-89AE-27EDDE4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CC1-A3E9-4CF1-B791-D4F5CB87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1A6-8952-4D4B-8FEA-34EF10B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9CDE-23B2-4BB2-911C-1D4A925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E74F-A31D-4698-B9F8-55DAFBE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5BC2-7030-4506-9207-FB897794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C9A8-C952-48BA-A6F7-481C0E5A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DBF-52AA-4C9A-9262-2A624118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C69-30A1-44D5-9555-C0C5D3AB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0DA-2465-401F-A998-B0555556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333000"/>
            <a:ext cx="75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F3B-B280-40E6-AB38-B4EFD34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8C7-1519-4F2D-9618-406F7B0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9E5-2F49-40BB-9A25-23DB305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368-BC2E-4A0F-A52B-8AEBEDF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e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0FB5-D60F-4D03-B44E-6239E90173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8BE0-FC03-4F44-A4F7-C1E27D38CD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210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Энергосбережение в быту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62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Подготовил презентацию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:</a:t>
            </a: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Мастер п/о, преподаватель 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Некрасов Алексей Сергеевич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80000" y="1528920"/>
            <a:ext cx="518472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кономьте электроэнергию при стирке, устанавливая более низкую температуру на стиральной машине. Старайтесь полностью загружать стиральную машину. Это может сократить потребление электроэнергии на 80%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Объект 6" descr=""/>
          <p:cNvPicPr/>
          <p:nvPr/>
        </p:nvPicPr>
        <p:blipFill>
          <a:blip r:embed="rId1"/>
          <a:stretch/>
        </p:blipFill>
        <p:spPr>
          <a:xfrm>
            <a:off x="6377040" y="3517920"/>
            <a:ext cx="2590920" cy="3456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Энергосбережение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99640" y="1341360"/>
            <a:ext cx="62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нергосбережение (экономия энергии) — реализация правовых, организационных, научных, производственных, технических и экономических мер, направленных на эффективное (рациональное) использование (и экономное расходование) топливно-энергетических ресурсов и на вовлечение в хозяйственный оборот возобновляемых источников энергии 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Начни экономить дома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ая сложная проблема в экономии энергоресурсов - начать с себя. Как показывает практика энергопотребления, экономия при помощи разумного самоограничения и утепления жилища может составлять очень приличные суммы: до половины средств на оплату коммунальных услуг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тепла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1052280"/>
            <a:ext cx="7499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ьте, хорошо ли утеплены ваши окна и двери. Известно, что так может теряться до половины тепла. Утепленные окна – это не обязательно дорогостоящие стеклопакеты. В большинстве случаев для этого достаточно современных изоляционных материа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50888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воды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1268280"/>
            <a:ext cx="749952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новка приборов учёта потребления вод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воды только когда это действительно необходим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новка сливных унитазных бачков, имеющих выбор интенсивности слива вод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водой под низким давл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лектроэнерг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197000"/>
            <a:ext cx="468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ходя, гасите свет! Выключайте освещение, если вы выходите из комнаты даже на время. Это простое правило должно стать для вас хорошей привычко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умайте о замене привычных ламп накаливания на энергосберегающие. Затраты на их покупку окупятся за счет экономии на платежах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134136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пробуйте максимально использовать естественное освещ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ьте чистоту ваших оконных стекол, а днем просто уберите занавески на окнах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электроэнерг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728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Телевизоры, компьютеры, бытовая техника потребляют электроэнергию даже в «спящем» режиме. Используйте «розетки-пилоты» с кнопкой полного отключения от электропитания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6920" y="160020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и плохом контакте конфорки с посудой расходуется гораздо больше тепла. Поверхность конфорки должна быть ровной, а кастрюля иметь ровное плоское дно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49:38Z</dcterms:created>
  <dc:creator>Tatyana</dc:creator>
  <dc:description/>
  <dc:language>en-US</dc:language>
  <cp:lastModifiedBy>218</cp:lastModifiedBy>
  <dcterms:modified xsi:type="dcterms:W3CDTF">2022-05-06T09:17:49Z</dcterms:modified>
  <cp:revision>58</cp:revision>
  <dc:subject/>
  <dc:title>Презентация PowerPoint</dc:title>
</cp:coreProperties>
</file>