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448-2391-4EA1-9997-A5959359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D37-C970-4CD5-94EC-B29570D3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79C-3731-411A-8B36-B6A9A324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A7D-1E0A-44C3-BE24-9B0ADB3B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019D-6B54-4937-ABD6-8510B7FF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A012-F734-4B12-8AEB-93F9C795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6F48-C3A8-4CF0-8281-307D9837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4D36-0F49-433C-9D43-5AC1DB3F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B3D9-B91A-4E00-8AD3-BB3BF75A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333000"/>
            <a:ext cx="75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B814-EAFF-40D0-9505-EB65115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05EA-9FFC-4DD7-8BEF-CE7E8B34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F55-ED9E-4300-BEBD-C8C27810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45A1-B44F-4A69-B023-DF4F9A1A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1E8D-99F0-42B0-87B6-7DD821DB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4059-71FF-472C-A97B-84179EFB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89A6-D53B-4A9E-94A8-A1083EC0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2D88-99D9-4AD0-8FD2-80BFA497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209-CA9E-43B5-BBC3-3B2E6CE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1F4-86B7-446C-88E2-61384555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601-850F-4411-94E5-13F2A00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333000"/>
            <a:ext cx="751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4A6-DE84-4DD8-A478-D7D5A8F1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A77-154A-43BE-B2AC-BA297CA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EE0-A953-41C8-9343-058FB3BF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D30-C7A9-490A-B064-0F2838B2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e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B95C-C9AF-45DE-A9A7-9D70197E80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6C7A-2EA7-4B66-99C6-EDAA02378E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210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Энергосбережение в быту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62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Подготовил презентацию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:</a:t>
            </a: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Мастер п/о, преподаватель      </a:t>
            </a:r>
            <a:r>
              <a:rPr b="0" lang="en-US" sz="3200" spc="-1" strike="noStrike">
                <a:solidFill>
                  <a:srgbClr val="0d0d0d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orbel"/>
              </a:rPr>
              <a:t>Некрасов Алексей Сергеевич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80000" y="1528920"/>
            <a:ext cx="518472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кономьте электроэнергию при стирке, устанавливая более низкую температуру на стиральной машине. Старайтесь полностью загружать стиральную машину. Это может сократить потребление электроэнергии на 80%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Объект 6" descr=""/>
          <p:cNvPicPr/>
          <p:nvPr/>
        </p:nvPicPr>
        <p:blipFill>
          <a:blip r:embed="rId1"/>
          <a:stretch/>
        </p:blipFill>
        <p:spPr>
          <a:xfrm>
            <a:off x="6377040" y="3517920"/>
            <a:ext cx="2590920" cy="3456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Энергосбережение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99640" y="1341360"/>
            <a:ext cx="62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нергосбережение (экономия энергии) — реализация правовых, организационных, научных, производственных, технических и экономических мер, направленных на эффективное (рациональное) использование (и экономное расходование) топливно-энергетических ресурсов и на вовлечение в хозяйственный оборот возобновляемых источников энергии 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Начни экономить дома</a:t>
            </a:r>
            <a:endParaRPr b="1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ая сложная проблема в экономии энергоресурсов - начать с себя. Как показывает практика энергопотребления, экономия при помощи разумного самоограничения и утепления жилища может составлять очень приличные суммы: до половины средств на оплату коммунальных услуг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тепла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1052280"/>
            <a:ext cx="7499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ьте, хорошо ли утеплены ваши окна и двери. Известно, что так может теряться до половины тепла. Утепленные окна – это не обязательно дорогостоящие стеклопакеты. В большинстве случаев для этого достаточно современных изоляционных материал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508880" cy="43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воды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1268280"/>
            <a:ext cx="749952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новка приборов учёта потребления вод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воды только когда это действительно необходимо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тановка сливных унитазных бачков, имеющих выбор интенсивности слива вод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льзование водой под низким давл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лектроэнерг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197000"/>
            <a:ext cx="4680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ходя, гасите свет! Выключайте освещение, если вы выходите из комнаты даже на время. Это простое правило должно стать для вас хорошей привычко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умайте о замене привычных ламп накаливания на энергосберегающие. Затраты на их покупку окупятся за счет экономии на платежах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1341360"/>
            <a:ext cx="446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пробуйте максимально использовать естественное освещ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ьте чистоту ваших оконных стекол, а днем просто уберите занавески на окнах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Экономия электроэнергия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728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Телевизоры, компьютеры, бытовая техника потребляют электроэнергию даже в «спящем» режиме. Используйте «розетки-пилоты» с кнопкой полного отключения от электропитания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15360" indent="-31536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6920" y="160020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При плохом контакте конфорки с посудой расходуется гораздо больше тепла. Поверхность конфорки должна быть ровной, а кастрюля иметь ровное плоское дно.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12120" indent="-312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64000" y="1600200"/>
            <a:ext cx="33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4:49:38Z</dcterms:created>
  <dc:creator>Tatyana</dc:creator>
  <dc:description/>
  <dc:language>en-US</dc:language>
  <cp:lastModifiedBy>218</cp:lastModifiedBy>
  <dcterms:modified xsi:type="dcterms:W3CDTF">2022-05-06T09:17:49Z</dcterms:modified>
  <cp:revision>58</cp:revision>
  <dc:subject/>
  <dc:title>Презентация PowerPoint</dc:title>
</cp:coreProperties>
</file>