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8AD-4DF3-48A5-8B9B-92C7AC61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1DD-BD3B-4F44-AAF9-6FE8514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31D-627B-4F6C-AB1D-7E0092E2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5D9-9EAD-45FB-8152-DB2CD513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0D19-523F-4294-9D1E-1206A97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6CC-A2C7-4A2C-A278-E4B3375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FD3-FCD0-46D2-A318-6F501CDB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C90-68F3-4791-A31E-25288CD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134-A610-4F73-9FE6-0824786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2C4-52B2-48E2-9726-764B7916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871B-067A-4FA1-B766-046107F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233-9B93-4A20-B863-8D27A03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D97-1DA5-4EDF-A9CA-4748BF8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7A22-E4D2-49FD-A71B-54B5FF6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EA4F-ECFC-47D6-B7A4-9E08E11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639C-D4E6-441B-A4BF-FF82DA0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2807-50D8-42A4-ABD9-950426A5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209-0302-4D98-AD30-FB12B96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7BA-2F59-455D-AC01-EB8C9458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FB8-DAF5-4383-A09B-0AEE66E8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E81-C515-4538-9D92-EDF5CB81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819-6B7F-4D0A-9AEC-3C0461A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B34-C944-41B0-AE69-997B9AD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5CB-4D98-4839-9833-5C1B75A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C216-6AB9-4A04-968C-5860541843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FE3-D930-465E-9576-074906156E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301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униципальное автономное учреждение дополнительного образования города Нижневартовс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«Центр детского творчества»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9640" y="2117880"/>
            <a:ext cx="820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Росомаха в лесах Ю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51664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втор: Клеменко Верон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уководитель:Муртазина С.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1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203640" y="2852640"/>
            <a:ext cx="3457440" cy="2306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ипотез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ли я изучу сказки, рассказы, энциклопедии о росомахе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 смогу больше узнать о малоизвестном зве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2771640" y="3933720"/>
            <a:ext cx="297504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полнить свои знания о росомахе. Поделиться с одноклассниками информацией о таежном зве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132000" y="3645000"/>
            <a:ext cx="295596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 проект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Провести анкетирование одноклассников по изучаемой тем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Прочитать сказки и рассказы о росомах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Изучить повадки, питание, среду обитания зверя: по энциклопедиям, интернет сайтам и познавательным фильма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Оформить результаты исследования в виде буклет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сследов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844640"/>
          <a:ext cx="6912000" cy="3738600"/>
        </p:xfrm>
        <a:graphic>
          <a:graphicData uri="http://schemas.openxmlformats.org/drawingml/2006/table">
            <a:tbl>
              <a:tblPr/>
              <a:tblGrid>
                <a:gridCol w="1729080"/>
                <a:gridCol w="1726920"/>
                <a:gridCol w="1729080"/>
                <a:gridCol w="172692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не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то такая росома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 кого похожа росома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две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рс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о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Где живёт зверь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би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на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фр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наешь ли ты сказки и рассказы, фильмы об этом звере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Хотел бы ты больше узнать о росомах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ЗНАЛ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Как выглядит росомах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Места обит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Питание звер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Повадки росомах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Интересные факт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492360" y="4653000"/>
            <a:ext cx="2303640" cy="15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Kcy;&amp;tcy;&amp;ocy; &amp;tcy;&amp;acy;&amp;kcy;&amp;acy;&amp;yacy; &amp;rcy;&amp;ocy;&amp;scy;&amp;ocy;&amp;mcy;&amp;acy;&amp;khcy;&amp;acy;"/>
          <p:cNvPicPr/>
          <p:nvPr/>
        </p:nvPicPr>
        <p:blipFill>
          <a:blip r:embed="rId2"/>
          <a:stretch/>
        </p:blipFill>
        <p:spPr>
          <a:xfrm>
            <a:off x="395280" y="4508640"/>
            <a:ext cx="2664000" cy="176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&amp;Kcy;&amp;tcy;&amp;ocy; &amp;tcy;&amp;acy;&amp;kcy;&amp;acy;&amp;yacy; &amp;rcy;&amp;ocy;&amp;scy;&amp;ocy;&amp;mcy;&amp;acy;&amp;khcy;&amp;acy;"/>
          <p:cNvPicPr/>
          <p:nvPr/>
        </p:nvPicPr>
        <p:blipFill>
          <a:blip r:embed="rId3"/>
          <a:stretch/>
        </p:blipFill>
        <p:spPr>
          <a:xfrm>
            <a:off x="6372360" y="4484520"/>
            <a:ext cx="2543040" cy="169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 Unicode MS"/>
              </a:rPr>
              <a:t>Вывод:</a:t>
            </a: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Благодаря прочитанной литературе и просмотренным фильмам я много интересного узнала о росомахе. Я выяснила, что росомаха очень хитрое, умное хищное животное. Живет в глухих местах, питается  падалью и копытными  животными. Росомаха - одиночка, но когда ей нужно может объединяться по 2-3 зверя для охоты. Не смотря на это, мамы - росомахи заботливые и ласковые, самоотверженно защищают детенышей от любой опас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Всю найденную информацию я с помощью мамы оформила в виде буклетов и раздала их одноклассника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Эта тема оказалась очень интересной для учащихся моего класса. Я показала им презентацию и рассказала о росомах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51358804_1237639901_roso024"/>
          <p:cNvPicPr/>
          <p:nvPr/>
        </p:nvPicPr>
        <p:blipFill>
          <a:blip r:embed="rId1"/>
          <a:stretch/>
        </p:blipFill>
        <p:spPr>
          <a:xfrm>
            <a:off x="1979640" y="198900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8:37:20Z</dcterms:created>
  <dc:creator>Admin</dc:creator>
  <dc:description/>
  <dc:language>en-US</dc:language>
  <cp:lastModifiedBy>Пользователь Windows</cp:lastModifiedBy>
  <dcterms:modified xsi:type="dcterms:W3CDTF">2022-05-06T09:24:13Z</dcterms:modified>
  <cp:revision>7</cp:revision>
  <dc:subject/>
  <dc:title>Муниципальное бюджетное общеобразовательное учреждение « Средняя общеобразовательная школа №6» города Югорска</dc:title>
</cp:coreProperties>
</file>