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8AD-A77B-4C7E-A6CD-8F0C0B6F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D79-FD6E-41F9-9523-90DBF328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197-E8E7-4CE8-828A-48376A74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076-4DC9-49CA-BE20-53CD7514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2B7D-6130-4BC0-8D7F-C9942EF0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C990-5468-4BDB-8ACA-B8F8F8F2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47CA-D01B-4181-A844-29B101D8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CF7C-6678-4698-86EC-8A3BD918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289C-AF7A-422B-9971-EDCAC785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C523-3B6A-42CA-8BEC-A070ECB4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5358-470F-4C8B-849D-2C3ABC95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52C-F8F6-4701-AE96-666B2519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0364-C29C-4A76-8A1C-AE02D409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6C2F-4B23-4484-99C8-EEAD5583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FD7E-06BC-4289-A9DB-979689C4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EAAF-FC96-46D7-8EC8-40DFDA40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9032-1A26-4C0C-8A09-AF696D25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04A-EA41-484B-ABF8-DA577BDE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89C-0EDB-4FD5-8108-2AEA3B3E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7E1-8946-45E2-A78F-A94F1B82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D6D-8BEE-44EF-85D9-9066D926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3E7-7A4D-4212-A9B0-22934D11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E32-FEED-470F-BE83-E3FCAFE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411-E09C-4D9C-8747-00F09481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77EE-8FB0-4F9A-8A02-794A94D5378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4EEC-7E78-4CFC-A5D1-A510650EC7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301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Муниципальное автономное учреждение дополнительного образования города Нижневартовска</a:t>
            </a:r>
            <a:br>
              <a:rPr sz="2000"/>
            </a:b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«Центр детского творчества»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39640" y="2117880"/>
            <a:ext cx="820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Verdana"/>
              </a:rPr>
              <a:t>Росомаха в лесах Юг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516640"/>
            <a:ext cx="46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Автор: Клеменко Верон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Руководитель:Муртазина С.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11" descr="&amp;Kcy;&amp;tcy;&amp;ocy; &amp;tcy;&amp;acy;&amp;kcy;&amp;acy;&amp;yacy; &amp;rcy;&amp;ocy;&amp;scy;&amp;ocy;&amp;mcy;&amp;acy;&amp;khcy;&amp;acy;"/>
          <p:cNvPicPr/>
          <p:nvPr/>
        </p:nvPicPr>
        <p:blipFill>
          <a:blip r:embed="rId1"/>
          <a:stretch/>
        </p:blipFill>
        <p:spPr>
          <a:xfrm>
            <a:off x="3203640" y="2852640"/>
            <a:ext cx="3457440" cy="2306880"/>
          </a:xfrm>
          <a:prstGeom prst="rect">
            <a:avLst/>
          </a:prstGeom>
          <a:ln w="38160">
            <a:solidFill>
              <a:srgbClr val="336699"/>
            </a:solidFill>
            <a:miter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Гипотез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сли я изучу сказки, рассказы, энциклопедии о росомахе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о смогу больше узнать о малоизвестном звер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5" descr="&amp;Kcy;&amp;tcy;&amp;ocy; &amp;tcy;&amp;acy;&amp;kcy;&amp;acy;&amp;yacy; &amp;rcy;&amp;ocy;&amp;scy;&amp;ocy;&amp;mcy;&amp;acy;&amp;khcy;&amp;acy;"/>
          <p:cNvPicPr/>
          <p:nvPr/>
        </p:nvPicPr>
        <p:blipFill>
          <a:blip r:embed="rId1"/>
          <a:stretch/>
        </p:blipFill>
        <p:spPr>
          <a:xfrm>
            <a:off x="2771640" y="3933720"/>
            <a:ext cx="2975040" cy="1984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ель проек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полнить свои знания о росомахе. Поделиться с одноклассниками информацией о таежном звер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&amp;Kcy;&amp;tcy;&amp;ocy; &amp;tcy;&amp;acy;&amp;kcy;&amp;acy;&amp;yacy; &amp;rcy;&amp;ocy;&amp;scy;&amp;ocy;&amp;mcy;&amp;acy;&amp;khcy;&amp;acy;"/>
          <p:cNvPicPr/>
          <p:nvPr/>
        </p:nvPicPr>
        <p:blipFill>
          <a:blip r:embed="rId1"/>
          <a:stretch/>
        </p:blipFill>
        <p:spPr>
          <a:xfrm>
            <a:off x="3132000" y="3645000"/>
            <a:ext cx="2955960" cy="2950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чи проекта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Провести анкетирование одноклассников по изучаемой тем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Прочитать сказки и рассказы о росомах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Изучить повадки, питание, среду обитания зверя: по энциклопедиям, интернет сайтам и познавательным фильма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.Оформить результаты исследования в виде буклет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сследов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87280" y="1844640"/>
          <a:ext cx="6912000" cy="3738600"/>
        </p:xfrm>
        <a:graphic>
          <a:graphicData uri="http://schemas.openxmlformats.org/drawingml/2006/table">
            <a:tbl>
              <a:tblPr/>
              <a:tblGrid>
                <a:gridCol w="1729080"/>
                <a:gridCol w="1726920"/>
                <a:gridCol w="1729080"/>
                <a:gridCol w="1726920"/>
              </a:tblGrid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мнев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Кто такая росома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 кого похожа росома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двед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рсу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ол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Где живёт зверь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би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ана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фр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Знаешь ли ты сказки и рассказы, фильмы об этом звере 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ь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Хотел бы ты больше узнать о росомах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на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ЗНАЛ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3399"/>
                </a:solidFill>
                <a:latin typeface="Verdana"/>
              </a:rPr>
              <a:t>Как выглядит росомах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3399"/>
                </a:solidFill>
                <a:latin typeface="Verdana"/>
              </a:rPr>
              <a:t>Места обита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3399"/>
                </a:solidFill>
                <a:latin typeface="Verdana"/>
              </a:rPr>
              <a:t>Питание звер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3399"/>
                </a:solidFill>
                <a:latin typeface="Verdana"/>
              </a:rPr>
              <a:t>Повадки росомах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3399"/>
                </a:solidFill>
                <a:latin typeface="Verdana"/>
              </a:rPr>
              <a:t>Интересные факт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&amp;Kcy;&amp;tcy;&amp;ocy; &amp;tcy;&amp;acy;&amp;kcy;&amp;acy;&amp;yacy; &amp;rcy;&amp;ocy;&amp;scy;&amp;ocy;&amp;mcy;&amp;acy;&amp;khcy;&amp;acy;"/>
          <p:cNvPicPr/>
          <p:nvPr/>
        </p:nvPicPr>
        <p:blipFill>
          <a:blip r:embed="rId1"/>
          <a:stretch/>
        </p:blipFill>
        <p:spPr>
          <a:xfrm>
            <a:off x="3492360" y="4653000"/>
            <a:ext cx="2303640" cy="1538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&amp;Kcy;&amp;tcy;&amp;ocy; &amp;tcy;&amp;acy;&amp;kcy;&amp;acy;&amp;yacy; &amp;rcy;&amp;ocy;&amp;scy;&amp;ocy;&amp;mcy;&amp;acy;&amp;khcy;&amp;acy;"/>
          <p:cNvPicPr/>
          <p:nvPr/>
        </p:nvPicPr>
        <p:blipFill>
          <a:blip r:embed="rId2"/>
          <a:stretch/>
        </p:blipFill>
        <p:spPr>
          <a:xfrm>
            <a:off x="395280" y="4508640"/>
            <a:ext cx="2664000" cy="1768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&amp;Kcy;&amp;tcy;&amp;ocy; &amp;tcy;&amp;acy;&amp;kcy;&amp;acy;&amp;yacy; &amp;rcy;&amp;ocy;&amp;scy;&amp;ocy;&amp;mcy;&amp;acy;&amp;khcy;&amp;acy;"/>
          <p:cNvPicPr/>
          <p:nvPr/>
        </p:nvPicPr>
        <p:blipFill>
          <a:blip r:embed="rId3"/>
          <a:stretch/>
        </p:blipFill>
        <p:spPr>
          <a:xfrm>
            <a:off x="6372360" y="4484520"/>
            <a:ext cx="2543040" cy="1694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Arial Unicode MS"/>
              </a:rPr>
              <a:t>Вывод:</a:t>
            </a:r>
            <a:r>
              <a:rPr b="0" lang="ru-RU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Unicode MS"/>
              </a:rPr>
              <a:t>Благодаря прочитанной литературе и просмотренным фильмам я много интересного узнала о росомахе. Я выяснила, что росомаха очень хитрое, умное хищное животное. Живет в глухих местах, питается  падалью и копытными  животными. Росомаха - одиночка, но когда ей нужно может объединяться по 2-3 зверя для охоты. Не смотря на это, мамы - росомахи заботливые и ласковые, самоотверженно защищают детенышей от любой опас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Unicode MS"/>
              </a:rPr>
              <a:t>Всю найденную информацию я с помощью мамы оформила в виде буклетов и раздала их одноклассникам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 Unicode MS"/>
              </a:rPr>
              <a:t>Эта тема оказалась очень интересной для учащихся моего класса. Я показала им презентацию и рассказала о росомах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5" descr="51358804_1237639901_roso024"/>
          <p:cNvPicPr/>
          <p:nvPr/>
        </p:nvPicPr>
        <p:blipFill>
          <a:blip r:embed="rId1"/>
          <a:stretch/>
        </p:blipFill>
        <p:spPr>
          <a:xfrm>
            <a:off x="1979640" y="198900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8:37:20Z</dcterms:created>
  <dc:creator>Admin</dc:creator>
  <dc:description/>
  <dc:language>en-US</dc:language>
  <cp:lastModifiedBy>Пользователь Windows</cp:lastModifiedBy>
  <dcterms:modified xsi:type="dcterms:W3CDTF">2022-05-06T09:24:13Z</dcterms:modified>
  <cp:revision>7</cp:revision>
  <dc:subject/>
  <dc:title>Муниципальное бюджетное общеобразовательное учреждение « Средняя общеобразовательная школа №6» города Югорска</dc:title>
</cp:coreProperties>
</file>