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png" ContentType="image/png"/>
  <Override PartName="/ppt/media/image17.gif" ContentType="image/gif"/>
  <Override PartName="/ppt/media/image2.wmf" ContentType="image/x-wmf"/>
  <Override PartName="/ppt/media/image19.png" ContentType="image/png"/>
  <Override PartName="/ppt/media/image18.gif" ContentType="image/gif"/>
  <Override PartName="/ppt/media/image15.wmf" ContentType="image/x-wmf"/>
  <Override PartName="/ppt/media/image1.jpeg" ContentType="image/jpeg"/>
  <Override PartName="/ppt/media/image6.gif" ContentType="image/gif"/>
  <Override PartName="/ppt/media/image14.wmf" ContentType="image/x-wmf"/>
  <Override PartName="/ppt/media/image3.gif" ContentType="image/gif"/>
  <Override PartName="/ppt/media/image5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2BBB-B44E-48AB-A42C-35A4477C8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08B-9463-450E-B1EF-51B7BC7BA6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C7E-D612-4340-B8BC-1E359F55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0D9-5B06-4B71-A9F4-2338877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84A-C319-4C0D-A943-8B96D0BD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464-7415-4878-B8EE-A1D8BC27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4BC-8E58-45AD-81AF-2C74ACB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E14-26EB-4FE0-94D7-59FA675C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C52-01C5-4943-8D1F-687E70D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683-8D4A-4132-9A4D-8387F86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A29-5D14-4477-8AEF-194468E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84D-6BE1-416D-B1FB-42CD2CD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521-9BC6-4FA1-A5D7-B37C867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1E1-FC3F-4F3A-9008-70F2213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1DD-ED84-4FCA-B686-6DC4B3FD0C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obrazovatelmznaya_deyatelmznostmz/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истемно – деятельностного подхода в обучении  младших школьник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292720" y="4365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ункуева Т.Б.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..\..\..\..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2500200" y="42148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Radmir\Documents\Роза Каримовна\Анимация\F111.GIF"/>
          <p:cNvPicPr/>
          <p:nvPr/>
        </p:nvPicPr>
        <p:blipFill>
          <a:blip r:embed="rId2"/>
          <a:stretch/>
        </p:blipFill>
        <p:spPr>
          <a:xfrm>
            <a:off x="6643800" y="292896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https://bratuvk.educrimea.ru/uploads/20500/20446/section/318288/1439443423_po-fgos.jpg?1517315098806"/>
          <p:cNvPicPr/>
          <p:nvPr/>
        </p:nvPicPr>
        <p:blipFill>
          <a:blip r:embed="rId3"/>
          <a:stretch/>
        </p:blipFill>
        <p:spPr>
          <a:xfrm>
            <a:off x="785880" y="2571840"/>
            <a:ext cx="146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транслировался опыт применения педагогической техноло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одила открытый урок в рамках  районного семинара на тему «Что вокруг нас может быть опасным?» (ноябрь 2017г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ыступила в РМО учителей начальных классов с докладом на тему: «Структура уроков введения нового знания в логике системно- деятельностного подхода » (март 2018г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.11.16г участвовала в районном семинаре учителей начальных классов в Черемишевской ООШ  и выступила на тему «Инновационные технологии организации учебной деятельности младшего школьника в современных условиях» 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5.11. 2016г. Принимала участие в работе  республиканского  обучающего семинара «Проблемы и перспективы использования деятельностной модели организации учебной деятельности младшего школьника» и выступила на тему «Использование здоровьесберегающих технологий в рамках реализации ФГОС НОО» и т.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Рисунок 4" descr="BS02064_"/>
          <p:cNvPicPr/>
          <p:nvPr/>
        </p:nvPicPr>
        <p:blipFill>
          <a:blip r:embed="rId1"/>
          <a:stretch/>
        </p:blipFill>
        <p:spPr>
          <a:xfrm>
            <a:off x="6572160" y="542916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..\..\..\..\Program Files\Common Files\Microsoft Shared\Clipart\cagcat50\BS00508_.WMF"/>
          <p:cNvPicPr/>
          <p:nvPr/>
        </p:nvPicPr>
        <p:blipFill>
          <a:blip r:embed="rId2"/>
          <a:stretch/>
        </p:blipFill>
        <p:spPr>
          <a:xfrm>
            <a:off x="3929040" y="5286240"/>
            <a:ext cx="15717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 деятельностного подхода в начальной школе способствует успешному обучению младших школьников.  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каждый учитель может использовать деятельностный метод в своей практической работе, так как все составляющие этого метода общеизвестны. Поэтому достаточно лишь осмыслить значимость каждого элемента и использовать их в работе системн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технологии системно - деятельностного метода обучения формирует всесторонне развитую личность, обладающую критическим мышлением. Этим обеспечивается выполнение социального заказа, отражённог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ожениях Закона Р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Об образовании» и в Федеральном Государственном Образовательном стандарте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ская пословица гласит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 - и я забуду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– и я запомню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опробовать – и я пойму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Рисунок 3" descr="PE02097_"/>
          <p:cNvPicPr/>
          <p:nvPr/>
        </p:nvPicPr>
        <p:blipFill>
          <a:blip r:embed="rId1"/>
          <a:stretch/>
        </p:blipFill>
        <p:spPr>
          <a:xfrm>
            <a:off x="207180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https://bratuvk.educrimea.ru/uploads/20500/20446/section/318288/1439443423_po-fgos.jpg?1517315098806"/>
          <p:cNvPicPr/>
          <p:nvPr/>
        </p:nvPicPr>
        <p:blipFill>
          <a:blip r:embed="rId2"/>
          <a:stretch/>
        </p:blipFill>
        <p:spPr>
          <a:xfrm>
            <a:off x="714240" y="571680"/>
            <a:ext cx="1462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922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ИСТОЧНИКОВ: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349992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молов А.Г. Как проектировать универсальные учебные действия в начальной школе : от действия к мысли: пособие для учителя / - М: Просвещение, 2010.- 145с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вцова И. Системно-деятельностный подход в технологии школьного обучения. - 2003. - № 6. - с. 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-ориентированный подход к образованию //Управление школой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 Изд. дома «Первое сентября». 2011. № 9.- С.14-1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С.В. Системно-деятельностный подход в технологии школьного обучения / С.В. Дмитриев // Школьные технологии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. № 6. С. 30-39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вцева Н.Г. Системно-деятельностный подход как механизм реализации ФГОС нового поколения /Н.Г. Кудрявцева //Справочник заместителя директора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 № 4. С. 13-2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вцев А.В. Деятельностный аспект процесса обучения/А.В. Купавцев // Педагогика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. № 6. С. 44-6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лыгина О.Е. Формирование учебной деятельности первоклассников на уроках обучени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школа № 8 2010, стр 5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тьев А.А. Что такое деятельностный подход в образовании /А.А. Леонтьев //Начальная школа плюс. 2001.№1. с. 3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а Н. П. «Деятельностный способ обучения», ОАОУ НИРО,201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стандарт начального общего образования. Министерство образования и науки РФ. – М: Просвещение, 201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 Деятельность как содержание образования /А. Хуторской //Народное образование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. № 8. С. 107-114.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" descr="D:\Фотогалерея\анимашки\книги, перья\F133.GIF"/>
          <p:cNvPicPr/>
          <p:nvPr/>
        </p:nvPicPr>
        <p:blipFill>
          <a:blip r:embed="rId1"/>
          <a:stretch/>
        </p:blipFill>
        <p:spPr>
          <a:xfrm>
            <a:off x="0" y="3719520"/>
            <a:ext cx="1409760" cy="59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Фотогалерея\анимашки\книги, перья\F133.GIF"/>
          <p:cNvPicPr/>
          <p:nvPr/>
        </p:nvPicPr>
        <p:blipFill>
          <a:blip r:embed="rId2"/>
          <a:stretch/>
        </p:blipFill>
        <p:spPr>
          <a:xfrm>
            <a:off x="6715080" y="428760"/>
            <a:ext cx="2214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http://mama.tomsk.ru/foto/albums/userpics/10131/balloons7~0.gif"/>
          <p:cNvPicPr/>
          <p:nvPr/>
        </p:nvPicPr>
        <p:blipFill>
          <a:blip r:embed="rId1"/>
          <a:stretch/>
        </p:blipFill>
        <p:spPr>
          <a:xfrm>
            <a:off x="214200" y="1785960"/>
            <a:ext cx="2160720" cy="404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mama.tomsk.ru/foto/albums/userpics/10131/balloons7~0.gif"/>
          <p:cNvPicPr/>
          <p:nvPr/>
        </p:nvPicPr>
        <p:blipFill>
          <a:blip r:embed="rId2"/>
          <a:stretch/>
        </p:blipFill>
        <p:spPr>
          <a:xfrm flipH="1">
            <a:off x="6804000" y="1870200"/>
            <a:ext cx="2160720" cy="40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i077.radikal.ru/1105/17/fb798e1b574f.gif"/>
          <p:cNvPicPr/>
          <p:nvPr/>
        </p:nvPicPr>
        <p:blipFill>
          <a:blip r:embed="rId3"/>
          <a:stretch/>
        </p:blipFill>
        <p:spPr>
          <a:xfrm>
            <a:off x="3071880" y="2357280"/>
            <a:ext cx="328608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www.servimg.com/u/f49/16/59/70/46/0_5fb710.gif"/>
          <p:cNvPicPr/>
          <p:nvPr/>
        </p:nvPicPr>
        <p:blipFill>
          <a:blip r:embed="rId4"/>
          <a:stretch/>
        </p:blipFill>
        <p:spPr>
          <a:xfrm>
            <a:off x="1295280" y="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Monotype Corsiva"/>
              </a:rPr>
              <a:t>Желаю всем творческих  успехов!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98989"/>
                </a:solidFill>
                <a:latin typeface="Comic Sans MS"/>
              </a:rPr>
              <a:t>       </a:t>
            </a:r>
            <a:r>
              <a:rPr b="1" lang="ru-RU" sz="2100" spc="-1" strike="noStrike">
                <a:solidFill>
                  <a:srgbClr val="898989"/>
                </a:solidFill>
                <a:latin typeface="Comic Sans MS"/>
              </a:rPr>
              <a:t>           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ный подход - это главное условие реализации ФГОС.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стандартов реализуется новый подход к организации обучения, который направлен на раскрытие способностей учащихся, на формирование личности, а так же готовности к жизни в современном мире.   В основе стандартов лежит системно-деятельностный подход, главный принцип которого: ученик получает знания не в готовом виде, а добывает их сам в процессе собственно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учебно-познаватель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менно в действии порождается зн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Рисунок 4" descr="..\..\..\..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4714920" y="5143680"/>
            <a:ext cx="30859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ход в обучении, при котором ребенок сам добывает знания в процессе собственной учебно-познавательной деятельности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 - деятельностны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57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-деятельностного подх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о введено ещё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 году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сновывается на теоретических  положениях концепции Л.С. Выготского,  А.Н.Леонтьева,  Д.Б.Эльконина, П.Я. Гальперина, раскрывающих основные психологические закономер-ности  процесса обучения и воспитания.   Ещё Сократ говорило том, что научиться играть на флейте можно только, играя самому. Точно также деятельностные способности учащихся формируются лишь тогда, когда они не пассивно усваивают новые знания, а включены в самостоятельную учебно - познавательную  дея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Рисунок 6" descr="C:\Users\Radmir\Documents\Роза Каримовна\Анимация\v25ani.gif"/>
          <p:cNvPicPr/>
          <p:nvPr/>
        </p:nvPicPr>
        <p:blipFill>
          <a:blip r:embed="rId1"/>
          <a:stretch/>
        </p:blipFill>
        <p:spPr>
          <a:xfrm>
            <a:off x="3714840" y="5429160"/>
            <a:ext cx="1071360" cy="628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Program Files\Common Files\Microsoft Shared\Clipart\cagcat50\HM00363_.wmf"/>
          <p:cNvPicPr/>
          <p:nvPr/>
        </p:nvPicPr>
        <p:blipFill>
          <a:blip r:embed="rId2"/>
          <a:stretch/>
        </p:blipFill>
        <p:spPr>
          <a:xfrm>
            <a:off x="7215120" y="528624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принципы системно – деятельностного подхода </a:t>
            </a:r>
            <a:r>
              <a:rPr b="0" lang="ru-RU" sz="3200" spc="-1" strike="noStrike">
                <a:solidFill>
                  <a:srgbClr val="e46c0a"/>
                </a:solidFill>
                <a:latin typeface="Comic Sans M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инимак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C:\Users\Ирина\Desktop\drazni3.gif"/>
          <p:cNvPicPr/>
          <p:nvPr/>
        </p:nvPicPr>
        <p:blipFill>
          <a:blip r:embed="rId1"/>
          <a:stretch/>
        </p:blipFill>
        <p:spPr>
          <a:xfrm>
            <a:off x="5929200" y="3929040"/>
            <a:ext cx="2880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ный подход</a:t>
            </a: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воих уроках осуществляю через: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активных и интерактивных методик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роектной деяте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 приёмами  исследовательск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игровую 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рефлексивную деятельность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оценочно-дискуссионну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источниками 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ознавательных и практических задач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временных общественных явлений и событий, жизненных ситуацийи т. 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C:\Users\Ирина\Desktop\ninos11.jpg"/>
          <p:cNvPicPr/>
          <p:nvPr/>
        </p:nvPicPr>
        <p:blipFill>
          <a:blip r:embed="rId1"/>
          <a:stretch/>
        </p:blipFill>
        <p:spPr>
          <a:xfrm>
            <a:off x="2786040" y="4929120"/>
            <a:ext cx="2448000" cy="1652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PE01561_"/>
          <p:cNvPicPr/>
          <p:nvPr/>
        </p:nvPicPr>
        <p:blipFill>
          <a:blip r:embed="rId2"/>
          <a:stretch/>
        </p:blipFill>
        <p:spPr>
          <a:xfrm>
            <a:off x="5929200" y="500076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524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ирование к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и фиксирование индивидуального затруднения в пробном учебном действ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крытие нового знания (построение   проекта выхода из затруднения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ервичное закрепление с проговариванием во внешней 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стоятельная работа с самопроверкой по эталон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 Включение нового знания в систему знаний и повторе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флексия учебной деятельности на уроке . Ито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Рисунок 4" descr="C:\Users\Ирина\Downloads\8752e1d7192a170b54e5bae07cf7705e.jpg"/>
          <p:cNvPicPr/>
          <p:nvPr/>
        </p:nvPicPr>
        <p:blipFill>
          <a:blip r:embed="rId1"/>
          <a:stretch/>
        </p:blipFill>
        <p:spPr>
          <a:xfrm>
            <a:off x="2928960" y="5357880"/>
            <a:ext cx="188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997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Мотивирование к учебной деятельности (организационный момент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1-2 минуты. Цель: включение обучающихся в деятельность на личностно-значимом уровне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этапе   мотивирования  к учебной деятельности  организую осознанное вхождение обучающихся в пространство учебной деятельности на уро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Актуализация и фиксирование индивидуального затруднения в пробном учебном действ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. Цель: повторение изученного материала, необходимого для “открытия нового знания”, и выявление затруднений в индивидуальной деятельности каждого обучающегос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учебной задач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-5 минут.  Цель: обсуждение затруднения (“Почему возникли затруднения?”, “Чего мы ещё не знаем?”).   На данном этапе организую выявление учащимися места и причины затруднения.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Открытие нового знания (построение   проекта выхода из затруднения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7-8 мину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данном этапе учащиеся в коммуникативной форме обдумывают проект будущих учебных действий: ставят цель (целью всегда является устранение возникшего затруднения), согласовывают тему урока, выбирают способ, строят план достижения цели и определяют средства – алгоритмы, модели и т.д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4" descr="C:\Users\Radmir\Documents\Роза Каримовна\Анимация\5.GIF"/>
          <p:cNvPicPr/>
          <p:nvPr/>
        </p:nvPicPr>
        <p:blipFill>
          <a:blip r:embed="rId1"/>
          <a:stretch/>
        </p:blipFill>
        <p:spPr>
          <a:xfrm>
            <a:off x="6286680" y="564372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Первичное закреп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  Цель: проговаривание нового знания,   (запись в виде опорного сигнала) фронтальная работа, работа в парах; комментирование, обозначение знаковыми символ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Самостоятельная работа с самопроверкой по образцу (эталону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 самостоятельной работы с самопроверкой по образцу  (эталону)  (4 – 5 минут)  использую индивидуальную форму работ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  Включение нового знания в систему знаний и повторение -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 ми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дети определяют границы применимости нового знания, тренируют навыки его использования совместно с ранее  изученным  материалом и повторяют  содержание, которое потребуется на следующих уроках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флексия учебной деятельности на уроке (итог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-3 мину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сознании обучающимися  своей учебной деятельности, самооценка результатов своей деятельности и всего класс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уем изученное новое знание и его значимост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omic Sans MS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овать в полном объеме деятельностный подход можно, используя совокупность технолог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проблемного обуч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организац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групповой рабо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проблемно-диалогического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Рисунок 3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743880" y="5643720"/>
            <a:ext cx="24001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4:02:11Z</dcterms:created>
  <dc:creator>User</dc:creator>
  <dc:description/>
  <dc:language>en-US</dc:language>
  <cp:lastModifiedBy>User</cp:lastModifiedBy>
  <dcterms:modified xsi:type="dcterms:W3CDTF">2022-05-06T00:28:10Z</dcterms:modified>
  <cp:revision>255</cp:revision>
  <dc:subject/>
  <dc:title>Информатизация учебно-воспитательного процесса в МОУ гимназии №76</dc:title>
</cp:coreProperties>
</file>