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gif" ContentType="image/gif"/>
  <Override PartName="/ppt/media/image9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wmf" ContentType="image/x-wmf"/>
  <Override PartName="/ppt/media/image20.png" ContentType="image/png"/>
  <Override PartName="/ppt/media/image17.gif" ContentType="image/gif"/>
  <Override PartName="/ppt/media/image2.wmf" ContentType="image/x-wmf"/>
  <Override PartName="/ppt/media/image19.png" ContentType="image/png"/>
  <Override PartName="/ppt/media/image18.gif" ContentType="image/gif"/>
  <Override PartName="/ppt/media/image15.wmf" ContentType="image/x-wmf"/>
  <Override PartName="/ppt/media/image1.jpeg" ContentType="image/jpeg"/>
  <Override PartName="/ppt/media/image6.gif" ContentType="image/gif"/>
  <Override PartName="/ppt/media/image14.wmf" ContentType="image/x-wmf"/>
  <Override PartName="/ppt/media/image3.gif" ContentType="image/gif"/>
  <Override PartName="/ppt/media/image5.wmf" ContentType="image/x-wmf"/>
  <Override PartName="/ppt/media/image10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90BE-D0B3-4441-BCD6-DB958D7401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7B0D-938F-4EBB-B784-8CA302ECB1B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DB07-D41E-44B9-A21D-4A58B798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E5B-5E33-4971-B1F1-30B48FD9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35EA-CB3A-4F9C-979D-2D2D09F4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903-E618-4C0C-9DD4-F202DA09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1602-9D38-46DC-96B1-22485086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9B30-7A28-4021-BC71-27D88995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BD1D-05A5-4027-B3FC-3BA428D5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DDB-5876-4CB6-9FF9-AF5A1980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49A-32A3-4697-83AA-9BA01BBF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1840-C3CD-450F-9993-436ED6D1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C2A3-702A-4C42-A06F-400D8612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CB99-643B-4689-8EA4-49352AE9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E62E-5CD1-4326-824C-B8A5B5DD42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schoolhous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andia.ru/text/category/obrazovatelmznaya_deyatelmznostmz/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системно – деятельностного подхода в обучении  младших школьников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5292720" y="4365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ункуева Т.Б.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3" descr="..\..\..\..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2500200" y="4214880"/>
            <a:ext cx="2286000" cy="199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Radmir\Documents\Роза Каримовна\Анимация\F111.GIF"/>
          <p:cNvPicPr/>
          <p:nvPr/>
        </p:nvPicPr>
        <p:blipFill>
          <a:blip r:embed="rId2"/>
          <a:stretch/>
        </p:blipFill>
        <p:spPr>
          <a:xfrm>
            <a:off x="6643800" y="2928960"/>
            <a:ext cx="1428480" cy="1214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https://bratuvk.educrimea.ru/uploads/20500/20446/section/318288/1439443423_po-fgos.jpg?1517315098806"/>
          <p:cNvPicPr/>
          <p:nvPr/>
        </p:nvPicPr>
        <p:blipFill>
          <a:blip r:embed="rId3"/>
          <a:stretch/>
        </p:blipFill>
        <p:spPr>
          <a:xfrm>
            <a:off x="785880" y="2571840"/>
            <a:ext cx="14619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 транслировался опыт применения педагогической технолог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одила открытый урок в рамках  районного семинара на тему «Что вокруг нас может быть опасным?» (ноябрь 2017г.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Выступила в РМО учителей начальных классов с докладом на тему: «Структура уроков введения нового знания в логике системно- деятельностного подхода » (март 2018г.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0.11.16г участвовала в районном семинаре учителей начальных классов в Черемишевской ООШ  и выступила на тему «Инновационные технологии организации учебной деятельности младшего школьника в современных условиях» 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5.11. 2016г. Принимала участие в работе  республиканского  обучающего семинара «Проблемы и перспективы использования деятельностной модели организации учебной деятельности младшего школьника» и выступила на тему «Использование здоровьесберегающих технологий в рамках реализации ФГОС НОО» и т.д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Рисунок 4" descr="BS02064_"/>
          <p:cNvPicPr/>
          <p:nvPr/>
        </p:nvPicPr>
        <p:blipFill>
          <a:blip r:embed="rId1"/>
          <a:stretch/>
        </p:blipFill>
        <p:spPr>
          <a:xfrm>
            <a:off x="6572160" y="5429160"/>
            <a:ext cx="2071800" cy="14288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..\..\..\..\Program Files\Common Files\Microsoft Shared\Clipart\cagcat50\BS00508_.WMF"/>
          <p:cNvPicPr/>
          <p:nvPr/>
        </p:nvPicPr>
        <p:blipFill>
          <a:blip r:embed="rId2"/>
          <a:stretch/>
        </p:blipFill>
        <p:spPr>
          <a:xfrm>
            <a:off x="3929040" y="5286240"/>
            <a:ext cx="157176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 деятельностного подхода в начальной школе способствует успешному обучению младших школьников.  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каждый учитель может использовать деятельностный метод в своей практической работе, так как все составляющие этого метода общеизвестны. Поэтому достаточно лишь осмыслить значимость каждого элемента и использовать их в работе системно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технологии системно - деятельностного метода обучения формирует всесторонне развитую личность, обладающую критическим мышлением. Этим обеспечивается выполнение социального заказа, отражённог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ожениях Закона РФ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Об образовании» и в Федеральном Государственном Образовательном стандарте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тайская пословица гласит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сскажи  - и я забуду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жи – и я запомню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 попробовать – и я пойму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Рисунок 3" descr="PE02097_"/>
          <p:cNvPicPr/>
          <p:nvPr/>
        </p:nvPicPr>
        <p:blipFill>
          <a:blip r:embed="rId1"/>
          <a:stretch/>
        </p:blipFill>
        <p:spPr>
          <a:xfrm>
            <a:off x="2071800" y="492912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https://bratuvk.educrimea.ru/uploads/20500/20446/section/318288/1439443423_po-fgos.jpg?1517315098806"/>
          <p:cNvPicPr/>
          <p:nvPr/>
        </p:nvPicPr>
        <p:blipFill>
          <a:blip r:embed="rId2"/>
          <a:stretch/>
        </p:blipFill>
        <p:spPr>
          <a:xfrm>
            <a:off x="714240" y="571680"/>
            <a:ext cx="14623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92288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ОВАННЫХ ИСТОЧНИКОВ: 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2160" y="349992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lvl="1" marL="507240" indent="-168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молов А.Г. Как проектировать универсальные учебные действия в начальной школе : от действия к мысли: пособие для учителя / - М: Просвещение, 2010.- 145с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507240" indent="-168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вцова И. Системно-деятельностный подход в технологии школьного обучения. - 2003. - № 6. - с. 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507240" indent="-168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о-ориентированный подход к образованию //Управление школой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ета Изд. дома «Первое сентября». 2011. № 9.- С.14-15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507240" indent="-168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иев С.В. Системно-деятельностный подход в технологии школьного обучения / С.В. Дмитриев // Школьные технологии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. № 6. С. 30-39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507240" indent="-168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рявцева Н.Г. Системно-деятельностный подход как механизм реализации ФГОС нового поколения /Н.Г. Кудрявцева //Справочник заместителя директора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. № 4. С. 13-2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507240" indent="-168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вцев А.В. Деятельностный аспект процесса обучения/А.В. Купавцев // Педагогика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2. № 6. С. 44-66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507240" indent="-168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лыгина О.Е. Формирование учебной деятельности первоклассников на уроках обучения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ая школа № 8 2010, стр 50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507240" indent="-168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онтьев А.А. Что такое деятельностный подход в образовании /А.А. Леонтьев //Начальная школа плюс. 2001.№1. с. 3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507240" indent="-168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ва Н. П. «Деятельностный способ обучения», ОАОУ НИРО,2011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507240" indent="-168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государственный стандарт начального общего образования. Министерство образования и науки РФ. – М: Просвещение, 2010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507240" indent="-168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торской А. Деятельность как содержание образования /А. Хуторской //Народное образование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. № 8. С. 107-114.</a:t>
            </a:r>
            <a:br>
              <a:rPr sz="1800"/>
            </a:br>
            <a:r>
              <a:rPr b="1" lang="en-US" sz="1800" spc="-1" strike="noStrike">
                <a:solidFill>
                  <a:srgbClr val="89898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3" descr="D:\Фотогалерея\анимашки\книги, перья\F133.GIF"/>
          <p:cNvPicPr/>
          <p:nvPr/>
        </p:nvPicPr>
        <p:blipFill>
          <a:blip r:embed="rId1"/>
          <a:stretch/>
        </p:blipFill>
        <p:spPr>
          <a:xfrm>
            <a:off x="0" y="3719520"/>
            <a:ext cx="1409760" cy="590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D:\Фотогалерея\анимашки\книги, перья\F133.GIF"/>
          <p:cNvPicPr/>
          <p:nvPr/>
        </p:nvPicPr>
        <p:blipFill>
          <a:blip r:embed="rId2"/>
          <a:stretch/>
        </p:blipFill>
        <p:spPr>
          <a:xfrm>
            <a:off x="6715080" y="428760"/>
            <a:ext cx="22147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http://mama.tomsk.ru/foto/albums/userpics/10131/balloons7~0.gif"/>
          <p:cNvPicPr/>
          <p:nvPr/>
        </p:nvPicPr>
        <p:blipFill>
          <a:blip r:embed="rId1"/>
          <a:stretch/>
        </p:blipFill>
        <p:spPr>
          <a:xfrm>
            <a:off x="214200" y="1785960"/>
            <a:ext cx="2160720" cy="4048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mama.tomsk.ru/foto/albums/userpics/10131/balloons7~0.gif"/>
          <p:cNvPicPr/>
          <p:nvPr/>
        </p:nvPicPr>
        <p:blipFill>
          <a:blip r:embed="rId2"/>
          <a:stretch/>
        </p:blipFill>
        <p:spPr>
          <a:xfrm flipH="1">
            <a:off x="6804000" y="1870200"/>
            <a:ext cx="2160720" cy="404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http://i077.radikal.ru/1105/17/fb798e1b574f.gif"/>
          <p:cNvPicPr/>
          <p:nvPr/>
        </p:nvPicPr>
        <p:blipFill>
          <a:blip r:embed="rId3"/>
          <a:stretch/>
        </p:blipFill>
        <p:spPr>
          <a:xfrm>
            <a:off x="3071880" y="2357280"/>
            <a:ext cx="3286080" cy="952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http://www.servimg.com/u/f49/16/59/70/46/0_5fb710.gif"/>
          <p:cNvPicPr/>
          <p:nvPr/>
        </p:nvPicPr>
        <p:blipFill>
          <a:blip r:embed="rId4"/>
          <a:stretch/>
        </p:blipFill>
        <p:spPr>
          <a:xfrm>
            <a:off x="1295280" y="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Monotype Corsiva"/>
              </a:rPr>
              <a:t>Желаю всем творческих  успехов!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98989"/>
                </a:solidFill>
                <a:latin typeface="Comic Sans MS"/>
              </a:rPr>
              <a:t>       </a:t>
            </a:r>
            <a:r>
              <a:rPr b="1" lang="ru-RU" sz="2100" spc="-1" strike="noStrike">
                <a:solidFill>
                  <a:srgbClr val="898989"/>
                </a:solidFill>
                <a:latin typeface="Comic Sans MS"/>
              </a:rPr>
              <a:t>           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ятельностный подход - это главное условие реализации ФГОС.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стандартов реализуется новый подход к организации обучения, который направлен на раскрытие способностей учащихся, на формирование личности, а так же готовности к жизни в современном мире.   В основе стандартов лежит системно-деятельностный подход, главный принцип которого: ученик получает знания не в готовом виде, а добывает их сам в процессе собственной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учебно-познавательной деятельнос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менно в действии порождается зна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Рисунок 4" descr="..\..\..\..\Program Files\Common Files\Microsoft Shared\Clipart\cagcat50\BS00559_.wmf"/>
          <p:cNvPicPr/>
          <p:nvPr/>
        </p:nvPicPr>
        <p:blipFill>
          <a:blip r:embed="rId2"/>
          <a:stretch/>
        </p:blipFill>
        <p:spPr>
          <a:xfrm>
            <a:off x="4714920" y="5143680"/>
            <a:ext cx="308592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ход в обучении, при котором ребенок сам добывает знания в процессе собственной учебно-познавательной деятельности называется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но - деятельностным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3572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о-деятельностного подх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о введено ещё 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5 году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основывается на теоретических  положениях концепции Л.С. Выготского,  А.Н.Леонтьева,  Д.Б.Эльконина, П.Я. Гальперина, раскрывающих основные психологические закономер-ности  процесса обучения и воспитания.   Ещё Сократ говорило том, что научиться играть на флейте можно только, играя самому. Точно также деятельностные способности учащихся формируются лишь тогда, когда они не пассивно усваивают новые знания, а включены в самостоятельную учебно - познавательную  деятель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Рисунок 6" descr="C:\Users\Radmir\Documents\Роза Каримовна\Анимация\v25ani.gif"/>
          <p:cNvPicPr/>
          <p:nvPr/>
        </p:nvPicPr>
        <p:blipFill>
          <a:blip r:embed="rId1"/>
          <a:stretch/>
        </p:blipFill>
        <p:spPr>
          <a:xfrm>
            <a:off x="3714840" y="5429160"/>
            <a:ext cx="1071360" cy="6289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C:\Program Files\Common Files\Microsoft Shared\Clipart\cagcat50\HM00363_.wmf"/>
          <p:cNvPicPr/>
          <p:nvPr/>
        </p:nvPicPr>
        <p:blipFill>
          <a:blip r:embed="rId2"/>
          <a:stretch/>
        </p:blipFill>
        <p:spPr>
          <a:xfrm>
            <a:off x="7215120" y="528624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дактические принципы системно – деятельностного подхода </a:t>
            </a:r>
            <a:r>
              <a:rPr b="0" lang="ru-RU" sz="3200" spc="-1" strike="noStrike">
                <a:solidFill>
                  <a:srgbClr val="e46c0a"/>
                </a:solidFill>
                <a:latin typeface="Comic Sans MS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еятель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епрерыв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целост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минимак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сихологической комфорт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вариатив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творчест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2" descr="C:\Users\Ирина\Desktop\drazni3.gif"/>
          <p:cNvPicPr/>
          <p:nvPr/>
        </p:nvPicPr>
        <p:blipFill>
          <a:blip r:embed="rId1"/>
          <a:stretch/>
        </p:blipFill>
        <p:spPr>
          <a:xfrm>
            <a:off x="5929200" y="3929040"/>
            <a:ext cx="288000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ятельностный подход</a:t>
            </a:r>
            <a:r>
              <a:rPr b="0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своих уроках осуществляю через: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524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ование активных и интерактивных методик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проектной деятельност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 приёмами  исследовательской деятельнос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ие обучающихся в игровую деятель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ие обучающихся в рефлексивную деятельность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ие обучающихся в оценочно-дискуссионную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источниками  информаци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познавательных и практических задач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временных общественных явлений и событий, жизненных ситуацийи т. д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3" descr="C:\Users\Ирина\Desktop\ninos11.jpg"/>
          <p:cNvPicPr/>
          <p:nvPr/>
        </p:nvPicPr>
        <p:blipFill>
          <a:blip r:embed="rId1"/>
          <a:stretch/>
        </p:blipFill>
        <p:spPr>
          <a:xfrm>
            <a:off x="2786040" y="4929120"/>
            <a:ext cx="2448000" cy="16527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PE01561_"/>
          <p:cNvPicPr/>
          <p:nvPr/>
        </p:nvPicPr>
        <p:blipFill>
          <a:blip r:embed="rId2"/>
          <a:stretch/>
        </p:blipFill>
        <p:spPr>
          <a:xfrm>
            <a:off x="5929200" y="500076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но-деятельностный подход осуществляется на различных этапах урок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7524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отивирование к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ктуализация и фиксирование индивидуального затруднения в пробном учебном действ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становка учебной задач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ткрытие нового знания (построение   проекта выхода из затруднения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Первичное закрепление с проговариванием во внешней реч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амостоятельная работа с самопроверкой по эталон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  Включение нового знания в систему знаний и повторен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Рефлексия учебной деятельности на уроке . Ито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Рисунок 4" descr="C:\Users\Ирина\Downloads\8752e1d7192a170b54e5bae07cf7705e.jpg"/>
          <p:cNvPicPr/>
          <p:nvPr/>
        </p:nvPicPr>
        <p:blipFill>
          <a:blip r:embed="rId1"/>
          <a:stretch/>
        </p:blipFill>
        <p:spPr>
          <a:xfrm>
            <a:off x="2928960" y="5357880"/>
            <a:ext cx="18842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но-деятельностный подход осуществляется на различных этапах урока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9976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Мотивирование к учебной деятельности (организационный момент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1-2 минуты. Цель: включение обучающихся в деятельность на личностно-значимом уровне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этапе   мотивирования  к учебной деятельности  организую осознанное вхождение обучающихся в пространство учебной деятельности на урок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Актуализация и фиксирование индивидуального затруднения в пробном учебном действ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4-5 минут. Цель: повторение изученного материала, необходимого для “открытия нового знания”, и выявление затруднений в индивидуальной деятельности каждого обучающегося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тановка учебной задач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4-5 минут.  Цель: обсуждение затруднения (“Почему возникли затруднения?”, “Чего мы ещё не знаем?”).   На данном этапе организую выявление учащимися места и причины затруднения.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 Открытие нового знания (построение   проекта выхода из затруднения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7-8 мину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а данном этапе учащиеся в коммуникативной форме обдумывают проект будущих учебных действий: ставят цель (целью всегда является устранение возникшего затруднения), согласовывают тему урока, выбирают способ, строят план достижения цели и определяют средства – алгоритмы, модели и т.д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4" descr="C:\Users\Radmir\Documents\Роза Каримовна\Анимация\5.GIF"/>
          <p:cNvPicPr/>
          <p:nvPr/>
        </p:nvPicPr>
        <p:blipFill>
          <a:blip r:embed="rId1"/>
          <a:stretch/>
        </p:blipFill>
        <p:spPr>
          <a:xfrm>
            <a:off x="6286680" y="5643720"/>
            <a:ext cx="164304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но-деятельностный подход осуществляется на различных этапах уро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Первичное закрепле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4-5 минут  Цель: проговаривание нового знания,   (запись в виде опорного сигнала) фронтальная работа, работа в парах; комментирование, обозначение знаковыми символа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. Самостоятельная работа с самопроверкой по образцу (эталону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4-5 мину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ведении  самостоятельной работы с самопроверкой по образцу  (эталону)  (4 – 5 минут)  использую индивидуальную форму работы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.   Включение нового знания в систему знаний и повторение -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8 мину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дети определяют границы применимости нового знания, тренируют навыки его использования совместно с ранее  изученным  материалом и повторяют  содержание, которое потребуется на следующих уроках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ефлексия учебной деятельности на уроке (итог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2-3 минут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осознании обучающимися  своей учебной деятельности, самооценка результатов своей деятельности и всего класса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ксируем изученное новое знание и его значимость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omic Sans MS"/>
              </a:rPr>
              <a:t> 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ализовать в полном объеме деятельностный подход можно, используя совокупность технологий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хнологии проблемного обучени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хнология  исследовательской деятельност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-коммуникационные технологи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хнологии организации проектной деятельност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хнология групповой работ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хнология проблемно-диалогического обуч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Рисунок 3" descr="C:\Program Files\Common Files\Microsoft Shared\Clipart\cagcat50\BS00580_.wmf"/>
          <p:cNvPicPr/>
          <p:nvPr/>
        </p:nvPicPr>
        <p:blipFill>
          <a:blip r:embed="rId1"/>
          <a:stretch/>
        </p:blipFill>
        <p:spPr>
          <a:xfrm>
            <a:off x="6743880" y="5643720"/>
            <a:ext cx="240012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4:02:11Z</dcterms:created>
  <dc:creator>User</dc:creator>
  <dc:description/>
  <dc:language>en-US</dc:language>
  <cp:lastModifiedBy>User</cp:lastModifiedBy>
  <dcterms:modified xsi:type="dcterms:W3CDTF">2022-05-06T00:28:10Z</dcterms:modified>
  <cp:revision>255</cp:revision>
  <dc:subject/>
  <dc:title>Информатизация учебно-воспитательного процесса в МОУ гимназии №76</dc:title>
</cp:coreProperties>
</file>