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D6B-14C7-4C34-BDF1-E1C2D4F1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994-AA97-4F50-982E-7BE038C7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19B-8D64-4DB4-8D56-6D94FA27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671-2957-431E-B6D0-67EE9C03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835-20F1-4BAA-9E9D-F73772A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364-481B-4EF3-A7ED-FA3A1FBC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717-F473-4D4C-AB34-09458972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1AC-576B-4B1F-BFEF-89A57350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C3B-76E5-4DDC-AEF2-1A605C0B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381-98EF-4E09-A87B-3154F65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239-F49C-47B9-A744-42811103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2A5-5A94-4075-AA82-F750C2EE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442C-2C14-4A67-BA32-1D15051D48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Социально – педагогические технологии  работы с семьей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pic>
        <p:nvPicPr>
          <p:cNvPr id="42" name="Picture 26" descr="551078"/>
          <p:cNvPicPr/>
          <p:nvPr/>
        </p:nvPicPr>
        <p:blipFill>
          <a:blip r:embed="rId1"/>
          <a:stretch/>
        </p:blipFill>
        <p:spPr>
          <a:xfrm>
            <a:off x="1187280" y="2060640"/>
            <a:ext cx="6697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Алгоритм изучения семьи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5914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в) Позицию  ребенка в семь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педагогические оправда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«кумир семьи»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объект  постоянных ссор, взрослых, каждый из которых стремиться привлечь его на свою сторо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предоставлен самому себе, никто им не интересует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Запуган авторитарным отношением, неуверен в себе, избегает общения с родител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На положении «Золушк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Arial"/>
              </a:rPr>
              <a:t>г) Отношение ребенка к родител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785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ccff"/>
                </a:solidFill>
                <a:latin typeface="Arial"/>
              </a:rPr>
              <a:t>Четыре установки ребенка по отношению к родителям и самому себе</a:t>
            </a: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« Я нужен и любим и люблю вас тож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« Я нужен и любим, а вы существует ради мен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« Я не нужен и не любим, но от всей души желаю приблизиться к вам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« Я  не нужен и не любим, оставьте меня в покое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3ff"/>
                </a:solidFill>
                <a:latin typeface="Arial"/>
              </a:rPr>
              <a:t>Первые две позиции являются оптимальными для развития ребенка. Они обеспечиваются демократическим отношением к нему, то есть признанием такого же права на существование его мыслей, чувств, вкусов, как у взросл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3f3ff"/>
                </a:solidFill>
                <a:latin typeface="Arial"/>
              </a:rPr>
              <a:t>К сожалению, чаще встречается менее благоприятная установка, что создает проблемы в развитии ли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333000"/>
            <a:ext cx="859140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3f3ff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66ccff"/>
                </a:solidFill>
                <a:latin typeface="Arial"/>
              </a:rPr>
              <a:t>«Организация защиты детей»</a:t>
            </a:r>
            <a:br>
              <a:rPr sz="4200"/>
            </a:br>
            <a:endParaRPr b="0" lang="en-US" sz="42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Arial"/>
              </a:rPr>
              <a:t>I</a:t>
            </a:r>
            <a:r>
              <a:rPr b="1" lang="ru-RU" sz="3200" spc="-1" strike="noStrike" u="sng">
                <a:solidFill>
                  <a:srgbClr val="ffccff"/>
                </a:solidFill>
                <a:uFillTx/>
                <a:latin typeface="Arial"/>
              </a:rPr>
              <a:t> шаг: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ccff"/>
                </a:solidFill>
                <a:latin typeface="Arial"/>
              </a:rPr>
              <a:t>Специалист признает, что это происходит и обсудить с группой   специалистов, а не в одиночку. Если проигнорировать случай физического насилия ребенок может умере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Технология «Оценка риска»</a:t>
            </a: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Arial"/>
              </a:rPr>
              <a:t>Что нас беспокоит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cccc"/>
                </a:solidFill>
                <a:latin typeface="Arial"/>
              </a:rPr>
              <a:t>(Искренне признаться себе, что это  происход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Arial"/>
              </a:rPr>
              <a:t>Что я могу сделать, чтобы уменьшить риск, которому подвергается ребен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cc"/>
                </a:solidFill>
                <a:latin typeface="Arial"/>
              </a:rPr>
              <a:t>Что нас ожид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549360"/>
            <a:ext cx="83739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Технология: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 «Оценка потребности ребенка»</a:t>
            </a:r>
            <a:br>
              <a:rPr sz="3600"/>
            </a:b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.</a:t>
            </a:r>
            <a:r>
              <a:rPr b="1" lang="ru-RU" sz="14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Потребности ребен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в здоров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в образов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в повед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cc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Способности родителей к удовлетворению потребностей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cc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Факторы, в окружении приводящие к невозможности родитель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cc"/>
                </a:solidFill>
                <a:latin typeface="Arial"/>
              </a:rPr>
              <a:t>Когда вы определите способности родителей помочь ребенку - оказать помощь родител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549000"/>
            <a:ext cx="851832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Технология: </a:t>
            </a: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Arial"/>
              </a:rPr>
              <a:t>«Экологическая модель»</a:t>
            </a:r>
            <a:br>
              <a:rPr sz="3600"/>
            </a:b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ff"/>
                </a:solidFill>
                <a:latin typeface="Arial"/>
              </a:rPr>
              <a:t>Прописать все возможные риски для конкретного ребенка: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Ребенок  -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 Умственная отсталость. Проблемы ребенка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Защитные факторы: 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Дети устойчивы к различным фактор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Семья     -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  Алкоголизм, наркомания, жестокое об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Защитные факторы: 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Перечислить членов семьи, которые могут помоч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Школа     -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  Проблемы с одноклассниками 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Защитные факторы: 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Создание хороших условий для детей: занятия после школы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4. </a:t>
            </a: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Макросоциум -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Много проблем в сообществ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cc"/>
                </a:solidFill>
                <a:latin typeface="Arial"/>
              </a:rPr>
              <a:t>Защитные факторы: 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Занятия в УДО: спортивные секции, круж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При анализе сложного случая, возможно, найдете помощь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1.  У бабуш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2.  Либо усилить защитный фактор в школ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3.  Либо занятия в УД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Таким образом, вы можете сократить время нахождения ребенка в опас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Arial"/>
              </a:rPr>
              <a:t>«Социально – педагогические технологи работы с семьей»</a:t>
            </a:r>
            <a:endParaRPr b="0" lang="en-US" sz="32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676160"/>
            <a:ext cx="88930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Характеристика сем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Социально – педагогическая деятельность социального педагога с сем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Основные функции социального педагога в работе с семь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Алгоритм изучения семь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Четыре установки ребенка по отношению к родителям и самому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Технологии работы по теме: «Защита ребен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Характеристика семей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cc"/>
                </a:solidFill>
                <a:latin typeface="Arial"/>
              </a:rPr>
              <a:t>Семьи условно можно разделить на пять тип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Тип – семья с высоким уровнем нравственных отношений</a:t>
            </a:r>
            <a:r>
              <a:rPr b="0" lang="ru-RU" sz="2000" spc="-1" strike="noStrike">
                <a:solidFill>
                  <a:srgbClr val="ccffcc"/>
                </a:solidFill>
                <a:latin typeface="Arial"/>
              </a:rPr>
              <a:t>. В них здоровье, моральная атмосфера, дети получают возможность для развития своих способностей. Частое вмешательство педагога  здесь не нужно, хотя отдельные советы и предложения не исключаютс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Тип – семьи характеризуются нормальными отношениями между родителями, но при этом не обеспечивающие положительную направленность воспитания детей</a:t>
            </a:r>
            <a:r>
              <a:rPr b="0" lang="ru-RU" sz="2000" spc="-1" strike="noStrike">
                <a:solidFill>
                  <a:srgbClr val="ccffcc"/>
                </a:solidFill>
                <a:latin typeface="Arial"/>
              </a:rPr>
              <a:t>. Дети могут быть в центре «особых» забот родителей, в связи с чем у ребенка развиваются эгоистические тенденции, что безусловно требует внимание педаго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cc"/>
                </a:solidFill>
                <a:latin typeface="Arial"/>
              </a:rPr>
              <a:t>3.  Тип – конфликтные семьи.</a:t>
            </a:r>
            <a:r>
              <a:rPr b="0" lang="ru-RU" sz="2000" spc="-1" strike="noStrike">
                <a:solidFill>
                  <a:srgbClr val="ccffcc"/>
                </a:solidFill>
                <a:latin typeface="Arial"/>
              </a:rPr>
              <a:t> В таких условиях родителям не надо детей, они сами не могут разобраться в своих отношениях. Ни о каком разумном воспитании нет речи, все пущено на самотек. Нужно активное педагогическое вмешательство, чтобы изменить микроклимат в семье, не потерять растущего в ней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Характеристика семей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Arial"/>
              </a:rPr>
              <a:t>4.  Тип – внешне благополучная семья, в которой процветает бездуховность, отсутствуют истинные нравственные ценности, эмоциональная связь</a:t>
            </a:r>
            <a:r>
              <a:rPr b="0" lang="ru-RU" sz="2400" spc="-1" strike="noStrike">
                <a:solidFill>
                  <a:srgbClr val="ccffcc"/>
                </a:solidFill>
                <a:latin typeface="Arial"/>
              </a:rPr>
              <a:t> поколений часто  нарушена – воспитательная работа с такими семьями труд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cc"/>
                </a:solidFill>
                <a:latin typeface="Arial"/>
              </a:rPr>
              <a:t>5.   Тип -  неблагополучные семьи,</a:t>
            </a:r>
            <a:r>
              <a:rPr b="0" lang="ru-RU" sz="2400" spc="-1" strike="noStrike">
                <a:solidFill>
                  <a:srgbClr val="ccffcc"/>
                </a:solidFill>
                <a:latin typeface="Arial"/>
              </a:rPr>
              <a:t> для которых характеризуется грубость, скандалы, аморальное поведение. Такие семьи требуют постоянного внимания педагога, общественности, а иногда и активного вмешательства, чтобы защитить интересы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Социально – педагогическая деятельность социального педагога в работе с семьей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cc"/>
                </a:solidFill>
                <a:latin typeface="Arial"/>
              </a:rPr>
              <a:t>Социальный педагог предпринимает необходимые меры в случаях жестокого обращения с детьми в семьях, работает с семьями «социального риска», приходит к ним на помощь в кризисных ситуациях (насилие в семье, бедность, безработица, неспособность родителей к воспитанию, отклонение в поведении детей и т.д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ccc"/>
                </a:solidFill>
                <a:latin typeface="Arial"/>
              </a:rPr>
              <a:t>Социальный педагог работает совместно с различными социальными службами, организациями, учреждени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20280"/>
            <a:ext cx="8842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ccff"/>
                </a:solidFill>
                <a:latin typeface="Arial"/>
              </a:rPr>
              <a:t>Семья как первичный институт социализации личност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Работа социального педагога направлена не только на решение семейных проблем, но  и на укрепление и развитие, восстановление внутреннего потенциала семьи для выполнения ею многочисленных общественно значимых функций, стабилизацию демографического и социально – экономического положения в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Рекомендуется выделить те проблемы в семье (отклонение в поведении членов семьи: алкоголизм, наркомания, и т, д; низкий достаток, слабый воспитательный потенциал, конфликтные взаимоотношения и т.д.), которые оказывают негативное воздействие на ребенка, могут приводить его в состояние скрытых и явных конфлик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ccff"/>
                </a:solidFill>
                <a:latin typeface="Arial"/>
              </a:rPr>
              <a:t>Основные функции социального педагога в работе с семьей</a:t>
            </a:r>
            <a:endParaRPr b="0" lang="en-US" sz="40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Диагностиче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изучение особенностей семей и степени влияния микросре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Прогностиче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моделирование воспитывающей ситу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Организационно – коммуникативн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психолого-педагогическое просвещение родителей, организация об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Правозащитн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поддержка семей в защите прав, свобод, социальных гаран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Предупредительно-профилактиче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профилактика девиантного по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Социально – бытов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оказания нуждающимся семьям материально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Социально – психологиче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осуществление неотложной психологической помо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ff"/>
                </a:solidFill>
                <a:latin typeface="Arial"/>
              </a:rPr>
              <a:t>Организаторская</a:t>
            </a: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обеспечение культурно - досуговой,  спортивно-оздоровительной деятельности; технического и художественного творчества для сем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Алгоритм изучения семьи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cc"/>
                </a:solidFill>
                <a:latin typeface="Arial"/>
              </a:rPr>
              <a:t>Важно изучит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ffcc"/>
                </a:solidFill>
                <a:latin typeface="Arial"/>
              </a:rPr>
              <a:t>Состав семьи, структуру (полная, неполная, с одним ребенком, многодетная, разведены и т.д.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ffcc"/>
                </a:solidFill>
                <a:latin typeface="Arial"/>
              </a:rPr>
              <a:t>Жилищно – бытовые условия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ffcc"/>
                </a:solidFill>
                <a:latin typeface="Arial"/>
              </a:rPr>
              <a:t>Материальную обеспеченность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74"/>
              </a:spcBef>
              <a:buClr>
                <a:srgbClr val="cce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ffcc"/>
                </a:solidFill>
                <a:latin typeface="Arial"/>
              </a:rPr>
              <a:t>Воспитательный потенциал семьи (сильный, неустойчивый, слабый, негативный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Алгоритм изучения семьи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91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cc"/>
                </a:solidFill>
                <a:latin typeface="Arial"/>
              </a:rPr>
              <a:t>5. Характер взаимоотношений в семь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а) Между взрослыми членами семьи (гармоничные, компромиссные, неустойчивые, мнимые, конфликтные, аморальные и т.д.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б) Между другими членами семьи и ребенком (слепое обожание, заботливость, доверие, дружба, равноправие, отчуждение, равнодушие, мелочная опека, полная самостоятельность, независимость, бесконтрольность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ffcc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0:10:23Z</dcterms:created>
  <dc:creator>Vlad</dc:creator>
  <dc:description/>
  <dc:language>en-US</dc:language>
  <cp:lastModifiedBy>Ann</cp:lastModifiedBy>
  <dcterms:modified xsi:type="dcterms:W3CDTF">2022-05-06T12:28:46Z</dcterms:modified>
  <cp:revision>11</cp:revision>
  <dc:subject/>
  <dc:title>Социально – педагогическая деятельность социального педагога в работе с семьей</dc:title>
</cp:coreProperties>
</file>