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3613-D9E0-46F0-A3B6-627524420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302D-4F58-45A5-B42F-762C6FE9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AB96-CB59-4B21-BCFC-F039EF8A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6493-39FF-45ED-A53D-AC8B5FC48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2AA3-DC84-4963-94C3-7BEDAB7D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EE28-A581-4696-9158-63561FFF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3076-58C5-4E52-B55D-4FB1E711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9813-32E4-4626-9F0F-0ACDDB6E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AED4-5B02-47EA-8F8B-7E87DD88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FE64-90DB-4128-BDDC-315007AD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B4B8-61E0-4C2E-A7B8-96F1DA38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6418-1CAB-4021-95BF-6E10517A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D391-9796-44C0-9282-A3EEA88122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-428760" y="0"/>
            <a:ext cx="9572760" cy="7072200"/>
          </a:xfrm>
          <a:prstGeom prst="rect">
            <a:avLst/>
          </a:prstGeom>
          <a:ln w="0">
            <a:noFill/>
          </a:ln>
        </p:spPr>
      </p:pic>
      <p:pic>
        <p:nvPicPr>
          <p:cNvPr id="42" name="Монастырский.wma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39599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birkenau_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00064kr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0005wyf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LA 2008-04-08 08-12-17-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060322_08"/>
          <p:cNvPicPr/>
          <p:nvPr/>
        </p:nvPicPr>
        <p:blipFill>
          <a:blip r:embed="rId1"/>
          <a:stretch/>
        </p:blipFill>
        <p:spPr>
          <a:xfrm>
            <a:off x="176364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LA 2008-04-08 08-12-35-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LA 2008-04-08 08-10-58-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LA 2008-04-08 08-10-04-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LA 2008-04-08 08-10-55-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LA 2008-04-08 08-11-01-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скульптура МАТЬ"/>
          <p:cNvPicPr/>
          <p:nvPr/>
        </p:nvPicPr>
        <p:blipFill>
          <a:blip r:embed="rId1"/>
          <a:stretch/>
        </p:blipFill>
        <p:spPr>
          <a:xfrm>
            <a:off x="0" y="0"/>
            <a:ext cx="9144000" cy="911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LA 2008-04-08 08-11-03-09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2908_200512241030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3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6417WUb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36416uos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0006fza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2909_20051224103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910[1]"/>
          <p:cNvPicPr/>
          <p:nvPr/>
        </p:nvPicPr>
        <p:blipFill>
          <a:blip r:embed="rId1"/>
          <a:stretch/>
        </p:blipFill>
        <p:spPr>
          <a:xfrm>
            <a:off x="2340000" y="0"/>
            <a:ext cx="4105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75_2006_10_17_mech_14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000600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0005rry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9"/>
          <p:cNvSpPr/>
          <p:nvPr/>
        </p:nvSpPr>
        <p:spPr>
          <a:xfrm>
            <a:off x="971640" y="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логан Arbeit macht frei - девиз большинства концентрационных лагере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оследняя надежда узни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0006g7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136404VZWz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камень памя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war_6"/>
          <p:cNvPicPr/>
          <p:nvPr/>
        </p:nvPicPr>
        <p:blipFill>
          <a:blip r:embed="rId1"/>
          <a:stretch/>
        </p:blipFill>
        <p:spPr>
          <a:xfrm>
            <a:off x="127080" y="120600"/>
            <a:ext cx="8889840" cy="661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0006b3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birkenau_007"/>
          <p:cNvPicPr/>
          <p:nvPr/>
        </p:nvPicPr>
        <p:blipFill>
          <a:blip r:embed="rId1"/>
          <a:stretch/>
        </p:blipFill>
        <p:spPr>
          <a:xfrm>
            <a:off x="0" y="0"/>
            <a:ext cx="9153360" cy="132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36423-WhD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0005qh7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000620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0006ee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21:04:58Z</dcterms:created>
  <dc:creator>оля</dc:creator>
  <dc:description/>
  <dc:language>en-US</dc:language>
  <cp:lastModifiedBy>Павлов</cp:lastModifiedBy>
  <dcterms:modified xsi:type="dcterms:W3CDTF">2011-05-13T05:42:00Z</dcterms:modified>
  <cp:revision>10</cp:revision>
  <dc:subject/>
  <dc:title>Слайд 1</dc:title>
</cp:coreProperties>
</file>