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DA4-F60E-42D3-AD00-AFA3CF45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B23-6EE8-42A7-BA53-13309F1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23F-C8B9-4A3D-ABEB-84623361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E07-9BCC-4D63-B367-DE031129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1622-B265-40C5-8348-1009AA0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0A5-CB8C-4205-ADA1-5D49E51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CA5-8CA2-4836-9BB2-5CADE4F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FF8-0B44-4EA5-B0A1-C4AFFA12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543-E231-4E7E-AF70-C01C9AE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F76-0228-4DC9-8995-D9EB8800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B6C-41C1-42AC-9EB9-15C4A187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CB2-2E75-45BD-8948-E9739189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592-B60A-4B53-BC7E-FC673A23A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pic>
        <p:nvPicPr>
          <p:cNvPr id="42" name="Монастырский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3959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irkenau_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0064kr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05wyf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A 2008-04-08 08-12-17-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060322_08"/>
          <p:cNvPicPr/>
          <p:nvPr/>
        </p:nvPicPr>
        <p:blipFill>
          <a:blip r:embed="rId1"/>
          <a:stretch/>
        </p:blipFill>
        <p:spPr>
          <a:xfrm>
            <a:off x="1763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A 2008-04-08 08-12-35-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A 2008-04-08 08-10-58-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LA 2008-04-08 08-10-04-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A 2008-04-08 08-10-55-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A 2008-04-08 08-11-01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скульптура МАТЬ"/>
          <p:cNvPicPr/>
          <p:nvPr/>
        </p:nvPicPr>
        <p:blipFill>
          <a:blip r:embed="rId1"/>
          <a:stretch/>
        </p:blipFill>
        <p:spPr>
          <a:xfrm>
            <a:off x="0" y="0"/>
            <a:ext cx="9144000" cy="911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A 2008-04-08 08-11-03-0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908_20051224103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3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6417WUb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36416uos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006fz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2909_20051224103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910[1]"/>
          <p:cNvPicPr/>
          <p:nvPr/>
        </p:nvPicPr>
        <p:blipFill>
          <a:blip r:embed="rId1"/>
          <a:stretch/>
        </p:blipFill>
        <p:spPr>
          <a:xfrm>
            <a:off x="2340000" y="0"/>
            <a:ext cx="4105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75_2006_10_17_mech_1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00600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005rry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971640" y="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логан Arbeit macht frei - девиз большинства концентрационных лагер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следняя надежда уз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0006g7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36404VZWz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камень памя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war_6"/>
          <p:cNvPicPr/>
          <p:nvPr/>
        </p:nvPicPr>
        <p:blipFill>
          <a:blip r:embed="rId1"/>
          <a:stretch/>
        </p:blipFill>
        <p:spPr>
          <a:xfrm>
            <a:off x="127080" y="120600"/>
            <a:ext cx="8889840" cy="66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006b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irkenau_007"/>
          <p:cNvPicPr/>
          <p:nvPr/>
        </p:nvPicPr>
        <p:blipFill>
          <a:blip r:embed="rId1"/>
          <a:stretch/>
        </p:blipFill>
        <p:spPr>
          <a:xfrm>
            <a:off x="0" y="0"/>
            <a:ext cx="9153360" cy="132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36423-WhD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05qh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0062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0006ee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21:04:58Z</dcterms:created>
  <dc:creator>оля</dc:creator>
  <dc:description/>
  <dc:language>en-US</dc:language>
  <cp:lastModifiedBy>Павлов</cp:lastModifiedBy>
  <dcterms:modified xsi:type="dcterms:W3CDTF">2011-05-13T05:42:00Z</dcterms:modified>
  <cp:revision>10</cp:revision>
  <dc:subject/>
  <dc:title>Слайд 1</dc:title>
</cp:coreProperties>
</file>