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1BDB6-7862-4ABE-8FF6-BBB7C2901CE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11D2E-7F74-45BE-9E55-2544235BB5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02F19-DC8E-4559-8BA7-087DD1FA18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B2642-FA7C-4AA7-ABC9-B33C43709A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Какие проблемы возникли у ваших детей с переходом в 5 класс?» -вопрос родителям. Список дополняется ответами на этот вопрос учителями и деть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CBA2F-2325-4586-9DE2-6734C1E43A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 собранием проводится анкетирова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щимся предлагается оценить степень их согласия с предложенными утверждениями. Родителям представляются результаты по всему классу в виде таблицы с процентными показател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DCF4-C6C6-4682-9035-41394D5BC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6528-23B2-403F-A875-0661C7680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49E1-84A9-46C4-9566-85E232E72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5860-7BB9-407D-BC4A-8E0214140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D15C3-F8B0-4E67-819B-5058861A7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C65E6-C849-4B83-812E-98263DD35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25E93-9879-42E8-B6F4-8B600DB01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E5D02-D159-4B91-8F19-965B1BCA9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5F275-2B99-4FF2-9847-36D837112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A373F-9015-4EFF-B185-428EA4188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724BE-19D1-470E-BACD-BDFBEEFA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7773-F278-476E-A9C4-C3C8C7986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1EB56-8A84-4E79-BE61-490DFEC4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7A667-5B09-4FE5-AA1B-C7EE6D0F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5ACA6-A8C2-42E5-BA31-7945B08E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D210B-17B0-43C7-8162-D4D80FFBC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FAC0E-484C-4EFE-AF76-DB65D0119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AF6BE-AEAF-4E6C-A2FC-7E8D06F1F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28F5B-9BB4-4F0B-A190-3CABE6AEC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00E5B-D166-4376-AD3B-32E228878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B4396-BFF3-423D-A951-70EAED306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26202-EE71-4759-A1F6-DFD774DFE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4B58-4362-47AE-B4A5-6C58D691B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79A8F-3207-4BD0-8056-1BDBB999A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46FBB-4B1F-47E0-8EEB-1567B3FC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B3B83-D03F-406F-BEAF-BF3C12F9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B3ECC-2CD8-46AB-B58E-9A4E8CA3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19AE1-7EB6-4897-A906-0C1AB0A40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7E35F-1ACB-4E13-864B-C1E313369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98EC5-51A4-46AE-9B37-814E3E6CF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A61A9-13CA-40CD-BA3B-3B74CE27C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BB104-E838-4670-961E-444EF4F0E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16C67-0C3C-40BF-86AD-94BDD87A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0AB7-E2AF-45EA-B50B-3B5E95DA3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40144-A294-4BA8-9443-6793DBA94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6EA01-DA5F-4859-B913-320F122DA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9C1B0-8FCB-4C06-BF01-A3A546C4C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072D3-FDFF-4321-BAC9-563031A4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A902F-EADA-4922-BB16-147863CA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3C297-3262-4360-BEC9-25F9268B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C32A8-48F2-4FAD-A2CC-DAF6CB966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7E40D-1AD0-4D9C-8D37-C80E2FDD0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D87B6-3BCC-4FF8-A97D-19E922F9C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ECA2D-9A8D-4145-85AC-5744EA17A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AAE4-6D31-41E4-A794-67A96125B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778E3-293A-42B6-9F96-61C036BC7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7ADDA-1016-4362-AE73-2FB70B019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ED2E3-CDDD-488F-97C9-D3EBAEB7B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C8AC2-324E-4D25-A29D-8C96B8A06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D8B51-1F1F-4553-8C85-28042C4A4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00C7F-3E7E-4EB5-AA41-E1973E87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40E0E-DD64-4681-8ECE-43957B9D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01CE6-373D-4B53-9435-4C5FE79D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546A4-A051-4E9C-83FB-B5910B7BA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0BB4B-D1B6-49EC-88BD-EA863A6CE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80AE-CE43-4C3B-8697-64AE43CA9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46740-D364-4F38-BF7A-1230B99B3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D7086-8D92-4064-8EE6-8C8E1898D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AE611-929A-4F14-A91B-EBD9FEE2F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2FC7E-E845-462D-BB88-86DE56E58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9CA95-6B21-4954-8F98-4CDC38BCF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E42B57-10F6-4021-9C4D-61BFB5D4F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7A0EAB-2383-45DF-B700-E571E94FF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305C3-7F50-4557-92B6-FBD82A3D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9EDDE-25A9-46B7-A78B-4BE0D3DA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2F514-076F-4A77-81D1-6AF24925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95DA-C88F-4E62-AB26-FAA993AC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B5C27-D0BA-4B16-9A6B-46C95AC06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F3ADD-FFEE-4A79-91F0-D3625FDF6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39EC5-D88D-4F00-9862-F7B2D22D1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21EB8-ED84-4634-ACB1-9ED17CF1E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502443-CA3D-423A-8822-F0D2BF6B6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57C700-9C21-4E52-AF88-6689C4FD9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8CC6FB-E4CC-4733-AA12-ECA3B9C76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3E4E3D-6F79-4548-81BD-B72D53873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D75E4-80B3-4940-8139-3BF863A5B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01D784-56FE-4E2F-88D7-F0CC2349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4EF5-D25E-4986-8F81-5EA75BD7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D8495-6EDB-48B0-A0B9-1A8F387B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A4E809-52C0-440C-B237-635663C5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69C75-EE0A-4BFE-818C-3542415FB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DD80B-A751-487F-B2E9-3BD991B11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1DBCB-4C32-4060-B669-0DC3ED664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F1A7-4F12-4994-B1B1-D1AA4424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FDD2-1BF8-4974-A8F1-BDA4A6176497}" type="slidenum">
              <a:rPr b="0" lang="ru-RU" sz="10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23079-F42F-409F-8F32-5228DA8DA52D}" type="slidenum">
              <a:rPr b="0" lang="ru-RU" sz="10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d6ec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d6ec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017FC-4B0B-47BE-B5D4-5DC225026F49}" type="slidenum">
              <a:rPr b="0" lang="ru-RU" sz="10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34D42-F633-4C88-BB12-9A84B5BF1B8E}" type="slidenum">
              <a:rPr b="0" lang="ru-RU" sz="10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CA93D-B13A-45B9-9321-81FA9EC1FDA6}" type="slidenum">
              <a:rPr b="0" lang="ru-RU" sz="10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9052D-D40E-41CA-AE17-3AF3A0C5AF65}" type="slidenum">
              <a:rPr b="0" lang="ru-RU" sz="10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A2675-F633-402C-8D9E-4386D8AD510B}" type="slidenum">
              <a:rPr b="0" lang="ru-RU" sz="10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vashpsixolog.ru/index.php/component/content/article/56-education/53-socio-psychological-factors-of-development-self-concept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20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Candara"/>
              </a:rPr>
              <a:t>Родительское собрание в 5 классе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7416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  <a:ea typeface="Arial"/>
              </a:rPr>
              <a:t>"Адаптация </a:t>
            </a:r>
            <a:endParaRPr b="0" lang="en-US" sz="2800" spc="-1" strike="noStrike">
              <a:solidFill>
                <a:srgbClr val="4e5b6f"/>
              </a:solidFill>
              <a:latin typeface="Candar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  <a:ea typeface="Arial"/>
              </a:rPr>
              <a:t>пятиклассников </a:t>
            </a:r>
            <a:endParaRPr b="0" lang="en-US" sz="2800" spc="-1" strike="noStrike">
              <a:solidFill>
                <a:srgbClr val="4e5b6f"/>
              </a:solidFill>
              <a:latin typeface="Candar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  <a:ea typeface="Arial"/>
              </a:rPr>
              <a:t>к новым </a:t>
            </a:r>
            <a:endParaRPr b="0" lang="en-US" sz="2800" spc="-1" strike="noStrike">
              <a:solidFill>
                <a:srgbClr val="4e5b6f"/>
              </a:solidFill>
              <a:latin typeface="Candar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  <a:ea typeface="Arial"/>
              </a:rPr>
              <a:t>условиям </a:t>
            </a:r>
            <a:endParaRPr b="0" lang="en-US" sz="2800" spc="-1" strike="noStrike">
              <a:solidFill>
                <a:srgbClr val="4e5b6f"/>
              </a:solidFill>
              <a:latin typeface="Candar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  <a:ea typeface="Arial"/>
              </a:rPr>
              <a:t>учёбы"</a:t>
            </a:r>
            <a:endParaRPr b="0" lang="en-US" sz="2800" spc="-1" strike="noStrike">
              <a:solidFill>
                <a:srgbClr val="4e5b6f"/>
              </a:solidFill>
              <a:latin typeface="Candara"/>
            </a:endParaRPr>
          </a:p>
        </p:txBody>
      </p:sp>
      <p:pic>
        <p:nvPicPr>
          <p:cNvPr id="344" name="Picture 5" descr=""/>
          <p:cNvPicPr/>
          <p:nvPr/>
        </p:nvPicPr>
        <p:blipFill>
          <a:blip r:embed="rId1"/>
          <a:stretch/>
        </p:blipFill>
        <p:spPr>
          <a:xfrm>
            <a:off x="1547640" y="2421000"/>
            <a:ext cx="40561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Предпочитаемые урок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395280" y="2730600"/>
          <a:ext cx="8415360" cy="2971800"/>
        </p:xfrm>
        <a:graphic>
          <a:graphicData uri="http://schemas.openxmlformats.org/drawingml/2006/table">
            <a:tbl>
              <a:tblPr/>
              <a:tblGrid>
                <a:gridCol w="2736720"/>
                <a:gridCol w="2592360"/>
                <a:gridCol w="3086280"/>
              </a:tblGrid>
              <a:tr h="1066680"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МХ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Математи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Английский язы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5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25 выборо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12 выборо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10 выборо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Что нравиться в гимназии больше всего ?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539640" y="2265480"/>
          <a:ext cx="8332920" cy="2819160"/>
        </p:xfrm>
        <a:graphic>
          <a:graphicData uri="http://schemas.openxmlformats.org/drawingml/2006/table">
            <a:tbl>
              <a:tblPr/>
              <a:tblGrid>
                <a:gridCol w="2710080"/>
                <a:gridCol w="2566800"/>
                <a:gridCol w="3056040"/>
              </a:tblGrid>
              <a:tr h="1303200"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Уроки и учител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Наш клас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Спортза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5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20 выборо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15 выборо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13 выборо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Нужна ли помощь в подготовке домашнего задан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642960" y="2928960"/>
          <a:ext cx="8147160" cy="2500200"/>
        </p:xfrm>
        <a:graphic>
          <a:graphicData uri="http://schemas.openxmlformats.org/drawingml/2006/table">
            <a:tbl>
              <a:tblPr/>
              <a:tblGrid>
                <a:gridCol w="2649600"/>
                <a:gridCol w="2509920"/>
                <a:gridCol w="2987640"/>
              </a:tblGrid>
              <a:tr h="1285920"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Д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Не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По-разном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4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1 выбо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12 выборо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12 выборо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571320" y="2286000"/>
            <a:ext cx="8032680" cy="41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удовлетворенность ребенка процессом обучения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ребенок легко справляется с программой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степень самостоятельности ребенка при выполнении им учебных заданий, готовность прибегнуть к помощи взрослого лишь ПОСЛЕ попыток выполнить задание самому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9200" indent="-259200">
              <a:lnSpc>
                <a:spcPct val="80000"/>
              </a:lnSpc>
              <a:spcBef>
                <a:spcPts val="70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удовлетворенность межличностными отношениями – с одноклассниками и учителем</a:t>
            </a: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28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Признаки успешной адаптации: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-360" y="1856880"/>
            <a:ext cx="8929800" cy="459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just">
              <a:spcBef>
                <a:spcPts val="601"/>
              </a:spcBef>
              <a:buClr>
                <a:srgbClr val="7fd13b"/>
              </a:buClr>
              <a:buSzPct val="52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ndara"/>
              </a:rPr>
              <a:t>Интерес к информации, который лежит в основе познавательной активности</a:t>
            </a:r>
            <a:endParaRPr b="0" lang="en-US" sz="1900" spc="-1" strike="noStrike">
              <a:solidFill>
                <a:srgbClr val="4e5b6f"/>
              </a:solidFill>
              <a:latin typeface="Candara"/>
            </a:endParaRPr>
          </a:p>
          <a:p>
            <a:pPr marL="291600" indent="-291600" algn="just">
              <a:spcBef>
                <a:spcPts val="601"/>
              </a:spcBef>
              <a:buClr>
                <a:srgbClr val="7fd13b"/>
              </a:buClr>
              <a:buSzPct val="52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ndara"/>
              </a:rPr>
              <a:t>Уверенность в себе</a:t>
            </a:r>
            <a:endParaRPr b="0" lang="en-US" sz="1900" spc="-1" strike="noStrike">
              <a:solidFill>
                <a:srgbClr val="4e5b6f"/>
              </a:solidFill>
              <a:latin typeface="Candara"/>
            </a:endParaRPr>
          </a:p>
          <a:p>
            <a:pPr marL="291600" indent="-291600" algn="just">
              <a:spcBef>
                <a:spcPts val="601"/>
              </a:spcBef>
              <a:buClr>
                <a:srgbClr val="7fd13b"/>
              </a:buClr>
              <a:buSzPct val="52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ndara"/>
              </a:rPr>
              <a:t>Направленность на достижения успеха и вера в возможность положительного результат своей деятельности</a:t>
            </a:r>
            <a:endParaRPr b="0" lang="en-US" sz="1900" spc="-1" strike="noStrike">
              <a:solidFill>
                <a:srgbClr val="4e5b6f"/>
              </a:solidFill>
              <a:latin typeface="Candara"/>
            </a:endParaRPr>
          </a:p>
          <a:p>
            <a:pPr marL="291600" indent="-291600" algn="just">
              <a:spcBef>
                <a:spcPts val="601"/>
              </a:spcBef>
              <a:buClr>
                <a:srgbClr val="7fd13b"/>
              </a:buClr>
              <a:buSzPct val="52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ndara"/>
              </a:rPr>
              <a:t>Интерес к людям, организующим процесс обучения или участвующим в нем</a:t>
            </a:r>
            <a:endParaRPr b="0" lang="en-US" sz="1900" spc="-1" strike="noStrike">
              <a:solidFill>
                <a:srgbClr val="4e5b6f"/>
              </a:solidFill>
              <a:latin typeface="Candara"/>
            </a:endParaRPr>
          </a:p>
          <a:p>
            <a:pPr marL="291600" indent="-291600" algn="just">
              <a:spcBef>
                <a:spcPts val="601"/>
              </a:spcBef>
              <a:buClr>
                <a:srgbClr val="7fd13b"/>
              </a:buClr>
              <a:buSzPct val="52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ndara"/>
              </a:rPr>
              <a:t>Потребность и возможность в самовыражении,</a:t>
            </a:r>
            <a:endParaRPr b="0" lang="en-US" sz="1900" spc="-1" strike="noStrike">
              <a:solidFill>
                <a:srgbClr val="4e5b6f"/>
              </a:solidFill>
              <a:latin typeface="Candara"/>
            </a:endParaRPr>
          </a:p>
          <a:p>
            <a:pPr marL="291600" indent="-291600" algn="just">
              <a:spcBef>
                <a:spcPts val="601"/>
              </a:spcBef>
              <a:buClr>
                <a:srgbClr val="7fd13b"/>
              </a:buClr>
              <a:buSzPct val="52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ndara"/>
              </a:rPr>
              <a:t>Принятие и одобрение значимыми людьми</a:t>
            </a:r>
            <a:endParaRPr b="0" lang="en-US" sz="1900" spc="-1" strike="noStrike">
              <a:solidFill>
                <a:srgbClr val="4e5b6f"/>
              </a:solidFill>
              <a:latin typeface="Candara"/>
            </a:endParaRPr>
          </a:p>
          <a:p>
            <a:pPr marL="291600" indent="-291600" algn="just">
              <a:spcBef>
                <a:spcPts val="601"/>
              </a:spcBef>
              <a:buClr>
                <a:srgbClr val="7fd13b"/>
              </a:buClr>
              <a:buSzPct val="52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ndara"/>
              </a:rPr>
              <a:t>Актуализация творческой позиции</a:t>
            </a:r>
            <a:endParaRPr b="0" lang="en-US" sz="1900" spc="-1" strike="noStrike">
              <a:solidFill>
                <a:srgbClr val="4e5b6f"/>
              </a:solidFill>
              <a:latin typeface="Candara"/>
            </a:endParaRPr>
          </a:p>
          <a:p>
            <a:pPr marL="291600" indent="-291600" algn="just">
              <a:spcBef>
                <a:spcPts val="601"/>
              </a:spcBef>
              <a:buClr>
                <a:srgbClr val="7fd13b"/>
              </a:buClr>
              <a:buSzPct val="52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ndara"/>
              </a:rPr>
              <a:t>Осознание значимости происходящего для себя и других</a:t>
            </a:r>
            <a:endParaRPr b="0" lang="en-US" sz="1900" spc="-1" strike="noStrike">
              <a:solidFill>
                <a:srgbClr val="4e5b6f"/>
              </a:solidFill>
              <a:latin typeface="Candara"/>
            </a:endParaRPr>
          </a:p>
          <a:p>
            <a:pPr marL="291600" indent="-291600" algn="just">
              <a:spcBef>
                <a:spcPts val="601"/>
              </a:spcBef>
              <a:buClr>
                <a:srgbClr val="7fd13b"/>
              </a:buClr>
              <a:buSzPct val="52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ndara"/>
              </a:rPr>
              <a:t>Потребность в социальном признании</a:t>
            </a:r>
            <a:endParaRPr b="0" lang="en-US" sz="1900" spc="-1" strike="noStrike">
              <a:solidFill>
                <a:srgbClr val="4e5b6f"/>
              </a:solidFill>
              <a:latin typeface="Candara"/>
            </a:endParaRPr>
          </a:p>
          <a:p>
            <a:pPr marL="291600" indent="-291600" algn="just">
              <a:spcBef>
                <a:spcPts val="601"/>
              </a:spcBef>
              <a:buClr>
                <a:srgbClr val="7fd13b"/>
              </a:buClr>
              <a:buSzPct val="52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ndara"/>
              </a:rPr>
              <a:t>Наличие положительного опыта и отсутствие состояния тревожности и страха</a:t>
            </a:r>
            <a:endParaRPr b="0" lang="en-US" sz="1900" spc="-1" strike="noStrike">
              <a:solidFill>
                <a:srgbClr val="4e5b6f"/>
              </a:solidFill>
              <a:latin typeface="Candara"/>
            </a:endParaRPr>
          </a:p>
          <a:p>
            <a:pPr marL="291600" indent="-291600" algn="just">
              <a:spcBef>
                <a:spcPts val="601"/>
              </a:spcBef>
              <a:buClr>
                <a:srgbClr val="7fd13b"/>
              </a:buClr>
              <a:buSzPct val="52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ndara"/>
              </a:rPr>
              <a:t>Ценность образования в рейтинге жизненных ценностей (особенно в семье).</a:t>
            </a:r>
            <a:endParaRPr b="0" lang="en-US" sz="1900" spc="-1" strike="noStrike">
              <a:solidFill>
                <a:srgbClr val="4e5b6f"/>
              </a:solidFill>
              <a:latin typeface="Candara"/>
            </a:endParaRPr>
          </a:p>
          <a:p>
            <a:pPr marL="291600" indent="-291600" algn="just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5b6f"/>
              </a:solidFill>
              <a:latin typeface="Candara"/>
            </a:endParaRPr>
          </a:p>
          <a:p>
            <a:pPr marL="291600" indent="-291600">
              <a:spcBef>
                <a:spcPts val="451"/>
              </a:spcBef>
              <a:buClr>
                <a:srgbClr val="7fd13b"/>
              </a:buClr>
              <a:buFont typeface="Symbol" charset="2"/>
              <a:buChar char="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3600" spc="-1" strike="noStrike">
                <a:solidFill>
                  <a:srgbClr val="ffffff"/>
                </a:solidFill>
                <a:latin typeface="Candara"/>
              </a:rPr>
              <a:t>Составляющие, от которых в большой степени зависит учебная мотивация:</a:t>
            </a:r>
            <a:br>
              <a:rPr sz="3600"/>
            </a:b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250920" y="1916280"/>
          <a:ext cx="8640720" cy="4852800"/>
        </p:xfrm>
        <a:graphic>
          <a:graphicData uri="http://schemas.openxmlformats.org/drawingml/2006/table">
            <a:tbl>
              <a:tblPr/>
              <a:tblGrid>
                <a:gridCol w="4321080"/>
                <a:gridCol w="4319640"/>
              </a:tblGrid>
              <a:tr h="3052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Обыч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Опас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9151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Снижается первоначальный интерес к школе, занятия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Полное отсутствие интереса к учёбе, вялость и безынициатив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1220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Иногда говорит, что учиться надоело (особенно в конце недели), но интересуется всем остальны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Ничего не интересно, безразличие  даже к играм, если они требуют хоть какого-то напряж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610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Радуется, когда не надо делать уро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Делает уроки только «из-под палки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1220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Время от времени хочет остаться дома, пропустить уро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Нежелание ходить в школу и учиться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-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постоянное и открытое: в виде протеста или симптомов болез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610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Иногда недоволен учителем или опасается по его повод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Не любит или боится учи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100656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Вывод: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беспокоиться нужно, когда нежелание учиться стало устойчивым, выражается активно, отражает основное отношение ребёнка к школ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Когда уместна тревога?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610920" y="2060280"/>
            <a:ext cx="766908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80000"/>
              </a:lnSpc>
              <a:spcBef>
                <a:spcPts val="45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Первое условие школьного успеха пятиклассника —</a:t>
            </a: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 безусловное принятие ребенка, несмотря на те неудачи, с которыми он уже столкнулся или может столкнуться.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1800" spc="-1" strike="noStrike">
              <a:solidFill>
                <a:srgbClr val="4e5b6f"/>
              </a:solidFill>
              <a:latin typeface="Candara"/>
            </a:endParaRPr>
          </a:p>
          <a:p>
            <a:pPr marL="250920" indent="-250920">
              <a:lnSpc>
                <a:spcPct val="80000"/>
              </a:lnSpc>
              <a:spcBef>
                <a:spcPts val="45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Если вас, что-то беспокоит в поведении ребенка, постарайтесь, как можно скорее встретиться и обсудить это с классным руководителем или психологом.</a:t>
            </a:r>
            <a:endParaRPr b="0" lang="en-US" sz="1800" spc="-1" strike="noStrike">
              <a:solidFill>
                <a:srgbClr val="4e5b6f"/>
              </a:solidFill>
              <a:latin typeface="Candara"/>
            </a:endParaRPr>
          </a:p>
          <a:p>
            <a:pPr marL="250920" indent="-250920">
              <a:lnSpc>
                <a:spcPct val="80000"/>
              </a:lnSpc>
              <a:spcBef>
                <a:spcPts val="45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Если в семье произошли какие то события, повлиявшие на психологическое состояние ребенка (развод, отъезд в долгую командировку кого-то из родителей, рождение еще одного ребенка и тд.) сообщите об этом классному руководителю.</a:t>
            </a:r>
            <a:endParaRPr b="0" lang="en-US" sz="1800" spc="-1" strike="noStrike">
              <a:solidFill>
                <a:srgbClr val="4e5b6f"/>
              </a:solidFill>
              <a:latin typeface="Candara"/>
            </a:endParaRPr>
          </a:p>
          <a:p>
            <a:pPr marL="250920" indent="-250920">
              <a:lnSpc>
                <a:spcPct val="80000"/>
              </a:lnSpc>
              <a:spcBef>
                <a:spcPts val="45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Проявляйте интерес к школьным делам, обсуждайте сложные ситуации, вместе ищите выход из конфликтов. Неформальное общение со своим ребенком после прошедшего школьного дня. </a:t>
            </a:r>
            <a:endParaRPr b="0" lang="en-US" sz="1800" spc="-1" strike="noStrike">
              <a:solidFill>
                <a:srgbClr val="4e5b6f"/>
              </a:solidFill>
              <a:latin typeface="Candara"/>
            </a:endParaRPr>
          </a:p>
          <a:p>
            <a:pPr marL="250920" indent="-250920">
              <a:lnSpc>
                <a:spcPct val="80000"/>
              </a:lnSpc>
              <a:spcBef>
                <a:spcPts val="45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Помогите ребенку выучить имена новых учителей.</a:t>
            </a:r>
            <a:endParaRPr b="0" lang="en-US" sz="1800" spc="-1" strike="noStrike">
              <a:solidFill>
                <a:srgbClr val="4e5b6f"/>
              </a:solidFill>
              <a:latin typeface="Candara"/>
            </a:endParaRPr>
          </a:p>
          <a:p>
            <a:pPr marL="250920" indent="-250920">
              <a:lnSpc>
                <a:spcPct val="80000"/>
              </a:lnSpc>
              <a:spcBef>
                <a:spcPts val="45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Не следует сразу ослаблять контроль за учебной деятельностью ребенка, если в период начальной школы он привык к вашему контролю.</a:t>
            </a:r>
            <a:endParaRPr b="0" lang="en-US" sz="1800" spc="-1" strike="noStrike">
              <a:solidFill>
                <a:srgbClr val="4e5b6f"/>
              </a:solidFill>
              <a:latin typeface="Candara"/>
            </a:endParaRPr>
          </a:p>
          <a:p>
            <a:pPr marL="250920" indent="-250920">
              <a:lnSpc>
                <a:spcPct val="80000"/>
              </a:lnSpc>
              <a:spcBef>
                <a:spcPts val="45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Приучайте его к самостоятельности постепенно.</a:t>
            </a:r>
            <a:endParaRPr b="0" lang="en-US" sz="18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Чем можно помочь?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8" name="Picture 4" descr=""/>
          <p:cNvPicPr/>
          <p:nvPr/>
        </p:nvPicPr>
        <p:blipFill>
          <a:blip r:embed="rId1"/>
          <a:stretch/>
        </p:blipFill>
        <p:spPr>
          <a:xfrm>
            <a:off x="611280" y="115920"/>
            <a:ext cx="172404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68360" y="1915920"/>
            <a:ext cx="8424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Обязательное знакомство с его одноклассниками и возможность общения ребят после школы. </a:t>
            </a:r>
            <a:endParaRPr b="0" lang="en-US" sz="18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Недопустимость физических мер воздействия, запугивания, критики в адрес ребенка, особенно в присутствии других людей (бабушек, дедушек, сверстников). </a:t>
            </a:r>
            <a:endParaRPr b="0" lang="en-US" sz="18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Исключение таких мер наказания, как лишение удовольствий, физические и психические наказания. </a:t>
            </a:r>
            <a:endParaRPr b="0" lang="en-US" sz="18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Учет темперамента ребенка в период адаптации к школьному обучению. Медлительные и малообщительные дети гораздо труднее привыкают к классу, быстро теряют к нему интерес, если чувствуют со стороны взрослых и сверстников насилие, сарказм и жестокость. </a:t>
            </a:r>
            <a:endParaRPr b="0" lang="en-US" sz="18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Предоставление ребенку самостоятельности в учебной работе и организация обоснованного контроля за его учебной деятельностью. </a:t>
            </a:r>
            <a:endParaRPr b="0" lang="en-US" sz="18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Поощрение ребенка, и не только за учебные успехи. Моральное стимулирование достижений ребенка. </a:t>
            </a:r>
            <a:endParaRPr b="0" lang="en-US" sz="18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Основными помощниками родителей в сложных ситуациях являются терпение, внимание и понимание. Постарайтесь создать благоприятный климат в семье для ребенка.</a:t>
            </a:r>
            <a:endParaRPr b="0" lang="en-US" sz="18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Чем можно помочь?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81" name="Picture 5" descr=""/>
          <p:cNvPicPr/>
          <p:nvPr/>
        </p:nvPicPr>
        <p:blipFill>
          <a:blip r:embed="rId1"/>
          <a:stretch/>
        </p:blipFill>
        <p:spPr>
          <a:xfrm>
            <a:off x="826920" y="189000"/>
            <a:ext cx="172404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610920" y="2276280"/>
            <a:ext cx="766908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80000"/>
              </a:lnSpc>
              <a:spcBef>
                <a:spcPts val="476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ndara"/>
              </a:rPr>
              <a:t>Создавайте условия для развития</a:t>
            </a:r>
            <a:r>
              <a:rPr b="0" lang="ru-RU" sz="1900" spc="-1" strike="noStrike">
                <a:solidFill>
                  <a:srgbClr val="000000"/>
                </a:solidFill>
                <a:latin typeface="Candara"/>
              </a:rPr>
              <a:t> самостоятельности в поведении ребенка. У пятиклассника непременно должны быть домашние обязанности, за выполнение которых он несет ответственность. </a:t>
            </a:r>
            <a:endParaRPr b="0" lang="en-US" sz="1900" spc="-1" strike="noStrike">
              <a:solidFill>
                <a:srgbClr val="4e5b6f"/>
              </a:solidFill>
              <a:latin typeface="Candara"/>
            </a:endParaRPr>
          </a:p>
          <a:p>
            <a:pPr marL="248040" indent="-248040">
              <a:lnSpc>
                <a:spcPct val="80000"/>
              </a:lnSpc>
              <a:spcBef>
                <a:spcPts val="476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ndara"/>
              </a:rPr>
              <a:t>Несмотря на кажущуюся взрослость,</a:t>
            </a:r>
            <a:r>
              <a:rPr b="0" lang="ru-RU" sz="1900" spc="-1" strike="noStrike">
                <a:solidFill>
                  <a:srgbClr val="000000"/>
                </a:solidFill>
                <a:latin typeface="Candara"/>
              </a:rPr>
              <a:t> пятиклассник нуждается в ненавязчивом контроле со стороны родителей, поскольку не всегда может сам сориентироваться в новых требованиях школьной жизни. </a:t>
            </a:r>
            <a:endParaRPr b="0" lang="en-US" sz="1900" spc="-1" strike="noStrike">
              <a:solidFill>
                <a:srgbClr val="4e5b6f"/>
              </a:solidFill>
              <a:latin typeface="Candara"/>
            </a:endParaRPr>
          </a:p>
          <a:p>
            <a:pPr marL="248040" indent="-248040">
              <a:lnSpc>
                <a:spcPct val="80000"/>
              </a:lnSpc>
              <a:spcBef>
                <a:spcPts val="476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ndara"/>
              </a:rPr>
              <a:t>Для пятиклассника учитель</a:t>
            </a:r>
            <a:r>
              <a:rPr b="0" lang="ru-RU" sz="1900" spc="-1" strike="noStrike">
                <a:solidFill>
                  <a:srgbClr val="000000"/>
                </a:solidFill>
                <a:latin typeface="Candara"/>
              </a:rPr>
              <a:t> – уже не такой непререкаемый авторитет, как раньше, в адрес учителей могут звучать критические замечания. Важно обсудить с ребенком причины его недовольства, поддерживая при этом авторитет учителя. </a:t>
            </a:r>
            <a:endParaRPr b="0" lang="en-US" sz="1900" spc="-1" strike="noStrike">
              <a:solidFill>
                <a:srgbClr val="4e5b6f"/>
              </a:solidFill>
              <a:latin typeface="Candara"/>
            </a:endParaRPr>
          </a:p>
          <a:p>
            <a:pPr marL="248040" indent="-248040">
              <a:lnSpc>
                <a:spcPct val="80000"/>
              </a:lnSpc>
              <a:spcBef>
                <a:spcPts val="476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ndara"/>
              </a:rPr>
              <a:t>Пятикласснику уже не так интересна учеба</a:t>
            </a:r>
            <a:r>
              <a:rPr b="0" lang="ru-RU" sz="1900" spc="-1" strike="noStrike">
                <a:solidFill>
                  <a:srgbClr val="000000"/>
                </a:solidFill>
                <a:latin typeface="Candara"/>
              </a:rPr>
              <a:t> сама по себе, многим в школе интересно бывать потому, что там много друзей. Важно, чтобы у ребенка была возможность обсудить свои школьные дела, учебу и отношения с друзьями в семье, с родителями. </a:t>
            </a:r>
            <a:endParaRPr b="0" lang="en-US" sz="19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Чем можно помочь?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84" name="Picture 4" descr=""/>
          <p:cNvPicPr/>
          <p:nvPr/>
        </p:nvPicPr>
        <p:blipFill>
          <a:blip r:embed="rId1"/>
          <a:stretch/>
        </p:blipFill>
        <p:spPr>
          <a:xfrm>
            <a:off x="900000" y="115920"/>
            <a:ext cx="172404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entury Gothic"/>
              </a:rPr>
              <a:t>Слова, которые поддерживают и которые разрушают его веру в себя: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403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andara"/>
              </a:rPr>
              <a:t>Слова поддержки: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0000" indent="-270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Зная тебя, я уверен, что вы все сделали, хорошо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Ты делаешь это очень хорошо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У тебя есть некоторые соображения по этому поводу? Готов ли ты начать?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Это серьезный вызов. Но я уверен. Что ты готов к нему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653000" y="1600200"/>
            <a:ext cx="424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andara"/>
              </a:rPr>
              <a:t>Слова разочарования: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Зная тебя и твои способности. Я думаю. Ты смог бы сделать это гораздо лучше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Эта идея никогда не сможет быть реализована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Это для тебя слишком трудно, поэтому я сам это сделаю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pic>
        <p:nvPicPr>
          <p:cNvPr id="388" name="Picture 5" descr="super027"/>
          <p:cNvPicPr/>
          <p:nvPr/>
        </p:nvPicPr>
        <p:blipFill>
          <a:blip r:embed="rId1"/>
          <a:stretch/>
        </p:blipFill>
        <p:spPr>
          <a:xfrm>
            <a:off x="7164360" y="5229360"/>
            <a:ext cx="152892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0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6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7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48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49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2000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468000" y="1773000"/>
            <a:ext cx="8218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55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ndara"/>
              </a:rPr>
              <a:t>Появление чувства взрослости</a:t>
            </a:r>
            <a:endParaRPr b="0" lang="en-US" sz="2200" spc="-1" strike="noStrike">
              <a:solidFill>
                <a:srgbClr val="4e5b6f"/>
              </a:solidFill>
              <a:latin typeface="Candara"/>
            </a:endParaRPr>
          </a:p>
          <a:p>
            <a:pPr marL="245520" indent="-245520">
              <a:spcBef>
                <a:spcPts val="55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ndara"/>
              </a:rPr>
              <a:t>Ведущее личностное новообразование –  становление нового уровня самосознания. </a:t>
            </a:r>
            <a:r>
              <a:rPr b="0" lang="ru-RU" sz="2200" spc="-1" strike="noStrike" u="sng">
                <a:solidFill>
                  <a:srgbClr val="eb8803"/>
                </a:solidFill>
                <a:uFillTx/>
                <a:latin typeface="Candara"/>
                <a:hlinkClick r:id="rId1"/>
              </a:rPr>
              <a:t>«Я – концепции» </a:t>
            </a:r>
            <a:r>
              <a:rPr b="1" lang="ru-RU" sz="2200" spc="-1" strike="noStrike">
                <a:solidFill>
                  <a:srgbClr val="ffc000"/>
                </a:solidFill>
                <a:latin typeface="Candara"/>
              </a:rPr>
              <a:t> </a:t>
            </a:r>
            <a:r>
              <a:rPr b="1" lang="ru-RU" sz="2200" spc="-1" strike="noStrike">
                <a:solidFill>
                  <a:srgbClr val="ff9900"/>
                </a:solidFill>
                <a:latin typeface="Candara"/>
              </a:rPr>
              <a:t>(образ себя)</a:t>
            </a:r>
            <a:endParaRPr b="0" lang="en-US" sz="2200" spc="-1" strike="noStrike">
              <a:solidFill>
                <a:srgbClr val="4e5b6f"/>
              </a:solidFill>
              <a:latin typeface="Candara"/>
            </a:endParaRPr>
          </a:p>
          <a:p>
            <a:pPr marL="245520" indent="-245520">
              <a:spcBef>
                <a:spcPts val="55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ndara"/>
              </a:rPr>
              <a:t>Стремление утвердить свою самостоятельность, независимость, личностную автономность, потребность в освобождении от опеки и контроля</a:t>
            </a:r>
            <a:endParaRPr b="0" lang="en-US" sz="2200" spc="-1" strike="noStrike">
              <a:solidFill>
                <a:srgbClr val="4e5b6f"/>
              </a:solidFill>
              <a:latin typeface="Candara"/>
            </a:endParaRPr>
          </a:p>
          <a:p>
            <a:pPr marL="245520" indent="-245520">
              <a:spcBef>
                <a:spcPts val="55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ndara"/>
              </a:rPr>
              <a:t>Постепенно происходит замена влияния семьи влиянием сверстников</a:t>
            </a:r>
            <a:endParaRPr b="0" lang="en-US" sz="2200" spc="-1" strike="noStrike">
              <a:solidFill>
                <a:srgbClr val="4e5b6f"/>
              </a:solidFill>
              <a:latin typeface="Candara"/>
            </a:endParaRPr>
          </a:p>
          <a:p>
            <a:pPr marL="245520" indent="-245520">
              <a:spcBef>
                <a:spcPts val="55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ndara"/>
              </a:rPr>
              <a:t>Потребность в постоянной поддержке и принятии</a:t>
            </a:r>
            <a:endParaRPr b="0" lang="en-US" sz="2200" spc="-1" strike="noStrike">
              <a:solidFill>
                <a:srgbClr val="4e5b6f"/>
              </a:solidFill>
              <a:latin typeface="Candara"/>
            </a:endParaRPr>
          </a:p>
          <a:p>
            <a:pPr marL="245520" indent="-245520">
              <a:spcBef>
                <a:spcPts val="55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ndara"/>
              </a:rPr>
              <a:t>Время перехода от мышления, основанного на оперировании конкретными представлениями, к мышлению теоретическому, от непосредственной памяти к логической.</a:t>
            </a:r>
            <a:endParaRPr b="0" lang="en-US" sz="2200" spc="-1" strike="noStrike">
              <a:solidFill>
                <a:srgbClr val="4e5b6f"/>
              </a:solidFill>
              <a:latin typeface="Candara"/>
            </a:endParaRPr>
          </a:p>
          <a:p>
            <a:pPr marL="245520" indent="-24552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15640" y="274680"/>
            <a:ext cx="8785080" cy="13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ndara"/>
              </a:rPr>
              <a:t>Возрастные особенности младшего подростка: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1618920" y="1628280"/>
            <a:ext cx="7343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 </a:t>
            </a:r>
            <a:endParaRPr b="0" lang="en-US" sz="1800" spc="-1" strike="noStrike">
              <a:solidFill>
                <a:srgbClr val="4e5b6f"/>
              </a:solidFill>
              <a:latin typeface="Candara"/>
            </a:endParaRPr>
          </a:p>
          <a:p>
            <a:pPr marL="250920" indent="-250920">
              <a:lnSpc>
                <a:spcPct val="80000"/>
              </a:lnSpc>
              <a:spcBef>
                <a:spcPts val="49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dara"/>
              </a:rPr>
              <a:t>Не сравнивайте ребенка с окружающими.</a:t>
            </a:r>
            <a:endParaRPr b="0" lang="en-US" sz="2000" spc="-1" strike="noStrike">
              <a:solidFill>
                <a:srgbClr val="4e5b6f"/>
              </a:solidFill>
              <a:latin typeface="Candara"/>
            </a:endParaRPr>
          </a:p>
          <a:p>
            <a:pPr marL="250920" indent="-250920">
              <a:lnSpc>
                <a:spcPct val="80000"/>
              </a:lnSpc>
              <a:spcBef>
                <a:spcPts val="49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dara"/>
              </a:rPr>
              <a:t>Доверяйте ребенку.</a:t>
            </a:r>
            <a:endParaRPr b="0" lang="en-US" sz="2000" spc="-1" strike="noStrike">
              <a:solidFill>
                <a:srgbClr val="4e5b6f"/>
              </a:solidFill>
              <a:latin typeface="Candara"/>
            </a:endParaRPr>
          </a:p>
          <a:p>
            <a:pPr marL="250920" indent="-250920">
              <a:lnSpc>
                <a:spcPct val="80000"/>
              </a:lnSpc>
              <a:spcBef>
                <a:spcPts val="49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dara"/>
              </a:rPr>
              <a:t>Чаще хвалите его, но так, чтобы он знал, за что.</a:t>
            </a:r>
            <a:endParaRPr b="0" lang="en-US" sz="2000" spc="-1" strike="noStrike">
              <a:solidFill>
                <a:srgbClr val="4e5b6f"/>
              </a:solidFill>
              <a:latin typeface="Candara"/>
            </a:endParaRPr>
          </a:p>
          <a:p>
            <a:pPr marL="250920" indent="-250920">
              <a:lnSpc>
                <a:spcPct val="80000"/>
              </a:lnSpc>
              <a:spcBef>
                <a:spcPts val="49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dara"/>
              </a:rPr>
              <a:t>Демонстрируйте образцы уверенного поведения, будьте во всем примером ребенку.</a:t>
            </a:r>
            <a:endParaRPr b="0" lang="en-US" sz="2000" spc="-1" strike="noStrike">
              <a:solidFill>
                <a:srgbClr val="4e5b6f"/>
              </a:solidFill>
              <a:latin typeface="Candara"/>
            </a:endParaRPr>
          </a:p>
          <a:p>
            <a:pPr marL="250920" indent="-250920">
              <a:lnSpc>
                <a:spcPct val="80000"/>
              </a:lnSpc>
              <a:spcBef>
                <a:spcPts val="49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dara"/>
              </a:rPr>
              <a:t>Не предъявляйте к ребенку завышенных требований. </a:t>
            </a:r>
            <a:endParaRPr b="0" lang="en-US" sz="2000" spc="-1" strike="noStrike">
              <a:solidFill>
                <a:srgbClr val="4e5b6f"/>
              </a:solidFill>
              <a:latin typeface="Candara"/>
            </a:endParaRPr>
          </a:p>
          <a:p>
            <a:pPr marL="250920" indent="-250920">
              <a:lnSpc>
                <a:spcPct val="80000"/>
              </a:lnSpc>
              <a:spcBef>
                <a:spcPts val="49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dara"/>
              </a:rPr>
              <a:t>Будьте последовательны в воспитании ребенка. Не запрещайте без всяких причин того, что разрешали раньше.</a:t>
            </a:r>
            <a:endParaRPr b="0" lang="en-US" sz="2000" spc="-1" strike="noStrike">
              <a:solidFill>
                <a:srgbClr val="4e5b6f"/>
              </a:solidFill>
              <a:latin typeface="Candara"/>
            </a:endParaRPr>
          </a:p>
          <a:p>
            <a:pPr marL="250920" indent="-250920">
              <a:lnSpc>
                <a:spcPct val="80000"/>
              </a:lnSpc>
              <a:spcBef>
                <a:spcPts val="49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dara"/>
              </a:rPr>
              <a:t>Старайтесь делать ребенку меньше замечаний.</a:t>
            </a:r>
            <a:endParaRPr b="0" lang="en-US" sz="2000" spc="-1" strike="noStrike">
              <a:solidFill>
                <a:srgbClr val="4e5b6f"/>
              </a:solidFill>
              <a:latin typeface="Candara"/>
            </a:endParaRPr>
          </a:p>
          <a:p>
            <a:pPr marL="250920" indent="-250920">
              <a:lnSpc>
                <a:spcPct val="80000"/>
              </a:lnSpc>
              <a:spcBef>
                <a:spcPts val="49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dara"/>
              </a:rPr>
              <a:t>Используйте наказание лишь в крайних случаях.</a:t>
            </a:r>
            <a:endParaRPr b="0" lang="en-US" sz="2000" spc="-1" strike="noStrike">
              <a:solidFill>
                <a:srgbClr val="4e5b6f"/>
              </a:solidFill>
              <a:latin typeface="Candara"/>
            </a:endParaRPr>
          </a:p>
          <a:p>
            <a:pPr marL="250920" indent="-250920">
              <a:lnSpc>
                <a:spcPct val="80000"/>
              </a:lnSpc>
              <a:spcBef>
                <a:spcPts val="49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dara"/>
              </a:rPr>
              <a:t>Не унижайте ребенка, наказывая его.</a:t>
            </a:r>
            <a:endParaRPr b="0" lang="en-US" sz="2000" spc="-1" strike="noStrike">
              <a:solidFill>
                <a:srgbClr val="4e5b6f"/>
              </a:solidFill>
              <a:latin typeface="Candara"/>
            </a:endParaRPr>
          </a:p>
          <a:p>
            <a:pPr marL="250920" indent="-250920">
              <a:lnSpc>
                <a:spcPct val="80000"/>
              </a:lnSpc>
              <a:spcBef>
                <a:spcPts val="49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dara"/>
              </a:rPr>
              <a:t>Общаясь с ребенком, не подрывайте авторитет других значимых взрослых людей. Например, нельзя говорить ребенку: «Много ваша учительница понимает, лучше меня слушай!».</a:t>
            </a:r>
            <a:endParaRPr b="0" lang="en-US" sz="2000" spc="-1" strike="noStrike">
              <a:solidFill>
                <a:srgbClr val="4e5b6f"/>
              </a:solidFill>
              <a:latin typeface="Candara"/>
            </a:endParaRPr>
          </a:p>
          <a:p>
            <a:pPr marL="250920" indent="-250920">
              <a:lnSpc>
                <a:spcPct val="80000"/>
              </a:lnSpc>
              <a:spcBef>
                <a:spcPts val="49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dara"/>
              </a:rPr>
              <a:t>Помогите ему найти дело по душе.</a:t>
            </a:r>
            <a:endParaRPr b="0" lang="en-US" sz="20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ndara"/>
              </a:rPr>
              <a:t>Способы преодоления тревожности: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91" name="Picture 4" descr="lands078"/>
          <p:cNvPicPr/>
          <p:nvPr/>
        </p:nvPicPr>
        <p:blipFill>
          <a:blip r:embed="rId1"/>
          <a:stretch/>
        </p:blipFill>
        <p:spPr>
          <a:xfrm>
            <a:off x="395280" y="1268280"/>
            <a:ext cx="136836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2" descr=""/>
          <p:cNvPicPr/>
          <p:nvPr/>
        </p:nvPicPr>
        <p:blipFill>
          <a:blip r:embed="rId1"/>
          <a:stretch/>
        </p:blipFill>
        <p:spPr>
          <a:xfrm>
            <a:off x="2662200" y="2674800"/>
            <a:ext cx="3827520" cy="3451320"/>
          </a:xfrm>
          <a:prstGeom prst="rect">
            <a:avLst/>
          </a:prstGeom>
          <a:ln w="0">
            <a:noFill/>
          </a:ln>
        </p:spPr>
      </p:pic>
      <p:sp>
        <p:nvSpPr>
          <p:cNvPr id="393" name="WordArt 3"/>
          <p:cNvSpPr txBox="1"/>
          <p:nvPr/>
        </p:nvSpPr>
        <p:spPr>
          <a:xfrm>
            <a:off x="1692360" y="189000"/>
            <a:ext cx="53290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Желаю успех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250560" y="2349360"/>
            <a:ext cx="8569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Имеют достаточный уровень интеллектуального развития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6320" indent="-25632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Умеет работать самостоятельно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6320" indent="-25632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Умеет планировать свои действия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6320" indent="-25632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Умеет контролировать свои действия и оценивать результат своей работы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6320" indent="-25632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Умеет строить взаимоотношения со сверстниками и взрослыми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6320" indent="-25632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Способны выдерживать эмоциональные нагрузки, обладают эмоциональной устойчивостью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6320" indent="-25632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Кто не делает трагедии из школьной оценки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ndara"/>
              </a:rPr>
              <a:t>Успешно адаптируются пятиклассники-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9" name="Picture 4" descr="J0233966"/>
          <p:cNvPicPr/>
          <p:nvPr/>
        </p:nvPicPr>
        <p:blipFill>
          <a:blip r:embed="rId1"/>
          <a:stretch/>
        </p:blipFill>
        <p:spPr>
          <a:xfrm flipH="1" rot="10800000">
            <a:off x="6516720" y="1253880"/>
            <a:ext cx="1655640" cy="109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539640" y="2571480"/>
            <a:ext cx="81360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сформированность основных компонентов учебной деятельности, успешное усвоение программного материала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новообразования младшего школьного возраста – произвольность, рефлексия, мышление в понятиях (в соответствующих возрасту формах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качественно иной, более «взрослый» тип взаимоотношений с учителями и одноклассниками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ndara"/>
              </a:rPr>
              <a:t>Критерии готовности к обучению в средней школе: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250560" y="2276280"/>
            <a:ext cx="85899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Новое здание и разные кабинеты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Новый классный руководитель и учителя – предметники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Разные требования, стиль и методика обучения на уроках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Большой поток информации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Чувство одиночества из-за отсутствия первой учительницы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Новый коллектив сверстников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Новые правила и нормы поведения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Новые условия обучения и воспитания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4" name="Picture 8" descr="PE02288_"/>
          <p:cNvPicPr/>
          <p:nvPr/>
        </p:nvPicPr>
        <p:blipFill>
          <a:blip r:embed="rId1"/>
          <a:stretch/>
        </p:blipFill>
        <p:spPr>
          <a:xfrm>
            <a:off x="6516720" y="4429080"/>
            <a:ext cx="221760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755280" y="2420640"/>
            <a:ext cx="77770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Интеллектуальная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- нарушение интеллектуальной деятельности. Отставание в развитии от сверстников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Поведенческая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- несоответствие поведения ребёнка правовым и моральным нормам (агрессивность, асоциальное поведение)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Коммуникативная 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- затруднения в общении со сверстниками и взрослыми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Соматическая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- отклонения в здоровье ребёнка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Эмоциональная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- эмоциональные трудности, тревоги по поводу переживания проблем в школе.  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Возможные реакции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539280" y="1699920"/>
            <a:ext cx="7993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  <a:ea typeface="Times New Roman"/>
              </a:rPr>
              <a:t>1.Тебе нравиться в школе или не очень?</a:t>
            </a:r>
            <a:endParaRPr b="0" lang="en-US" sz="2200" spc="-1" strike="noStrike">
              <a:solidFill>
                <a:srgbClr val="4e5b6f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2.  Утром, когда просыпаешься, ты всегда с радостью идешь в школу или тебе часто хочется остаться дома?</a:t>
            </a:r>
            <a:endParaRPr b="0" lang="en-US" sz="2200" spc="-1" strike="noStrike">
              <a:solidFill>
                <a:srgbClr val="4e5b6f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3.Если бы учитель сказал, что завтра в школу необязательно приходить всем ученикам, желающим можно остаться дома. </a:t>
            </a:r>
            <a:endParaRPr b="0" lang="en-US" sz="2200" spc="-1" strike="noStrike">
              <a:solidFill>
                <a:srgbClr val="4e5b6f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Ты бы пошел в школу или остался бы дома?</a:t>
            </a:r>
            <a:endParaRPr b="0" lang="en-US" sz="2200" spc="-1" strike="noStrike">
              <a:solidFill>
                <a:srgbClr val="4e5b6f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4.Тебе нравиться, когда у вас отменяют какие-нибудь уроки?</a:t>
            </a:r>
            <a:endParaRPr b="0" lang="en-US" sz="2200" spc="-1" strike="noStrike">
              <a:solidFill>
                <a:srgbClr val="4e5b6f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5. Ты хотел бы, чтобы тебе не задавали домашних заданий?</a:t>
            </a:r>
            <a:endParaRPr b="0" lang="en-US" sz="2200" spc="-1" strike="noStrike">
              <a:solidFill>
                <a:srgbClr val="4e5b6f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6.Ты хотел бы чтобы в школе остались одни перемены?</a:t>
            </a:r>
            <a:endParaRPr b="0" lang="en-US" sz="2200" spc="-1" strike="noStrike">
              <a:solidFill>
                <a:srgbClr val="4e5b6f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7. Ты часто рассказываешь о школе родителям?</a:t>
            </a:r>
            <a:endParaRPr b="0" lang="en-US" sz="2200" spc="-1" strike="noStrike">
              <a:solidFill>
                <a:srgbClr val="4e5b6f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8.Ты хотел бы, чтобы у тебя был менее строгий учитель?</a:t>
            </a:r>
            <a:endParaRPr b="0" lang="en-US" sz="2200" spc="-1" strike="noStrike">
              <a:solidFill>
                <a:srgbClr val="4e5b6f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9. У тебя в классе много друзей?</a:t>
            </a:r>
            <a:endParaRPr b="0" lang="en-US" sz="2200" spc="-1" strike="noStrike">
              <a:solidFill>
                <a:srgbClr val="4e5b6f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10.Тебе нравятся твои одноклассники?</a:t>
            </a:r>
            <a:endParaRPr b="0" lang="en-US" sz="22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85840" y="259920"/>
            <a:ext cx="86788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Опрос детей «Школьная адаптация»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9" name="Picture 4" descr="people3026"/>
          <p:cNvPicPr/>
          <p:nvPr/>
        </p:nvPicPr>
        <p:blipFill>
          <a:blip r:embed="rId1"/>
          <a:stretch/>
        </p:blipFill>
        <p:spPr>
          <a:xfrm>
            <a:off x="7308720" y="4869000"/>
            <a:ext cx="1528920" cy="156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Показатели школьной адаптации учащихся 5 «Б» класс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1" name="Таблица 4" descr=""/>
          <p:cNvPicPr/>
          <p:nvPr/>
        </p:nvPicPr>
        <p:blipFill>
          <a:blip r:embed="rId1"/>
          <a:stretch/>
        </p:blipFill>
        <p:spPr>
          <a:xfrm>
            <a:off x="463680" y="2730600"/>
            <a:ext cx="843120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Результаты адаптации детей к школе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457200" y="1600200"/>
          <a:ext cx="8115480" cy="4513320"/>
        </p:xfrm>
        <a:graphic>
          <a:graphicData uri="http://schemas.openxmlformats.org/drawingml/2006/table">
            <a:tbl>
              <a:tblPr/>
              <a:tblGrid>
                <a:gridCol w="4003560"/>
                <a:gridCol w="4111920"/>
              </a:tblGrid>
              <a:tr h="820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вни адапта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Б (=25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8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(36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ерхност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(24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е среднег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(12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ий (дезадаптация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30:51Z</dcterms:created>
  <dc:creator>http://www.psy.5igorsk.ru</dc:creator>
  <dc:description/>
  <dc:language>en-US</dc:language>
  <cp:lastModifiedBy>Ann</cp:lastModifiedBy>
  <dcterms:modified xsi:type="dcterms:W3CDTF">2022-05-07T12:39:00Z</dcterms:modified>
  <cp:revision>213</cp:revision>
  <dc:subject/>
  <dc:title>Родительское собрание в 5 классе</dc:title>
</cp:coreProperties>
</file>