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8690-093F-462E-B0D8-0F4F309A76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BBB8-C478-4B24-88D0-73406BDC4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6A2F-8CA2-447B-85AC-6BB647C1A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625-488F-4016-AAF6-8A4CF39BB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0BA0-67D8-440A-82E0-50F766763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C1B-2E4B-4A95-9005-487FEB0C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4E0-94CD-4E5C-B707-34C8549D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933-EB22-49FE-8185-7EE51C73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3F6-743A-4C5F-97C8-C02A4FCC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F111-2FAF-4A87-8F2F-837B89B3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E5E7-B3C8-40FA-823B-5F69C1E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C601-FD05-476C-8B2E-BA33AFAB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71B7-54AA-40D4-ABA1-E48324E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7FC9-6C61-4180-BA6B-DDDB8734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8D1A-A759-47D5-9297-01043718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FCB4-515F-489C-AFD0-B768EBA5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14E-DD12-4EA2-B149-E8C46AB9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D59B-1AC8-4468-AB8F-049EDD4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A600-85B8-48CC-BB94-91737992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7B0D-FE41-4035-8D4D-207666B3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3C5E-7BBD-4216-ABA4-94C2A349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33EB-A14D-4E96-A84F-7FD5ACF7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CB7E-EA17-416A-BB74-AAC0DAE2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67DB-D8E7-4B3A-B518-C15E3ED7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B9DA-CF21-41B9-AB57-8C16978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08CF-9C9E-47A3-80CA-756A76D4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FF87-AF8C-42C8-BEC5-C79E5A41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FED-4D7A-4367-8712-19D6EC9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A3256-AE1B-430E-A996-310B7975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9BE8-0B11-40D7-9B4B-A1159D46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6D8B-B58C-4978-B70A-64C59C3C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390E-3FF5-4940-9342-0872BCD1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4505-EAED-447C-85C9-4D411598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7090-ABA9-4EF7-A287-B04BCBE8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3B41-0FFE-4714-98B0-DEE85DDB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B9D0-EB0A-4D76-B661-4FE1FA48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CAE1-CCCD-4504-9B7A-8C699D5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253E-244E-4041-9220-81DF9B7D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21E-1238-4959-BD90-32E8F62A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8B7F-4A51-4667-9D84-9100C310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FFB0-6E1A-461E-A54D-DB7A92FC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DE3AB-F38A-499A-80A5-659E70E1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78D9-0575-47AE-ADD5-399C11A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37648-F231-46C7-B5A4-269E41E4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5460-90CF-4AE2-995B-244D976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B690-2670-48D1-8EB7-EC2C00B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60EC-E8E5-4D89-B53A-28060E47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0C064-CCBB-48E1-9547-E8C21F50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ED009-40B9-4985-B26A-787AE885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A8B-818F-4F66-B276-49640463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8191C-F3DB-44B0-B280-A8C496D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6984-5E9D-460F-9572-BEF6D59D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A672B-3CE2-4F1E-88FA-CD8BE2B4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A878-EA85-4886-9E4E-3D4794C9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68D1-C084-446C-A0DA-2D0FAB7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CDA5-DC0D-46E2-B68A-27B4683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5766-8C39-44D9-9876-DB49B78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E971B-D231-489A-B1F2-27BAE0ED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4C151-FFC6-4CB5-A8C1-CD0C43A8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30393-9C87-4CF0-BB53-D22FDC4D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FE7-C43B-48F0-9E0C-0796230D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F26A-2B12-4600-9EEE-C807AA73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B859F-87E3-4A3E-A08B-965758B6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ACFF-5712-4719-AB89-7688E13B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0EB4-2FBC-4958-A1D7-2274B1BB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73AF-57F6-4FE3-83AB-DE064E11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1325-03BF-4B12-BDB1-2545C75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08488-9D74-47EF-B1F7-B8C00C63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41C00-79D1-4851-A7C2-FAA57044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A4564-1718-4E60-B82E-A20A09D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1AAD5-DB5F-48E5-AF64-8777136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4EE-92A4-4CC7-9A8B-1E4D0C18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1A83D-90AE-45D6-8945-1A620878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B8A81-EDBE-49F9-A747-2F640BC3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1F8A1-015D-44D8-9BBF-EB70EFAE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E5D3-9FBC-47EB-9519-2F470855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A8A5F-EA14-4AEE-B485-E201B08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36C0-1759-4C4E-B59A-2ABFA4B0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AEA0A-A919-4CAB-A9CF-81F1C096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C52AA-1711-43EF-82A5-3A0D03A1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43D1-DAFE-4CBD-9E16-AEA7CA43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6BC9-C230-4B26-91A5-0E88B44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FEE-EC5E-455C-9B3B-0FB8F46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BFEB-FC84-4147-81CF-F5F63D43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9B063-45AF-4B76-B7A2-C1CEB78F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36D44-5695-4BC8-ADE4-77385720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51DA-B882-4E74-B31E-32A494C5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00A5-E391-4655-9113-D8E7EAEA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1E8-C97F-4BD0-90E3-BE750A3E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4973-04B1-46B2-9189-6F8928AE3122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2B12-F49A-47BB-9A80-68266397E651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9914-0E13-4525-BA7D-2EDCC31D6235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BB28-AAED-4DCF-909E-0CE320858933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5FB4-5F47-47EB-AF8E-C94B2BA0FC1E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08A1-258F-49A5-8A0A-AF6E03EAE860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5278-2DC8-48E8-B4EA-B97C7BC29B9F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ashpsixolog.ru/index.php/component/content/article/56-education/53-socio-psychological-factors-of-development-self-concep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Родительское собрание в 5 класс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"Адаптация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пятиклассников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к новым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условиям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учёбы"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едпочитаемые уро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95280" y="2730600"/>
          <a:ext cx="8415360" cy="297180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3086280"/>
              </a:tblGrid>
              <a:tr h="1066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МХ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Английский язы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25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2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0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Что нравиться в гимназии больше всего 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39640" y="2265480"/>
          <a:ext cx="8332920" cy="2819160"/>
        </p:xfrm>
        <a:graphic>
          <a:graphicData uri="http://schemas.openxmlformats.org/drawingml/2006/table">
            <a:tbl>
              <a:tblPr/>
              <a:tblGrid>
                <a:gridCol w="2710080"/>
                <a:gridCol w="2566800"/>
                <a:gridCol w="3056040"/>
              </a:tblGrid>
              <a:tr h="1303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Уроки и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аш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Спортз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20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5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3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ужна ли помощь в подготовке домашнего зад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42960" y="2928960"/>
          <a:ext cx="8147160" cy="2500200"/>
        </p:xfrm>
        <a:graphic>
          <a:graphicData uri="http://schemas.openxmlformats.org/drawingml/2006/table">
            <a:tbl>
              <a:tblPr/>
              <a:tblGrid>
                <a:gridCol w="2649600"/>
                <a:gridCol w="2509920"/>
                <a:gridCol w="2987640"/>
              </a:tblGrid>
              <a:tr h="12859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По-разном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 выб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2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2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320" y="2286000"/>
            <a:ext cx="803268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довлетворенность ребенка процессом обуч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ребенок легко справляется с программой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довлетворенность межличностными отношениями – с одноклассниками и учителем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изнаки успешной адаптаци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-360" y="1856880"/>
            <a:ext cx="8929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Интерес к информации, который лежит в основе познавательной активност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Уверенность в себе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Направленность на достижения успеха и вера в возможность положительного результат своей деятельност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Интерес к людям, организующим процесс обучения или участвующим в нем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Потребность и возможность в самовыражении,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Принятие и одобрение значимыми людьм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Актуализация творческой позици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Осознание значимости происходящего для себя и других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Потребность в социальном признани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Наличие положительного опыта и отсутствие состояния тревожности и страха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Ценность образования в рейтинге жизненных ценностей (особенно в семье).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Составляющие, от которых в большой степени зависит учебная мотивация:</a:t>
            </a:r>
            <a:br>
              <a:rPr sz="3600"/>
            </a:b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50920" y="1916280"/>
          <a:ext cx="8640720" cy="485280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Обыч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Опа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Снижается первоначальный интерес к школе, заняти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Полное отсутствие интереса к учёбе, вялость и безынициа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22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огда говорит, что учиться надоело (особенно в конце недели), но интересуется всем осталь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ичего не интересно, безразличие  даже к играм, если они требуют хоть какого-то напря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Радуется, когда не надо делать у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Делает уроки только «из-под пал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22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Время от времени хочет остаться дома, пропустить у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ежелание ходить в школу и учитьс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постоянное и открытое: в виде протеста или симптомов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огда недоволен учителем или опасается по его пов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е любит или боится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06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вод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беспокоиться нужно, когда нежелание учиться стало устойчивым, выражается активно, отражает основное отношение ребёнка к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гда уместна тревога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2060280"/>
            <a:ext cx="7669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Чем можно помочь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1915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Чем можно помочь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10920" y="2276280"/>
            <a:ext cx="76690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Создавайте условия для развития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Несмотря на кажущуюся взрослость,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Для пятиклассника учитель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Пятикласснику уже не так интересна учеба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Чем можно помочь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ndara"/>
              </a:rPr>
              <a:t>Слова поддерж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ная тебя, я уверен, что вы все сделали, хорошо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ы делаешь это очень хорошо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 тебя есть некоторые соображения по этому поводу? Готов ли ты начать?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серьезный вызов. Но я уверен. Что ты готов к нему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ndara"/>
              </a:rPr>
              <a:t>Слова разочаровани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88" name="Picture 5" descr="super027"/>
          <p:cNvPicPr/>
          <p:nvPr/>
        </p:nvPicPr>
        <p:blipFill>
          <a:blip r:embed="rId1"/>
          <a:stretch/>
        </p:blipFill>
        <p:spPr>
          <a:xfrm>
            <a:off x="7164360" y="522936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000" y="177300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явление чувства взрослости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Ведущее личностное новообразование –  становление нового уровня самосознания. </a:t>
            </a:r>
            <a:r>
              <a:rPr b="0" lang="ru-RU" sz="2200" spc="-1" strike="noStrike" u="sng">
                <a:solidFill>
                  <a:srgbClr val="eb8803"/>
                </a:solidFill>
                <a:uFillTx/>
                <a:latin typeface="Candara"/>
                <a:hlinkClick r:id="rId1"/>
              </a:rPr>
              <a:t>«Я – концепции» </a:t>
            </a:r>
            <a:r>
              <a:rPr b="1" lang="ru-RU" sz="2200" spc="-1" strike="noStrike">
                <a:solidFill>
                  <a:srgbClr val="ffc000"/>
                </a:solidFill>
                <a:latin typeface="Candara"/>
              </a:rPr>
              <a:t> </a:t>
            </a:r>
            <a:r>
              <a:rPr b="1" lang="ru-RU" sz="2200" spc="-1" strike="noStrike">
                <a:solidFill>
                  <a:srgbClr val="ff9900"/>
                </a:solidFill>
                <a:latin typeface="Candara"/>
              </a:rPr>
              <a:t>(образ себя)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Стремление утвердить свою самостоятельность, независимость, личностную автономность, потребность в освобождении от опеки и контроля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степенно происходит замена влияния семьи влиянием сверстников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требность в постоянной поддержке и принятии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Время перехода от мышления, основанного на оперировании конкретными представлениями, к мышлению теоретическому, от непосредственной памяти к логической.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5640" y="274680"/>
            <a:ext cx="878508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Возрастные особенности младшего подростка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618920" y="1628280"/>
            <a:ext cx="7343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Не сравнивайте ребенка с окружающим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Доверяйте ребенку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Чаще хвалите его, но так, чтобы он знал, за что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Демонстрируйте образцы уверенного поведения, будьте во всем примером ребенку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Не предъявляйте к ребенку завышенных требований.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Старайтесь делать ребенку меньше замечаний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Используйте наказание лишь в крайних случаях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Не унижайте ребенка, наказывая его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Помогите ему найти дело по душе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Способы преодоления тревожности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4" descr="lands078"/>
          <p:cNvPicPr/>
          <p:nvPr/>
        </p:nvPicPr>
        <p:blipFill>
          <a:blip r:embed="rId1"/>
          <a:stretch/>
        </p:blipFill>
        <p:spPr>
          <a:xfrm>
            <a:off x="395280" y="126828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662200" y="2674800"/>
            <a:ext cx="3827520" cy="3451320"/>
          </a:xfrm>
          <a:prstGeom prst="rect">
            <a:avLst/>
          </a:prstGeom>
          <a:ln w="0">
            <a:noFill/>
          </a:ln>
        </p:spPr>
      </p:pic>
      <p:sp>
        <p:nvSpPr>
          <p:cNvPr id="393" name="WordArt 3"/>
          <p:cNvSpPr txBox="1"/>
          <p:nvPr/>
        </p:nvSpPr>
        <p:spPr>
          <a:xfrm>
            <a:off x="1692360" y="189000"/>
            <a:ext cx="53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50560" y="234936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еют достаточный уровень интеллектуального развит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еет работать самостоятельно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еет планировать свои действ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еет контролировать свои действия и оценивать результат своей работы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еет строить взаимоотношения со сверстниками и взрослым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пособны выдерживать эмоциональные нагрузки, обладают эмоциональной устойчивостью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то не делает трагедии из школьной оценки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Успешно адаптируются пятиклассники-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4" descr="J0233966"/>
          <p:cNvPicPr/>
          <p:nvPr/>
        </p:nvPicPr>
        <p:blipFill>
          <a:blip r:embed="rId1"/>
          <a:stretch/>
        </p:blipFill>
        <p:spPr>
          <a:xfrm flipH="1" rot="10800000">
            <a:off x="6516720" y="1253880"/>
            <a:ext cx="16556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39640" y="2571480"/>
            <a:ext cx="81360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формированность основных компонентов учебной деятельности, успешное усвоение программного материа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ообразования младшего школьного возраста – произвольность, рефлексия, мышление в понятиях (в соответствующих возрасту формах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ачественно иной, более «взрослый» тип взаимоотношений с учителями и одноклассниками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Критерии готовности к обучению в средней школе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50560" y="2276280"/>
            <a:ext cx="8589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ое здание и разные кабинеты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ый классный руководитель и учителя – предметник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Разные требования, стиль и методика обучения на уроках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Большой поток информаци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увство одиночества из-за отсутствия первой учительницы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ый коллектив сверстников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ые правила и нормы повед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овые условия обучения и воспитани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8" descr="PE02288_"/>
          <p:cNvPicPr/>
          <p:nvPr/>
        </p:nvPicPr>
        <p:blipFill>
          <a:blip r:embed="rId1"/>
          <a:stretch/>
        </p:blipFill>
        <p:spPr>
          <a:xfrm>
            <a:off x="6516720" y="4429080"/>
            <a:ext cx="2217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2420640"/>
            <a:ext cx="7777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нтеллектуальна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- нарушение интеллектуальной деятельности. Отставание в развитии от сверстник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оведенческа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оммуникативная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 затруднения в общении со сверстниками и взрослыми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ом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- отклонения в здоровье ребёнк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Эмоц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- эмоциональные трудности, тревоги по поводу переживания проблем в школе. 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озможные реакции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39280" y="169992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1.Тебе нравиться в школе или не очень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2.  Утром, когда просыпаешься, ты всегда с радостью идешь в школу или тебе часто хочется остаться дома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3.Если бы учитель сказал, что завтра в школу необязательно приходить всем ученикам, желающим можно остаться дома. 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Ты бы пошел в школу или остался бы дома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4.Тебе нравиться, когда у вас отменяют какие-нибудь уроки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5. Ты хотел бы, чтобы тебе не задавали домашних заданий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6.Ты хотел бы чтобы в школе остались одни перемены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7. Ты часто рассказываешь о школе родителям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8.Ты хотел бы, чтобы у тебя был менее строгий учитель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9. У тебя в классе много друзей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10.Тебе нравятся твои одноклассники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8678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прос детей «Школьная адаптация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4" descr="people3026"/>
          <p:cNvPicPr/>
          <p:nvPr/>
        </p:nvPicPr>
        <p:blipFill>
          <a:blip r:embed="rId1"/>
          <a:stretch/>
        </p:blipFill>
        <p:spPr>
          <a:xfrm>
            <a:off x="7308720" y="4869000"/>
            <a:ext cx="15289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оказатели школьной адаптации учащихся 5 «Б» клас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Таблица 4" descr=""/>
          <p:cNvPicPr/>
          <p:nvPr/>
        </p:nvPicPr>
        <p:blipFill>
          <a:blip r:embed="rId1"/>
          <a:stretch/>
        </p:blipFill>
        <p:spPr>
          <a:xfrm>
            <a:off x="463680" y="2730600"/>
            <a:ext cx="84312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Результаты адаптации детей к школ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600200"/>
          <a:ext cx="8115480" cy="4513320"/>
        </p:xfrm>
        <a:graphic>
          <a:graphicData uri="http://schemas.openxmlformats.org/drawingml/2006/table">
            <a:tbl>
              <a:tblPr/>
              <a:tblGrid>
                <a:gridCol w="4003560"/>
                <a:gridCol w="4111920"/>
              </a:tblGrid>
              <a:tr h="82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 адапт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Б (=25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36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2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средн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2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(дезадаптаци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http://www.psy.5igorsk.ru</dc:creator>
  <dc:description/>
  <dc:language>en-US</dc:language>
  <cp:lastModifiedBy>Ann</cp:lastModifiedBy>
  <dcterms:modified xsi:type="dcterms:W3CDTF">2022-05-07T12:39:00Z</dcterms:modified>
  <cp:revision>213</cp:revision>
  <dc:subject/>
  <dc:title>Родительское собрание в 5 классе</dc:title>
</cp:coreProperties>
</file>