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2920" y="703440"/>
            <a:ext cx="492912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move the slide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884160" y="704880"/>
            <a:ext cx="578952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292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2516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0880" y="4857840"/>
            <a:ext cx="8602920" cy="2516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292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516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516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857840"/>
            <a:ext cx="4197960" cy="2516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857840"/>
            <a:ext cx="4197960" cy="2516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292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69840" cy="2516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840" cy="2516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8480" y="2101680"/>
            <a:ext cx="2769840" cy="2516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0880" y="4857840"/>
            <a:ext cx="2769840" cy="2516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680" y="4857840"/>
            <a:ext cx="2769840" cy="2516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8480" y="4857840"/>
            <a:ext cx="2769840" cy="2516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292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292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292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292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292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0880" y="-46080"/>
            <a:ext cx="8602920" cy="120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292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516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0880" y="4857840"/>
            <a:ext cx="4197960" cy="2516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292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516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857840"/>
            <a:ext cx="4197960" cy="2516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292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516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516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0880" y="4857840"/>
            <a:ext cx="8602920" cy="2516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292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292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"/>
          <p:cNvSpPr/>
          <p:nvPr/>
        </p:nvSpPr>
        <p:spPr>
          <a:xfrm>
            <a:off x="720720" y="0"/>
            <a:ext cx="896796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1760" bIns="0" anchor="ctr">
            <a:normAutofit fontScale="74000"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280099"/>
                </a:solidFill>
                <a:latin typeface="Times New Roman"/>
              </a:rPr>
              <a:t>Приёмы</a:t>
            </a:r>
            <a:r>
              <a:rPr b="1" i="1" lang="en-US" sz="6600" spc="-1" strike="noStrike">
                <a:solidFill>
                  <a:srgbClr val="280099"/>
                </a:solidFill>
                <a:latin typeface="Times New Roman"/>
              </a:rPr>
              <a:t> работы </a:t>
            </a:r>
            <a:br>
              <a:rPr sz="6600"/>
            </a:br>
            <a:r>
              <a:rPr b="1" i="1" lang="en-US" sz="6600" spc="-1" strike="noStrike">
                <a:solidFill>
                  <a:srgbClr val="280099"/>
                </a:solidFill>
                <a:latin typeface="Times New Roman"/>
              </a:rPr>
              <a:t>с текстом</a:t>
            </a:r>
            <a:br>
              <a:rPr sz="6600"/>
            </a:br>
            <a:r>
              <a:rPr b="1" i="1" lang="en-US" sz="6600" spc="-1" strike="noStrike">
                <a:solidFill>
                  <a:srgbClr val="280099"/>
                </a:solidFill>
                <a:latin typeface="Times New Roman"/>
              </a:rPr>
              <a:t> на уроках </a:t>
            </a:r>
            <a:br>
              <a:rPr sz="6600"/>
            </a:br>
            <a:r>
              <a:rPr b="1" i="1" lang="en-US" sz="6600" spc="-1" strike="noStrike">
                <a:solidFill>
                  <a:srgbClr val="280099"/>
                </a:solidFill>
                <a:latin typeface="Times New Roman"/>
              </a:rPr>
              <a:t>русского языка </a:t>
            </a:r>
            <a:br>
              <a:rPr sz="6600"/>
            </a:br>
            <a:r>
              <a:rPr b="1" i="1" lang="en-US" sz="6600" spc="-1" strike="noStrike">
                <a:solidFill>
                  <a:srgbClr val="280099"/>
                </a:solidFill>
                <a:latin typeface="Times New Roman"/>
              </a:rPr>
              <a:t>в начальной школе 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2"/>
          <p:cNvSpPr/>
          <p:nvPr/>
        </p:nvSpPr>
        <p:spPr>
          <a:xfrm flipH="1" flipV="1">
            <a:off x="5184000" y="7126200"/>
            <a:ext cx="1429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rm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4753080" y="6300720"/>
            <a:ext cx="43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хайлова Е.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ОУ «Излучинская ОНШ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360360" y="436680"/>
            <a:ext cx="9360000" cy="67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ctr">
            <a:normAutofit/>
          </a:bodyPr>
          <a:p>
            <a:pPr marL="355680" indent="-3398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0047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47ff"/>
                </a:solidFill>
                <a:latin typeface="Times New Roman"/>
              </a:rPr>
              <a:t>Расположи части текста в соответствии с планом так, чтобы получился связный текс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39840" algn="ctr">
              <a:lnSpc>
                <a:spcPct val="95000"/>
              </a:lnSpc>
              <a:tabLst>
                <a:tab algn="l" pos="0"/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39840" algn="just">
              <a:lnSpc>
                <a:spcPct val="95000"/>
              </a:lnSpc>
              <a:tabLst>
                <a:tab algn="l" pos="0"/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Весна улыбнулас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39840" algn="just">
              <a:lnSpc>
                <a:spcPct val="95000"/>
              </a:lnSpc>
              <a:tabLst>
                <a:tab algn="l" pos="0"/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 Весна голос пода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39840" algn="just">
              <a:lnSpc>
                <a:spcPct val="95000"/>
              </a:lnSpc>
              <a:tabLst>
                <a:tab algn="l" pos="0"/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) Настоящей весной запахл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39840" algn="just">
              <a:lnSpc>
                <a:spcPct val="95000"/>
              </a:lnSpc>
              <a:tabLst>
                <a:tab algn="l" pos="0"/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39840" algn="ctr">
              <a:lnSpc>
                <a:spcPct val="95000"/>
              </a:lnSpc>
              <a:tabLst>
                <a:tab algn="l" pos="0"/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Приход весны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39840" algn="just">
              <a:lnSpc>
                <a:spcPct val="95000"/>
              </a:lnSpc>
              <a:tabLst>
                <a:tab algn="l" pos="0"/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Вот уже снег сделался грязным, осел. Заговорили ручьи по дорожкам. Воробьи кричат целыми днями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39840" algn="just">
              <a:lnSpc>
                <a:spcPct val="95000"/>
              </a:lnSpc>
              <a:tabLst>
                <a:tab algn="l" pos="0"/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Весь снег растаял. Показались подснежники. Это первые цветы. Они пахнут настоящей весной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39840" algn="just">
              <a:lnSpc>
                <a:spcPct val="95000"/>
              </a:lnSpc>
              <a:tabLst>
                <a:tab algn="l" pos="0"/>
                <a:tab algn="l" pos="355680"/>
                <a:tab algn="l" pos="8031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Стало солнышко сильнее пригревать. Сосульки заплакали на крышах. Улыбнулась весна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392040" y="360360"/>
            <a:ext cx="9328320" cy="67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rm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6b0094"/>
                </a:solidFill>
                <a:latin typeface="Times New Roman"/>
              </a:rPr>
              <a:t>4. Творческие работы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0047ff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47ff"/>
                </a:solidFill>
                <a:latin typeface="Times New Roman"/>
              </a:rPr>
              <a:t>Составление текста по словосочетания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спользуя данные словосочетания составь предложения и связный текст на тему ”Золотая осень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Кружится хоровод, жёлтые листья, налетел ветер, запоздалый цветок, голые стебли, новая шубка, шуршит под ногами, золотая осень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360360" y="246240"/>
            <a:ext cx="9328320" cy="71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rmAutofit/>
          </a:bodyPr>
          <a:p>
            <a:pPr marL="339840" indent="-3398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47ff"/>
                </a:solidFill>
                <a:latin typeface="Times New Roman"/>
              </a:rPr>
              <a:t>Составление текста по иллюстрации при помощи п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5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5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Рассмотри рисунок, озаглавь его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5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оставь текст по плану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5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пиши текст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ctr">
              <a:lnSpc>
                <a:spcPct val="95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ctr">
              <a:lnSpc>
                <a:spcPct val="95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Пла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5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Скоро прилетят птицы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5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) Работа в мастерской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5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) Новосёлы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5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360360" y="174600"/>
            <a:ext cx="9360000" cy="70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rmAutofit fontScale="99000"/>
          </a:bodyPr>
          <a:p>
            <a:pPr marL="675720" indent="-674280" algn="just">
              <a:lnSpc>
                <a:spcPct val="95000"/>
              </a:lnSpc>
              <a:tabLst>
                <a:tab algn="l" pos="0"/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6b0094"/>
                </a:solidFill>
                <a:latin typeface="Times New Roman"/>
              </a:rPr>
              <a:t>5. Написание изложений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75720" indent="-674280" algn="just">
              <a:lnSpc>
                <a:spcPct val="95000"/>
              </a:lnSpc>
              <a:tabLst>
                <a:tab algn="l" pos="0"/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классификация изложений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75720" indent="-674280"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одробное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75720" indent="-674280"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ыборочно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75720" indent="-674280"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раткое (сжатое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75720" indent="-6742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 дополнительным речевым заданием творческого характер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75720" indent="-6742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зложение знакомого, малознакомого и незнакомого текс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75720" indent="-6742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зложение текста, воспринимаемого зрительно, на слух и зрительно, только на слу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75720" indent="-6742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зложение по план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360360" y="179280"/>
            <a:ext cx="9360000" cy="70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rmAutofit/>
          </a:bodyPr>
          <a:p>
            <a:pPr marL="682560" indent="-681120" algn="just">
              <a:lnSpc>
                <a:spcPct val="95000"/>
              </a:lnSpc>
              <a:tabLst>
                <a:tab algn="l" pos="0"/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6b0094"/>
                </a:solidFill>
                <a:latin typeface="Times New Roman"/>
              </a:rPr>
              <a:t>6. Написание сочинений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1120" algn="just">
              <a:lnSpc>
                <a:spcPct val="95000"/>
              </a:lnSpc>
              <a:tabLst>
                <a:tab algn="l" pos="0"/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1120" algn="just">
              <a:lnSpc>
                <a:spcPct val="95000"/>
              </a:lnSpc>
              <a:tabLst>
                <a:tab algn="l" pos="0"/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классификация сочинений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1120"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очинения повествовательного характер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1120"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очинения описательного характер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1120"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очинения-рассужд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1120" algn="just">
              <a:lnSpc>
                <a:spcPct val="95000"/>
              </a:lnSpc>
              <a:tabLst>
                <a:tab algn="l" pos="0"/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1120" algn="just">
              <a:lnSpc>
                <a:spcPct val="95000"/>
              </a:lnSpc>
              <a:tabLst>
                <a:tab algn="l" pos="0"/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Виды сочинений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1120"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о картин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1120"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о вопроса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1120"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о личным наблюдения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1120"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о опорным словам на заданную тем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360360" y="179280"/>
            <a:ext cx="9360000" cy="70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Times New Roman"/>
              </a:rPr>
              <a:t>Развитию речи учащихся, формированию и становлению их как языковой личности способствует проведение речевых уроков русского языка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720720" y="930240"/>
            <a:ext cx="8605800" cy="51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0000" spc="-1" strike="noStrike">
                <a:solidFill>
                  <a:srgbClr val="00cccc"/>
                </a:solidFill>
                <a:latin typeface="Cambria"/>
              </a:rPr>
              <a:t>Спасибо </a:t>
            </a:r>
            <a:endParaRPr b="0" lang="en-US" sz="10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0000" spc="-1" strike="noStrike">
                <a:solidFill>
                  <a:srgbClr val="00cccc"/>
                </a:solidFill>
                <a:latin typeface="Cambria"/>
              </a:rPr>
              <a:t>за внимание!</a:t>
            </a:r>
            <a:endParaRPr b="0" lang="en-US" sz="1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431640" y="1476360"/>
            <a:ext cx="856944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Аудирование     ↔        Чт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↕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1" lang="ru-RU" sz="6000" spc="-1" strike="noStrike">
                <a:solidFill>
                  <a:srgbClr val="16165d"/>
                </a:solidFill>
                <a:latin typeface="Times New Roman"/>
                <a:ea typeface="Calibri"/>
              </a:rPr>
              <a:t>Текст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↕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Говорение           ↔       Письм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216000" y="466560"/>
            <a:ext cx="878508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Times New Roman"/>
                <a:ea typeface="Calibri"/>
              </a:rPr>
              <a:t>Цель</a:t>
            </a:r>
            <a:r>
              <a:rPr b="0" lang="ru-RU" sz="4400" spc="-1" strike="noStrike">
                <a:solidFill>
                  <a:srgbClr val="16165d"/>
                </a:solidFill>
                <a:latin typeface="Times New Roman"/>
                <a:ea typeface="Calibri"/>
              </a:rPr>
              <a:t> работы с текстом– постижение закономерностей построения, знакомство со стилистическими, фонетическими, морфологическими, синтаксическими и орфографическими ресурсами язык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71680" y="179280"/>
            <a:ext cx="93279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ctr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 u="sng">
                <a:solidFill>
                  <a:srgbClr val="280099"/>
                </a:solidFill>
                <a:uFillTx/>
                <a:latin typeface="Times New Roman"/>
              </a:rPr>
              <a:t>Компоненты работы с текстом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392040" y="979560"/>
            <a:ext cx="9328320" cy="63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rmAutofit/>
          </a:bodyPr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понятие “текст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тема текс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основная мысль текс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заголовок текс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построение (структура) текс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связь между частями текс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связь между предложениями в каждой части текс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виды текст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понятие об изложени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понятие о сочинени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360360" y="870120"/>
            <a:ext cx="9539280" cy="52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7800" bIns="0" anchor="ctr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Times New Roman"/>
              </a:rPr>
              <a:t>Вся работа с текстом в начальной школе основана на дидактическом принципе: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6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i="1" lang="en-US" sz="5500" spc="-1" strike="noStrike">
                <a:solidFill>
                  <a:srgbClr val="0000ff"/>
                </a:solidFill>
                <a:latin typeface="Times New Roman"/>
              </a:rPr>
              <a:t>От простого – к сложному,</a:t>
            </a:r>
            <a:r>
              <a:rPr b="0" i="1" lang="en-US" sz="6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6000" spc="-1" strike="noStrike">
                <a:solidFill>
                  <a:srgbClr val="0000ff"/>
                </a:solidFill>
                <a:latin typeface="Times New Roman"/>
              </a:rPr>
              <a:t>от легкого – к трудному”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741240" y="460440"/>
            <a:ext cx="860760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4200" bIns="0" anchor="ctr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 u="sng">
                <a:solidFill>
                  <a:srgbClr val="280099"/>
                </a:solidFill>
                <a:uFillTx/>
                <a:latin typeface="Times New Roman"/>
              </a:rPr>
              <a:t>Виды заданий </a:t>
            </a:r>
            <a:br>
              <a:rPr sz="5400"/>
            </a:br>
            <a:r>
              <a:rPr b="1" i="1" lang="en-US" sz="5400" spc="-1" strike="noStrike" u="sng">
                <a:solidFill>
                  <a:srgbClr val="280099"/>
                </a:solidFill>
                <a:uFillTx/>
                <a:latin typeface="Times New Roman"/>
              </a:rPr>
              <a:t>работы с текстом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539640" y="2257560"/>
            <a:ext cx="918072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rm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6b0094"/>
                </a:solidFill>
                <a:latin typeface="Times New Roman"/>
              </a:rPr>
              <a:t>1. Деление текста на предложения: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6b0094"/>
                </a:solidFill>
                <a:latin typeface="Times New Roman"/>
              </a:rPr>
              <a:t>3-4 предложения – 2 класс;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6b0094"/>
                </a:solidFill>
                <a:latin typeface="Times New Roman"/>
              </a:rPr>
              <a:t>5-8 предложений – 3 класс;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6b0094"/>
                </a:solidFill>
                <a:latin typeface="Times New Roman"/>
              </a:rPr>
              <a:t>9-12 предложений – 4 класс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752400" y="325440"/>
            <a:ext cx="86076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ctr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0047ff"/>
                </a:solidFill>
                <a:latin typeface="Times New Roman"/>
              </a:rPr>
              <a:t>Спиши текст, раздели его на предложения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360360" y="2160720"/>
            <a:ext cx="9360000" cy="49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уравей и зерн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Муравей нашёл зёрнышко он потащил зерно в муравейник но зерно было тяжёлое муравей один не мог дотащить его он позвал на помощь товарищей вместе они утащили зерно в муравейник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360360" y="312840"/>
            <a:ext cx="953928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rmAutofit fontScale="99000"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6b0094"/>
                </a:solidFill>
                <a:latin typeface="Times New Roman"/>
              </a:rPr>
              <a:t>2. Составление предложений из слов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47ff"/>
                </a:solidFill>
                <a:latin typeface="Times New Roman"/>
              </a:rPr>
              <a:t>Из данных слов составить предложения, записать текстом, текст озаглавить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усский, хорош, зимой, лес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еревьями, под, сугробы, глубоки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огнулись, берёз, от, молодых, инея, ствол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Зелёные, покрыты, ветви елей, шапками, снега, белым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392040" y="266760"/>
            <a:ext cx="9328320" cy="70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rmAutofit/>
          </a:bodyPr>
          <a:p>
            <a:pPr marL="606600" indent="-606600">
              <a:lnSpc>
                <a:spcPct val="95000"/>
              </a:lnSpc>
              <a:tabLst>
                <a:tab algn="l" pos="0"/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6b0094"/>
                </a:solidFill>
                <a:latin typeface="Times New Roman"/>
              </a:rPr>
              <a:t>3. Работа над деформированным текстом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6600" indent="-60660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0047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47ff"/>
                </a:solidFill>
                <a:latin typeface="Times New Roman"/>
              </a:rPr>
              <a:t>Расположи предложения так, чтобы получился связный текст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6600" indent="-606600" algn="just">
              <a:lnSpc>
                <a:spcPct val="95000"/>
              </a:lnSpc>
              <a:tabLst>
                <a:tab algn="l" pos="0"/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) Он жалобно разевал клюв и вертел голово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6600" indent="-606600" algn="just">
              <a:lnSpc>
                <a:spcPct val="95000"/>
              </a:lnSpc>
              <a:tabLst>
                <a:tab algn="l" pos="0"/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) Каждое утро мы с сестрой бегали на речку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6600" indent="-606600" algn="just">
              <a:lnSpc>
                <a:spcPct val="95000"/>
              </a:lnSpc>
              <a:tabLst>
                <a:tab algn="l" pos="0"/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) Мы вспомнили, что нельзя трогать птенцов, иначе мать их не примет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6600" indent="-606600" algn="just">
              <a:lnSpc>
                <a:spcPct val="95000"/>
              </a:lnSpc>
              <a:tabLst>
                <a:tab algn="l" pos="0"/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 Однажды мы увидели на тропинке маленького птенчик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6600" indent="-606600" algn="just">
              <a:lnSpc>
                <a:spcPct val="95000"/>
              </a:lnSpc>
              <a:tabLst>
                <a:tab algn="l" pos="0"/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9T15:45:42Z</dcterms:created>
  <dc:creator>Татьяна Николаевна</dc:creator>
  <dc:description/>
  <dc:language>en-US</dc:language>
  <cp:lastModifiedBy>Пользователь Windows</cp:lastModifiedBy>
  <cp:lastPrinted>2014-01-21T15:33:22Z</cp:lastPrinted>
  <dcterms:modified xsi:type="dcterms:W3CDTF">2021-01-03T09:16:01Z</dcterms:modified>
  <cp:revision>11</cp:revision>
  <dc:subject/>
  <dc:title>Мрамор</dc:title>
</cp:coreProperties>
</file>