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A483A-A7C3-4190-8934-E4C59B5CA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78F7C-1AC7-4D86-8D83-DD9299E10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590D4-41AC-4677-9BA7-E513ACF1E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D4213-2806-4FD0-916E-20846E9A9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1C338-323E-4A28-BF62-3FAEE7699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6CC56-FF6B-4F24-82BD-750786F13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A0C56-270E-43DF-9DDF-432E15B6B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24E12-CEEB-49A9-AE87-456834919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1641C-B7F5-4E5D-AEA9-B795A5309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9754C-4688-47D1-8FCA-075005363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62825-C51D-4699-8B6A-444FEE5B0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7BED6-E52B-4232-AB1F-F790D4B25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1C15-7C28-4C4C-AA47-696A817374B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одительское собрание№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2362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тоги 2 четвер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80680" y="91800"/>
            <a:ext cx="749628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030a0"/>
                </a:solidFill>
                <a:latin typeface="Arial"/>
              </a:rPr>
              <a:t>Повестка дня</a:t>
            </a:r>
            <a:endParaRPr b="0" lang="en-US" sz="4400" spc="-1" strike="noStrike">
              <a:solidFill>
                <a:srgbClr val="000000"/>
              </a:solidFill>
              <a:latin typeface="Arial"/>
            </a:endParaRPr>
          </a:p>
        </p:txBody>
      </p:sp>
      <p:sp>
        <p:nvSpPr>
          <p:cNvPr id="44" name="PlaceHolder 2"/>
          <p:cNvSpPr>
            <a:spLocks noGrp="1"/>
          </p:cNvSpPr>
          <p:nvPr>
            <p:ph type="subTitle"/>
          </p:nvPr>
        </p:nvSpPr>
        <p:spPr>
          <a:xfrm>
            <a:off x="1160640" y="990720"/>
            <a:ext cx="7983360" cy="48765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Times New Roman"/>
                <a:ea typeface="Times New Roman"/>
              </a:rPr>
              <a:t>Блок 1. Организация образовательного и воспитательного процесса в школе.</a:t>
            </a:r>
            <a:endParaRPr b="0" lang="en-US" sz="2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ыполнение программы развития школы в части «Образовательная деятельность. Безопасность обучающихся» (Святченко И.В., директор школ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едварительные итоги II четверти. Работа с неуспевающими обучающимися (Суркова Е.А , зам. директора по УР).</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 правах, обязанностях и ответственности в сфере образования родителей (законных представителей) за несовершеннолетних обучающихся (статья 44 Закона 273-ФЗ"Об образовании в РФ"); об обязательности получения среднего общего образования несовершеннолетними обучающимися (часть 5 статья 66 Закона 273-ФЗ "Об образовании в РФ") (Суркова Е.А., зам. директора по УР).</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едоставление родителям электронных муниципальных услуг.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Меры по предупреждению преступлений против жизни и здоровья несовершеннолетних, профилактике безопасного поведения несовершеннолетних в информационно-телекоммуникационной сети «Интернет»  (Гулиев М.Н., заместитель директора по информатиза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51920"/>
            <a:ext cx="8839080" cy="6629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Times New Roman"/>
                <a:ea typeface="Times New Roman"/>
              </a:rPr>
              <a:t>Блок 2. Профилактика правонарушений несовершеннолетних. Профилактика чрезвычайных ситуаций с участием несовершеннолетних.</a:t>
            </a:r>
            <a:br>
              <a:rPr sz="2000"/>
            </a:br>
            <a:r>
              <a:rPr b="1" lang="ru-RU" sz="1800" spc="-1" strike="noStrike">
                <a:solidFill>
                  <a:srgbClr val="000000"/>
                </a:solidFill>
                <a:latin typeface="Times New Roman"/>
                <a:ea typeface="Times New Roman"/>
              </a:rPr>
              <a:t>Меры по  недопущению нахождения несовершеннолетних в местах, которые могут причинить вред здоровью, а также их физическому, интеллектуальному, психическому, духовному и нравственному развитию. </a:t>
            </a:r>
            <a:br>
              <a:rPr sz="1800"/>
            </a:br>
            <a:br>
              <a:rPr sz="1800"/>
            </a:br>
            <a:r>
              <a:rPr b="1" lang="ru-RU" sz="1800" spc="-1" strike="noStrike">
                <a:solidFill>
                  <a:srgbClr val="000000"/>
                </a:solidFill>
                <a:latin typeface="Times New Roman"/>
                <a:ea typeface="Times New Roman"/>
              </a:rPr>
              <a:t>Доведение до сведения родителей (законных представителей) введенные постановлением Губернатора ХМАО – Югры от 03.11.2020 №144 ограничения по пребыванию несовершеннолетних в общественных местах. </a:t>
            </a:r>
            <a:br>
              <a:rPr sz="1800"/>
            </a:br>
            <a:br>
              <a:rPr sz="1800"/>
            </a:br>
            <a:r>
              <a:rPr b="1" lang="ru-RU" sz="1800" spc="-1" strike="noStrike">
                <a:solidFill>
                  <a:srgbClr val="000000"/>
                </a:solidFill>
                <a:latin typeface="Times New Roman"/>
                <a:ea typeface="Times New Roman"/>
              </a:rPr>
              <a:t>Профилактика жестокого обращения с детьми в семье, уходов из семьи, проявлений суицидального поведения у детей. Методические рекомендации «Родителям о психологической безопасности детей и подростков» (Фисенко Е.Ю., Михайленко Н.В., педагоги-психологи).</a:t>
            </a:r>
            <a:br>
              <a:rPr sz="1800"/>
            </a:br>
            <a:br>
              <a:rPr sz="1800"/>
            </a:br>
            <a:r>
              <a:rPr b="1" lang="ru-RU" sz="1800" spc="-1" strike="noStrike">
                <a:solidFill>
                  <a:srgbClr val="000000"/>
                </a:solidFill>
                <a:latin typeface="Times New Roman"/>
                <a:ea typeface="Times New Roman"/>
              </a:rPr>
              <a:t>Профилактика детского дорожно-транспортного травматизма. Анализ дорожно-транспортных происшествий с участием детей на территории обслуживания ОГИБДД УМВД России по г.Нижневартовску за период 11 месяцев 2020 года. Вопросы безопасного поведения детей на дорогах, проблеме нахождения на проезжей части, необходимости контроля за поведением и играми детей во время прогулок на улице, недопустимости использования мест складирования снега во дворах для игр, а также разъяснение требований ПДД при перевозке несовершеннолетних в салоне транспортных средств.</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990720" y="914400"/>
            <a:ext cx="7162560" cy="4929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Times New Roman"/>
                <a:ea typeface="Times New Roman"/>
              </a:rPr>
              <a:t>Профилактика жестокого обращения с детьми в семье, уходов из семьи, проявлений суицидального поведения у детей. Методические рекомендации «Родителям о психологической безопасности детей и подростков» (Фисенко Е.Ю., Михайленко Н.В., педагоги-психологи).</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филактика детского дорожно-транспортного травматизма. Анализ дорожно-транспортных происшествий с участием детей на территории обслуживания ОГИБДД УМВД России по г.Нижневартовску за период 11 месяцев 2020 года.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опросы безопасного поведения детей на дорогах, проблеме нахождения на проезжей части, необходимости контроля за поведением и играми детей во время прогулок на улице, недопустимости использования мест складирования снега во дворах для игр, а также разъяснение требований ПДД при перевозке несовершеннолетних в салоне транспортных средст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1600200" y="228600"/>
            <a:ext cx="7543800" cy="7650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Times New Roman"/>
                <a:ea typeface="Times New Roman"/>
              </a:rPr>
              <a:t>Вопросы:</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30 декабря </a:t>
            </a:r>
            <a:r>
              <a:rPr b="1" lang="ru-RU" sz="1800" spc="-1" strike="noStrike">
                <a:solidFill>
                  <a:srgbClr val="000000"/>
                </a:solidFill>
                <a:latin typeface="Times New Roman"/>
                <a:ea typeface="Times New Roman"/>
              </a:rPr>
              <a:t>– последний учебный день. В школу </a:t>
            </a:r>
            <a:r>
              <a:rPr b="1" lang="ru-RU" sz="1800" spc="-1" strike="noStrike">
                <a:solidFill>
                  <a:srgbClr val="00b050"/>
                </a:solidFill>
                <a:latin typeface="Times New Roman"/>
                <a:ea typeface="Times New Roman"/>
              </a:rPr>
              <a:t>11 января</a:t>
            </a:r>
            <a:r>
              <a:rPr b="1"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тоги 2 четверти – рейтинг в электронном дневнике.</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верочные работы на сайте УЧИ.РУ 24 и 25 декабря в течение дня. Отметки идут в журнал. Ребенок выполняет самостоятельно. </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евыполнение заданий от учителя на УЧИ.РУ</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ценок по родному языку нет, т.к. плохо написали проверочные, исправить не успели</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асть оценок по другим предметам есть в бумажном, но не выставлены в электронном. Будут выставлены по выходу.</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выходу в школу дети пишут тематические срезы для исправления оценок. 29 декабря выставляются окончательные отметки.</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дать поделки и рисунки – долги до 29 декабря.</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ведение в школе и на онлайн-уроках. Исправление оценок.</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Телефоны!!!</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лги по столовой.</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нятия в актированные дни.</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914400" y="457200"/>
            <a:ext cx="7162920" cy="3180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Times New Roman"/>
                <a:ea typeface="Times New Roman"/>
              </a:rPr>
              <a:t>Вопросы:</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машнее задание на каникулы ежедневное чтение художественной литературы не менее 1 часа в день</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дание по русскому и математике будет тем,  кто попросит.</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3 четверть приносят свои 2 тетради в линию и 2 тетради клетку для работы в классе.</a:t>
            </a: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b6bcf"/>
                </a:solidFill>
                <a:latin typeface="Arial"/>
              </a:rPr>
              <a:t>Поздравили мальчиков и девочек</a:t>
            </a:r>
            <a:endParaRPr b="0" lang="en-US" sz="4400" spc="-1" strike="noStrike">
              <a:solidFill>
                <a:srgbClr val="000000"/>
              </a:solidFill>
              <a:latin typeface="Arial"/>
            </a:endParaRPr>
          </a:p>
        </p:txBody>
      </p:sp>
      <p:pic>
        <p:nvPicPr>
          <p:cNvPr id="50" name="Рисунок 1" descr=""/>
          <p:cNvPicPr/>
          <p:nvPr/>
        </p:nvPicPr>
        <p:blipFill>
          <a:blip r:embed="rId1"/>
          <a:stretch/>
        </p:blipFill>
        <p:spPr>
          <a:xfrm>
            <a:off x="1219320" y="1447920"/>
            <a:ext cx="4190760" cy="314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b6bcf"/>
                </a:solidFill>
                <a:latin typeface="Arial"/>
              </a:rPr>
              <a:t>Спортивные соревнования </a:t>
            </a:r>
            <a:br>
              <a:rPr sz="4400"/>
            </a:br>
            <a:r>
              <a:rPr b="0" lang="ru-RU" sz="4400" spc="-1" strike="noStrike">
                <a:solidFill>
                  <a:srgbClr val="6b6bcf"/>
                </a:solidFill>
                <a:latin typeface="Arial"/>
              </a:rPr>
              <a:t>3 место</a:t>
            </a:r>
            <a:endParaRPr b="0" lang="en-US" sz="4400" spc="-1" strike="noStrike">
              <a:solidFill>
                <a:srgbClr val="000000"/>
              </a:solidFill>
              <a:latin typeface="Arial"/>
            </a:endParaRPr>
          </a:p>
        </p:txBody>
      </p:sp>
      <p:pic>
        <p:nvPicPr>
          <p:cNvPr id="52" name="Рисунок 2" descr=""/>
          <p:cNvPicPr/>
          <p:nvPr/>
        </p:nvPicPr>
        <p:blipFill>
          <a:blip r:embed="rId1"/>
          <a:stretch/>
        </p:blipFill>
        <p:spPr>
          <a:xfrm>
            <a:off x="1905120" y="1905120"/>
            <a:ext cx="5562360" cy="417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Учитель</dc:creator>
  <dc:description/>
  <dc:language>en-US</dc:language>
  <cp:lastModifiedBy>User</cp:lastModifiedBy>
  <dcterms:modified xsi:type="dcterms:W3CDTF">2020-12-23T08:54:18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